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5FAF-6E5F-4883-BC86-B1FBD1C0AD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B17C-6AD8-430E-91E6-88AF9208F5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E7C-FAC1-44EC-ADE9-3D8F78E7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019-54CB-4840-B0E5-38ED9EAB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AB6-4971-4A7C-A46F-2247DB6D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F49-5CE9-4AA9-8E3E-8F0CA807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C8E6-030A-442A-96C4-2C53BCF0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4918-B7C6-46DB-9222-40434075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B866-BB3D-4A45-814A-C3991B97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613C-F5B3-4EA0-8DD5-77123049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9541-7902-4A95-97CC-3AB9047C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6672-D924-428E-9503-096EA56D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397A-6957-4772-9169-9F8F24B1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515-B48E-46C8-ABCF-ECE3E903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2EFB-C97E-41D8-A4DE-DBEDEB0A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1821-896C-4F21-BC52-46BAA7AB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9A83-4DD1-4ABA-9CE9-BC594447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35B7-1440-4923-BA23-ED86082A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728C-3C0A-4E51-856A-BAEBB642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63D-12B8-4DF6-A122-F2ABA154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F48-C245-4E6C-9225-180679D0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E5E-3E36-4FF9-8F9F-F789EB7D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1DE-6E29-43C6-A1A8-36099E71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030-3A2F-4C33-9B92-EEEBC530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EAF-194C-41E3-B600-AEF0E039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D30-98A1-41F6-81F9-39686AF1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7EC3-0DAA-4042-B4E9-2E64AD7B8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825D-3C76-4571-B4ED-AB093B215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14760" y="1499760"/>
            <a:ext cx="53575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Calibri"/>
              </a:rPr>
              <a:t>«Не для школы, а для жизни мы  учимся.» </a:t>
            </a:r>
            <a:br>
              <a:rPr sz="4000"/>
            </a:br>
            <a:br>
              <a:rPr sz="40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Древний Ри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214280" y="4436640"/>
            <a:ext cx="62866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(10 баллов за самостоятельную рабо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балл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ценка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балл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ценка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балла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ценка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одержимое 2"/>
          <p:cNvSpPr/>
          <p:nvPr/>
        </p:nvSpPr>
        <p:spPr>
          <a:xfrm>
            <a:off x="857160" y="928800"/>
            <a:ext cx="7572600" cy="3286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помнить характеристики, по которым различаются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ть или составить алгоритм разбора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иться самостоятельно давать характеристику предложению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928960" y="35712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6" descr="http://img1.liveinternet.ru/images/attach/c/1/50/925/50925914_56.jpg"/>
          <p:cNvPicPr/>
          <p:nvPr/>
        </p:nvPicPr>
        <p:blipFill>
          <a:blip r:embed="rId1"/>
          <a:stretch/>
        </p:blipFill>
        <p:spPr>
          <a:xfrm>
            <a:off x="6500880" y="4643280"/>
            <a:ext cx="1785960" cy="155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1000080" y="1714680"/>
            <a:ext cx="8143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уроке я работал 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оей работой на уроке я 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 для меня показался 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урок я 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е настроение 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3" descr="http://img1.liveinternet.ru/images/attach/c/1/50/925/50925914_56.jpg"/>
          <p:cNvPicPr/>
          <p:nvPr/>
        </p:nvPicPr>
        <p:blipFill>
          <a:blip r:embed="rId1"/>
          <a:stretch/>
        </p:blipFill>
        <p:spPr>
          <a:xfrm>
            <a:off x="6715080" y="311040"/>
            <a:ext cx="1785960" cy="15573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http://www.turkeyink.com/wp-content/gallery/kuzgun-dovme-modelleri/kuzgun_dovme_modelleri_turkey_ink32.jpg"/>
          <p:cNvPicPr/>
          <p:nvPr/>
        </p:nvPicPr>
        <p:blipFill>
          <a:blip r:embed="rId2"/>
          <a:stretch/>
        </p:blipFill>
        <p:spPr>
          <a:xfrm>
            <a:off x="6143760" y="4357800"/>
            <a:ext cx="1571400" cy="171432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" descr="http://book-free.net/_ph/58/2/453892732.jpg"/>
          <p:cNvPicPr/>
          <p:nvPr/>
        </p:nvPicPr>
        <p:blipFill>
          <a:blip r:embed="rId3"/>
          <a:stretch/>
        </p:blipFill>
        <p:spPr>
          <a:xfrm>
            <a:off x="1143000" y="500040"/>
            <a:ext cx="1000080" cy="785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928800" y="500040"/>
          <a:ext cx="7715160" cy="5931000"/>
        </p:xfrm>
        <a:graphic>
          <a:graphicData uri="http://schemas.openxmlformats.org/drawingml/2006/table">
            <a:tbl>
              <a:tblPr/>
              <a:tblGrid>
                <a:gridCol w="7715160"/>
              </a:tblGrid>
              <a:tr h="227952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 цель данных высказываний (повествовательное, вопросительное, побудительное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езд опоздал.    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веств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езд опоздал?   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вопрос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 эмоциональную окраску высказываний (восклицательное, невосклицательное)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ц приехал.     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невосклиц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ц приехал!     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восклиц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ни главные члены данного предлож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яной пар превращается в капельки в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28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 грамматические основы предложений. По их количеству определи типы предложени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яной пар превращается в капельки воды.   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ост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ельки увеличиваются, потоки воздуха поднимают их вверх.   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слож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740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 работу зависимых членов. Дай характеристику предложениям в зависимости от наличия в них второстепенных членов предложений (распространенное или нераспространенное)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яной пар поднимается с земли высоко вверх.  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распростран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 охлаждается. 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нераспростран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6160" rIns="561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бал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Прямая соединительная линия 3"/>
          <p:cNvSpPr/>
          <p:nvPr/>
        </p:nvSpPr>
        <p:spPr>
          <a:xfrm>
            <a:off x="1857240" y="3286080"/>
            <a:ext cx="35748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7"/>
          <p:cNvSpPr/>
          <p:nvPr/>
        </p:nvSpPr>
        <p:spPr>
          <a:xfrm>
            <a:off x="2286000" y="3357720"/>
            <a:ext cx="12859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8"/>
          <p:cNvSpPr/>
          <p:nvPr/>
        </p:nvSpPr>
        <p:spPr>
          <a:xfrm>
            <a:off x="2286000" y="3286080"/>
            <a:ext cx="12859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28440" y="1500120"/>
            <a:ext cx="7729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Значение слова Характеристика по Ефремовой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Характеристик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- 1. описание отличительных свойств, достоинств и недостатков кого-либо, чего-либо.  2. Заключение о чьей-либо трудовой и общественной деятельности как официальный документ или в отзыв о ком-либо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Значение слова Характеристика по Ожегову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Характеристик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- официальный документ с отзывом о служебной, общественной деятельности кого-нибуд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Характеристик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- описание характерных, отличительных качеств, черт кого-чего-нибудь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Характеристика в Энциклопедическом словаре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Характеристик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- описание характерных, отличительных качеств, черт, свойств чего-либо или кого-либо. 2) отзыв, заключение о трудовой, общественной деятельности кого-либо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чимся давать характеристику предложени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4296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чимся находить отличия предложений друг от д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учиться давать характеристику предложени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одержимое 2"/>
          <p:cNvSpPr/>
          <p:nvPr/>
        </p:nvSpPr>
        <p:spPr>
          <a:xfrm>
            <a:off x="857160" y="1685880"/>
            <a:ext cx="7693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помнить характеристики, по которым различаются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ть или составить алгоритм разбора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иться самостоятельно давать характеристику предложению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держимое 2"/>
          <p:cNvSpPr/>
          <p:nvPr/>
        </p:nvSpPr>
        <p:spPr>
          <a:xfrm>
            <a:off x="857160" y="4786200"/>
            <a:ext cx="7764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чем отличаются  глаголы в повелительной форме от глаголов в форме 2л. мн.ч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6" descr="http://www.turkeyink.com/wp-content/gallery/kuzgun-dovme-modelleri/kuzgun_dovme_modelleri_turkey_ink32.jpg"/>
          <p:cNvPicPr/>
          <p:nvPr/>
        </p:nvPicPr>
        <p:blipFill>
          <a:blip r:embed="rId1"/>
          <a:stretch/>
        </p:blipFill>
        <p:spPr>
          <a:xfrm>
            <a:off x="1071720" y="4500720"/>
            <a:ext cx="1785960" cy="1714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7" descr="http://img1.liveinternet.ru/images/attach/c/1/50/925/50925914_56.jpg"/>
          <p:cNvPicPr/>
          <p:nvPr/>
        </p:nvPicPr>
        <p:blipFill>
          <a:blip r:embed="rId2"/>
          <a:stretch/>
        </p:blipFill>
        <p:spPr>
          <a:xfrm>
            <a:off x="3714840" y="3346560"/>
            <a:ext cx="2143080" cy="18684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http://book-free.net/_ph/58/2/453892732.jpg"/>
          <p:cNvPicPr/>
          <p:nvPr/>
        </p:nvPicPr>
        <p:blipFill>
          <a:blip r:embed="rId3"/>
          <a:stretch/>
        </p:blipFill>
        <p:spPr>
          <a:xfrm>
            <a:off x="6929280" y="3286080"/>
            <a:ext cx="1000440" cy="7858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1143000" y="71424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вкокркокн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3214800" y="128592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счочрчочкча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2"/>
          <p:cNvSpPr/>
          <p:nvPr/>
        </p:nvSpPr>
        <p:spPr>
          <a:xfrm>
            <a:off x="4582800" y="200016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аоараоабаеай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571760" y="7858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3857760" y="135720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5357880" y="207180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8800" y="713880"/>
            <a:ext cx="75722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  в парках на деревьях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ят   сороки   вороны   воробь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071720" y="2928960"/>
            <a:ext cx="75722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  в парках на деревьях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ят   сороки   вороны   воробь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3"/>
          <p:cNvSpPr/>
          <p:nvPr/>
        </p:nvSpPr>
        <p:spPr>
          <a:xfrm>
            <a:off x="1214280" y="4357800"/>
            <a:ext cx="1000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14"/>
          <p:cNvSpPr/>
          <p:nvPr/>
        </p:nvSpPr>
        <p:spPr>
          <a:xfrm>
            <a:off x="1214280" y="4510080"/>
            <a:ext cx="1000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5"/>
          <p:cNvSpPr/>
          <p:nvPr/>
        </p:nvSpPr>
        <p:spPr>
          <a:xfrm>
            <a:off x="2857680" y="4357800"/>
            <a:ext cx="1357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7"/>
          <p:cNvSpPr/>
          <p:nvPr/>
        </p:nvSpPr>
        <p:spPr>
          <a:xfrm>
            <a:off x="4857840" y="4357800"/>
            <a:ext cx="14288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9"/>
          <p:cNvSpPr/>
          <p:nvPr/>
        </p:nvSpPr>
        <p:spPr>
          <a:xfrm>
            <a:off x="6929280" y="4357800"/>
            <a:ext cx="15717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2"/>
          <p:cNvSpPr/>
          <p:nvPr/>
        </p:nvSpPr>
        <p:spPr>
          <a:xfrm>
            <a:off x="1143000" y="3286080"/>
            <a:ext cx="1714680" cy="1800"/>
          </a:xfrm>
          <a:prstGeom prst="line">
            <a:avLst/>
          </a:prstGeom>
          <a:ln w="9360">
            <a:solidFill>
              <a:srgbClr val="4a7ebb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3"/>
          <p:cNvSpPr/>
          <p:nvPr/>
        </p:nvSpPr>
        <p:spPr>
          <a:xfrm>
            <a:off x="3500280" y="3286080"/>
            <a:ext cx="2000520" cy="1800"/>
          </a:xfrm>
          <a:prstGeom prst="line">
            <a:avLst/>
          </a:prstGeom>
          <a:ln w="9360">
            <a:solidFill>
              <a:srgbClr val="4a7ebb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24"/>
          <p:cNvSpPr/>
          <p:nvPr/>
        </p:nvSpPr>
        <p:spPr>
          <a:xfrm>
            <a:off x="6000840" y="3286080"/>
            <a:ext cx="2571840" cy="1800"/>
          </a:xfrm>
          <a:prstGeom prst="line">
            <a:avLst/>
          </a:prstGeom>
          <a:ln w="9360">
            <a:solidFill>
              <a:srgbClr val="4a7ebb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7"/>
          <p:cNvSpPr/>
          <p:nvPr/>
        </p:nvSpPr>
        <p:spPr>
          <a:xfrm>
            <a:off x="6286680" y="37861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8"/>
          <p:cNvSpPr/>
          <p:nvPr/>
        </p:nvSpPr>
        <p:spPr>
          <a:xfrm>
            <a:off x="4357800" y="3786120"/>
            <a:ext cx="2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rcRect l="0" t="0" r="0" b="11249"/>
          <a:stretch/>
        </p:blipFill>
        <p:spPr>
          <a:xfrm>
            <a:off x="1357200" y="1214280"/>
            <a:ext cx="6572520" cy="4143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Заголовок 1"/>
          <p:cNvSpPr/>
          <p:nvPr/>
        </p:nvSpPr>
        <p:spPr>
          <a:xfrm>
            <a:off x="1000080" y="571680"/>
            <a:ext cx="757260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  в парках на деревьях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ят   сороки   вороны   воробь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3"/>
          <p:cNvSpPr/>
          <p:nvPr/>
        </p:nvSpPr>
        <p:spPr>
          <a:xfrm>
            <a:off x="1143000" y="2000160"/>
            <a:ext cx="10000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4"/>
          <p:cNvSpPr/>
          <p:nvPr/>
        </p:nvSpPr>
        <p:spPr>
          <a:xfrm>
            <a:off x="1143000" y="2143080"/>
            <a:ext cx="10000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5"/>
          <p:cNvSpPr/>
          <p:nvPr/>
        </p:nvSpPr>
        <p:spPr>
          <a:xfrm>
            <a:off x="2786040" y="2000160"/>
            <a:ext cx="1357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>
            <a:off x="4714920" y="2000160"/>
            <a:ext cx="14288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9"/>
          <p:cNvSpPr/>
          <p:nvPr/>
        </p:nvSpPr>
        <p:spPr>
          <a:xfrm>
            <a:off x="6858000" y="2000160"/>
            <a:ext cx="1571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22"/>
          <p:cNvSpPr/>
          <p:nvPr/>
        </p:nvSpPr>
        <p:spPr>
          <a:xfrm>
            <a:off x="1071720" y="928800"/>
            <a:ext cx="1714320" cy="1440"/>
          </a:xfrm>
          <a:prstGeom prst="line">
            <a:avLst/>
          </a:prstGeom>
          <a:ln w="9360">
            <a:solidFill>
              <a:srgbClr val="4a7ebb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23"/>
          <p:cNvSpPr/>
          <p:nvPr/>
        </p:nvSpPr>
        <p:spPr>
          <a:xfrm>
            <a:off x="3500280" y="928800"/>
            <a:ext cx="2000520" cy="1440"/>
          </a:xfrm>
          <a:prstGeom prst="line">
            <a:avLst/>
          </a:prstGeom>
          <a:ln w="9360">
            <a:solidFill>
              <a:srgbClr val="4a7ebb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4"/>
          <p:cNvSpPr/>
          <p:nvPr/>
        </p:nvSpPr>
        <p:spPr>
          <a:xfrm>
            <a:off x="5929200" y="928800"/>
            <a:ext cx="2571840" cy="1440"/>
          </a:xfrm>
          <a:prstGeom prst="line">
            <a:avLst/>
          </a:prstGeom>
          <a:ln w="9360">
            <a:solidFill>
              <a:srgbClr val="4a7ebb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7"/>
          <p:cNvSpPr/>
          <p:nvPr/>
        </p:nvSpPr>
        <p:spPr>
          <a:xfrm>
            <a:off x="6286680" y="15001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8"/>
          <p:cNvSpPr/>
          <p:nvPr/>
        </p:nvSpPr>
        <p:spPr>
          <a:xfrm>
            <a:off x="4357800" y="1496880"/>
            <a:ext cx="2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8"/>
          <p:cNvSpPr/>
          <p:nvPr/>
        </p:nvSpPr>
        <p:spPr>
          <a:xfrm>
            <a:off x="1357200" y="32529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Arial"/>
              </a:rPr>
              <a:t>1. Невосклица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1357200" y="37148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Arial"/>
              </a:rPr>
              <a:t>2. Повествова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1357200" y="41814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Arial"/>
              </a:rPr>
              <a:t>3. Сороки, вороны, воробьи сид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5"/>
          <p:cNvSpPr/>
          <p:nvPr/>
        </p:nvSpPr>
        <p:spPr>
          <a:xfrm>
            <a:off x="1357200" y="46814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Arial"/>
              </a:rPr>
              <a:t>4. Распростране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6"/>
          <p:cNvSpPr/>
          <p:nvPr/>
        </p:nvSpPr>
        <p:spPr>
          <a:xfrm>
            <a:off x="1357200" y="511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Arial"/>
              </a:rPr>
              <a:t>5. Есть однородные подлежащ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учиться давать характеристику предложени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одержимое 2"/>
          <p:cNvSpPr/>
          <p:nvPr/>
        </p:nvSpPr>
        <p:spPr>
          <a:xfrm>
            <a:off x="785880" y="2000160"/>
            <a:ext cx="7692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помнить характеристики, по которым различаются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ть или составить алгоритм разбора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иться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амостоятель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авать характеристику предложению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user</cp:lastModifiedBy>
  <dcterms:modified xsi:type="dcterms:W3CDTF">2013-05-19T14:34:52Z</dcterms:modified>
  <cp:revision>95</cp:revision>
  <dc:subject/>
  <dc:title>Слайд 1</dc:title>
</cp:coreProperties>
</file>