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jpeg" ContentType="image/jpeg"/>
  <Override PartName="/ppt/media/image8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13.gif" ContentType="image/gif"/>
  <Override PartName="/ppt/media/image4.jpeg" ContentType="image/jpeg"/>
  <Override PartName="/ppt/media/image22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15.gif" ContentType="image/gif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ED8-9CE8-4B79-A38D-302572AD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A28-104D-40CD-B032-682A8556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96B-72B3-4DA5-A353-6F3AF6A9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661-A2C6-4FED-80A0-A53C9A56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CF22-BC8E-4CA9-85E8-C95C576B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147A-22CA-47EF-B3F6-96E2EA99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7F6-0E79-40EC-AAE9-419C155F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B475-EF81-4506-B521-5E55453A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881-4625-474B-AED3-5CDCF524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31A7-7D62-4B84-ADA0-29CF4C0D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D82F-094B-4BD0-89F8-FC5FB34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03A-BC89-4E78-BA0C-F9F83900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E5C4-20EA-40F6-84AA-464DBD72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D8BD-728A-4284-A58B-F8BDE28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1322-2905-464C-8FB9-FB1B4E85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0F03-835E-4305-94FE-1E0124E5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ED6-FC92-49D1-B7F4-9AF3A0C7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1FD5-29BE-467A-A2FE-1DDECA3A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35D4-1A6F-4282-9374-7B8FE9BD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5566-3B99-4AB1-A7D4-117652BF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8283-9172-42D8-B23D-30D3AEC5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7131-B4DA-4816-B5C3-3CB2B0BE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7A3-69EC-43D4-A732-B13C13F9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8587-E208-4EE5-8720-43C57BE8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0DFB-84C6-4FC3-BB18-BE2B4F01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2454-418E-462F-B5F8-7B6F004B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6EA4-2946-451E-A866-61EBF44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E0A39-73E0-4F7B-AD67-224E2952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A555-F055-421B-875C-496BE11A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201D-CB2B-4BB2-9939-29DFABAC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5D5-8D5B-4B8E-A0E0-4C14EB04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C46-0B6F-4368-8E9B-236DA068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B00-633A-47A2-98C3-2372D72E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9CD-ED67-48D9-AF99-4B13951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B89-93D7-4FF2-AC2C-1A7B863B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8CD-D46C-48A6-92A5-A69FCF1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BE37-74C6-4CE9-9903-CEA42498E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E412-C77F-4B92-939D-CC66F8D18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496C-A3DE-4B93-97D9-E7B72D601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математики 4клас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14240" y="1214280"/>
            <a:ext cx="813780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Тема: Деление многозначного числа на двузначное .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dbdee13c60c9204fee7ec8d256b5f9fa"/>
          <p:cNvPicPr/>
          <p:nvPr/>
        </p:nvPicPr>
        <p:blipFill>
          <a:blip r:embed="rId1"/>
          <a:stretch/>
        </p:blipFill>
        <p:spPr>
          <a:xfrm>
            <a:off x="755640" y="3933720"/>
            <a:ext cx="1727280" cy="1882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6121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Читаем многознач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356000" y="76500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 от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Земли (3 июля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9 606 0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68360" y="350028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экватор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40 075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40 075 676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globe"/>
          <p:cNvPicPr/>
          <p:nvPr/>
        </p:nvPicPr>
        <p:blipFill>
          <a:blip r:embed="rId1"/>
          <a:stretch/>
        </p:blipFill>
        <p:spPr>
          <a:xfrm>
            <a:off x="5148360" y="2565360"/>
            <a:ext cx="2759040" cy="3959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sun_earth_vibrate_in_sympathy"/>
          <p:cNvPicPr/>
          <p:nvPr/>
        </p:nvPicPr>
        <p:blipFill>
          <a:blip r:embed="rId2"/>
          <a:stretch/>
        </p:blipFill>
        <p:spPr>
          <a:xfrm>
            <a:off x="395280" y="836640"/>
            <a:ext cx="367200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3419640" y="69228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крупный ос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емле -  Гренландия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площадь 2 175 600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39640" y="4437000"/>
            <a:ext cx="40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е крупное озеро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пийское море,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370 999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3X1MJFCAYQ40SJCAN193TXCAUJL40ICAYT604MCAAROKQ2CAM96IL2CAZE0977CASA0CBRCAMDA21BCACL3N9LCA32E4T1CAP82IRNCAJVC629CAAFB4V4CAA2AVSKCAG6XNAOCAHZRAB4CA8UHZ7T"/>
          <p:cNvPicPr/>
          <p:nvPr/>
        </p:nvPicPr>
        <p:blipFill>
          <a:blip r:embed="rId1"/>
          <a:stretch/>
        </p:blipFill>
        <p:spPr>
          <a:xfrm>
            <a:off x="5076720" y="3357720"/>
            <a:ext cx="3357720" cy="3108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greenlan"/>
          <p:cNvPicPr/>
          <p:nvPr/>
        </p:nvPicPr>
        <p:blipFill>
          <a:blip r:embed="rId2"/>
          <a:stretch/>
        </p:blipFill>
        <p:spPr>
          <a:xfrm>
            <a:off x="611280" y="404640"/>
            <a:ext cx="2635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500720" y="692280"/>
            <a:ext cx="410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ритория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ет 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 075 400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karta"/>
          <p:cNvPicPr/>
          <p:nvPr/>
        </p:nvPicPr>
        <p:blipFill>
          <a:blip r:embed="rId1"/>
          <a:stretch/>
        </p:blipFill>
        <p:spPr>
          <a:xfrm>
            <a:off x="324000" y="333360"/>
            <a:ext cx="4103640" cy="264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428760" y="3500280"/>
            <a:ext cx="6643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анным перепи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8 года на террит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Белая Глина Краснодарского к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живает  18 848 челов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ров    68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родолжи числовой ря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6920" y="1484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, 31 , 930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276720" y="148428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643280" y="148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8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516720" y="148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8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3640" y="1413000"/>
            <a:ext cx="1152360" cy="720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0" y="1341360"/>
            <a:ext cx="1584360" cy="792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6443640" y="1341360"/>
            <a:ext cx="1584360" cy="792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15"/>
          <p:cNvSpPr/>
          <p:nvPr/>
        </p:nvSpPr>
        <p:spPr>
          <a:xfrm rot="7899600">
            <a:off x="1152360" y="1808280"/>
            <a:ext cx="432000" cy="504720"/>
          </a:xfrm>
          <a:custGeom>
            <a:avLst/>
            <a:gdLst>
              <a:gd name="textAreaLeft" fmla="*/ 0 w 432000"/>
              <a:gd name="textAreaRight" fmla="*/ 43236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16"/>
          <p:cNvSpPr/>
          <p:nvPr/>
        </p:nvSpPr>
        <p:spPr>
          <a:xfrm rot="7899600">
            <a:off x="2016000" y="1808280"/>
            <a:ext cx="432000" cy="504720"/>
          </a:xfrm>
          <a:custGeom>
            <a:avLst/>
            <a:gdLst>
              <a:gd name="textAreaLeft" fmla="*/ 0 w 432000"/>
              <a:gd name="textAreaRight" fmla="*/ 43236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2050920" y="227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826920" y="227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684360" y="357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, 200 , 150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3276720" y="35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4859280" y="35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9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6516720" y="350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990 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27"/>
          <p:cNvSpPr/>
          <p:nvPr/>
        </p:nvSpPr>
        <p:spPr>
          <a:xfrm rot="7899600">
            <a:off x="1008000" y="3824280"/>
            <a:ext cx="432000" cy="504720"/>
          </a:xfrm>
          <a:custGeom>
            <a:avLst/>
            <a:gdLst>
              <a:gd name="textAreaLeft" fmla="*/ 0 w 432000"/>
              <a:gd name="textAreaRight" fmla="*/ 43236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28"/>
          <p:cNvSpPr/>
          <p:nvPr/>
        </p:nvSpPr>
        <p:spPr>
          <a:xfrm rot="7899600">
            <a:off x="2016000" y="3824280"/>
            <a:ext cx="432000" cy="504720"/>
          </a:xfrm>
          <a:custGeom>
            <a:avLst/>
            <a:gdLst>
              <a:gd name="textAreaLeft" fmla="*/ 0 w 432000"/>
              <a:gd name="textAreaRight" fmla="*/ 432360 w 4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1979640" y="2492280"/>
            <a:ext cx="712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755640" y="4292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4"/>
          <p:cNvSpPr/>
          <p:nvPr/>
        </p:nvSpPr>
        <p:spPr>
          <a:xfrm>
            <a:off x="684360" y="4581360"/>
            <a:ext cx="712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1763640" y="4167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6"/>
          <p:cNvSpPr/>
          <p:nvPr/>
        </p:nvSpPr>
        <p:spPr>
          <a:xfrm>
            <a:off x="4788000" y="3357720"/>
            <a:ext cx="1584360" cy="79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7"/>
          <p:cNvSpPr/>
          <p:nvPr/>
        </p:nvSpPr>
        <p:spPr>
          <a:xfrm>
            <a:off x="3276720" y="3357720"/>
            <a:ext cx="1366560" cy="79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8"/>
          <p:cNvSpPr/>
          <p:nvPr/>
        </p:nvSpPr>
        <p:spPr>
          <a:xfrm>
            <a:off x="6516720" y="3357720"/>
            <a:ext cx="2016000" cy="792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4356000" y="17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ычисли удобным спосо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39640" y="1700280"/>
            <a:ext cx="4918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   29   4   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68360" y="3500280"/>
            <a:ext cx="491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3   5 + 7   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468360" y="5300640"/>
            <a:ext cx="4917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69 + 27) - 1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2050920" y="2060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2986200" y="2060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3708360" y="2060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0"/>
          <p:cNvSpPr/>
          <p:nvPr/>
        </p:nvSpPr>
        <p:spPr>
          <a:xfrm>
            <a:off x="1908000" y="3933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3492360" y="3862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5"/>
          <p:cNvSpPr/>
          <p:nvPr/>
        </p:nvSpPr>
        <p:spPr>
          <a:xfrm>
            <a:off x="2268360" y="148428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1980360" y="2924280"/>
            <a:ext cx="15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93 +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3055680" y="11970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9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3635280" y="148428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3781440" y="295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635280" y="3213000"/>
            <a:ext cx="7308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1478160" y="479412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69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4"/>
          <p:cNvSpPr/>
          <p:nvPr/>
        </p:nvSpPr>
        <p:spPr>
          <a:xfrm>
            <a:off x="2843280" y="1486080"/>
            <a:ext cx="73080" cy="71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627640" y="4794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27 –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464328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4572000" y="357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003640" y="537372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9"/>
          <p:cNvSpPr/>
          <p:nvPr/>
        </p:nvSpPr>
        <p:spPr>
          <a:xfrm>
            <a:off x="1690560" y="1197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5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8"/>
          <p:cNvGrpSpPr/>
          <p:nvPr/>
        </p:nvGrpSpPr>
        <p:grpSpPr>
          <a:xfrm>
            <a:off x="3529080" y="3252960"/>
            <a:ext cx="2770200" cy="2058840"/>
            <a:chOff x="3529080" y="3252960"/>
            <a:chExt cx="2770200" cy="2058840"/>
          </a:xfrm>
        </p:grpSpPr>
        <p:sp>
          <p:nvSpPr>
            <p:cNvPr id="227" name="Text Box 12"/>
            <p:cNvSpPr/>
            <p:nvPr/>
          </p:nvSpPr>
          <p:spPr>
            <a:xfrm>
              <a:off x="3995640" y="3252960"/>
              <a:ext cx="1440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3"/>
            <p:cNvSpPr/>
            <p:nvPr/>
          </p:nvSpPr>
          <p:spPr>
            <a:xfrm>
              <a:off x="3708360" y="3787920"/>
              <a:ext cx="1440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5"/>
            <p:cNvSpPr/>
            <p:nvPr/>
          </p:nvSpPr>
          <p:spPr>
            <a:xfrm>
              <a:off x="3635280" y="4549680"/>
              <a:ext cx="266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3529080" y="3470400"/>
              <a:ext cx="611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24"/>
          <p:cNvSpPr/>
          <p:nvPr/>
        </p:nvSpPr>
        <p:spPr>
          <a:xfrm>
            <a:off x="142920" y="142920"/>
            <a:ext cx="8821800" cy="64548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285840" y="357120"/>
            <a:ext cx="83390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Из цифр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2,8,4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составьте все  трёхзначные  числа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и запишите их в порядке возрас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7"/>
          <p:cNvSpPr/>
          <p:nvPr/>
        </p:nvSpPr>
        <p:spPr>
          <a:xfrm>
            <a:off x="642960" y="2928960"/>
            <a:ext cx="8001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928800" y="1857240"/>
            <a:ext cx="7429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48, 284, 482, 428, 824, 8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"/>
          <p:cNvSpPr/>
          <p:nvPr/>
        </p:nvSpPr>
        <p:spPr>
          <a:xfrm>
            <a:off x="714240" y="2928960"/>
            <a:ext cx="7643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число нарушило числовой ря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3500280" y="392904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1285920" y="4714920"/>
            <a:ext cx="69292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248, 284, 428, 482, 824, 8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58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Вычисли с объясн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18676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60: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170: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600:9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480: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1357200" y="2071800"/>
            <a:ext cx="2714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60:80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600:900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5357880" y="2000160"/>
            <a:ext cx="257184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170:70=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480:90=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5000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Страница 23        №  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                         №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Самостоятельно  № 11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Взаимопроверка   тетрадей.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6" descr="picm"/>
          <p:cNvPicPr/>
          <p:nvPr/>
        </p:nvPicPr>
        <p:blipFill>
          <a:blip r:embed="rId1"/>
          <a:stretch/>
        </p:blipFill>
        <p:spPr>
          <a:xfrm>
            <a:off x="5429160" y="1785960"/>
            <a:ext cx="3249720" cy="417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picm"/>
          <p:cNvPicPr/>
          <p:nvPr/>
        </p:nvPicPr>
        <p:blipFill>
          <a:blip r:embed="rId2"/>
          <a:stretch/>
        </p:blipFill>
        <p:spPr>
          <a:xfrm>
            <a:off x="5214960" y="1785960"/>
            <a:ext cx="358308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ршенствовать навык деления на двузначное число(в частном две цифр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ять умения решать задачи на движение, вычислительные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ллектуальные способности, память, внимание,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6"/>
          <p:cNvSpPr txBox="1"/>
          <p:nvPr/>
        </p:nvSpPr>
        <p:spPr>
          <a:xfrm rot="20049600">
            <a:off x="394920" y="1773000"/>
            <a:ext cx="7554960" cy="19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04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04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2" name="Picture 7" descr="99"/>
          <p:cNvPicPr/>
          <p:nvPr/>
        </p:nvPicPr>
        <p:blipFill>
          <a:blip r:embed="rId1"/>
          <a:stretch/>
        </p:blipFill>
        <p:spPr>
          <a:xfrm>
            <a:off x="5992920" y="2637000"/>
            <a:ext cx="29318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18m5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Игр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">
    <p:comb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453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457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461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00648E-006 L 0.00798 -0.66097 E">
                                      <p:cBhvr>
                                        <p:cTn id="465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6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2"/>
          <p:cNvSpPr/>
          <p:nvPr/>
        </p:nvSpPr>
        <p:spPr>
          <a:xfrm>
            <a:off x="468360" y="27813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89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val 2"/>
          <p:cNvSpPr/>
          <p:nvPr/>
        </p:nvSpPr>
        <p:spPr>
          <a:xfrm>
            <a:off x="468360" y="27813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500" dur="3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2"/>
          <p:cNvSpPr/>
          <p:nvPr/>
        </p:nvSpPr>
        <p:spPr>
          <a:xfrm>
            <a:off x="395280" y="2924280"/>
            <a:ext cx="1008000" cy="936360"/>
          </a:xfrm>
          <a:prstGeom prst="ellipse">
            <a:avLst/>
          </a:prstGeom>
          <a:gradFill rotWithShape="0">
            <a:gsLst>
              <a:gs pos="0">
                <a:srgbClr val="f1091f"/>
              </a:gs>
              <a:gs pos="100000">
                <a:srgbClr val="70040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26m1"/>
          <p:cNvPicPr/>
          <p:nvPr/>
        </p:nvPicPr>
        <p:blipFill>
          <a:blip r:embed="rId1"/>
          <a:stretch/>
        </p:blipFill>
        <p:spPr>
          <a:xfrm>
            <a:off x="3924360" y="486900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11" dur="3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>
              <a:gd name="textAreaLeft" fmla="*/ 1011960 w 6912000"/>
              <a:gd name="textAreaRight" fmla="*/ 5900040 w 691200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21599" y="10725"/>
                </a:moveTo>
                <a:cubicBezTo>
                  <a:pt x="21559" y="4790"/>
                  <a:pt x="167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21599" y="107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"/>
          <p:cNvSpPr/>
          <p:nvPr/>
        </p:nvSpPr>
        <p:spPr>
          <a:xfrm>
            <a:off x="4643280" y="342900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736 -0.07468 C 0.3507 -0.33202 0.17691 -0.52671 -0.02222 -0.5022 C -0.21302 -0.48139 -0.3717 -0.27792 -0.35573 -0.0259 C -0.3434 0.20717 -0.19635 0.39584 -0.01753 0.37665 C 0.14566 0.35792 0.28438 0.18428 0.27309 -0.03306 C 0.26233 -0.23075 0.13768 -0.3933 -0.01458 -0.37873 C -0.15399 -0.36254 -0.27031 -0.21873 -0.25955 -0.03561 C -0.25139 0.12855 -0.15069 0.26636 -0.02691 0.24948 C 0.08716 0.23815 0.18403 0.12763 0.17743 -0.02173 C 0.16858 -0.1526 0.09097 -0.2659 -0.00729 -0.25295 C -0.09288 -0.24601 -0.17118 -0.15977 -0.16493 -0.04578 C -0.15989 0.04948 -0.10503 0.13225 -0.03316 0.12647 C 0.02604 0.12116 0.08386 0.06659 0.07847 -0.00948 C 0.07674 -0.07214 0.04323 -0.13341 0.00052 -0.13225 C -0.03472 -0.12532 -0.06771 -0.10312 -0.06979 -0.0585 C -0.06909 -0.02983 -0.05903 -0.00509 -0.04132 0.00116 C -0.03055 0.00486 -0.02656 0.00185 -0.01719 -0.00162 E">
                                      <p:cBhvr>
                                        <p:cTn id="529" dur="5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53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538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54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547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 4"/>
          <p:cNvSpPr/>
          <p:nvPr/>
        </p:nvSpPr>
        <p:spPr>
          <a:xfrm>
            <a:off x="3708360" y="242100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1908000" y="692280"/>
            <a:ext cx="5185080" cy="4537080"/>
          </a:xfrm>
          <a:prstGeom prst="irregularSeal2">
            <a:avLst/>
          </a:prstGeom>
          <a:gradFill rotWithShape="0">
            <a:gsLst>
              <a:gs pos="0">
                <a:srgbClr val="ffff00"/>
              </a:gs>
              <a:gs pos="100000">
                <a:srgbClr val="585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9" presetSubtype="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7 февраля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999800"/>
            <a:ext cx="8472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Ols" descr="butterfly13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Роза открываеися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567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57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3141 E">
                                      <p:cBhvr>
                                        <p:cTn id="58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da080d"/>
                </a:solidFill>
                <a:latin typeface="Times New Roman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5" descr="26m1"/>
          <p:cNvPicPr/>
          <p:nvPr/>
        </p:nvPicPr>
        <p:blipFill>
          <a:blip r:embed="rId1"/>
          <a:stretch/>
        </p:blipFill>
        <p:spPr>
          <a:xfrm>
            <a:off x="3780000" y="4365720"/>
            <a:ext cx="1584000" cy="2292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3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3725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Придумайте 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324000" y="2637000"/>
            <a:ext cx="83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12"/>
          <p:cNvPicPr/>
          <p:nvPr/>
        </p:nvPicPr>
        <p:blipFill>
          <a:blip r:embed="rId1"/>
          <a:stretch/>
        </p:blipFill>
        <p:spPr>
          <a:xfrm>
            <a:off x="395280" y="981000"/>
            <a:ext cx="1352520" cy="1609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12"/>
          <p:cNvPicPr/>
          <p:nvPr/>
        </p:nvPicPr>
        <p:blipFill>
          <a:blip r:embed="rId2"/>
          <a:stretch/>
        </p:blipFill>
        <p:spPr>
          <a:xfrm flipH="1">
            <a:off x="7451280" y="981000"/>
            <a:ext cx="1352520" cy="1609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8"/>
          <p:cNvSpPr/>
          <p:nvPr/>
        </p:nvSpPr>
        <p:spPr>
          <a:xfrm rot="16200000">
            <a:off x="4176720" y="-1071000"/>
            <a:ext cx="503280" cy="8208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13840 h 8208720"/>
              <a:gd name="textAreaBottom" fmla="*/ 7994880 h 82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564000" y="3357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км 50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395280" y="213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0м/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7093080" y="213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м/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143240" y="128592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486108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861080" y="2205000"/>
            <a:ext cx="2156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5"/>
          <p:cNvSpPr/>
          <p:nvPr/>
        </p:nvSpPr>
        <p:spPr>
          <a:xfrm rot="16200000">
            <a:off x="4176720" y="-1071000"/>
            <a:ext cx="503280" cy="8208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13840 h 8208720"/>
              <a:gd name="textAreaBottom" fmla="*/ 7994880 h 82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 rot="16200000">
            <a:off x="4176720" y="-1071000"/>
            <a:ext cx="503280" cy="8208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13840 h 8208720"/>
              <a:gd name="textAreaBottom" fmla="*/ 7994880 h 82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324000" y="2492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8675640" y="2492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4 -0.00185 L 0.3592 -0.00185 E">
                                      <p:cBhvr>
                                        <p:cTn id="596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4.23682E-006 L -0.29445 -0.00185 E">
                                      <p:cBhvr>
                                        <p:cTn id="598" dur="5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28400" y="1143000"/>
            <a:ext cx="8258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км 500м = 45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200+250=450(м/м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4500:450=10(м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лодкам понадобилось 1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30741df58539e844896dde437a57c766"/>
          <p:cNvPicPr/>
          <p:nvPr/>
        </p:nvPicPr>
        <p:blipFill>
          <a:blip r:embed="rId1"/>
          <a:stretch/>
        </p:blipFill>
        <p:spPr>
          <a:xfrm>
            <a:off x="2268360" y="2708280"/>
            <a:ext cx="4751640" cy="36212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3"/>
          <p:cNvSpPr txBox="1"/>
          <p:nvPr/>
        </p:nvSpPr>
        <p:spPr>
          <a:xfrm>
            <a:off x="468360" y="333360"/>
            <a:ext cx="828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Самостоятельная рабо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Найдите частное чисел и укажите правильный от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8400" y="1857240"/>
            <a:ext cx="82580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950:3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1065          2) 165             3) 1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2350:70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6005          2)605              3) 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928960" y="1928880"/>
            <a:ext cx="13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8"/>
          <p:cNvSpPr/>
          <p:nvPr/>
        </p:nvSpPr>
        <p:spPr>
          <a:xfrm>
            <a:off x="3214800" y="3857760"/>
            <a:ext cx="1500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Придумайте   задачу.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"/>
          <p:cNvSpPr/>
          <p:nvPr/>
        </p:nvSpPr>
        <p:spPr>
          <a:xfrm>
            <a:off x="324000" y="2708280"/>
            <a:ext cx="835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039"/>
          <p:cNvPicPr/>
          <p:nvPr/>
        </p:nvPicPr>
        <p:blipFill>
          <a:blip r:embed="rId1"/>
          <a:stretch/>
        </p:blipFill>
        <p:spPr>
          <a:xfrm>
            <a:off x="7236000" y="1700280"/>
            <a:ext cx="1618920" cy="961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0039"/>
          <p:cNvPicPr/>
          <p:nvPr/>
        </p:nvPicPr>
        <p:blipFill>
          <a:blip r:embed="rId2"/>
          <a:stretch/>
        </p:blipFill>
        <p:spPr>
          <a:xfrm flipH="1">
            <a:off x="324000" y="1700280"/>
            <a:ext cx="1619280" cy="96192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9"/>
          <p:cNvSpPr/>
          <p:nvPr/>
        </p:nvSpPr>
        <p:spPr>
          <a:xfrm flipH="1" rot="16197000">
            <a:off x="4393440" y="-1149840"/>
            <a:ext cx="289080" cy="8289720"/>
          </a:xfrm>
          <a:custGeom>
            <a:avLst/>
            <a:gdLst>
              <a:gd name="textAreaLeft" fmla="*/ -360 w 289080"/>
              <a:gd name="textAreaRight" fmla="*/ 104040 w 289080"/>
              <a:gd name="textAreaTop" fmla="*/ 216000 h 8289720"/>
              <a:gd name="textAreaBottom" fmla="*/ 8073720 h 828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924360" y="328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0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"/>
          <p:cNvSpPr/>
          <p:nvPr/>
        </p:nvSpPr>
        <p:spPr>
          <a:xfrm flipV="1">
            <a:off x="3203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3203640" y="2421000"/>
            <a:ext cx="21600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3"/>
          <p:cNvSpPr/>
          <p:nvPr/>
        </p:nvSpPr>
        <p:spPr>
          <a:xfrm rot="21327600">
            <a:off x="3132000" y="2060280"/>
            <a:ext cx="2521080" cy="718920"/>
          </a:xfrm>
          <a:custGeom>
            <a:avLst/>
            <a:gdLst>
              <a:gd name="textAreaLeft" fmla="*/ 0 w 2521080"/>
              <a:gd name="textAreaRight" fmla="*/ 2521080 w 25210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179" h="188">
                <a:moveTo>
                  <a:pt x="0" y="143"/>
                </a:moveTo>
                <a:cubicBezTo>
                  <a:pt x="196" y="71"/>
                  <a:pt x="392" y="0"/>
                  <a:pt x="589" y="7"/>
                </a:cubicBezTo>
                <a:cubicBezTo>
                  <a:pt x="786" y="14"/>
                  <a:pt x="982" y="101"/>
                  <a:pt x="1179" y="1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3635280" y="1268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324000" y="2565360"/>
            <a:ext cx="0" cy="216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>
            <a:off x="8675640" y="2565360"/>
            <a:ext cx="0" cy="216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8461440" y="220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108000" y="220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3321E-006 C 0.00139 -0.01781 0.0033 -0.03561 0.01371 -0.03561 C 0.02396 -0.03561 0.04687 -1.3321E-006 0.0618 -1.3321E-006 C 0.07673 -1.3321E-006 0.08715 -0.03839 0.1033 -0.03561 C 0.11944 -0.03261 0.14566 0.0148 0.15833 0.01781 C 0.17101 0.02082 0.17552 -0.01179 0.17917 -0.01781 E">
                                      <p:cBhvr>
                                        <p:cTn id="639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0.01041 C 0.02379 -0.0088 0.01267 -0.02801 -0.00434 -0.02107 C -0.02135 -0.01412 -0.04236 0.05069 -0.06736 0.05231 C -0.09236 0.05393 -0.12899 -0.00903 -0.15399 -0.01065 C -0.17899 -0.01227 -0.19201 0.04189 -0.21701 0.04189 C -0.24201 0.04189 -0.27604 -0.00903 -0.30364 -0.01065 C -0.33125 -0.01227 -0.35729 0.02963 -0.38229 0.03148 C -0.40729 0.03333 -0.4401 0.00694 -0.4533 4.44444E-006 C -0.46649 -0.00695 -0.46389 -0.0088 -0.46111 -0.01065 E">
                                      <p:cBhvr>
                                        <p:cTn id="641" dur="5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300-120 = 180 (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180:2 = 90 (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90+120 = 210 (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первый пловец проплыл 90 м, а второй 21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826920" y="404640"/>
            <a:ext cx="77774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тог уро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6" name="Picture 6" descr="doc17"/>
          <p:cNvPicPr/>
          <p:nvPr/>
        </p:nvPicPr>
        <p:blipFill>
          <a:blip r:embed="rId1"/>
          <a:stretch/>
        </p:blipFill>
        <p:spPr>
          <a:xfrm>
            <a:off x="2916360" y="3807000"/>
            <a:ext cx="3240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r>
              <a:rPr b="0" lang="ru-RU" sz="9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77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770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ff"/>
                </a:solidFill>
                <a:latin typeface="Arial"/>
              </a:rPr>
              <a:t>Проверим 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ест №2 вариант 2      страница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Учебник страница 2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№ 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№ 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Arial"/>
              </a:rPr>
              <a:t>Ответь на вопрос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42960" y="2000160"/>
          <a:ext cx="8300880" cy="3546720"/>
        </p:xfrm>
        <a:graphic>
          <a:graphicData uri="http://schemas.openxmlformats.org/drawingml/2006/table">
            <a:tbl>
              <a:tblPr/>
              <a:tblGrid>
                <a:gridCol w="792000"/>
                <a:gridCol w="4972320"/>
                <a:gridCol w="1296720"/>
                <a:gridCol w="1239840"/>
              </a:tblGrid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  ты    себя   чувствовал   на   урок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ожил все сил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 бы лучш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чень старалс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сем не старалс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интерес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руд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поня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i="1" lang="ru-RU" sz="5400" spc="-1" strike="noStrike" u="sng">
                <a:solidFill>
                  <a:srgbClr val="ff00ff"/>
                </a:solidFill>
                <a:uFillTx/>
                <a:latin typeface="Arial"/>
              </a:rPr>
              <a:t>Домашнее  зад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ff00ff"/>
                </a:solidFill>
                <a:latin typeface="Arial"/>
              </a:rPr>
              <a:t>Повторить  прави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ff00ff"/>
                </a:solidFill>
                <a:latin typeface="Arial"/>
              </a:rPr>
              <a:t>таблицу   умножения.</a:t>
            </a:r>
            <a:r>
              <a:rPr b="1" i="1" lang="ru-RU" sz="54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4"/>
          <p:cNvSpPr txBox="1"/>
          <p:nvPr/>
        </p:nvSpPr>
        <p:spPr>
          <a:xfrm>
            <a:off x="684360" y="1125360"/>
            <a:ext cx="792000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!!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3" name="Picture 5" descr="2"/>
          <p:cNvPicPr/>
          <p:nvPr/>
        </p:nvPicPr>
        <p:blipFill>
          <a:blip r:embed="rId1"/>
          <a:stretch/>
        </p:blipFill>
        <p:spPr>
          <a:xfrm>
            <a:off x="6732720" y="4581360"/>
            <a:ext cx="1584360" cy="1219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2"/>
          <p:cNvPicPr/>
          <p:nvPr/>
        </p:nvPicPr>
        <p:blipFill>
          <a:blip r:embed="rId2"/>
          <a:stretch/>
        </p:blipFill>
        <p:spPr>
          <a:xfrm>
            <a:off x="571680" y="4357800"/>
            <a:ext cx="1584000" cy="1218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20"/>
          <p:cNvPicPr/>
          <p:nvPr/>
        </p:nvPicPr>
        <p:blipFill>
          <a:blip r:embed="rId3"/>
          <a:stretch/>
        </p:blipFill>
        <p:spPr>
          <a:xfrm>
            <a:off x="1285920" y="2428920"/>
            <a:ext cx="2301840" cy="3021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20"/>
          <p:cNvPicPr/>
          <p:nvPr/>
        </p:nvPicPr>
        <p:blipFill>
          <a:blip r:embed="rId4"/>
          <a:stretch/>
        </p:blipFill>
        <p:spPr>
          <a:xfrm>
            <a:off x="2928960" y="2714760"/>
            <a:ext cx="2301840" cy="3020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20"/>
          <p:cNvPicPr/>
          <p:nvPr/>
        </p:nvPicPr>
        <p:blipFill>
          <a:blip r:embed="rId5"/>
          <a:stretch/>
        </p:blipFill>
        <p:spPr>
          <a:xfrm>
            <a:off x="4429080" y="2286000"/>
            <a:ext cx="2301840" cy="302112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7"/>
          <p:cNvSpPr/>
          <p:nvPr/>
        </p:nvSpPr>
        <p:spPr>
          <a:xfrm>
            <a:off x="285840" y="5857920"/>
            <a:ext cx="8501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Arial"/>
              </a:rPr>
              <a:t>Спасибо  за  урок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ам наверное интересно узнать, чем мы будем заниматься на урок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400" y="1642680"/>
            <a:ext cx="81579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узнать это, вы должны решить задания и открыть тайну прямо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.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периметр прямоугольника со стор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см и 10 см ?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1857240" y="4500720"/>
            <a:ext cx="4214880" cy="100008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785960" y="4500720"/>
            <a:ext cx="4286160" cy="100008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Arial"/>
              </a:rPr>
              <a:t>2.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площадь прямоугольника со сторонами 30 см и10 см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2000160" y="3429000"/>
            <a:ext cx="4429080" cy="1143000"/>
          </a:xfrm>
          <a:prstGeom prst="rect">
            <a:avLst/>
          </a:prstGeom>
          <a:solidFill>
            <a:srgbClr val="00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2000160" y="3429000"/>
            <a:ext cx="4500720" cy="1143000"/>
          </a:xfrm>
          <a:prstGeom prst="rect">
            <a:avLst/>
          </a:prstGeom>
          <a:solidFill>
            <a:srgbClr val="00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3.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71432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⅓ часть площади прямоугольника со сторонами 30 см и10 с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1571760" y="3286080"/>
            <a:ext cx="5429160" cy="15717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1571760" y="3286080"/>
            <a:ext cx="5429160" cy="15717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Сегодня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2286000" y="2143080"/>
            <a:ext cx="4714920" cy="78588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2286000" y="3357720"/>
            <a:ext cx="4786200" cy="857160"/>
          </a:xfrm>
          <a:prstGeom prst="rect">
            <a:avLst/>
          </a:prstGeom>
          <a:solidFill>
            <a:srgbClr val="00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2286000" y="4929120"/>
            <a:ext cx="4786200" cy="85716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разность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1000080" y="2357280"/>
            <a:ext cx="2143080" cy="5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00-370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3286080" y="2357280"/>
            <a:ext cx="1071720" cy="57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7"/>
          <p:cNvSpPr/>
          <p:nvPr/>
        </p:nvSpPr>
        <p:spPr>
          <a:xfrm>
            <a:off x="928800" y="292896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00-280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3357720" y="292896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1000080" y="3357720"/>
            <a:ext cx="2286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50-105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1"/>
          <p:cNvSpPr/>
          <p:nvPr/>
        </p:nvSpPr>
        <p:spPr>
          <a:xfrm>
            <a:off x="3429000" y="3357720"/>
            <a:ext cx="1071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3"/>
          <p:cNvSpPr/>
          <p:nvPr/>
        </p:nvSpPr>
        <p:spPr>
          <a:xfrm>
            <a:off x="857160" y="3857760"/>
            <a:ext cx="2571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100-800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3214800" y="3929040"/>
            <a:ext cx="1428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2:38:07Z</dcterms:created>
  <dc:creator>Федя Чижиков</dc:creator>
  <dc:description/>
  <dc:language>en-US</dc:language>
  <cp:lastModifiedBy>Elena</cp:lastModifiedBy>
  <dcterms:modified xsi:type="dcterms:W3CDTF">2013-01-07T08:51:26Z</dcterms:modified>
  <cp:revision>97</cp:revision>
  <dc:subject/>
  <dc:title>Урок математики</dc:title>
</cp:coreProperties>
</file>