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92CCC-6D02-414D-8F5D-4EB1D5E5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09947-059C-43F0-A00C-592303BA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81D5-A530-4587-B5CB-2817277D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ED8E-CC20-4349-9A22-B3FF9134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6F1A-9B33-4CBD-9162-119E4C56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5F51-F427-4B33-8F04-1906417D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76F4-E1FF-4A69-96EC-714C43CC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CB96-3B5F-4489-94C2-7028FB22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5104-E3B5-470B-8B04-A84BE86B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D3B7-B155-4508-8EE9-DFE39CEF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BB4E-3183-4EAF-9E54-31623A5B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D6DD-01EB-4F5F-A74F-DA62EB9A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DBC2-4BD8-4500-BDF4-51717093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E5FA-56E9-4764-862A-7D755582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C3C2-3F10-4777-BF91-F3543579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BA98-C6F2-4785-98C3-4798333E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229A-5C49-4A3B-8FAD-F2181003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F5592-1D8E-4C6F-A55F-B119BA73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178E9-466B-493B-984C-97AF9174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736ED-110C-4DFF-B958-D8FA65AA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6E485-AB57-437A-9325-8862F150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7616C-0C69-4584-A5EB-1617A392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6BD5-2F90-4BE2-95D3-515FC032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F7EF-426C-4DB6-919B-FF12A7E8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 университет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oi-mummi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F6E7-2F39-4663-885A-A2E0959687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f6f6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ef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efa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3a44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efac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3a44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efa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f6f6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efac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ef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f6f6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efa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efa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f6f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3a4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efac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3a44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efac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3a44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efa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 университет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moi-mummi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9FCB-2E0E-4EEA-B267-C607114858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Горизонтальный свиток 3"/>
          <p:cNvSpPr/>
          <p:nvPr/>
        </p:nvSpPr>
        <p:spPr>
          <a:xfrm>
            <a:off x="304920" y="533520"/>
            <a:ext cx="8686800" cy="6019560"/>
          </a:xfrm>
          <a:prstGeom prst="horizontalScroll">
            <a:avLst>
              <a:gd name="adj" fmla="val 12500"/>
            </a:avLst>
          </a:prstGeom>
          <a:solidFill>
            <a:srgbClr val="c9d3b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295280" y="2725920"/>
            <a:ext cx="7315200" cy="2288520"/>
          </a:xfrm>
          <a:prstGeom prst="rect">
            <a:avLst/>
          </a:prstGeom>
          <a:gradFill rotWithShape="0">
            <a:gsLst>
              <a:gs pos="0">
                <a:srgbClr val="f8c891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«открытого знания» по те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Умножение одночлена на многочлен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льникова Маргарита Ивановна, 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ева Людмила Фёдоровна, учитель математики МОУ«СОШ№3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иант 1                                 Вариант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                                                            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96"/>
              <p:cNvSpPr txBox="1"/>
              <p:nvPr/>
            </p:nvSpPr>
            <p:spPr>
              <a:xfrm>
                <a:off x="0" y="0"/>
                <a:ext cx="4096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в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01"/>
              <p:cNvSpPr txBox="1"/>
              <p:nvPr/>
            </p:nvSpPr>
            <p:spPr>
              <a:xfrm>
                <a:off x="838080" y="2895480"/>
                <a:ext cx="124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в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00"/>
              <p:cNvSpPr txBox="1"/>
              <p:nvPr/>
            </p:nvSpPr>
            <p:spPr>
              <a:xfrm>
                <a:off x="2514600" y="2971800"/>
                <a:ext cx="1295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9"/>
              <p:cNvSpPr txBox="1"/>
              <p:nvPr/>
            </p:nvSpPr>
            <p:spPr>
              <a:xfrm>
                <a:off x="4952880" y="2971800"/>
                <a:ext cx="1143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с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8"/>
              <p:cNvSpPr txBox="1"/>
              <p:nvPr/>
            </p:nvSpPr>
            <p:spPr>
              <a:xfrm>
                <a:off x="6781680" y="2971800"/>
                <a:ext cx="124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Rectangle 102"/>
          <p:cNvSpPr/>
          <p:nvPr/>
        </p:nvSpPr>
        <p:spPr>
          <a:xfrm>
            <a:off x="668160" y="3170160"/>
            <a:ext cx="323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5"/>
          <p:cNvSpPr/>
          <p:nvPr/>
        </p:nvSpPr>
        <p:spPr>
          <a:xfrm>
            <a:off x="668160" y="3170160"/>
            <a:ext cx="3235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1371600" y="3276720"/>
                <a:ext cx="26668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1"/>
              <p:cNvSpPr txBox="1"/>
              <p:nvPr/>
            </p:nvSpPr>
            <p:spPr>
              <a:xfrm>
                <a:off x="5943600" y="3200400"/>
                <a:ext cx="16002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иант 1                                 Вариант 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1600200" y="3124080"/>
                <a:ext cx="251460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6"/>
              <p:cNvSpPr txBox="1"/>
              <p:nvPr/>
            </p:nvSpPr>
            <p:spPr>
              <a:xfrm>
                <a:off x="5486400" y="3048120"/>
                <a:ext cx="2971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в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9907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1066680" y="1447920"/>
                <a:ext cx="1219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685800" y="5029200"/>
                <a:ext cx="171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1219320" y="2362320"/>
                <a:ext cx="9554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13"/>
              <p:cNvSpPr txBox="1"/>
              <p:nvPr/>
            </p:nvSpPr>
            <p:spPr>
              <a:xfrm>
                <a:off x="933480" y="3200400"/>
                <a:ext cx="15634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15"/>
              <p:cNvSpPr txBox="1"/>
              <p:nvPr/>
            </p:nvSpPr>
            <p:spPr>
              <a:xfrm>
                <a:off x="1081080" y="4114800"/>
                <a:ext cx="18748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17"/>
              <p:cNvSpPr txBox="1"/>
              <p:nvPr/>
            </p:nvSpPr>
            <p:spPr>
              <a:xfrm>
                <a:off x="1066680" y="4952880"/>
                <a:ext cx="25146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19"/>
              <p:cNvSpPr txBox="1"/>
              <p:nvPr/>
            </p:nvSpPr>
            <p:spPr>
              <a:xfrm>
                <a:off x="4952880" y="4876920"/>
                <a:ext cx="171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20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20"/>
              <p:cNvSpPr txBox="1"/>
              <p:nvPr/>
            </p:nvSpPr>
            <p:spPr>
              <a:xfrm>
                <a:off x="5334120" y="1295280"/>
                <a:ext cx="1218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2"/>
              <p:cNvSpPr txBox="1"/>
              <p:nvPr/>
            </p:nvSpPr>
            <p:spPr>
              <a:xfrm>
                <a:off x="5486400" y="2209680"/>
                <a:ext cx="1131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4"/>
              <p:cNvSpPr txBox="1"/>
              <p:nvPr/>
            </p:nvSpPr>
            <p:spPr>
              <a:xfrm>
                <a:off x="5562720" y="2971800"/>
                <a:ext cx="135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сd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6"/>
              <p:cNvSpPr txBox="1"/>
              <p:nvPr/>
            </p:nvSpPr>
            <p:spPr>
              <a:xfrm>
                <a:off x="5638680" y="3962520"/>
                <a:ext cx="1760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28"/>
              <p:cNvSpPr txBox="1"/>
              <p:nvPr/>
            </p:nvSpPr>
            <p:spPr>
              <a:xfrm>
                <a:off x="5334120" y="4800600"/>
                <a:ext cx="25146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лем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д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5"/>
              <p:cNvSpPr txBox="1"/>
              <p:nvPr/>
            </p:nvSpPr>
            <p:spPr>
              <a:xfrm>
                <a:off x="2895480" y="2133720"/>
                <a:ext cx="3222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2971800" y="3581280"/>
                <a:ext cx="3354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Rectangle 6"/>
          <p:cNvSpPr/>
          <p:nvPr/>
        </p:nvSpPr>
        <p:spPr>
          <a:xfrm>
            <a:off x="0" y="0"/>
            <a:ext cx="323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0" y="0"/>
            <a:ext cx="323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Цель урока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работать   правило (алгоритм) умножения одночлена на многочлен и рассмотреть его применение на приме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Тема урока: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Умножение одночлена на многочлен.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Умножение одночлена на многочл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для груп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судите в группе решение последнего задания  диктанта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опытайтесь  сформулировать  правило умножения одночлена на многочлен и выдвиньте свою гипоте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оснуйте свою гипотезу (почему можно так дела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ерез три минуты представьте свой материал классу (используйте плакат, фломасте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2590920" y="2666880"/>
                <a:ext cx="22096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Умножение одночлена на многочл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ительное свойство умно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(в+с)=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+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(в+с+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в+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+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Умножение одночлена на многоч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(в + с +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 +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 +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,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2х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, в =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, с = -7х,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х                    2х      +2х          +2х     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4038480" y="2666880"/>
                <a:ext cx="623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838080" y="3505320"/>
                <a:ext cx="2654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4038480" y="3505320"/>
                <a:ext cx="6447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0"/>
              <p:cNvSpPr txBox="1"/>
              <p:nvPr/>
            </p:nvSpPr>
            <p:spPr>
              <a:xfrm>
                <a:off x="5562720" y="3581280"/>
                <a:ext cx="1253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1"/>
              <p:cNvSpPr txBox="1"/>
              <p:nvPr/>
            </p:nvSpPr>
            <p:spPr>
              <a:xfrm>
                <a:off x="7696080" y="3581280"/>
                <a:ext cx="465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2"/>
              <p:cNvSpPr txBox="1"/>
              <p:nvPr/>
            </p:nvSpPr>
            <p:spPr>
              <a:xfrm>
                <a:off x="2887560" y="4572000"/>
                <a:ext cx="38941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Горизонтальный свиток 3"/>
          <p:cNvSpPr/>
          <p:nvPr/>
        </p:nvSpPr>
        <p:spPr>
          <a:xfrm>
            <a:off x="304920" y="533520"/>
            <a:ext cx="8686800" cy="6019560"/>
          </a:xfrm>
          <a:prstGeom prst="horizontalScroll">
            <a:avLst>
              <a:gd name="adj" fmla="val 12500"/>
            </a:avLst>
          </a:prstGeom>
          <a:solidFill>
            <a:srgbClr val="c9d3b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00200" y="2393280"/>
            <a:ext cx="6934320" cy="2896920"/>
          </a:xfrm>
          <a:prstGeom prst="rect">
            <a:avLst/>
          </a:prstGeom>
          <a:gradFill rotWithShape="0">
            <a:gsLst>
              <a:gs pos="0">
                <a:srgbClr val="f8c891"/>
              </a:gs>
              <a:gs pos="100000">
                <a:srgbClr val="eef2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…математика … выявляет порядок, симметр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определенность, а это – важнейшие виды прекрасног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ристотель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Умножение одночлена на многоч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2057400" y="2743200"/>
                <a:ext cx="4724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Умножение одночлена на многоч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1447920" y="2743200"/>
                <a:ext cx="54831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3</m:t>
                            </m:r>
                          </m:sup>
                        </m:sSup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Умножение одночлена на многоч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4"/>
              <p:cNvSpPr txBox="1"/>
              <p:nvPr/>
            </p:nvSpPr>
            <p:spPr>
              <a:xfrm>
                <a:off x="173160" y="2057400"/>
                <a:ext cx="7966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0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6"/>
              <p:cNvSpPr txBox="1"/>
              <p:nvPr/>
            </p:nvSpPr>
            <p:spPr>
              <a:xfrm>
                <a:off x="914400" y="2057400"/>
                <a:ext cx="28098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Rectangle 10"/>
          <p:cNvSpPr/>
          <p:nvPr/>
        </p:nvSpPr>
        <p:spPr>
          <a:xfrm>
            <a:off x="4437000" y="355176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1"/>
              <p:cNvSpPr txBox="1"/>
              <p:nvPr/>
            </p:nvSpPr>
            <p:spPr>
              <a:xfrm>
                <a:off x="514440" y="3124080"/>
                <a:ext cx="7239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5" name="Rectangle 1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3"/>
              <p:cNvSpPr txBox="1"/>
              <p:nvPr/>
            </p:nvSpPr>
            <p:spPr>
              <a:xfrm>
                <a:off x="1371600" y="3200400"/>
                <a:ext cx="1149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Rectangle 1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5"/>
              <p:cNvSpPr txBox="1"/>
              <p:nvPr/>
            </p:nvSpPr>
            <p:spPr>
              <a:xfrm>
                <a:off x="2514600" y="3200400"/>
                <a:ext cx="6094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9" name="Rectangle 18"/>
          <p:cNvSpPr/>
          <p:nvPr/>
        </p:nvSpPr>
        <p:spPr>
          <a:xfrm>
            <a:off x="-304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7"/>
              <p:cNvSpPr txBox="1"/>
              <p:nvPr/>
            </p:nvSpPr>
            <p:spPr>
              <a:xfrm>
                <a:off x="3048120" y="3276720"/>
                <a:ext cx="1447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Rectangle 2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9"/>
              <p:cNvSpPr txBox="1"/>
              <p:nvPr/>
            </p:nvSpPr>
            <p:spPr>
              <a:xfrm>
                <a:off x="4511520" y="3276720"/>
                <a:ext cx="6526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3" name="Rectangle 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1"/>
              <p:cNvSpPr txBox="1"/>
              <p:nvPr/>
            </p:nvSpPr>
            <p:spPr>
              <a:xfrm>
                <a:off x="5105520" y="3276720"/>
                <a:ext cx="3809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" name="Rectangle 23"/>
          <p:cNvSpPr/>
          <p:nvPr/>
        </p:nvSpPr>
        <p:spPr>
          <a:xfrm>
            <a:off x="153000" y="327564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Умножение одночлена на многоч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efac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лните пропуски: чтобы умножить одночлен на многочле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efac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ужно                           этот одночлен на                     чл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efac9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полученные произведения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Выполните умн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)                            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Впишите пропущенный множ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Object 4"/>
              <p:cNvSpPr txBox="1"/>
              <p:nvPr/>
            </p:nvSpPr>
            <p:spPr>
              <a:xfrm>
                <a:off x="838080" y="2514600"/>
                <a:ext cx="533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1371600" y="2514600"/>
                <a:ext cx="6206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8"/>
              <p:cNvSpPr txBox="1"/>
              <p:nvPr/>
            </p:nvSpPr>
            <p:spPr>
              <a:xfrm>
                <a:off x="2895480" y="2514600"/>
                <a:ext cx="489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10"/>
              <p:cNvSpPr txBox="1"/>
              <p:nvPr/>
            </p:nvSpPr>
            <p:spPr>
              <a:xfrm>
                <a:off x="3429000" y="2514600"/>
                <a:ext cx="762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12"/>
              <p:cNvSpPr txBox="1"/>
              <p:nvPr/>
            </p:nvSpPr>
            <p:spPr>
              <a:xfrm>
                <a:off x="4191120" y="2514600"/>
                <a:ext cx="490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4724280" y="2514600"/>
                <a:ext cx="7495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16"/>
              <p:cNvSpPr txBox="1"/>
              <p:nvPr/>
            </p:nvSpPr>
            <p:spPr>
              <a:xfrm>
                <a:off x="914400" y="3124080"/>
                <a:ext cx="4572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8"/>
              <p:cNvSpPr txBox="1"/>
              <p:nvPr/>
            </p:nvSpPr>
            <p:spPr>
              <a:xfrm>
                <a:off x="1295280" y="3048120"/>
                <a:ext cx="20574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0"/>
              <p:cNvSpPr txBox="1"/>
              <p:nvPr/>
            </p:nvSpPr>
            <p:spPr>
              <a:xfrm>
                <a:off x="3352680" y="3048120"/>
                <a:ext cx="45720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2"/>
              <p:cNvSpPr txBox="1"/>
              <p:nvPr/>
            </p:nvSpPr>
            <p:spPr>
              <a:xfrm>
                <a:off x="3809880" y="3048120"/>
                <a:ext cx="53352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4"/>
              <p:cNvSpPr txBox="1"/>
              <p:nvPr/>
            </p:nvSpPr>
            <p:spPr>
              <a:xfrm>
                <a:off x="4343400" y="3048120"/>
                <a:ext cx="6397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0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26"/>
              <p:cNvSpPr txBox="1"/>
              <p:nvPr/>
            </p:nvSpPr>
            <p:spPr>
              <a:xfrm>
                <a:off x="4952880" y="3048120"/>
                <a:ext cx="1067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28"/>
              <p:cNvSpPr txBox="1"/>
              <p:nvPr/>
            </p:nvSpPr>
            <p:spPr>
              <a:xfrm>
                <a:off x="5943600" y="3048120"/>
                <a:ext cx="5335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30"/>
              <p:cNvSpPr txBox="1"/>
              <p:nvPr/>
            </p:nvSpPr>
            <p:spPr>
              <a:xfrm>
                <a:off x="6477120" y="3048120"/>
                <a:ext cx="2514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32"/>
              <p:cNvSpPr txBox="1"/>
              <p:nvPr/>
            </p:nvSpPr>
            <p:spPr>
              <a:xfrm>
                <a:off x="1219320" y="4038480"/>
                <a:ext cx="2514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у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ау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34"/>
              <p:cNvSpPr txBox="1"/>
              <p:nvPr/>
            </p:nvSpPr>
            <p:spPr>
              <a:xfrm>
                <a:off x="838080" y="4648320"/>
                <a:ext cx="609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Rectangle 3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36"/>
              <p:cNvSpPr txBox="1"/>
              <p:nvPr/>
            </p:nvSpPr>
            <p:spPr>
              <a:xfrm>
                <a:off x="2438280" y="4572000"/>
                <a:ext cx="16765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TextBox 38"/>
          <p:cNvSpPr/>
          <p:nvPr/>
        </p:nvSpPr>
        <p:spPr>
          <a:xfrm>
            <a:off x="5562720" y="12193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ажд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9"/>
          <p:cNvSpPr/>
          <p:nvPr/>
        </p:nvSpPr>
        <p:spPr>
          <a:xfrm>
            <a:off x="1905120" y="1219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множ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0"/>
          <p:cNvSpPr/>
          <p:nvPr/>
        </p:nvSpPr>
        <p:spPr>
          <a:xfrm>
            <a:off x="7315200" y="1219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ногоч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1"/>
          <p:cNvSpPr/>
          <p:nvPr/>
        </p:nvSpPr>
        <p:spPr>
          <a:xfrm>
            <a:off x="4267080" y="1523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лож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39"/>
              <p:cNvSpPr txBox="1"/>
              <p:nvPr/>
            </p:nvSpPr>
            <p:spPr>
              <a:xfrm>
                <a:off x="1981080" y="2514600"/>
                <a:ext cx="7286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40"/>
              <p:cNvSpPr txBox="1"/>
              <p:nvPr/>
            </p:nvSpPr>
            <p:spPr>
              <a:xfrm>
                <a:off x="5562720" y="2514600"/>
                <a:ext cx="16761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TextBox 44"/>
          <p:cNvSpPr/>
          <p:nvPr/>
        </p:nvSpPr>
        <p:spPr>
          <a:xfrm>
            <a:off x="762120" y="4038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5"/>
          <p:cNvSpPr/>
          <p:nvPr/>
        </p:nvSpPr>
        <p:spPr>
          <a:xfrm>
            <a:off x="1447920" y="4572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а –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Arial"/>
              </a:rPr>
              <a:t>Умножение одночлена на многочл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 вариант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1752480" y="274464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 (2х-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7"/>
              <p:cNvSpPr txBox="1"/>
              <p:nvPr/>
            </p:nvSpPr>
            <p:spPr>
              <a:xfrm>
                <a:off x="1143000" y="3505320"/>
                <a:ext cx="2925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в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5" name="Rectangle 9"/>
          <p:cNvSpPr/>
          <p:nvPr/>
        </p:nvSpPr>
        <p:spPr>
          <a:xfrm>
            <a:off x="6104880" y="2744640"/>
            <a:ext cx="15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у (4у-2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0"/>
              <p:cNvSpPr txBox="1"/>
              <p:nvPr/>
            </p:nvSpPr>
            <p:spPr>
              <a:xfrm>
                <a:off x="5638680" y="3429000"/>
                <a:ext cx="3027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Цель урока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работать   правило (алгоритм) умножения одночлена на многочлен и рассмотреть его применение на пример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Являются ли одночленами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1284120" y="1447920"/>
                <a:ext cx="154800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,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у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1266840" y="2092320"/>
                <a:ext cx="14288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х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1271520" y="2666880"/>
                <a:ext cx="15922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8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0"/>
              <p:cNvSpPr txBox="1"/>
              <p:nvPr/>
            </p:nvSpPr>
            <p:spPr>
              <a:xfrm>
                <a:off x="1273320" y="3308400"/>
                <a:ext cx="8492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13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2"/>
              <p:cNvSpPr txBox="1"/>
              <p:nvPr/>
            </p:nvSpPr>
            <p:spPr>
              <a:xfrm>
                <a:off x="1278000" y="3962520"/>
                <a:ext cx="8506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6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1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4"/>
              <p:cNvSpPr txBox="1"/>
              <p:nvPr/>
            </p:nvSpPr>
            <p:spPr>
              <a:xfrm>
                <a:off x="1066680" y="4495680"/>
                <a:ext cx="19987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ху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ыполнить умножение степе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538200" y="1981080"/>
                <a:ext cx="43354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366840" y="3505320"/>
                <a:ext cx="3730320" cy="14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5105520" y="2057400"/>
                <a:ext cx="19270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5181480" y="3581280"/>
                <a:ext cx="162576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ыполнить возведение в степен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666720" y="2133720"/>
                <a:ext cx="3390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6"/>
              <p:cNvSpPr txBox="1"/>
              <p:nvPr/>
            </p:nvSpPr>
            <p:spPr>
              <a:xfrm>
                <a:off x="474840" y="3657600"/>
                <a:ext cx="376236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4906800" y="2104920"/>
                <a:ext cx="19576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5029200" y="3733920"/>
                <a:ext cx="21193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риведите подобные члены многочле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533520" y="2971800"/>
                <a:ext cx="460044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ху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ху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533520" y="4114800"/>
                <a:ext cx="646884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в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в</m:t>
                    </m:r>
                    <m:r>
                      <m:t xml:space="preserve">+</m:t>
                    </m:r>
                    <m:r>
                      <m:t xml:space="preserve">в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5410080" y="2971800"/>
                <a:ext cx="25401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х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8"/>
              <p:cNvSpPr txBox="1"/>
              <p:nvPr/>
            </p:nvSpPr>
            <p:spPr>
              <a:xfrm>
                <a:off x="6934320" y="4114800"/>
                <a:ext cx="20588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Раскрыть скоб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380880" y="1828800"/>
                <a:ext cx="5238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304920" y="3505320"/>
                <a:ext cx="57099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у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у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5562720" y="1905120"/>
                <a:ext cx="3492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а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2133720" y="4495680"/>
                <a:ext cx="48607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у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3036960" y="5486400"/>
                <a:ext cx="33973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1                                 Вариант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3"/>
              <p:cNvSpPr txBox="1"/>
              <p:nvPr/>
            </p:nvSpPr>
            <p:spPr>
              <a:xfrm>
                <a:off x="762120" y="3276720"/>
                <a:ext cx="39067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с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2"/>
              <p:cNvSpPr txBox="1"/>
              <p:nvPr/>
            </p:nvSpPr>
            <p:spPr>
              <a:xfrm>
                <a:off x="5715000" y="3276720"/>
                <a:ext cx="2362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44"/>
          <p:cNvSpPr/>
          <p:nvPr/>
        </p:nvSpPr>
        <p:spPr>
          <a:xfrm>
            <a:off x="0" y="0"/>
            <a:ext cx="323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6"/>
          <p:cNvSpPr/>
          <p:nvPr/>
        </p:nvSpPr>
        <p:spPr>
          <a:xfrm>
            <a:off x="0" y="0"/>
            <a:ext cx="323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ческий дикт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иант 1                                        Вариант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1600200" y="2743200"/>
                <a:ext cx="1714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ху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5410080" y="2819520"/>
                <a:ext cx="187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Rectangle 6"/>
          <p:cNvSpPr/>
          <p:nvPr/>
        </p:nvSpPr>
        <p:spPr>
          <a:xfrm>
            <a:off x="0" y="0"/>
            <a:ext cx="323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0"/>
            <a:ext cx="3235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гарита И. Зольникова</dc:creator>
  <dc:description/>
  <dc:language>en-US</dc:language>
  <cp:lastModifiedBy>User</cp:lastModifiedBy>
  <dcterms:modified xsi:type="dcterms:W3CDTF">2015-10-06T13:53:39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