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ABD-E5EE-4F50-A5D7-07A15D04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E00C-D611-4D91-A3D9-A66389A7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BC4-BCCE-4544-8B00-BE1E6747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7589-596A-4E12-BC54-77B3E6EC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77CA-25FB-4D56-9203-E4D25F97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20E8-1A22-42AB-9BC7-A2EB43A6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DF5A-7ACE-47E8-8924-AA9DC5C4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9177-72B6-470C-AB4A-3890C320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6546-CC70-4557-8245-60EED220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CCD7-F4A9-4597-B98A-8E6BA080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891C-7DBB-412A-9FDC-E3E58967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0F2-14E1-48E5-87DA-3ED077F6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B2D2-6847-4568-818D-F3D516DF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CAA0-C5D3-4C81-BAAC-3A1E5DD1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A957-52E9-491C-B6C1-2408E72D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7F49-54FC-4232-AEE4-FD8CA4E6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8CF6-D7BD-46EF-B87C-5AA0B1AFF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AD0E2-6933-4674-BBA9-BA78149E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5C2D8-E1C0-47D5-8D3E-5B81A065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E54C2-6A24-4C32-835B-8002DFD8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6B16B-06DB-4AA9-A16C-DB48DE4A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74227-1F66-40AE-8D6D-2974FD10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08A2-09C6-4ABF-AB9A-F32E4450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893CF-9332-425B-9245-DC47F4C4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BB1C0-6C74-4793-9E46-E316E2B5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9E56C-F9C1-4871-A1C5-4450EC75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A37A6-567A-4BDE-9E4F-E26F34FD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A6569-ECBA-4796-9A76-6CCCD4DA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274C6-BC56-4A7E-A9E5-6B598707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E7A91-42D3-4ABE-BCBC-96A3552A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0EF0-CF06-47F9-817B-F82A117E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144-CC1F-49FE-AFFC-D2DE26A6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F93B-FFF2-4F7B-AFB4-E3E275A9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6A3E-0923-4232-81E7-7828315A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6086-95D3-4EFC-BA48-CD965BCD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E5E2-F957-40EF-9BD8-6A20F757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BBFEE5-A374-4D0A-BAE5-C170E41879D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15290A-AD69-4F6E-992C-B55EF0A1C66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344806-0D7E-4B01-BF0F-85C5EAFE09D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4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КТОРИ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Природа моего края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9"/>
          <p:cNvSpPr/>
          <p:nvPr/>
        </p:nvSpPr>
        <p:spPr>
          <a:xfrm>
            <a:off x="6084000" y="2781000"/>
            <a:ext cx="280800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Ямщикова И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У «Акчеевская средняя общеобразовательна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1285920" y="428760"/>
            <a:ext cx="6857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кое из растений появляется ранней весной перв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Таблица 4"/>
          <p:cNvGraphicFramePr/>
          <p:nvPr/>
        </p:nvGraphicFramePr>
        <p:xfrm>
          <a:off x="500040" y="2071800"/>
          <a:ext cx="8143560" cy="4000320"/>
        </p:xfrm>
        <a:graphic>
          <a:graphicData uri="http://schemas.openxmlformats.org/drawingml/2006/table">
            <a:tbl>
              <a:tblPr/>
              <a:tblGrid>
                <a:gridCol w="2714400"/>
                <a:gridCol w="2714400"/>
                <a:gridCol w="2714400"/>
              </a:tblGrid>
              <a:tr h="4000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3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pic>
        <p:nvPicPr>
          <p:cNvPr id="171" name="Picture 2" descr="C:\Users\home\Downloads\0a195cf84cce6d8b6433431ec84f498d.jpg"/>
          <p:cNvPicPr/>
          <p:nvPr/>
        </p:nvPicPr>
        <p:blipFill>
          <a:blip r:embed="rId2"/>
          <a:stretch/>
        </p:blipFill>
        <p:spPr>
          <a:xfrm>
            <a:off x="571320" y="2643120"/>
            <a:ext cx="2571480" cy="3357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C:\Users\home\Downloads\0a18e221eb0edfc807d2528b80b7ee65.jpg"/>
          <p:cNvPicPr/>
          <p:nvPr/>
        </p:nvPicPr>
        <p:blipFill>
          <a:blip r:embed="rId3"/>
          <a:stretch/>
        </p:blipFill>
        <p:spPr>
          <a:xfrm>
            <a:off x="3286080" y="2643120"/>
            <a:ext cx="2623680" cy="3357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C:\Users\home\Downloads\image58.png"/>
          <p:cNvPicPr/>
          <p:nvPr/>
        </p:nvPicPr>
        <p:blipFill>
          <a:blip r:embed="rId4"/>
          <a:stretch/>
        </p:blipFill>
        <p:spPr>
          <a:xfrm>
            <a:off x="6000840" y="2714760"/>
            <a:ext cx="2499840" cy="32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"/>
          <p:cNvSpPr/>
          <p:nvPr/>
        </p:nvSpPr>
        <p:spPr>
          <a:xfrm>
            <a:off x="1285920" y="714240"/>
            <a:ext cx="685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се ли насекомые полезны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Таблица 4"/>
          <p:cNvGraphicFramePr/>
          <p:nvPr/>
        </p:nvGraphicFramePr>
        <p:xfrm>
          <a:off x="500040" y="2214720"/>
          <a:ext cx="8143560" cy="3857400"/>
        </p:xfrm>
        <a:graphic>
          <a:graphicData uri="http://schemas.openxmlformats.org/drawingml/2006/table">
            <a:tbl>
              <a:tblPr/>
              <a:tblGrid>
                <a:gridCol w="2714400"/>
                <a:gridCol w="2714400"/>
                <a:gridCol w="2714400"/>
              </a:tblGrid>
              <a:tr h="38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3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2" descr="C:\Users\home\Downloads\57857926_7240medium.jpg"/>
          <p:cNvPicPr/>
          <p:nvPr/>
        </p:nvPicPr>
        <p:blipFill>
          <a:blip r:embed="rId2"/>
          <a:stretch/>
        </p:blipFill>
        <p:spPr>
          <a:xfrm>
            <a:off x="571320" y="2857320"/>
            <a:ext cx="2571480" cy="3142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home\Downloads\712531.jpg"/>
          <p:cNvPicPr/>
          <p:nvPr/>
        </p:nvPicPr>
        <p:blipFill>
          <a:blip r:embed="rId3"/>
          <a:stretch/>
        </p:blipFill>
        <p:spPr>
          <a:xfrm>
            <a:off x="3214800" y="2857320"/>
            <a:ext cx="2642760" cy="3142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Users\home\Downloads\bee_.jpg"/>
          <p:cNvPicPr/>
          <p:nvPr/>
        </p:nvPicPr>
        <p:blipFill>
          <a:blip r:embed="rId4"/>
          <a:stretch/>
        </p:blipFill>
        <p:spPr>
          <a:xfrm>
            <a:off x="6000840" y="2857320"/>
            <a:ext cx="2545200" cy="31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1285920" y="285840"/>
            <a:ext cx="6857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кое из этих животных занесено в Красную книгу Мордов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Таблица 4"/>
          <p:cNvGraphicFramePr/>
          <p:nvPr/>
        </p:nvGraphicFramePr>
        <p:xfrm>
          <a:off x="500040" y="2428920"/>
          <a:ext cx="8143560" cy="3929040"/>
        </p:xfrm>
        <a:graphic>
          <a:graphicData uri="http://schemas.openxmlformats.org/drawingml/2006/table">
            <a:tbl>
              <a:tblPr/>
              <a:tblGrid>
                <a:gridCol w="2714400"/>
                <a:gridCol w="2714400"/>
                <a:gridCol w="2714400"/>
              </a:tblGrid>
              <a:tr h="392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3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pic>
        <p:nvPicPr>
          <p:cNvPr id="183" name="Picture 2" descr="C:\Users\home\Downloads\9bc4fb56bc3fe0f4a99707bb46a9ede9.jpg"/>
          <p:cNvPicPr/>
          <p:nvPr/>
        </p:nvPicPr>
        <p:blipFill>
          <a:blip r:embed="rId2"/>
          <a:stretch/>
        </p:blipFill>
        <p:spPr>
          <a:xfrm>
            <a:off x="571320" y="3214800"/>
            <a:ext cx="2571480" cy="3071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Users\home\Downloads\i (10).jpg"/>
          <p:cNvPicPr/>
          <p:nvPr/>
        </p:nvPicPr>
        <p:blipFill>
          <a:blip r:embed="rId3"/>
          <a:stretch/>
        </p:blipFill>
        <p:spPr>
          <a:xfrm>
            <a:off x="3286080" y="3214800"/>
            <a:ext cx="2571480" cy="3071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Users\home\Downloads\13d130d30eecc42b4dfc7a50cfb354a4d3bff445_4.jpg"/>
          <p:cNvPicPr/>
          <p:nvPr/>
        </p:nvPicPr>
        <p:blipFill>
          <a:blip r:embed="rId4"/>
          <a:stretch/>
        </p:blipFill>
        <p:spPr>
          <a:xfrm>
            <a:off x="5929200" y="3214800"/>
            <a:ext cx="26427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87" name="TextBox 2"/>
          <p:cNvSpPr/>
          <p:nvPr/>
        </p:nvSpPr>
        <p:spPr>
          <a:xfrm>
            <a:off x="1285920" y="785880"/>
            <a:ext cx="685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акая из этих змей  ядовита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Таблица 4"/>
          <p:cNvGraphicFramePr/>
          <p:nvPr/>
        </p:nvGraphicFramePr>
        <p:xfrm>
          <a:off x="571320" y="2428920"/>
          <a:ext cx="7357680" cy="3857400"/>
        </p:xfrm>
        <a:graphic>
          <a:graphicData uri="http://schemas.openxmlformats.org/drawingml/2006/table">
            <a:tbl>
              <a:tblPr/>
              <a:tblGrid>
                <a:gridCol w="3678840"/>
                <a:gridCol w="3678840"/>
              </a:tblGrid>
              <a:tr h="38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pic>
        <p:nvPicPr>
          <p:cNvPr id="189" name="Picture 2" descr="C:\Users\home\Downloads\1269266141_0_13f8_fe6e826a_l.jpg"/>
          <p:cNvPicPr/>
          <p:nvPr/>
        </p:nvPicPr>
        <p:blipFill>
          <a:blip r:embed="rId2"/>
          <a:stretch/>
        </p:blipFill>
        <p:spPr>
          <a:xfrm>
            <a:off x="642960" y="3071880"/>
            <a:ext cx="3571560" cy="3166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Users\home\Downloads\i (11).jpg"/>
          <p:cNvPicPr/>
          <p:nvPr/>
        </p:nvPicPr>
        <p:blipFill>
          <a:blip r:embed="rId3"/>
          <a:stretch/>
        </p:blipFill>
        <p:spPr>
          <a:xfrm>
            <a:off x="4357800" y="3143160"/>
            <a:ext cx="35002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1285920" y="714240"/>
            <a:ext cx="685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зовите перелётных пти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Таблица 4"/>
          <p:cNvGraphicFramePr/>
          <p:nvPr/>
        </p:nvGraphicFramePr>
        <p:xfrm>
          <a:off x="500040" y="2428920"/>
          <a:ext cx="8143560" cy="3714480"/>
        </p:xfrm>
        <a:graphic>
          <a:graphicData uri="http://schemas.openxmlformats.org/drawingml/2006/table">
            <a:tbl>
              <a:tblPr/>
              <a:tblGrid>
                <a:gridCol w="2714400"/>
                <a:gridCol w="2714400"/>
                <a:gridCol w="2714400"/>
              </a:tblGrid>
              <a:tr h="3714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3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pic>
        <p:nvPicPr>
          <p:cNvPr id="194" name="Picture 2" descr="C:\Users\home\Downloads\1245.jpg"/>
          <p:cNvPicPr/>
          <p:nvPr/>
        </p:nvPicPr>
        <p:blipFill>
          <a:blip r:embed="rId2"/>
          <a:stretch/>
        </p:blipFill>
        <p:spPr>
          <a:xfrm>
            <a:off x="571320" y="3071880"/>
            <a:ext cx="2595240" cy="2999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C:\Users\home\Downloads\6c7bf37ce620892663e451bf07e896aa.jpg"/>
          <p:cNvPicPr/>
          <p:nvPr/>
        </p:nvPicPr>
        <p:blipFill>
          <a:blip r:embed="rId3"/>
          <a:stretch/>
        </p:blipFill>
        <p:spPr>
          <a:xfrm>
            <a:off x="3286080" y="3071880"/>
            <a:ext cx="2571480" cy="2999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Users\home\Downloads\1494.jpg"/>
          <p:cNvPicPr/>
          <p:nvPr/>
        </p:nvPicPr>
        <p:blipFill>
          <a:blip r:embed="rId4"/>
          <a:stretch/>
        </p:blipFill>
        <p:spPr>
          <a:xfrm>
            <a:off x="6000840" y="3071880"/>
            <a:ext cx="2571480" cy="29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2"/>
          <p:cNvSpPr/>
          <p:nvPr/>
        </p:nvSpPr>
        <p:spPr>
          <a:xfrm>
            <a:off x="1285920" y="428760"/>
            <a:ext cx="68576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ое из этих растений занесено в Красную книгу Мордов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Таблица 4"/>
          <p:cNvGraphicFramePr/>
          <p:nvPr/>
        </p:nvGraphicFramePr>
        <p:xfrm>
          <a:off x="500040" y="2428920"/>
          <a:ext cx="8143560" cy="3929040"/>
        </p:xfrm>
        <a:graphic>
          <a:graphicData uri="http://schemas.openxmlformats.org/drawingml/2006/table">
            <a:tbl>
              <a:tblPr/>
              <a:tblGrid>
                <a:gridCol w="2714400"/>
                <a:gridCol w="2714400"/>
                <a:gridCol w="2714400"/>
              </a:tblGrid>
              <a:tr h="392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3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pic>
        <p:nvPicPr>
          <p:cNvPr id="200" name="Picture 2" descr="C:\Users\home\Downloads\1248715010_1248517592_77758.jpg"/>
          <p:cNvPicPr/>
          <p:nvPr/>
        </p:nvPicPr>
        <p:blipFill>
          <a:blip r:embed="rId2"/>
          <a:stretch/>
        </p:blipFill>
        <p:spPr>
          <a:xfrm>
            <a:off x="500040" y="3071880"/>
            <a:ext cx="2642760" cy="3214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C:\Users\home\Downloads\post-12150-1187299132.jpg"/>
          <p:cNvPicPr/>
          <p:nvPr/>
        </p:nvPicPr>
        <p:blipFill>
          <a:blip r:embed="rId3"/>
          <a:stretch/>
        </p:blipFill>
        <p:spPr>
          <a:xfrm>
            <a:off x="3286080" y="3071880"/>
            <a:ext cx="2592000" cy="3261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home\Downloads\achillea-millefolium-1.jpg"/>
          <p:cNvPicPr/>
          <p:nvPr/>
        </p:nvPicPr>
        <p:blipFill>
          <a:blip r:embed="rId4"/>
          <a:stretch/>
        </p:blipFill>
        <p:spPr>
          <a:xfrm>
            <a:off x="5947200" y="3071880"/>
            <a:ext cx="2625120" cy="32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"/>
          <p:cNvSpPr/>
          <p:nvPr/>
        </p:nvSpPr>
        <p:spPr>
          <a:xfrm>
            <a:off x="1285920" y="285840"/>
            <a:ext cx="6857640" cy="18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 ту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Животный и растительный мир Мордов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Таблица 5"/>
          <p:cNvGraphicFramePr/>
          <p:nvPr/>
        </p:nvGraphicFramePr>
        <p:xfrm>
          <a:off x="642960" y="2214720"/>
          <a:ext cx="8000640" cy="4285800"/>
        </p:xfrm>
        <a:graphic>
          <a:graphicData uri="http://schemas.openxmlformats.org/drawingml/2006/table">
            <a:tbl>
              <a:tblPr/>
              <a:tblGrid>
                <a:gridCol w="4000320"/>
                <a:gridCol w="4000320"/>
              </a:tblGrid>
              <a:tr h="207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3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4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аба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ru-RU" sz="4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заяц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2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4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ru-RU" sz="4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лос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4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4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елк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pic>
        <p:nvPicPr>
          <p:cNvPr id="206" name="Picture 2" descr="C:\Users\home\Downloads\81911774_291823.jpg"/>
          <p:cNvPicPr/>
          <p:nvPr/>
        </p:nvPicPr>
        <p:blipFill>
          <a:blip r:embed="rId2"/>
          <a:stretch/>
        </p:blipFill>
        <p:spPr>
          <a:xfrm>
            <a:off x="5072040" y="4357800"/>
            <a:ext cx="3214440" cy="2071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C:\Users\home\Downloads\Wild-Boar-11-1rfrbby.jpg"/>
          <p:cNvPicPr/>
          <p:nvPr/>
        </p:nvPicPr>
        <p:blipFill>
          <a:blip r:embed="rId3"/>
          <a:stretch/>
        </p:blipFill>
        <p:spPr>
          <a:xfrm>
            <a:off x="1143000" y="2286000"/>
            <a:ext cx="3285720" cy="1977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C:\Users\home\Downloads\86271eee765e.jpg"/>
          <p:cNvPicPr/>
          <p:nvPr/>
        </p:nvPicPr>
        <p:blipFill>
          <a:blip r:embed="rId4"/>
          <a:stretch/>
        </p:blipFill>
        <p:spPr>
          <a:xfrm>
            <a:off x="1071360" y="4357800"/>
            <a:ext cx="3428640" cy="2071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C:\Users\home\Downloads\9bc4fb56bc3fe0f4a99707bb46a9ede9.jpg"/>
          <p:cNvPicPr/>
          <p:nvPr/>
        </p:nvPicPr>
        <p:blipFill>
          <a:blip r:embed="rId5"/>
          <a:stretch/>
        </p:blipFill>
        <p:spPr>
          <a:xfrm>
            <a:off x="5214960" y="2214720"/>
            <a:ext cx="3214440" cy="19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Таблица 5"/>
          <p:cNvGraphicFramePr/>
          <p:nvPr/>
        </p:nvGraphicFramePr>
        <p:xfrm>
          <a:off x="714240" y="1143000"/>
          <a:ext cx="7714800" cy="5000400"/>
        </p:xfrm>
        <a:graphic>
          <a:graphicData uri="http://schemas.openxmlformats.org/drawingml/2006/table">
            <a:tbl>
              <a:tblPr/>
              <a:tblGrid>
                <a:gridCol w="3857400"/>
                <a:gridCol w="3857400"/>
              </a:tblGrid>
              <a:tr h="250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4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4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алин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4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4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леве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50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3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емляни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4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       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r>
                        <a:rPr b="0" lang="ru-RU" sz="36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4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4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черёмух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pic>
        <p:nvPicPr>
          <p:cNvPr id="212" name="Picture 2" descr="C:\Users\home\Downloads\1272180929_25.jpg"/>
          <p:cNvPicPr/>
          <p:nvPr/>
        </p:nvPicPr>
        <p:blipFill>
          <a:blip r:embed="rId2"/>
          <a:stretch/>
        </p:blipFill>
        <p:spPr>
          <a:xfrm>
            <a:off x="1285920" y="1214280"/>
            <a:ext cx="3142800" cy="2356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C:\Users\home\Downloads\45516042_ph03017.jpg"/>
          <p:cNvPicPr/>
          <p:nvPr/>
        </p:nvPicPr>
        <p:blipFill>
          <a:blip r:embed="rId3"/>
          <a:stretch/>
        </p:blipFill>
        <p:spPr>
          <a:xfrm>
            <a:off x="5000760" y="1214280"/>
            <a:ext cx="3285720" cy="2356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C:\Users\home\Downloads\8bcf46b62f88.jpg"/>
          <p:cNvPicPr/>
          <p:nvPr/>
        </p:nvPicPr>
        <p:blipFill>
          <a:blip r:embed="rId4"/>
          <a:stretch/>
        </p:blipFill>
        <p:spPr>
          <a:xfrm>
            <a:off x="5072040" y="3714840"/>
            <a:ext cx="3214440" cy="2356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C:\Users\home\Downloads\i (13).jpg"/>
          <p:cNvPicPr/>
          <p:nvPr/>
        </p:nvPicPr>
        <p:blipFill>
          <a:blip r:embed="rId5"/>
          <a:stretch/>
        </p:blipFill>
        <p:spPr>
          <a:xfrm>
            <a:off x="1214280" y="3714840"/>
            <a:ext cx="3214440" cy="235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2"/>
          <p:cNvSpPr/>
          <p:nvPr/>
        </p:nvSpPr>
        <p:spPr>
          <a:xfrm>
            <a:off x="1285920" y="1143000"/>
            <a:ext cx="6857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стрекоз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C:\Users\home\Downloads\83659228.jpg"/>
          <p:cNvPicPr/>
          <p:nvPr/>
        </p:nvPicPr>
        <p:blipFill>
          <a:blip r:embed="rId2"/>
          <a:stretch/>
        </p:blipFill>
        <p:spPr>
          <a:xfrm>
            <a:off x="1285920" y="1143000"/>
            <a:ext cx="6000480" cy="4214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Users\home\Downloads\beb6f7bbc045.jpg"/>
          <p:cNvPicPr/>
          <p:nvPr/>
        </p:nvPicPr>
        <p:blipFill>
          <a:blip r:embed="rId3"/>
          <a:stretch/>
        </p:blipFill>
        <p:spPr>
          <a:xfrm>
            <a:off x="1357200" y="1143000"/>
            <a:ext cx="592884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7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1 тур: «Разминка»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кая из этих рек протекает в Мордовии?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Содержимое 4"/>
          <p:cNvGraphicFramePr/>
          <p:nvPr/>
        </p:nvGraphicFramePr>
        <p:xfrm>
          <a:off x="457200" y="2428920"/>
          <a:ext cx="8229240" cy="2643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643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6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лг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5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окш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4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3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5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Лен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home\Downloads\30599429.jpg"/>
          <p:cNvPicPr/>
          <p:nvPr/>
        </p:nvPicPr>
        <p:blipFill>
          <a:blip r:embed="rId2"/>
          <a:stretch/>
        </p:blipFill>
        <p:spPr>
          <a:xfrm>
            <a:off x="1214280" y="1143000"/>
            <a:ext cx="6143400" cy="4214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C:\Users\home\Downloads\Wild-Boar-11-1rfrbby.jpg"/>
          <p:cNvPicPr/>
          <p:nvPr/>
        </p:nvPicPr>
        <p:blipFill>
          <a:blip r:embed="rId3"/>
          <a:stretch/>
        </p:blipFill>
        <p:spPr>
          <a:xfrm>
            <a:off x="1285920" y="1143000"/>
            <a:ext cx="607176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Таблица 6"/>
          <p:cNvGraphicFramePr/>
          <p:nvPr/>
        </p:nvGraphicFramePr>
        <p:xfrm>
          <a:off x="3643200" y="1285920"/>
          <a:ext cx="3976200" cy="568080"/>
        </p:xfrm>
        <a:graphic>
          <a:graphicData uri="http://schemas.openxmlformats.org/drawingml/2006/table">
            <a:tbl>
              <a:tblPr/>
              <a:tblGrid>
                <a:gridCol w="993960"/>
                <a:gridCol w="993960"/>
                <a:gridCol w="993960"/>
                <a:gridCol w="993960"/>
              </a:tblGrid>
              <a:tr h="568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Таблица 8"/>
          <p:cNvGraphicFramePr/>
          <p:nvPr/>
        </p:nvGraphicFramePr>
        <p:xfrm>
          <a:off x="3643200" y="1848960"/>
          <a:ext cx="4714560" cy="396720"/>
        </p:xfrm>
        <a:graphic>
          <a:graphicData uri="http://schemas.openxmlformats.org/drawingml/2006/table">
            <a:tbl>
              <a:tblPr/>
              <a:tblGrid>
                <a:gridCol w="1024920"/>
                <a:gridCol w="956520"/>
                <a:gridCol w="1024920"/>
                <a:gridCol w="956520"/>
                <a:gridCol w="751320"/>
              </a:tblGrid>
              <a:tr h="357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Таблица 9"/>
          <p:cNvGraphicFramePr/>
          <p:nvPr/>
        </p:nvGraphicFramePr>
        <p:xfrm>
          <a:off x="3643200" y="2357280"/>
          <a:ext cx="4714560" cy="500040"/>
        </p:xfrm>
        <a:graphic>
          <a:graphicData uri="http://schemas.openxmlformats.org/drawingml/2006/table">
            <a:tbl>
              <a:tblPr/>
              <a:tblGrid>
                <a:gridCol w="1024920"/>
                <a:gridCol w="956520"/>
                <a:gridCol w="1024920"/>
                <a:gridCol w="956520"/>
                <a:gridCol w="751320"/>
              </a:tblGrid>
              <a:tr h="500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Таблица 10"/>
          <p:cNvGraphicFramePr/>
          <p:nvPr/>
        </p:nvGraphicFramePr>
        <p:xfrm>
          <a:off x="2000160" y="2857320"/>
          <a:ext cx="3642840" cy="500040"/>
        </p:xfrm>
        <a:graphic>
          <a:graphicData uri="http://schemas.openxmlformats.org/drawingml/2006/table">
            <a:tbl>
              <a:tblPr/>
              <a:tblGrid>
                <a:gridCol w="928440"/>
                <a:gridCol w="714240"/>
                <a:gridCol w="1000080"/>
                <a:gridCol w="1000080"/>
              </a:tblGrid>
              <a:tr h="500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Таблица 11"/>
          <p:cNvGraphicFramePr/>
          <p:nvPr/>
        </p:nvGraphicFramePr>
        <p:xfrm>
          <a:off x="285840" y="3357720"/>
          <a:ext cx="5357520" cy="500040"/>
        </p:xfrm>
        <a:graphic>
          <a:graphicData uri="http://schemas.openxmlformats.org/drawingml/2006/table">
            <a:tbl>
              <a:tblPr/>
              <a:tblGrid>
                <a:gridCol w="916200"/>
                <a:gridCol w="869400"/>
                <a:gridCol w="857160"/>
                <a:gridCol w="740520"/>
                <a:gridCol w="973800"/>
                <a:gridCol w="1000080"/>
              </a:tblGrid>
              <a:tr h="500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0" name="Таблица 13"/>
          <p:cNvGraphicFramePr/>
          <p:nvPr/>
        </p:nvGraphicFramePr>
        <p:xfrm>
          <a:off x="1214280" y="3857760"/>
          <a:ext cx="4428720" cy="571320"/>
        </p:xfrm>
        <a:graphic>
          <a:graphicData uri="http://schemas.openxmlformats.org/drawingml/2006/table">
            <a:tbl>
              <a:tblPr/>
              <a:tblGrid>
                <a:gridCol w="857160"/>
                <a:gridCol w="857160"/>
                <a:gridCol w="785520"/>
                <a:gridCol w="928440"/>
                <a:gridCol w="1000080"/>
              </a:tblGrid>
              <a:tr h="571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accent2">
                              <a:lumMod val="50000"/>
                            </a:schemeClr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"/>
          <p:cNvSpPr/>
          <p:nvPr/>
        </p:nvSpPr>
        <p:spPr>
          <a:xfrm>
            <a:off x="500040" y="1143000"/>
            <a:ext cx="807228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Охранять родную природу – значит охранять Родину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6600" spc="-1" strike="noStrike">
                <a:solidFill>
                  <a:srgbClr val="000000"/>
                </a:solidFill>
                <a:latin typeface="Calibri"/>
              </a:rPr>
              <a:t>М.М.Пришви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1285920" y="571320"/>
            <a:ext cx="6857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каком районе Мордовии находится заповедник имени П.Г.Смидович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Таблица 4"/>
          <p:cNvGraphicFramePr/>
          <p:nvPr/>
        </p:nvGraphicFramePr>
        <p:xfrm>
          <a:off x="357120" y="2428920"/>
          <a:ext cx="8500680" cy="271440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560"/>
              </a:tblGrid>
              <a:tr h="27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Ельниковск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Дубёнски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3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Темниковск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642960" y="785880"/>
            <a:ext cx="75006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то из этих животных не живёт на территории Мордов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Таблица 4"/>
          <p:cNvGraphicFramePr/>
          <p:nvPr/>
        </p:nvGraphicFramePr>
        <p:xfrm>
          <a:off x="214200" y="2428920"/>
          <a:ext cx="8715240" cy="3643200"/>
        </p:xfrm>
        <a:graphic>
          <a:graphicData uri="http://schemas.openxmlformats.org/drawingml/2006/table">
            <a:tbl>
              <a:tblPr/>
              <a:tblGrid>
                <a:gridCol w="2904840"/>
                <a:gridCol w="2904840"/>
                <a:gridCol w="2904840"/>
              </a:tblGrid>
              <a:tr h="3643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3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pic>
        <p:nvPicPr>
          <p:cNvPr id="135" name="Picture 2" descr="C:\Users\home\Downloads\944081670.jpg"/>
          <p:cNvPicPr/>
          <p:nvPr/>
        </p:nvPicPr>
        <p:blipFill>
          <a:blip r:embed="rId2"/>
          <a:stretch/>
        </p:blipFill>
        <p:spPr>
          <a:xfrm>
            <a:off x="3214800" y="3000240"/>
            <a:ext cx="2785680" cy="2999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Users\home\Downloads\beb6f7bbc045.jpg"/>
          <p:cNvPicPr/>
          <p:nvPr/>
        </p:nvPicPr>
        <p:blipFill>
          <a:blip r:embed="rId3"/>
          <a:stretch/>
        </p:blipFill>
        <p:spPr>
          <a:xfrm>
            <a:off x="285840" y="3071880"/>
            <a:ext cx="2761920" cy="2999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Users\home\Downloads\10010504.jpg"/>
          <p:cNvPicPr/>
          <p:nvPr/>
        </p:nvPicPr>
        <p:blipFill>
          <a:blip r:embed="rId4"/>
          <a:stretch/>
        </p:blipFill>
        <p:spPr>
          <a:xfrm>
            <a:off x="6143760" y="3071880"/>
            <a:ext cx="27144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"/>
          <p:cNvSpPr/>
          <p:nvPr/>
        </p:nvSpPr>
        <p:spPr>
          <a:xfrm>
            <a:off x="1285920" y="357120"/>
            <a:ext cx="650052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се ли эти птицы занесены в Красную книгу Мордов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Таблица 4"/>
          <p:cNvGraphicFramePr/>
          <p:nvPr/>
        </p:nvGraphicFramePr>
        <p:xfrm>
          <a:off x="357120" y="2643120"/>
          <a:ext cx="8500680" cy="371448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560"/>
              </a:tblGrid>
              <a:tr h="3714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3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pic>
        <p:nvPicPr>
          <p:cNvPr id="141" name="Picture 2" descr="C:\Users\home\Downloads\92d8085df8.jpg"/>
          <p:cNvPicPr/>
          <p:nvPr/>
        </p:nvPicPr>
        <p:blipFill>
          <a:blip r:embed="rId2"/>
          <a:stretch/>
        </p:blipFill>
        <p:spPr>
          <a:xfrm>
            <a:off x="428760" y="3143160"/>
            <a:ext cx="2642760" cy="3285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Users\home\Downloads\i (4).jpg"/>
          <p:cNvPicPr/>
          <p:nvPr/>
        </p:nvPicPr>
        <p:blipFill>
          <a:blip r:embed="rId3"/>
          <a:stretch/>
        </p:blipFill>
        <p:spPr>
          <a:xfrm>
            <a:off x="3214800" y="3143160"/>
            <a:ext cx="2785680" cy="3214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Users\home\Downloads\i (8).jpg"/>
          <p:cNvPicPr/>
          <p:nvPr/>
        </p:nvPicPr>
        <p:blipFill>
          <a:blip r:embed="rId4"/>
          <a:stretch/>
        </p:blipFill>
        <p:spPr>
          <a:xfrm>
            <a:off x="6072120" y="3143160"/>
            <a:ext cx="27144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"/>
          <p:cNvSpPr/>
          <p:nvPr/>
        </p:nvSpPr>
        <p:spPr>
          <a:xfrm>
            <a:off x="1285920" y="857160"/>
            <a:ext cx="6857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ой из грибов ядовиты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Таблица 4"/>
          <p:cNvGraphicFramePr/>
          <p:nvPr/>
        </p:nvGraphicFramePr>
        <p:xfrm>
          <a:off x="285840" y="2214720"/>
          <a:ext cx="8500680" cy="400032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560"/>
              </a:tblGrid>
              <a:tr h="4000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3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pic>
        <p:nvPicPr>
          <p:cNvPr id="147" name="Picture 2" descr="C:\Users\home\Downloads\1283073910_opos.jpg"/>
          <p:cNvPicPr/>
          <p:nvPr/>
        </p:nvPicPr>
        <p:blipFill>
          <a:blip r:embed="rId2"/>
          <a:stretch/>
        </p:blipFill>
        <p:spPr>
          <a:xfrm>
            <a:off x="285840" y="2786040"/>
            <a:ext cx="2785680" cy="3428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home\Downloads\1dd497645de1.jpg"/>
          <p:cNvPicPr/>
          <p:nvPr/>
        </p:nvPicPr>
        <p:blipFill>
          <a:blip r:embed="rId3"/>
          <a:stretch/>
        </p:blipFill>
        <p:spPr>
          <a:xfrm>
            <a:off x="3143160" y="2786040"/>
            <a:ext cx="2785680" cy="3385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Users\home\Downloads\1284746230_img-e1198.jpg"/>
          <p:cNvPicPr/>
          <p:nvPr/>
        </p:nvPicPr>
        <p:blipFill>
          <a:blip r:embed="rId4"/>
          <a:stretch/>
        </p:blipFill>
        <p:spPr>
          <a:xfrm>
            <a:off x="6000840" y="2786040"/>
            <a:ext cx="2714400" cy="33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"/>
          <p:cNvSpPr/>
          <p:nvPr/>
        </p:nvSpPr>
        <p:spPr>
          <a:xfrm>
            <a:off x="1285920" y="428760"/>
            <a:ext cx="6857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се ли эти растения являются    лекарственны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Таблица 4"/>
          <p:cNvGraphicFramePr/>
          <p:nvPr/>
        </p:nvGraphicFramePr>
        <p:xfrm>
          <a:off x="357120" y="2071800"/>
          <a:ext cx="8429400" cy="4143240"/>
        </p:xfrm>
        <a:graphic>
          <a:graphicData uri="http://schemas.openxmlformats.org/drawingml/2006/table">
            <a:tbl>
              <a:tblPr/>
              <a:tblGrid>
                <a:gridCol w="2809800"/>
                <a:gridCol w="2809800"/>
                <a:gridCol w="2809800"/>
              </a:tblGrid>
              <a:tr h="414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3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pic>
        <p:nvPicPr>
          <p:cNvPr id="153" name="Picture 2" descr="C:\Users\home\Downloads\59875920_Ortie.jpg"/>
          <p:cNvPicPr/>
          <p:nvPr/>
        </p:nvPicPr>
        <p:blipFill>
          <a:blip r:embed="rId2"/>
          <a:stretch/>
        </p:blipFill>
        <p:spPr>
          <a:xfrm>
            <a:off x="357120" y="2857320"/>
            <a:ext cx="2714400" cy="3357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Users\home\Downloads\76654112_1283734573_01.jpg"/>
          <p:cNvPicPr/>
          <p:nvPr/>
        </p:nvPicPr>
        <p:blipFill>
          <a:blip r:embed="rId3"/>
          <a:stretch/>
        </p:blipFill>
        <p:spPr>
          <a:xfrm>
            <a:off x="6000840" y="2857320"/>
            <a:ext cx="2714400" cy="3357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C:\Users\home\Downloads\99786843_0__17_.JPG"/>
          <p:cNvPicPr/>
          <p:nvPr/>
        </p:nvPicPr>
        <p:blipFill>
          <a:blip r:embed="rId4"/>
          <a:stretch/>
        </p:blipFill>
        <p:spPr>
          <a:xfrm>
            <a:off x="3214800" y="2857320"/>
            <a:ext cx="2642760" cy="32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"/>
          <p:cNvSpPr/>
          <p:nvPr/>
        </p:nvSpPr>
        <p:spPr>
          <a:xfrm>
            <a:off x="1285920" y="571320"/>
            <a:ext cx="685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зовите лиственные раст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Таблица 4"/>
          <p:cNvGraphicFramePr/>
          <p:nvPr/>
        </p:nvGraphicFramePr>
        <p:xfrm>
          <a:off x="500040" y="2000160"/>
          <a:ext cx="8143560" cy="4071960"/>
        </p:xfrm>
        <a:graphic>
          <a:graphicData uri="http://schemas.openxmlformats.org/drawingml/2006/table">
            <a:tbl>
              <a:tblPr/>
              <a:tblGrid>
                <a:gridCol w="2714400"/>
                <a:gridCol w="2714400"/>
                <a:gridCol w="2714400"/>
              </a:tblGrid>
              <a:tr h="4071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3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pic>
        <p:nvPicPr>
          <p:cNvPr id="159" name="Picture 2" descr="C:\Users\home\Downloads\i (9).jpg"/>
          <p:cNvPicPr/>
          <p:nvPr/>
        </p:nvPicPr>
        <p:blipFill>
          <a:blip r:embed="rId2"/>
          <a:stretch/>
        </p:blipFill>
        <p:spPr>
          <a:xfrm>
            <a:off x="571320" y="2786040"/>
            <a:ext cx="2571480" cy="3214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Users\home\Downloads\76693790_Derevo07.jpg"/>
          <p:cNvPicPr/>
          <p:nvPr/>
        </p:nvPicPr>
        <p:blipFill>
          <a:blip r:embed="rId3"/>
          <a:stretch/>
        </p:blipFill>
        <p:spPr>
          <a:xfrm>
            <a:off x="3286080" y="2786040"/>
            <a:ext cx="2571480" cy="3214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Users\home\Downloads\c8e79c2a8e75.jpg"/>
          <p:cNvPicPr/>
          <p:nvPr/>
        </p:nvPicPr>
        <p:blipFill>
          <a:blip r:embed="rId4"/>
          <a:stretch/>
        </p:blipFill>
        <p:spPr>
          <a:xfrm>
            <a:off x="6000840" y="2786040"/>
            <a:ext cx="25714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"/>
          <p:cNvSpPr/>
          <p:nvPr/>
        </p:nvSpPr>
        <p:spPr>
          <a:xfrm>
            <a:off x="1285920" y="500040"/>
            <a:ext cx="6857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ого называют «глазастым охотником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Таблица 4"/>
          <p:cNvGraphicFramePr/>
          <p:nvPr/>
        </p:nvGraphicFramePr>
        <p:xfrm>
          <a:off x="500040" y="2071800"/>
          <a:ext cx="8143560" cy="4071960"/>
        </p:xfrm>
        <a:graphic>
          <a:graphicData uri="http://schemas.openxmlformats.org/drawingml/2006/table">
            <a:tbl>
              <a:tblPr/>
              <a:tblGrid>
                <a:gridCol w="2714400"/>
                <a:gridCol w="2714400"/>
                <a:gridCol w="2714400"/>
              </a:tblGrid>
              <a:tr h="4071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1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36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3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pic>
        <p:nvPicPr>
          <p:cNvPr id="165" name="Picture 2" descr="C:\Users\home\Downloads\0015-027-Strekoza-bolshoe-koromyslo.jpg"/>
          <p:cNvPicPr/>
          <p:nvPr/>
        </p:nvPicPr>
        <p:blipFill>
          <a:blip r:embed="rId2"/>
          <a:stretch/>
        </p:blipFill>
        <p:spPr>
          <a:xfrm>
            <a:off x="571320" y="2643120"/>
            <a:ext cx="2571480" cy="3500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Users\home\Downloads\beb6f7bbc045.jpg"/>
          <p:cNvPicPr/>
          <p:nvPr/>
        </p:nvPicPr>
        <p:blipFill>
          <a:blip r:embed="rId3"/>
          <a:stretch/>
        </p:blipFill>
        <p:spPr>
          <a:xfrm>
            <a:off x="3286080" y="2643120"/>
            <a:ext cx="2571480" cy="3428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C:\Users\home\Downloads\1320749244_suever-5.jpg"/>
          <p:cNvPicPr/>
          <p:nvPr/>
        </p:nvPicPr>
        <p:blipFill>
          <a:blip r:embed="rId4"/>
          <a:stretch/>
        </p:blipFill>
        <p:spPr>
          <a:xfrm>
            <a:off x="6000840" y="2643120"/>
            <a:ext cx="2571480" cy="34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  <Words>288</Words>
  <Paragraphs>12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3-12-24T19:17:17Z</dcterms:modified>
  <cp:revision>81</cp:revision>
  <dc:subject/>
  <dc:title>Окружающий ми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2</vt:r8>
  </property>
</Properties>
</file>