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ED2-2E33-4DB6-B38C-B1500CF5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5994-3B02-4F9A-8E73-1674AE8F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2581-C33B-45F8-9B50-621DC380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711-20BD-4F86-8B95-E3A6DF8C7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D647-72CA-434C-A952-CCBBF92A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190F-56EE-4463-9078-66E52029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3309-FE8D-468F-8632-281767C3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AC15-B281-417E-95C7-1717989E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E843-FACA-41AB-86A9-BD3D6873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50A4-DC80-47BC-A43A-8CCD05C1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5C7B-8385-47C0-9904-DDFD2478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AD7-DAE0-432E-B766-6561ACAB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B2D8-D6ED-4CCB-8EC9-5AAFD16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B727-6DFA-47DF-8DA5-A2406B72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A22E-E33A-4F59-AA44-07B3691B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E0B7-459C-4E26-931E-CFCDFC0B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23EC-B097-4F7F-A167-7243F512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FAF58-9441-4E33-A49D-F7FD1AB6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32991-868C-4DE7-8DB7-AC48F3EA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CCDA-BB79-46D9-8EA0-C3EA19B8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E71F4-36F5-4051-B9CD-3F6DD480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78FB-81F2-40C8-87FA-18AF6E43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0EF-EF92-44F4-AC31-1EDEB5F9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062D2-A45C-443E-BF7E-D73103F6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67629-2276-4846-9180-CAA7DDDF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A412-7A20-4BED-885D-3E3FB5A4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23610-4862-4EEB-8151-C80F8C56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0F77C-D498-44BB-A4A7-0EB7BBBE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3D471-B50A-4C9C-8961-8F7D6976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9CD1-9790-466E-8D3B-442931C4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BA4B7-BFD3-406B-982D-42BDAE4B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A4BAE-0C36-4ED5-B245-23CD66D1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909C4-773D-49CF-BED1-1843B5B4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54F-6926-4F2C-9292-817528C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416CC-03DD-4FF2-B805-5C182312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EFCEC-51FB-431B-9B1B-14F00757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3CCD9-B2E4-4C12-9A8B-DFE31B97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0B764-9B5F-4BBB-84EA-1395CA1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1F7B3-DE86-4D65-B948-34047CAC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8E72-4BB8-4314-BDC9-A94BBAB8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2738-3B33-4DD6-974B-5C4DF5EE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840A-4442-4A48-B25B-B031BD01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0362-1497-4F01-AF4D-25D67775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41478-AA3D-4619-9EBB-6376AADD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ECE-B62A-44BA-8000-5CE15D5A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6540F-BF10-41AF-ACDB-4DAA35C4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E3A24-0920-4638-B855-CCD7B017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92218-20C4-44E9-A504-09B667AE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BC3D6-E19A-489C-ADF2-DBFCFD4E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20397-B297-4BD1-A32B-D00480F0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E9D13-32EA-4516-B725-A635491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DC5AA-F7C0-4467-BAA1-B3B2C45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B13C2-41BD-4333-AA18-F026A91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33767-B0B6-471E-A42D-E43D7102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C6B84-CC5C-414B-A3B3-DBF30E9A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2E1-ED76-4F9F-9207-194006D6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24A38-6FFA-435C-AC2B-09CF5C47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36632-B524-41BE-8F99-B1C48B1F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0A695-BE3B-444E-AA4F-70418037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9E1BA-4C2F-4106-A456-C27F4E6C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C8DFC-BEC6-4C6E-8711-CC2D87DD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93C78-6F42-43BB-A17E-426DF57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42DFF-D8D4-4CC0-A8E2-84513BF7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DF107-75D2-4039-B6D3-77839C65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3C4CE-06B3-422F-A005-E862DB78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15D59-3437-40BE-94D2-EF991A41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581A-2F2E-42D2-B5B8-53B70E4F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E1D9F-1474-4181-8B76-D7520136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5F53B-F86B-40F9-8734-A2E4A85E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2C892-F26F-468B-B7CD-B59EE01B4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C49-C1B7-4353-BF46-A68C759E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66C-47C7-4B05-83BE-39A871A5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4BDF-DF87-4AC4-977C-33FF478E372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918A-9502-4192-AE73-E78E6E78CE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5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2455-A950-4B60-A375-97BFE9E426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4116-451A-4464-8203-13A5E5D463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B1AD-E19F-4196-81F8-0170E1F154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84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72B4-014E-4980-BD62-8669409507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3603240"/>
            <a:ext cx="813744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езентация подготовлена учителем математики Токаревой Инной Александровной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МОУ гимназия №1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г. Липецк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38280" y="1922040"/>
            <a:ext cx="1773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503440" y="2917800"/>
          <a:ext cx="6335640" cy="3032280"/>
        </p:xfrm>
        <a:graphic>
          <a:graphicData uri="http://schemas.openxmlformats.org/drawingml/2006/table">
            <a:tbl>
              <a:tblPr/>
              <a:tblGrid>
                <a:gridCol w="626040"/>
                <a:gridCol w="570600"/>
                <a:gridCol w="570600"/>
                <a:gridCol w="571680"/>
                <a:gridCol w="570600"/>
                <a:gridCol w="572040"/>
                <a:gridCol w="570600"/>
                <a:gridCol w="571680"/>
                <a:gridCol w="570600"/>
                <a:gridCol w="570600"/>
                <a:gridCol w="570600"/>
              </a:tblGrid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"/>
          <p:cNvSpPr/>
          <p:nvPr/>
        </p:nvSpPr>
        <p:spPr>
          <a:xfrm>
            <a:off x="2268360" y="228600"/>
            <a:ext cx="657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Впишите названия числительных 900, 600, 1000,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5 минут – сколько это секун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Какую часть 5 минут составляют от 1 час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>
            <a:off x="1535040" y="200016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33600" y="2046240"/>
            <a:ext cx="303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16000" y="1844640"/>
          <a:ext cx="6854760" cy="3687840"/>
        </p:xfrm>
        <a:graphic>
          <a:graphicData uri="http://schemas.openxmlformats.org/drawingml/2006/table">
            <a:tbl>
              <a:tblPr/>
              <a:tblGrid>
                <a:gridCol w="3427560"/>
                <a:gridCol w="3427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равните числ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39,4 и 39,399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0,812 и 0,82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5,01 и 5,010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53,8 и 53,798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0,569 и 0,6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6,020 и 6,020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тметьте на числовом луче с единичным отрезком, равным 5 клеткам, точки, соответствующие числа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;  0,8;  1,2;  1,8;  2,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;  1,4;  1,6;  2,2;  2,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9" name=""/>
          <p:cNvGrpSpPr/>
          <p:nvPr/>
        </p:nvGrpSpPr>
        <p:grpSpPr>
          <a:xfrm>
            <a:off x="4859280" y="4941720"/>
            <a:ext cx="2857320" cy="493920"/>
            <a:chOff x="4859280" y="4941720"/>
            <a:chExt cx="2857320" cy="493920"/>
          </a:xfrm>
        </p:grpSpPr>
        <p:grpSp>
          <p:nvGrpSpPr>
            <p:cNvPr id="380" name=""/>
            <p:cNvGrpSpPr/>
            <p:nvPr/>
          </p:nvGrpSpPr>
          <p:grpSpPr>
            <a:xfrm>
              <a:off x="4859280" y="4941720"/>
              <a:ext cx="2851920" cy="493920"/>
              <a:chOff x="4859280" y="4941720"/>
              <a:chExt cx="2851920" cy="493920"/>
            </a:xfrm>
          </p:grpSpPr>
          <p:pic>
            <p:nvPicPr>
              <p:cNvPr id="381" name="" descr=""/>
              <p:cNvPicPr/>
              <p:nvPr/>
            </p:nvPicPr>
            <p:blipFill>
              <a:blip r:embed="rId1"/>
              <a:srcRect l="48832" t="42077" r="0" b="46433"/>
              <a:stretch/>
            </p:blipFill>
            <p:spPr>
              <a:xfrm>
                <a:off x="4862520" y="4941720"/>
                <a:ext cx="284868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4859280" y="5178240"/>
                <a:ext cx="586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>
              <a:off x="4973400" y="5240160"/>
              <a:ext cx="2743200" cy="15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476360" y="4941720"/>
            <a:ext cx="2857320" cy="493920"/>
            <a:chOff x="1476360" y="4941720"/>
            <a:chExt cx="2857320" cy="493920"/>
          </a:xfrm>
        </p:grpSpPr>
        <p:grpSp>
          <p:nvGrpSpPr>
            <p:cNvPr id="385" name=""/>
            <p:cNvGrpSpPr/>
            <p:nvPr/>
          </p:nvGrpSpPr>
          <p:grpSpPr>
            <a:xfrm>
              <a:off x="1476360" y="4941720"/>
              <a:ext cx="2851920" cy="493920"/>
              <a:chOff x="1476360" y="4941720"/>
              <a:chExt cx="2851920" cy="493920"/>
            </a:xfrm>
          </p:grpSpPr>
          <p:pic>
            <p:nvPicPr>
              <p:cNvPr id="386" name="" descr=""/>
              <p:cNvPicPr/>
              <p:nvPr/>
            </p:nvPicPr>
            <p:blipFill>
              <a:blip r:embed="rId2"/>
              <a:srcRect l="48832" t="42077" r="0" b="46433"/>
              <a:stretch/>
            </p:blipFill>
            <p:spPr>
              <a:xfrm>
                <a:off x="1479600" y="4941720"/>
                <a:ext cx="2848680" cy="4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>
                <a:off x="1476360" y="5178240"/>
                <a:ext cx="586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1590480" y="5240160"/>
              <a:ext cx="2743200" cy="15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2, 1205(б, г, д), 1210(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Сравнение десятичных дробей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СНГ водится много бобров. Бобр крупный грызун, ведет полуводный образ жизни, обитает по лесным рекам, сооружает из ветвей и ила домики, поперек реки делает плотины длиной 5-6 метров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Найдите длину тела бобра в дециметра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4920" y="1828800"/>
            <a:ext cx="453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Из первой строки выбери наименьшее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Из второй строки выбери наибольшее числ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Из третье строки выбери не наибольшее и не наименьшее числ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 Найди сумму этих чисе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03640" y="1960560"/>
          <a:ext cx="3538800" cy="3484440"/>
        </p:xfrm>
        <a:graphic>
          <a:graphicData uri="http://schemas.openxmlformats.org/drawingml/2006/table">
            <a:tbl>
              <a:tblPr/>
              <a:tblGrid>
                <a:gridCol w="1179360"/>
                <a:gridCol w="1179720"/>
                <a:gridCol w="1179720"/>
              </a:tblGrid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</a:tr>
              <a:tr h="115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</a:tr>
              <a:tr h="117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3640" y="15192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,6+2,7+3,7=                         10(дм)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000" y="2924280"/>
            <a:ext cx="37717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0 дм – сколько это см? Сравните длину бобра со своим рос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419640" y="1052640"/>
                <a:ext cx="3241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40" name=""/>
          <p:cNvGraphicFramePr/>
          <p:nvPr/>
        </p:nvGraphicFramePr>
        <p:xfrm>
          <a:off x="4610160" y="2425680"/>
          <a:ext cx="3771720" cy="309096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  <a:gridCol w="1257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d15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388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колько стоит 100 граммов жира бобра в рублях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50920" y="2781360"/>
            <a:ext cx="7850160" cy="2519280"/>
            <a:chOff x="250920" y="2781360"/>
            <a:chExt cx="7850160" cy="2519280"/>
          </a:xfrm>
        </p:grpSpPr>
        <p:sp>
          <p:nvSpPr>
            <p:cNvPr id="343" name=""/>
            <p:cNvSpPr/>
            <p:nvPr/>
          </p:nvSpPr>
          <p:spPr>
            <a:xfrm>
              <a:off x="4356000" y="3068640"/>
              <a:ext cx="1368360" cy="720720"/>
            </a:xfrm>
            <a:prstGeom prst="diamond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&gt;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24360" y="342900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12000" y="3141720"/>
              <a:ext cx="863640" cy="647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77080" y="3429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4360" y="3141720"/>
              <a:ext cx="863640" cy="647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96360" y="378936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20000" y="4581720"/>
              <a:ext cx="1081080" cy="718920"/>
            </a:xfrm>
            <a:prstGeom prst="parallelogram">
              <a:avLst>
                <a:gd name="adj" fmla="val 37594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03640" y="37893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402920" y="4437000"/>
              <a:ext cx="36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76360" y="3429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84360" y="4076640"/>
              <a:ext cx="136692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19640" y="2781360"/>
              <a:ext cx="72072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0920" y="3068640"/>
              <a:ext cx="1225440" cy="720720"/>
            </a:xfrm>
            <a:prstGeom prst="parallelogram">
              <a:avLst>
                <a:gd name="adj" fmla="val 4250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32000" y="3500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63640" y="3141720"/>
              <a:ext cx="863640" cy="647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27280" y="3429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32000" y="3141720"/>
              <a:ext cx="863640" cy="647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10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95640" y="3429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7236000" y="4726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00 граммов жира стоит 50 руб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2236680"/>
            <a:ext cx="769608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Сколько стоит 1 кг жира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Какую часть составляет 100 гр от 1 кг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Сколько жира можно купить на 1 рубл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2273400"/>
            <a:ext cx="1800360" cy="581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500 р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885080" y="3209760"/>
            <a:ext cx="863640" cy="581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0,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08720" y="4362480"/>
            <a:ext cx="1008360" cy="581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2 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29152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Бобр отличный пловец и ныряльщик. Сколько минут он может находиться под водой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95640" y="228240"/>
            <a:ext cx="664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Впишите названия числительных 900, 600, 1000, 500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411280" y="2565360"/>
          <a:ext cx="6286680" cy="3175200"/>
        </p:xfrm>
        <a:graphic>
          <a:graphicData uri="http://schemas.openxmlformats.org/drawingml/2006/table">
            <a:tbl>
              <a:tblPr/>
              <a:tblGrid>
                <a:gridCol w="621000"/>
                <a:gridCol w="566640"/>
                <a:gridCol w="541440"/>
                <a:gridCol w="591840"/>
                <a:gridCol w="567000"/>
                <a:gridCol w="566640"/>
                <a:gridCol w="566640"/>
                <a:gridCol w="566640"/>
                <a:gridCol w="567000"/>
                <a:gridCol w="565200"/>
                <a:gridCol w="56664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6:30:54Z</dcterms:created>
  <dc:creator>Наташа</dc:creator>
  <dc:description/>
  <dc:language>en-US</dc:language>
  <cp:lastModifiedBy>admin</cp:lastModifiedBy>
  <dcterms:modified xsi:type="dcterms:W3CDTF">2011-02-28T11:31:20Z</dcterms:modified>
  <cp:revision>12</cp:revision>
  <dc:subject/>
  <dc:title>«В мире животных»</dc:title>
</cp:coreProperties>
</file>