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87E1-5181-46D7-B40C-CB784F7E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489A-93E1-4E8D-8AE8-365E3419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4E89B-203D-48E7-90AE-30EA8E5D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0480D-2008-42D4-8BDC-C02031C7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3DE603-0441-4AFB-8740-514F156C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8B285-29AD-4531-97AD-3F5CE841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A6FCB-6D9F-4B02-897A-0725A2EC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2A3D8-9BF5-45F7-8DB3-60270A04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0AF7B-18A7-4069-9F76-4D7BBF1C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62A69-0EF8-45B7-AFBF-6A556790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2AB5B-0979-40BF-AFAF-1A8CE313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DB09-4E95-4349-A960-D340AAFEE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F68C-90F4-4EE6-9BD3-75BDE1135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8EF6-E921-464E-893B-9BC20564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D41E-945F-44FA-871F-1B2ABD39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489C-5188-4661-86BE-1AFDA85E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CFF6-081D-49B9-A973-A8D44B4D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16F8-1766-4DB7-948D-D5947361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E511-5D3F-4E16-BB3A-0FC99F4F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C179-49CB-4EA2-9D89-3F18751A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3141-9730-4D36-B27D-F6ED0125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07F8-1AD2-40AA-95C5-7F8393EE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8DEF-87DD-4558-957F-DE886064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F78C-2F28-4389-8082-B4FD30E1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1935-8299-4631-9278-A2E0D34F5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44DA-CDFB-491C-BFA1-96ABF2E8F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6BBF6-B660-46A8-A73F-744AA834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3440E-1663-4526-979D-61E5CAE9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98E90-0462-46B1-8857-D4BDE156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F1258-5B27-4D16-B827-5707115C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A7360-199E-4162-81E4-AC330397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A581-F65E-4F40-923F-AB164CBB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37E07-9501-466E-B121-8BE039FF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718FC-2C95-4D5F-9BC5-ADCF6C02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448C8-CD65-4E14-8D6E-58E1C9C5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4B3E7-E9E3-48BC-8085-AB95669C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E20CC-B229-45F0-A1A0-BA10097D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34854-16EB-4962-AD1C-BAC03AD41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B6C11-D8A8-4DE6-887A-874EC22AC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C3424-A573-4E3F-AF0D-70E785E22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E01C7-3BEE-4FF6-871C-AB686CBB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D7BED-150A-4571-83EB-F914E587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08C8-CA3B-40C1-83E0-E67A35E7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5DABE-89DF-48E1-9513-15F023EE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A5E02-88C6-4E42-9CA5-0449071A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577BD-40F1-4EA0-A0F3-1362DDC3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4D743-37D8-4E7F-98DD-3D8894EE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DFB21-1DA1-4634-87C9-53547030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02D71-7037-4204-9A2C-5D35AA93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10DDB-3299-4040-A88E-F415098F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6A0FF-6379-4D93-A8FE-5DDD7E94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58502-658F-40C6-A0EA-39EB78A1A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556BE-B40F-4D62-92CD-F223A8B6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4B25-8CCE-43E1-9909-6F453F8E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214CC-B710-4529-8AAF-90EAE6D1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391A3-2550-4AD6-89CC-0C31A956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0B8CD-ECFE-441F-BB7C-070925AB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38D3F-8144-4164-86F6-060CF79D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3DF46-BCE0-4152-A400-BCDE7259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E2E06-246F-4DA9-8B86-CCBACF77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D0EDA-5A6D-4783-8681-6E223D0A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A4FF7-AB6A-419D-BDB2-29DF3ABF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6204C-8B12-4EC6-A3DA-1D574E35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2F7B0-A5C2-40E3-BA66-5476B7CA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45A2-23A8-4DC2-8B03-0281B8E7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6CE4F-1571-483B-8613-B27EC047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A8F99-988E-4D23-AC1E-10F6A51D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4E4C7-D785-4878-A495-03FA788D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739D1-FA1D-40E1-9E71-E9ADAB7D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38FCA-DF79-472E-B1DA-254517C8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659E2-5A6A-43B4-82A3-11903008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97471-4E5C-488D-AC5B-B09FD864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FF3AB-EDC5-4F0C-9DC1-4F6ED963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2DE39-441A-4FC1-9378-AB36D077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2973B-14CB-4456-9EA2-E6B027D0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2C60-C469-4BAE-811F-E8D8A92F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7E914-3697-46A9-AD2A-E8F488F3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6E936-215C-42D0-A058-DBBDEFD64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B9921-B6AF-45F6-9FBF-880C83E9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8B2C7-1F55-458C-802F-FF5E8C9B2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AA75D-B366-48E4-BCBC-08C837BA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212F5-881E-48BC-BBBC-001D1835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EF3BB-58F0-4726-9B01-B3ECEACF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5AEA7-28B3-45A1-A8D3-C540F00F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090B8-1ED5-434A-8BA4-26CE41FC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BAF1E-798A-4CB7-9A7B-9C9554CC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C7E2-736F-49D2-9176-9E6A1307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B49CD-6EE3-47EB-926D-9C703998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14DA7-1893-4210-A02F-DD86C1A3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056CE-D663-4701-9E09-7CBC152A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AA984-E9FC-4031-A705-DAD22E385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68AC7-4266-4748-9536-578C69C0A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99091-0668-46A7-B172-CCDA0E89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A70EC-59A8-406C-94D5-A542DAF8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E2E38-EF16-4E22-95CD-92A29A61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1A328-BB43-4AF4-8A07-B287364A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0C31C-92B0-4E64-9292-D939A314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E886-4CB3-4974-8CE7-3DE0AA4F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C4038-0D87-4EBB-8FC7-0EEABDA5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7DEE2-5857-40F8-8BF0-44CC5A6A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4A99C-7A1F-4FF3-A036-CDFEB7F8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D1DB9-CCBE-4B21-8C10-9DA881D6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1A2EB-EDEA-42EB-A9AA-5BDF0082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25572-E2A6-4220-AC55-94F541003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7AB1C-7691-4144-A280-A227E4FD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49796-84B2-4EC0-A089-500B45CF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EE6B5-D7C7-4D11-9062-D7A5569A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89458-3AEA-4F54-90A3-951C0499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58CA-7851-40E8-A4AE-F2DD718FF627}" type="slidenum">
              <a:rPr b="0" lang="ru-RU" sz="1200" spc="-1" strike="noStrike">
                <a:solidFill>
                  <a:srgbClr val="646c8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ACA0-E5DA-4134-BA37-3445F62E0A51}" type="slidenum">
              <a:rPr b="0" lang="ru-RU" sz="1200" spc="-1" strike="noStrike">
                <a:solidFill>
                  <a:srgbClr val="646c8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0A9C-6DDF-45ED-965A-2D59D249702C}" type="slidenum">
              <a:rPr b="0" lang="ru-RU" sz="1200" spc="-1" strike="noStrike">
                <a:solidFill>
                  <a:srgbClr val="646c8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e9e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de9ec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A7FE-0B94-48AE-94FD-AF8F2B131AE2}" type="slidenum">
              <a:rPr b="0" lang="ru-RU" sz="1200" spc="-1" strike="noStrike">
                <a:solidFill>
                  <a:srgbClr val="646c8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4669-46E5-44FE-830D-9761F71D685A}" type="slidenum">
              <a:rPr b="0" lang="ru-RU" sz="1200" spc="-1" strike="noStrike">
                <a:solidFill>
                  <a:srgbClr val="646c8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38E6-9E35-4B2E-8F95-112B56899112}" type="slidenum">
              <a:rPr b="0" lang="ru-RU" sz="1200" spc="-1" strike="noStrike">
                <a:solidFill>
                  <a:srgbClr val="646c8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829B-359E-402F-82C7-032F333D2426}" type="slidenum">
              <a:rPr b="0" lang="ru-RU" sz="1200" spc="-1" strike="noStrike">
                <a:solidFill>
                  <a:srgbClr val="646c8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0AD5-E912-4D97-ABC6-734CCD2E795D}" type="slidenum">
              <a:rPr b="0" lang="ru-RU" sz="1200" spc="-1" strike="noStrike">
                <a:solidFill>
                  <a:srgbClr val="646c8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8F67-929D-4FC7-A5A0-425A2ABB769F}" type="slidenum">
              <a:rPr b="0" lang="ru-RU" sz="1200" spc="-1" strike="noStrike">
                <a:solidFill>
                  <a:srgbClr val="646c8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520" y="655992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-252360" y="-387720"/>
            <a:ext cx="9091440" cy="518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d3d48"/>
                </a:solidFill>
                <a:latin typeface="Arial"/>
              </a:rPr>
              <a:t>Занятие учебной группы</a:t>
            </a:r>
            <a:endParaRPr b="0" lang="en-US" sz="2400" spc="-1" strike="noStrike">
              <a:solidFill>
                <a:srgbClr val="464653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d3d4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d3d48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222792"/>
                </a:solidFill>
                <a:latin typeface="Arial"/>
              </a:rPr>
              <a:t>ДОБРОЕ СЛОВО»</a:t>
            </a:r>
            <a:endParaRPr b="0" lang="en-US" sz="2400" spc="-1" strike="noStrike">
              <a:solidFill>
                <a:srgbClr val="464653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d3d48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464653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d3d48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3d3d48"/>
                </a:solidFill>
                <a:latin typeface="Arial"/>
              </a:rPr>
              <a:t>Тема</a:t>
            </a:r>
            <a:r>
              <a:rPr b="0" lang="ru-RU" sz="2400" spc="-1" strike="noStrike">
                <a:solidFill>
                  <a:srgbClr val="3d3d48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ЛОВА НА ВЕКА.СПАСИБО</a:t>
            </a:r>
            <a:endParaRPr b="0" lang="en-US" sz="2800" spc="-1" strike="noStrike">
              <a:solidFill>
                <a:srgbClr val="464653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Franklin Gothic Book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d3d48"/>
                </a:solidFill>
                <a:latin typeface="Arial"/>
              </a:rPr>
              <a:t>                   </a:t>
            </a:r>
            <a:r>
              <a:rPr b="0" lang="ru-RU" sz="1600" spc="-1" strike="noStrike">
                <a:solidFill>
                  <a:srgbClr val="3d3d48"/>
                </a:solidFill>
                <a:latin typeface="Arial"/>
              </a:rPr>
              <a:t>Автор: Курочкина Любовь Ивановна, </a:t>
            </a:r>
            <a:endParaRPr b="0" lang="en-US" sz="1600" spc="-1" strike="noStrike">
              <a:solidFill>
                <a:srgbClr val="464653"/>
              </a:solidFill>
              <a:latin typeface="Franklin Gothic Book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d3d48"/>
                </a:solidFill>
                <a:latin typeface="Arial"/>
              </a:rPr>
              <a:t>учитель начальных классов</a:t>
            </a:r>
            <a:endParaRPr b="0" lang="en-US" sz="1600" spc="-1" strike="noStrike">
              <a:solidFill>
                <a:srgbClr val="464653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0AA4-5621-432D-9105-89074F6C14BD}" type="slidenum">
              <a:rPr b="0" lang="ru-RU" sz="1200" spc="-1" strike="noStrike">
                <a:solidFill>
                  <a:srgbClr val="646c8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4"/>
          <p:cNvSpPr/>
          <p:nvPr/>
        </p:nvSpPr>
        <p:spPr>
          <a:xfrm>
            <a:off x="503280" y="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У Новолядинская СОШ</a:t>
            </a:r>
            <a:r>
              <a:rPr b="0" lang="ru-RU" sz="1800" spc="-1" strike="noStrike">
                <a:solidFill>
                  <a:srgbClr val="222792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222792"/>
                </a:solidFill>
                <a:latin typeface="Arial"/>
              </a:rPr>
              <a:t>ЦЕНТР ДУХОВНО - НРАВСТВЕННОГО  ПРОСВЕЩЕНИЯ «ПУТЬ К ИСТИНЕ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6080-0C25-4CF9-A5E7-A1B031DFEDB6}" type="slidenum">
              <a:rPr b="0" lang="ru-RU" sz="1200" spc="-1" strike="noStrike">
                <a:solidFill>
                  <a:srgbClr val="646c8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7"/>
          <p:cNvSpPr/>
          <p:nvPr/>
        </p:nvSpPr>
        <p:spPr>
          <a:xfrm>
            <a:off x="0" y="1785960"/>
            <a:ext cx="278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Garamond"/>
              </a:rPr>
              <a:t>добр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5" descr=""/>
          <p:cNvPicPr/>
          <p:nvPr/>
        </p:nvPicPr>
        <p:blipFill>
          <a:blip r:embed="rId1"/>
          <a:stretch/>
        </p:blipFill>
        <p:spPr>
          <a:xfrm>
            <a:off x="2643120" y="1785960"/>
            <a:ext cx="4105440" cy="4114800"/>
          </a:xfrm>
          <a:prstGeom prst="rect">
            <a:avLst/>
          </a:prstGeom>
          <a:ln w="0">
            <a:noFill/>
          </a:ln>
        </p:spPr>
      </p:pic>
      <p:sp>
        <p:nvSpPr>
          <p:cNvPr id="449" name="TextBox 10"/>
          <p:cNvSpPr/>
          <p:nvPr/>
        </p:nvSpPr>
        <p:spPr>
          <a:xfrm>
            <a:off x="142920" y="4714920"/>
            <a:ext cx="3929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Garamond"/>
              </a:rPr>
              <a:t>вниматель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1"/>
          <p:cNvSpPr/>
          <p:nvPr/>
        </p:nvSpPr>
        <p:spPr>
          <a:xfrm>
            <a:off x="5143680" y="1785960"/>
            <a:ext cx="400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Garamond"/>
              </a:rPr>
              <a:t>великодуш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12"/>
          <p:cNvSpPr/>
          <p:nvPr/>
        </p:nvSpPr>
        <p:spPr>
          <a:xfrm>
            <a:off x="5572080" y="4714920"/>
            <a:ext cx="342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Garamond"/>
              </a:rPr>
              <a:t>заботлив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3"/>
          <p:cNvSpPr/>
          <p:nvPr/>
        </p:nvSpPr>
        <p:spPr>
          <a:xfrm>
            <a:off x="2214720" y="5786280"/>
            <a:ext cx="485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Garamond"/>
              </a:rPr>
              <a:t>бескорыст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4"/>
          <p:cNvSpPr/>
          <p:nvPr/>
        </p:nvSpPr>
        <p:spPr>
          <a:xfrm>
            <a:off x="2286000" y="928800"/>
            <a:ext cx="464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милосерд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5CFE-482F-4010-ABFC-484278C6CB85}" type="slidenum">
              <a:rPr b="0" lang="ru-RU" sz="1200" spc="-1" strike="noStrike">
                <a:solidFill>
                  <a:srgbClr val="646c8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5" descr=""/>
          <p:cNvPicPr/>
          <p:nvPr/>
        </p:nvPicPr>
        <p:blipFill>
          <a:blip r:embed="rId1"/>
          <a:stretch/>
        </p:blipFill>
        <p:spPr>
          <a:xfrm>
            <a:off x="1357200" y="142920"/>
            <a:ext cx="6572520" cy="6588000"/>
          </a:xfrm>
          <a:prstGeom prst="rect">
            <a:avLst/>
          </a:prstGeom>
          <a:ln w="0">
            <a:noFill/>
          </a:ln>
        </p:spPr>
      </p:pic>
      <p:sp>
        <p:nvSpPr>
          <p:cNvPr id="456" name="TextBox 5"/>
          <p:cNvSpPr/>
          <p:nvPr/>
        </p:nvSpPr>
        <p:spPr>
          <a:xfrm>
            <a:off x="1785960" y="235728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Garamond"/>
              </a:rPr>
              <a:t>ве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6"/>
          <p:cNvSpPr/>
          <p:nvPr/>
        </p:nvSpPr>
        <p:spPr>
          <a:xfrm>
            <a:off x="3286080" y="3929040"/>
            <a:ext cx="278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Garamond"/>
              </a:rPr>
              <a:t>любов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7"/>
          <p:cNvSpPr/>
          <p:nvPr/>
        </p:nvSpPr>
        <p:spPr>
          <a:xfrm>
            <a:off x="4857840" y="2357280"/>
            <a:ext cx="278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Garamond"/>
              </a:rPr>
              <a:t>надеж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2" descr=""/>
          <p:cNvPicPr/>
          <p:nvPr/>
        </p:nvPicPr>
        <p:blipFill>
          <a:blip r:embed="rId2"/>
          <a:stretch/>
        </p:blipFill>
        <p:spPr>
          <a:xfrm>
            <a:off x="2786040" y="2028960"/>
            <a:ext cx="890640" cy="21272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2" descr=""/>
          <p:cNvPicPr/>
          <p:nvPr/>
        </p:nvPicPr>
        <p:blipFill>
          <a:blip r:embed="rId3"/>
          <a:stretch/>
        </p:blipFill>
        <p:spPr>
          <a:xfrm>
            <a:off x="4143240" y="3214800"/>
            <a:ext cx="890640" cy="21272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" descr=""/>
          <p:cNvPicPr/>
          <p:nvPr/>
        </p:nvPicPr>
        <p:blipFill>
          <a:blip r:embed="rId4"/>
          <a:stretch/>
        </p:blipFill>
        <p:spPr>
          <a:xfrm>
            <a:off x="5643720" y="2000160"/>
            <a:ext cx="89028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0838-BE66-4B77-BEDB-B651ADECC613}" type="slidenum">
              <a:rPr b="0" lang="ru-RU" sz="1200" spc="-1" strike="noStrike">
                <a:solidFill>
                  <a:srgbClr val="646c8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4"/>
          <p:cNvSpPr/>
          <p:nvPr/>
        </p:nvSpPr>
        <p:spPr>
          <a:xfrm>
            <a:off x="714240" y="142920"/>
            <a:ext cx="8215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Garamond"/>
              </a:rPr>
              <a:t>Спаси вас Бог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4" descr=""/>
          <p:cNvPicPr/>
          <p:nvPr/>
        </p:nvPicPr>
        <p:blipFill>
          <a:blip r:embed="rId1"/>
          <a:srcRect l="27407" t="20052" r="24361" b="39181"/>
          <a:stretch/>
        </p:blipFill>
        <p:spPr>
          <a:xfrm>
            <a:off x="2071800" y="1047600"/>
            <a:ext cx="4857480" cy="581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64653"/>
                </a:solidFill>
                <a:latin typeface="Franklin Gothic Medium"/>
              </a:rPr>
              <a:t>Иллюстративный материал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Franklin Gothic Book"/>
              </a:rPr>
              <a:t>1.http://images.yandex.ru/yandsearch 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2. Иллюстрации к книгам Б. Ганаго «Детям о молитве», «Детям о душе», худ. Н. Сорока, - Минск, 2007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1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CE43-BBE2-4AA7-A652-1F762E880781}" type="slidenum">
              <a:rPr b="0" lang="ru-RU" sz="1200" spc="-1" strike="noStrike">
                <a:solidFill>
                  <a:srgbClr val="646c8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8"/>
          <p:cNvSpPr/>
          <p:nvPr/>
        </p:nvSpPr>
        <p:spPr>
          <a:xfrm>
            <a:off x="1214280" y="285840"/>
            <a:ext cx="692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Garamond"/>
              </a:rPr>
              <a:t>СЛОВА НА ВЕКА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0"/>
          <p:cNvSpPr/>
          <p:nvPr/>
        </p:nvSpPr>
        <p:spPr>
          <a:xfrm>
            <a:off x="3714840" y="2714760"/>
            <a:ext cx="5143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Palatino Linotype"/>
              </a:rPr>
              <a:t>Слово – семя, сеющее добро.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Словом можно умудрить, исцелить, освятить. Словом можно отравить  душу, посеять зло. </a:t>
            </a:r>
            <a:r>
              <a:rPr b="1" i="1" lang="ru-RU" sz="2800" spc="-1" strike="noStrike">
                <a:solidFill>
                  <a:srgbClr val="ff0000"/>
                </a:solidFill>
                <a:latin typeface="Palatino Linotype"/>
              </a:rPr>
              <a:t>Каков язык – такова и душ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Рисунок 4" descr="_Pic1"/>
          <p:cNvPicPr/>
          <p:nvPr/>
        </p:nvPicPr>
        <p:blipFill>
          <a:blip r:embed="rId1"/>
          <a:srcRect l="20939" t="28803" r="15407" b="8779"/>
          <a:stretch/>
        </p:blipFill>
        <p:spPr>
          <a:xfrm>
            <a:off x="285840" y="2071800"/>
            <a:ext cx="3286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357120" y="1928880"/>
          <a:ext cx="8001000" cy="4929120"/>
        </p:xfrm>
        <a:graphic>
          <a:graphicData uri="http://schemas.openxmlformats.org/drawingml/2006/table">
            <a:tbl>
              <a:tblPr/>
              <a:tblGrid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528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8" name="Номер слайда 5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A93E-1862-4081-B8A5-39E1E8BF128F}" type="slidenum">
              <a:rPr b="0" lang="ru-RU" sz="1200" spc="-1" strike="noStrike">
                <a:solidFill>
                  <a:srgbClr val="646c8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6"/>
          <p:cNvSpPr/>
          <p:nvPr/>
        </p:nvSpPr>
        <p:spPr>
          <a:xfrm>
            <a:off x="1000080" y="1000080"/>
            <a:ext cx="692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Garamond"/>
              </a:rPr>
              <a:t>Кроссвор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2"/>
          <p:cNvSpPr/>
          <p:nvPr/>
        </p:nvSpPr>
        <p:spPr>
          <a:xfrm>
            <a:off x="3044880" y="241452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  Л  О В  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3"/>
          <p:cNvSpPr/>
          <p:nvPr/>
        </p:nvSpPr>
        <p:spPr>
          <a:xfrm>
            <a:off x="3000240" y="2928960"/>
            <a:ext cx="32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  Р  О С  Т 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4"/>
          <p:cNvSpPr/>
          <p:nvPr/>
        </p:nvSpPr>
        <p:spPr>
          <a:xfrm>
            <a:off x="1397160" y="3544920"/>
            <a:ext cx="53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  О Ж А  Л  У  Й С  Т 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5"/>
          <p:cNvSpPr/>
          <p:nvPr/>
        </p:nvSpPr>
        <p:spPr>
          <a:xfrm>
            <a:off x="355680" y="406548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  Д  Р  А  В С  Т  В  У Й  Т  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6"/>
          <p:cNvSpPr/>
          <p:nvPr/>
        </p:nvSpPr>
        <p:spPr>
          <a:xfrm>
            <a:off x="2416320" y="4667400"/>
            <a:ext cx="17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  И  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23"/>
          <p:cNvSpPr/>
          <p:nvPr/>
        </p:nvSpPr>
        <p:spPr>
          <a:xfrm>
            <a:off x="3013200" y="516420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  Л  А  Г  О Д  А  Р 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25"/>
          <p:cNvSpPr/>
          <p:nvPr/>
        </p:nvSpPr>
        <p:spPr>
          <a:xfrm>
            <a:off x="2452680" y="572940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  О     С  В  И  Д  А Н  И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Номер слайда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690C-2C69-4BD6-B45E-5D8D504317B3}" type="slidenum">
              <a:rPr b="0" lang="ru-RU" sz="1200" spc="-1" strike="noStrike">
                <a:solidFill>
                  <a:srgbClr val="646c8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8"/>
          <p:cNvSpPr/>
          <p:nvPr/>
        </p:nvSpPr>
        <p:spPr>
          <a:xfrm>
            <a:off x="2357280" y="1500120"/>
            <a:ext cx="692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Garamond"/>
              </a:rPr>
              <a:t>Борис Ганаг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Garamond"/>
              </a:rPr>
              <a:t>«На скамейке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Рисунок 4" descr="C:\Documents and Settings\Админ\Рабочий стол\30 сентября\~max0005.bmp"/>
          <p:cNvPicPr/>
          <p:nvPr/>
        </p:nvPicPr>
        <p:blipFill>
          <a:blip r:embed="rId1"/>
          <a:srcRect l="0" t="10315" r="18947" b="0"/>
          <a:stretch/>
        </p:blipFill>
        <p:spPr>
          <a:xfrm>
            <a:off x="285840" y="1071720"/>
            <a:ext cx="31701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ED3A-4D3C-467F-9CE7-016991E4E7AE}" type="slidenum">
              <a:rPr b="0" lang="ru-RU" sz="1200" spc="-1" strike="noStrike">
                <a:solidFill>
                  <a:srgbClr val="646c8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5"/>
          <p:cNvSpPr/>
          <p:nvPr/>
        </p:nvSpPr>
        <p:spPr>
          <a:xfrm>
            <a:off x="1000080" y="928800"/>
            <a:ext cx="692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Garamond"/>
              </a:rPr>
              <a:t>СПАСИБ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6"/>
          <p:cNvSpPr/>
          <p:nvPr/>
        </p:nvSpPr>
        <p:spPr>
          <a:xfrm>
            <a:off x="1143000" y="2143080"/>
            <a:ext cx="692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Garamond"/>
              </a:rPr>
              <a:t>СПАСИ  -  Б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7"/>
          <p:cNvSpPr/>
          <p:nvPr/>
        </p:nvSpPr>
        <p:spPr>
          <a:xfrm>
            <a:off x="1285920" y="3286080"/>
            <a:ext cx="692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Garamond"/>
              </a:rPr>
              <a:t>Спаси  тебя  Бо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2883-B794-4613-8D90-4977579ED27D}" type="slidenum">
              <a:rPr b="0" lang="ru-RU" sz="1200" spc="-1" strike="noStrike">
                <a:solidFill>
                  <a:srgbClr val="646c8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4"/>
          <p:cNvSpPr/>
          <p:nvPr/>
        </p:nvSpPr>
        <p:spPr>
          <a:xfrm>
            <a:off x="5143680" y="1571760"/>
            <a:ext cx="3429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доб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груб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з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внима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заботли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муд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злопамя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Прямая со стрелкой 7"/>
          <p:cNvCxnSpPr/>
          <p:nvPr/>
        </p:nvCxnSpPr>
        <p:spPr>
          <a:xfrm flipV="1">
            <a:off x="3499920" y="2071080"/>
            <a:ext cx="1644120" cy="1143720"/>
          </a:xfrm>
          <a:prstGeom prst="straightConnector1">
            <a:avLst/>
          </a:prstGeom>
          <a:ln w="7632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427" name="Прямая со стрелкой 8"/>
          <p:cNvCxnSpPr/>
          <p:nvPr/>
        </p:nvCxnSpPr>
        <p:spPr>
          <a:xfrm>
            <a:off x="3499920" y="3643200"/>
            <a:ext cx="1644120" cy="643320"/>
          </a:xfrm>
          <a:prstGeom prst="straightConnector1">
            <a:avLst/>
          </a:prstGeom>
          <a:ln w="7632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428" name="Прямая со стрелкой 12"/>
          <p:cNvCxnSpPr/>
          <p:nvPr/>
        </p:nvCxnSpPr>
        <p:spPr>
          <a:xfrm>
            <a:off x="3499920" y="3499920"/>
            <a:ext cx="1644120" cy="358200"/>
          </a:xfrm>
          <a:prstGeom prst="straightConnector1">
            <a:avLst/>
          </a:prstGeom>
          <a:ln w="7632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429" name="Прямая со стрелкой 13"/>
          <p:cNvCxnSpPr/>
          <p:nvPr/>
        </p:nvCxnSpPr>
        <p:spPr>
          <a:xfrm flipV="1">
            <a:off x="3499920" y="3357360"/>
            <a:ext cx="1644120" cy="16560"/>
          </a:xfrm>
          <a:prstGeom prst="straightConnector1">
            <a:avLst/>
          </a:prstGeom>
          <a:ln w="76320">
            <a:solidFill>
              <a:srgbClr val="727ca3"/>
            </a:solidFill>
            <a:miter/>
            <a:tailEnd len="med" type="arrow" w="med"/>
          </a:ln>
        </p:spPr>
      </p:cxnSp>
      <p:pic>
        <p:nvPicPr>
          <p:cNvPr id="430" name="Рисунок 9" descr="C:\Documents and Settings\Админ\Рабочий стол\30 сентября\~max0005.bmp"/>
          <p:cNvPicPr/>
          <p:nvPr/>
        </p:nvPicPr>
        <p:blipFill>
          <a:blip r:embed="rId1"/>
          <a:srcRect l="43845" t="40380" r="23285" b="23546"/>
          <a:stretch/>
        </p:blipFill>
        <p:spPr>
          <a:xfrm>
            <a:off x="500040" y="1071720"/>
            <a:ext cx="2786040" cy="4071960"/>
          </a:xfrm>
          <a:prstGeom prst="rect">
            <a:avLst/>
          </a:prstGeom>
          <a:ln w="0">
            <a:noFill/>
          </a:ln>
        </p:spPr>
      </p:pic>
      <p:sp>
        <p:nvSpPr>
          <p:cNvPr id="431" name="TextBox 5"/>
          <p:cNvSpPr/>
          <p:nvPr/>
        </p:nvSpPr>
        <p:spPr>
          <a:xfrm>
            <a:off x="571680" y="5357880"/>
            <a:ext cx="29286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aramond"/>
              </a:rPr>
              <a:t>ДЕДУ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4727-DA0D-4E1A-A640-35CF63B566E6}" type="slidenum">
              <a:rPr b="0" lang="ru-RU" sz="1200" spc="-1" strike="noStrike">
                <a:solidFill>
                  <a:srgbClr val="646c8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4"/>
          <p:cNvSpPr/>
          <p:nvPr/>
        </p:nvSpPr>
        <p:spPr>
          <a:xfrm>
            <a:off x="5072040" y="1357200"/>
            <a:ext cx="3429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послуш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каприз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равнодуш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скром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груб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ласк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заботли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4" name="Прямая со стрелкой 7"/>
          <p:cNvCxnSpPr/>
          <p:nvPr/>
        </p:nvCxnSpPr>
        <p:spPr>
          <a:xfrm flipV="1">
            <a:off x="3499920" y="1785240"/>
            <a:ext cx="1644120" cy="1429560"/>
          </a:xfrm>
          <a:prstGeom prst="straightConnector1">
            <a:avLst/>
          </a:prstGeom>
          <a:ln w="7632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435" name="Прямая со стрелкой 8"/>
          <p:cNvCxnSpPr/>
          <p:nvPr/>
        </p:nvCxnSpPr>
        <p:spPr>
          <a:xfrm>
            <a:off x="3500280" y="3643200"/>
            <a:ext cx="1501200" cy="929520"/>
          </a:xfrm>
          <a:prstGeom prst="straightConnector1">
            <a:avLst/>
          </a:prstGeom>
          <a:ln w="7632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436" name="Прямая со стрелкой 12"/>
          <p:cNvCxnSpPr/>
          <p:nvPr/>
        </p:nvCxnSpPr>
        <p:spPr>
          <a:xfrm>
            <a:off x="3500280" y="3500280"/>
            <a:ext cx="1572480" cy="572400"/>
          </a:xfrm>
          <a:prstGeom prst="straightConnector1">
            <a:avLst/>
          </a:prstGeom>
          <a:ln w="7632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437" name="Прямая со стрелкой 13"/>
          <p:cNvCxnSpPr>
            <a:endCxn id="433" idx="1"/>
          </p:cNvCxnSpPr>
          <p:nvPr/>
        </p:nvCxnSpPr>
        <p:spPr>
          <a:xfrm flipV="1">
            <a:off x="3500280" y="3126960"/>
            <a:ext cx="1572480" cy="246960"/>
          </a:xfrm>
          <a:prstGeom prst="straightConnector1">
            <a:avLst/>
          </a:prstGeom>
          <a:ln w="76320">
            <a:solidFill>
              <a:srgbClr val="727ca3"/>
            </a:solidFill>
            <a:miter/>
            <a:tailEnd len="med" type="arrow" w="med"/>
          </a:ln>
        </p:spPr>
      </p:cxnSp>
      <p:pic>
        <p:nvPicPr>
          <p:cNvPr id="438" name="Рисунок 9" descr="C:\Documents and Settings\Админ\Рабочий стол\30 сентября\~max0005.bmp"/>
          <p:cNvPicPr/>
          <p:nvPr/>
        </p:nvPicPr>
        <p:blipFill>
          <a:blip r:embed="rId1"/>
          <a:srcRect l="10966" t="57220" r="47034" b="0"/>
          <a:stretch/>
        </p:blipFill>
        <p:spPr>
          <a:xfrm>
            <a:off x="714240" y="1000080"/>
            <a:ext cx="2571840" cy="3786120"/>
          </a:xfrm>
          <a:prstGeom prst="rect">
            <a:avLst/>
          </a:prstGeom>
          <a:ln w="0">
            <a:noFill/>
          </a:ln>
        </p:spPr>
      </p:pic>
      <p:sp>
        <p:nvSpPr>
          <p:cNvPr id="439" name="TextBox 5"/>
          <p:cNvSpPr/>
          <p:nvPr/>
        </p:nvSpPr>
        <p:spPr>
          <a:xfrm>
            <a:off x="642960" y="5072040"/>
            <a:ext cx="29289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aramond"/>
              </a:rPr>
              <a:t>ДЕВ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Номер слайда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BD2C-950C-4AFD-BD79-87E71CC53F32}" type="slidenum">
              <a:rPr b="0" lang="ru-RU" sz="1200" spc="-1" strike="noStrike">
                <a:solidFill>
                  <a:srgbClr val="646c8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8"/>
          <p:cNvSpPr/>
          <p:nvPr/>
        </p:nvSpPr>
        <p:spPr>
          <a:xfrm>
            <a:off x="3143160" y="1928880"/>
            <a:ext cx="6429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Garamond"/>
              </a:rPr>
              <a:t>Борис Ганаг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Garamond"/>
              </a:rPr>
              <a:t>«Огонёк веры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142920" y="571680"/>
            <a:ext cx="38131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D34D-7B72-4E76-BA6D-9F75A5FCE73F}" type="slidenum">
              <a:rPr b="0" lang="ru-RU" sz="1200" spc="-1" strike="noStrike">
                <a:solidFill>
                  <a:srgbClr val="646c8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4"/>
          <p:cNvSpPr/>
          <p:nvPr/>
        </p:nvSpPr>
        <p:spPr>
          <a:xfrm>
            <a:off x="2357280" y="1643040"/>
            <a:ext cx="7286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Garamond"/>
              </a:rPr>
              <a:t>Слава Тебе, Господи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Garamond"/>
              </a:rPr>
              <a:t>Слава Теб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"/>
          <p:cNvPicPr/>
          <p:nvPr/>
        </p:nvPicPr>
        <p:blipFill>
          <a:blip r:embed="rId1"/>
          <a:srcRect l="12862" t="0" r="12138" b="0"/>
          <a:stretch/>
        </p:blipFill>
        <p:spPr>
          <a:xfrm>
            <a:off x="214200" y="642960"/>
            <a:ext cx="3751200" cy="5000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20:01:08Z</dcterms:created>
  <dc:creator>www</dc:creator>
  <dc:description/>
  <dc:language>en-US</dc:language>
  <cp:lastModifiedBy>Пользователь Windows</cp:lastModifiedBy>
  <dcterms:modified xsi:type="dcterms:W3CDTF">2012-02-27T12:13:43Z</dcterms:modified>
  <cp:revision>31</cp:revision>
  <dc:subject/>
  <dc:title>«По щучьему велению»</dc:title>
</cp:coreProperties>
</file>