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8E0-6046-4F75-87E2-C3C66540AF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B786-B80F-4D5A-BC70-D77E1B1C4E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BFCA-AB7A-4ECC-AB84-274363232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AA69-E209-435A-A17E-FB852E9F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BEC-6718-499B-B650-EE25A50D1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86A7-B084-4B3A-AF23-61921B9D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3AEB-55F4-4640-BF3B-1743FC62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A54B-7DDE-47D4-87BB-9BB9321C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000E-CA68-43CD-BE0A-3B1EE73E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486-0D14-425E-A0C1-23F25A842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2BAC-37CD-4C71-AE7A-4B269E48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F91C-7070-4E0A-8654-B60C939C6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841-D6A5-406A-8304-B84BEEB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1A1-88DC-4BD8-9DBE-CA403F22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0A4-39D2-43A9-9A6B-550A1933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BE09-C575-4AC6-86BA-36CDD4392A4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495680" y="30492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В школе прозвенел звоно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чинаем наш урок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Сядьте вы за парты тихо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Руки – палочкой красиво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На меня вы посмотрите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И немного улыбнитесь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7"/>
          <p:cNvSpPr txBox="1"/>
          <p:nvPr/>
        </p:nvSpPr>
        <p:spPr>
          <a:xfrm>
            <a:off x="6934320" y="2286000"/>
            <a:ext cx="99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1219320" y="3657600"/>
            <a:ext cx="10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2666880" y="16002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2" name="WordArt 10"/>
          <p:cNvSpPr txBox="1"/>
          <p:nvPr/>
        </p:nvSpPr>
        <p:spPr>
          <a:xfrm>
            <a:off x="3657600" y="396252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4876920" y="182880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4" name="WordArt 12"/>
          <p:cNvSpPr txBox="1"/>
          <p:nvPr/>
        </p:nvSpPr>
        <p:spPr>
          <a:xfrm>
            <a:off x="5867280" y="35812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WordArt 13"/>
          <p:cNvSpPr txBox="1"/>
          <p:nvPr/>
        </p:nvSpPr>
        <p:spPr>
          <a:xfrm>
            <a:off x="304920" y="22860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14"/>
          <p:cNvSpPr txBox="1"/>
          <p:nvPr/>
        </p:nvSpPr>
        <p:spPr>
          <a:xfrm>
            <a:off x="7162920" y="419112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4792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днозначные       двузнач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457200" y="2819520"/>
            <a:ext cx="380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9" name="WordArt 5"/>
          <p:cNvSpPr txBox="1"/>
          <p:nvPr/>
        </p:nvSpPr>
        <p:spPr>
          <a:xfrm>
            <a:off x="457200" y="4343400"/>
            <a:ext cx="457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533520" y="5715000"/>
            <a:ext cx="304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4800600" y="5867280"/>
            <a:ext cx="99072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4800600" y="3124080"/>
            <a:ext cx="76212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>
            <a:off x="4800600" y="4191120"/>
            <a:ext cx="9144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>
            <a:off x="4800600" y="4952880"/>
            <a:ext cx="914400" cy="63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>
            <a:off x="4724280" y="2362320"/>
            <a:ext cx="11430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5867280" y="2362320"/>
            <a:ext cx="2210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= 20 + 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7" name="WordArt 13"/>
          <p:cNvSpPr txBox="1"/>
          <p:nvPr/>
        </p:nvSpPr>
        <p:spPr>
          <a:xfrm>
            <a:off x="6172200" y="457200"/>
            <a:ext cx="1066680" cy="102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14"/>
          <p:cNvSpPr txBox="1"/>
          <p:nvPr/>
        </p:nvSpPr>
        <p:spPr>
          <a:xfrm>
            <a:off x="1371600" y="60948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15"/>
          <p:cNvSpPr txBox="1"/>
          <p:nvPr/>
        </p:nvSpPr>
        <p:spPr>
          <a:xfrm>
            <a:off x="2438280" y="53352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16"/>
          <p:cNvSpPr txBox="1"/>
          <p:nvPr/>
        </p:nvSpPr>
        <p:spPr>
          <a:xfrm>
            <a:off x="3505320" y="457200"/>
            <a:ext cx="9903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17"/>
          <p:cNvSpPr txBox="1"/>
          <p:nvPr/>
        </p:nvSpPr>
        <p:spPr>
          <a:xfrm>
            <a:off x="4648320" y="457200"/>
            <a:ext cx="6094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2" name="WordArt 18"/>
          <p:cNvSpPr txBox="1"/>
          <p:nvPr/>
        </p:nvSpPr>
        <p:spPr>
          <a:xfrm>
            <a:off x="5410080" y="457200"/>
            <a:ext cx="762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19"/>
          <p:cNvSpPr txBox="1"/>
          <p:nvPr/>
        </p:nvSpPr>
        <p:spPr>
          <a:xfrm>
            <a:off x="304920" y="53352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4" name="WordArt 20"/>
          <p:cNvSpPr txBox="1"/>
          <p:nvPr/>
        </p:nvSpPr>
        <p:spPr>
          <a:xfrm>
            <a:off x="7467480" y="457200"/>
            <a:ext cx="533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йди лишнюю фигу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3581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3520" y="1523880"/>
            <a:ext cx="1143000" cy="68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4267080" y="1600200"/>
            <a:ext cx="990720" cy="609480"/>
          </a:xfrm>
          <a:prstGeom prst="parallelogram">
            <a:avLst>
              <a:gd name="adj" fmla="val 3393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 rot="5104200">
            <a:off x="3127320" y="3504960"/>
            <a:ext cx="593640" cy="1419120"/>
          </a:xfrm>
          <a:prstGeom prst="rtTriangl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038480" y="3962520"/>
            <a:ext cx="2210040" cy="380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ЮПИТ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7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2209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C:\Users\КомпЛенд\Documents\школа\пр8\курица.gif"/>
          <p:cNvPicPr/>
          <p:nvPr/>
        </p:nvPicPr>
        <p:blipFill>
          <a:blip r:embed="rId1"/>
          <a:stretch/>
        </p:blipFill>
        <p:spPr>
          <a:xfrm>
            <a:off x="1676520" y="838080"/>
            <a:ext cx="1523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 flipV="1" rot="10800000">
            <a:off x="304560" y="3223440"/>
            <a:ext cx="80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иёмы сложения ви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  <a:ea typeface="Times New Roman"/>
              </a:rPr>
              <a:t>26+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5"/>
          <p:cNvSpPr/>
          <p:nvPr/>
        </p:nvSpPr>
        <p:spPr>
          <a:xfrm>
            <a:off x="304920" y="609480"/>
            <a:ext cx="784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26+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Times New Roman"/>
              </a:rPr>
              <a:t>7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=26+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Times New Roman"/>
              </a:rPr>
              <a:t>4+3</a:t>
            </a:r>
            <a:r>
              <a:rPr b="1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=30+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7200" spc="-1" strike="noStrike">
                <a:solidFill>
                  <a:srgbClr val="ff0000"/>
                </a:solidFill>
                <a:latin typeface="Calibri"/>
                <a:ea typeface="Times New Roman"/>
              </a:rPr>
              <a:t>4 + 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  <a:ea typeface="Times New Roman"/>
              </a:rPr>
              <a:t>Второе слагаемое представим суммой удобных слагаемы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 стрелкой 7"/>
          <p:cNvCxnSpPr/>
          <p:nvPr/>
        </p:nvCxnSpPr>
        <p:spPr>
          <a:xfrm>
            <a:off x="2209680" y="2743200"/>
            <a:ext cx="457920" cy="381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127" name="Прямая со стрелкой 14"/>
          <p:cNvCxnSpPr/>
          <p:nvPr/>
        </p:nvCxnSpPr>
        <p:spPr>
          <a:xfrm flipH="1">
            <a:off x="1599840" y="2743200"/>
            <a:ext cx="381600" cy="381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чис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914040" y="24382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      II-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8 + 2 =                         62 + 9 =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78 + 6 =                         54 + 8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 + 75 =                         8 + 46 =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Критерии оценк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з ошибок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а ошибка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ошибки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олее двух ошибок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560" y="243828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                                     II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8 + 2 =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80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 62 + 9 = 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71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78 + 6 =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84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54 + 8 = 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6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6 + 75 = 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81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                  8 + 46 = </a:t>
            </a:r>
            <a:r>
              <a:rPr b="0" lang="ru-RU" sz="13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1300" spc="-1" strike="noStrike">
                <a:solidFill>
                  <a:srgbClr val="ff0000"/>
                </a:solidFill>
                <a:latin typeface="Calibri"/>
              </a:rPr>
              <a:t>54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8288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2590560" cy="990720"/>
          </a:xfrm>
          <a:prstGeom prst="rect">
            <a:avLst/>
          </a:prstGeom>
          <a:ln w="0">
            <a:noFill/>
          </a:ln>
        </p:spPr>
      </p:pic>
      <p:pic>
        <p:nvPicPr>
          <p:cNvPr id="137" name="Содержимое 6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САТУРН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0" y="990720"/>
            <a:ext cx="990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дача №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6840" y="1600200"/>
            <a:ext cx="2590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о –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40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тратили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город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1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театр </a:t>
            </a: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ос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-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0 – (15+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чис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80 – ( 9 + 7 ) =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56 + ( 27 – 7 ) =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0 – ( 9 + 7 ) =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6 + ( 27 – 7 ) =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задачу по выражению    и реши е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4876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0 + ( 30 – 8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5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Users\КомпЛенд\Desktop\снеговик 2.jpg"/>
          <p:cNvPicPr/>
          <p:nvPr/>
        </p:nvPicPr>
        <p:blipFill>
          <a:blip r:embed="rId1"/>
          <a:stretch/>
        </p:blipFill>
        <p:spPr>
          <a:xfrm>
            <a:off x="609480" y="457200"/>
            <a:ext cx="13716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153" name="WordArt 4"/>
          <p:cNvGrpSpPr/>
          <p:nvPr/>
        </p:nvGrpSpPr>
        <p:grpSpPr>
          <a:xfrm>
            <a:off x="438120" y="4784760"/>
            <a:ext cx="3841920" cy="641160"/>
            <a:chOff x="438120" y="4784760"/>
            <a:chExt cx="3841920" cy="641160"/>
          </a:xfrm>
        </p:grpSpPr>
        <p:pic>
          <p:nvPicPr>
            <p:cNvPr id="154" name="WordArt 4" descr=""/>
            <p:cNvPicPr/>
            <p:nvPr/>
          </p:nvPicPr>
          <p:blipFill>
            <a:blip r:embed="rId2"/>
            <a:stretch/>
          </p:blipFill>
          <p:spPr>
            <a:xfrm>
              <a:off x="438120" y="4784760"/>
              <a:ext cx="384192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457200" y="4800600"/>
              <a:ext cx="38098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901"/>
                </a:spcBef>
                <a:buClr>
                  <a:srgbClr val="0000ff"/>
                </a:buClr>
                <a:buSzPct val="80000"/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Impact"/>
                </a:rPr>
                <a:t>Молодцы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2"/>
          <p:cNvSpPr/>
          <p:nvPr/>
        </p:nvSpPr>
        <p:spPr>
          <a:xfrm>
            <a:off x="304920" y="914400"/>
            <a:ext cx="4419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MS Mincho"/>
              </a:rPr>
              <a:t>Окончен урок, и выполнен план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MS Mincho"/>
              </a:rPr>
              <a:t>Спасибо, ребята, огромное ва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MS Mincho"/>
              </a:rPr>
              <a:t>За то, что упорно и дружно трудились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030a0"/>
                </a:solidFill>
                <a:latin typeface="Times New Roman"/>
                <a:ea typeface="MS Mincho"/>
              </a:rPr>
              <a:t>И знания точно уж вам пригодились</a:t>
            </a:r>
            <a:r>
              <a:rPr b="0" lang="ru-RU" sz="1000" spc="-1" strike="noStrike">
                <a:solidFill>
                  <a:srgbClr val="7030a0"/>
                </a:solidFill>
                <a:latin typeface="Arial"/>
                <a:ea typeface="MS P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4" descr=""/>
          <p:cNvPicPr/>
          <p:nvPr/>
        </p:nvPicPr>
        <p:blipFill>
          <a:blip r:embed="rId1"/>
          <a:stretch/>
        </p:blipFill>
        <p:spPr>
          <a:xfrm>
            <a:off x="990720" y="36360"/>
            <a:ext cx="1143000" cy="17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ЧИТАЙТ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53 до 6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78 до 8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100 до 9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43 до 3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7"/>
          <p:cNvSpPr txBox="1"/>
          <p:nvPr/>
        </p:nvSpPr>
        <p:spPr>
          <a:xfrm>
            <a:off x="6934320" y="2286000"/>
            <a:ext cx="99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219320" y="3657600"/>
            <a:ext cx="10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2666880" y="16002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8" name="WordArt 10"/>
          <p:cNvSpPr txBox="1"/>
          <p:nvPr/>
        </p:nvSpPr>
        <p:spPr>
          <a:xfrm>
            <a:off x="3657600" y="396252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59" name="WordArt 11"/>
          <p:cNvSpPr txBox="1"/>
          <p:nvPr/>
        </p:nvSpPr>
        <p:spPr>
          <a:xfrm>
            <a:off x="4876920" y="182880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WordArt 12"/>
          <p:cNvSpPr txBox="1"/>
          <p:nvPr/>
        </p:nvSpPr>
        <p:spPr>
          <a:xfrm>
            <a:off x="5867280" y="35812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1" name="WordArt 13"/>
          <p:cNvSpPr txBox="1"/>
          <p:nvPr/>
        </p:nvSpPr>
        <p:spPr>
          <a:xfrm>
            <a:off x="304920" y="22860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2" name="WordArt 14"/>
          <p:cNvSpPr txBox="1"/>
          <p:nvPr/>
        </p:nvSpPr>
        <p:spPr>
          <a:xfrm>
            <a:off x="7162920" y="419112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7238880" y="1371600"/>
            <a:ext cx="685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2819520" y="3124080"/>
            <a:ext cx="9903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5105520" y="2438280"/>
            <a:ext cx="1218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6248520" y="1981080"/>
            <a:ext cx="990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7" name="WordArt 8"/>
          <p:cNvSpPr txBox="1"/>
          <p:nvPr/>
        </p:nvSpPr>
        <p:spPr>
          <a:xfrm>
            <a:off x="457200" y="4038480"/>
            <a:ext cx="685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8" name="WordArt 9"/>
          <p:cNvSpPr txBox="1"/>
          <p:nvPr/>
        </p:nvSpPr>
        <p:spPr>
          <a:xfrm>
            <a:off x="1371600" y="3809880"/>
            <a:ext cx="68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10"/>
          <p:cNvSpPr txBox="1"/>
          <p:nvPr/>
        </p:nvSpPr>
        <p:spPr>
          <a:xfrm>
            <a:off x="3962520" y="28954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2133720" y="3276720"/>
            <a:ext cx="685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7"/>
          <p:cNvSpPr txBox="1"/>
          <p:nvPr/>
        </p:nvSpPr>
        <p:spPr>
          <a:xfrm>
            <a:off x="6934320" y="2286000"/>
            <a:ext cx="990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1219320" y="3657600"/>
            <a:ext cx="10191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2666880" y="16002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10"/>
          <p:cNvSpPr txBox="1"/>
          <p:nvPr/>
        </p:nvSpPr>
        <p:spPr>
          <a:xfrm>
            <a:off x="3657600" y="396252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1"/>
          <p:cNvSpPr txBox="1"/>
          <p:nvPr/>
        </p:nvSpPr>
        <p:spPr>
          <a:xfrm>
            <a:off x="4876920" y="1828800"/>
            <a:ext cx="6094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2"/>
          <p:cNvSpPr txBox="1"/>
          <p:nvPr/>
        </p:nvSpPr>
        <p:spPr>
          <a:xfrm>
            <a:off x="5867280" y="35812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3"/>
          <p:cNvSpPr txBox="1"/>
          <p:nvPr/>
        </p:nvSpPr>
        <p:spPr>
          <a:xfrm>
            <a:off x="304920" y="2286000"/>
            <a:ext cx="1019160" cy="86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WordArt 14"/>
          <p:cNvSpPr txBox="1"/>
          <p:nvPr/>
        </p:nvSpPr>
        <p:spPr>
          <a:xfrm>
            <a:off x="7162920" y="419112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3"/>
          <p:cNvSpPr txBox="1"/>
          <p:nvPr/>
        </p:nvSpPr>
        <p:spPr>
          <a:xfrm>
            <a:off x="228600" y="2133720"/>
            <a:ext cx="117144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99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5105520" y="3200400"/>
            <a:ext cx="9144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1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2743200" y="2895480"/>
            <a:ext cx="1171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3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2" name="WordArt 6"/>
          <p:cNvSpPr txBox="1"/>
          <p:nvPr/>
        </p:nvSpPr>
        <p:spPr>
          <a:xfrm>
            <a:off x="1523880" y="2666880"/>
            <a:ext cx="11718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4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3" name="WordArt 7"/>
          <p:cNvSpPr txBox="1"/>
          <p:nvPr/>
        </p:nvSpPr>
        <p:spPr>
          <a:xfrm>
            <a:off x="7467480" y="3657600"/>
            <a:ext cx="533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705720" y="3352680"/>
            <a:ext cx="685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5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5" name="WordArt 9"/>
          <p:cNvSpPr txBox="1"/>
          <p:nvPr/>
        </p:nvSpPr>
        <p:spPr>
          <a:xfrm>
            <a:off x="3962520" y="3124080"/>
            <a:ext cx="10666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2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5943600" y="3200400"/>
            <a:ext cx="7621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8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АР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9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1067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КомпЛенд</cp:lastModifiedBy>
  <dcterms:modified xsi:type="dcterms:W3CDTF">2012-11-28T12:57:48Z</dcterms:modified>
  <cp:revision>1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