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7F2-4323-4F9F-85F4-B3CBFA91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A01-9154-4DC3-B708-A0A2E450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307-9452-4433-B408-02E7F392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FBF-ED38-4F65-9E3B-1F1F0172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93F-B02B-4671-8B3E-A18ADEB6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A1C6-416E-4327-B08C-EA75033C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639-112A-4807-8F54-FDAA251F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B1DF-7B7D-430C-98F5-8DFEB57B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396-C63E-441C-B19B-C0CB2E5F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1AE-6E92-4C9E-8E00-0326EA44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880-18B3-4AD9-BD64-DE5F9F65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6F7F-C2F8-4FC4-B361-FA949404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F8CF-2669-4C98-819D-7EF2086B9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әерле сәга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тә татар теле </a:t>
            </a:r>
            <a:br>
              <a:rPr sz="4400"/>
            </a:b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дәресен башлыйбыз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000" spc="-1" strike="noStrike">
                <a:solidFill>
                  <a:srgbClr val="000000"/>
                </a:solidFill>
                <a:latin typeface="Arial"/>
              </a:rPr>
              <a:t>Тукай телен, анам те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000" spc="-1" strike="noStrike">
                <a:solidFill>
                  <a:srgbClr val="000000"/>
                </a:solidFill>
                <a:latin typeface="Arial"/>
              </a:rPr>
              <a:t>Өйрәнергә дип килдек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Сүзлек дикта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000000"/>
                </a:solidFill>
                <a:latin typeface="Arial"/>
              </a:rPr>
              <a:t>Ки – тап, ка – ләм, ал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ь – бом, укы – тучы, укыту – чы, т</a:t>
            </a:r>
            <a:r>
              <a:rPr b="0" i="1" lang="tt-RU" sz="3200" spc="-1" strike="noStrike">
                <a:solidFill>
                  <a:srgbClr val="000000"/>
                </a:solidFill>
                <a:latin typeface="Arial"/>
              </a:rPr>
              <a:t>әр – бияче, тәрбия – че, җыр – чы, җәй, ба –лалар, ба - лал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Баш хәреф белән башлап языла</a:t>
            </a:r>
            <a:br>
              <a:rPr sz="4000"/>
            </a:b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торган сүзлә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Кеше исемнәре һәм фамилияләр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000000"/>
                </a:solidFill>
                <a:latin typeface="Arial"/>
              </a:rPr>
              <a:t>Алсу Сабирова, Вәли Галиев, Габдулла Тукай, Муса Җәлил, Салих Сәйдәш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Хайван кушаматла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000000"/>
                </a:solidFill>
                <a:latin typeface="Arial"/>
              </a:rPr>
              <a:t>Алмачуар, Сөтләч, Мыраубатыр, Муйнак, Сарб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Баш хәрефтән башлап языла торган сүзлә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000000"/>
                </a:solidFill>
                <a:latin typeface="Arial"/>
              </a:rPr>
              <a:t>Муса Җәлил, китап, тәнәф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000000"/>
                </a:solidFill>
                <a:latin typeface="Arial"/>
              </a:rPr>
              <a:t>Акбай, кәгаз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ь,Ф</a:t>
            </a:r>
            <a:r>
              <a:rPr b="0" i="1" lang="tt-RU" sz="3200" spc="-1" strike="noStrike">
                <a:solidFill>
                  <a:srgbClr val="000000"/>
                </a:solidFill>
                <a:latin typeface="Arial"/>
              </a:rPr>
              <a:t>әния, су, Сама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000000"/>
                </a:solidFill>
                <a:latin typeface="Arial"/>
              </a:rPr>
              <a:t>рәс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Баш хәрефтән башлап языла торган сүзлә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tt-RU" sz="3200" spc="-1" strike="noStrike">
                <a:solidFill>
                  <a:srgbClr val="000000"/>
                </a:solidFill>
                <a:latin typeface="Arial"/>
              </a:rPr>
              <a:t>Әминов, Әмирханов, Мәхмү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000000"/>
                </a:solidFill>
                <a:latin typeface="Arial"/>
              </a:rPr>
              <a:t>Рәфыйков, Тинчурин, Хәсә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Баш хәрефтән башлап  языла торган сүзлә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000000"/>
                </a:solidFill>
                <a:latin typeface="Arial"/>
              </a:rPr>
              <a:t>Республика исемнәре: Татар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000000"/>
                </a:solidFill>
                <a:latin typeface="Arial"/>
              </a:rPr>
              <a:t>Шәһәр, район, авыл исемнәре: Казан, Арча, Кушлавы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000000"/>
                </a:solidFill>
                <a:latin typeface="Arial"/>
              </a:rPr>
              <a:t>Елга, күл, тау исемнәре: Идел, Казансу елгалары, Урсал т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000000"/>
                </a:solidFill>
                <a:latin typeface="Arial"/>
              </a:rPr>
              <a:t>Урам исемнәре: Галиәскар Камал ура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Сүзлек эш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Тиен – акч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Әни юлдан илле тиен акча тап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Тиен – җәнл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Мин урманда тиен күрд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352680" y="10666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24280" y="3962520"/>
            <a:ext cx="11430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Җавапларыгыз өчен рәхмә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000000"/>
                </a:solidFill>
                <a:latin typeface="Arial"/>
              </a:rPr>
              <a:t>Татарча да яхшы б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000000"/>
                </a:solidFill>
                <a:latin typeface="Arial"/>
              </a:rPr>
              <a:t>Русча да яхшы б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000000"/>
                </a:solidFill>
                <a:latin typeface="Arial"/>
              </a:rPr>
              <a:t>Икесе дә безнең ө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000000"/>
                </a:solidFill>
                <a:latin typeface="Arial"/>
              </a:rPr>
              <a:t>Иң кирәкле әйбәт т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10T16:09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