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8D9-6C9E-40C7-97BF-F05C0C13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FC1-9929-496C-B1D7-6C278BD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6EE-4439-4C28-B41B-A3532515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F7E-BC2B-4CB9-BE65-8C0B508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013-60CA-4B55-91CA-C3D6DE7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B93-3550-4A9C-BAC2-B236088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371-93E1-4975-8060-13FDDDE1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6B4-159B-46C3-83F8-CDA60100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F9A-86D8-481F-BF4D-CDBEC37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B7F-DF13-472D-8F99-9DED6C1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190-C040-4241-9E38-FFAEA4F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507-3CE7-4040-8469-A545BF4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084-3631-4CDE-9DDC-D46B9B19F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62120" y="14479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, праз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,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ц, ст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ин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, п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то, здра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уй,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ёз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арь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838080" y="152388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, праз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,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ц, ст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ин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, п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то, здра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уй,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ёз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арь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а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8T16:14:29Z</dcterms:modified>
  <cp:revision>2</cp:revision>
  <dc:subject/>
  <dc:title>Слайд 1</dc:title>
</cp:coreProperties>
</file>