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41C4-09E4-458C-BFE1-4180BCD15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E658-0E54-4BCC-9D87-12F0BE8A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B1B7-29C8-4976-968C-536362E5A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D490-822D-4CAB-B436-ADB7D384E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2697-77BC-4631-9E8B-F3520D5C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5C9F-C594-48D0-B2CC-65C22D2E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180E-E925-4FCD-B7B8-E2860854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3102-2B0E-4936-8E5B-BCA30BF8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EF14-DC2C-4A68-83C3-A366E8CF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5769-E369-4358-B605-9DE4B929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8BF5-F82F-4634-8ED7-9F596592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1E29-7699-4103-BBEA-80E1B5C9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4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9150-E155-47F5-AB1F-2B7327B1F4D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Эрмитаж в Санкт-Петербург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Содержимое 5" descr="ermitaj1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Лувр в Париж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Содержимое 3" descr="lyvr.jpg"/>
          <p:cNvPicPr/>
          <p:nvPr/>
        </p:nvPicPr>
        <p:blipFill>
          <a:blip r:embed="rId1"/>
          <a:stretch/>
        </p:blipFill>
        <p:spPr>
          <a:xfrm>
            <a:off x="1193760" y="1600200"/>
            <a:ext cx="67564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Третьяковская галер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Содержимое 7" descr="галерея2.jpg"/>
          <p:cNvPicPr/>
          <p:nvPr/>
        </p:nvPicPr>
        <p:blipFill>
          <a:blip r:embed="rId1"/>
          <a:stretch/>
        </p:blipFill>
        <p:spPr>
          <a:xfrm>
            <a:off x="1292400" y="1652760"/>
            <a:ext cx="2700000" cy="7826040"/>
          </a:xfrm>
          <a:prstGeom prst="rect">
            <a:avLst/>
          </a:prstGeom>
          <a:ln w="0">
            <a:noFill/>
          </a:ln>
        </p:spPr>
      </p:pic>
      <p:pic>
        <p:nvPicPr>
          <p:cNvPr id="47" name="Содержимое 5" descr="третьяковская галерея.jpg"/>
          <p:cNvPicPr/>
          <p:nvPr/>
        </p:nvPicPr>
        <p:blipFill>
          <a:blip r:embed="rId2"/>
          <a:stretch/>
        </p:blipFill>
        <p:spPr>
          <a:xfrm>
            <a:off x="4584600" y="2292480"/>
            <a:ext cx="4168800" cy="6261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авел Михайлович Третья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Содержимое 3" descr="третьяков.jpg"/>
          <p:cNvPicPr/>
          <p:nvPr/>
        </p:nvPicPr>
        <p:blipFill>
          <a:blip r:embed="rId1"/>
          <a:stretch/>
        </p:blipFill>
        <p:spPr>
          <a:xfrm>
            <a:off x="2859120" y="1600200"/>
            <a:ext cx="342576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1"/>
          <p:cNvSpPr/>
          <p:nvPr/>
        </p:nvSpPr>
        <p:spPr>
          <a:xfrm>
            <a:off x="1785960" y="6215040"/>
            <a:ext cx="67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О.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Кипренский.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ортрет А.С.Пушк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2071800" y="357120"/>
            <a:ext cx="5045040" cy="5710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8"/>
          <p:cNvSpPr/>
          <p:nvPr/>
        </p:nvSpPr>
        <p:spPr>
          <a:xfrm>
            <a:off x="2071800" y="5929200"/>
            <a:ext cx="60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И.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Хруцкий.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Цветы и пло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214280" y="785880"/>
            <a:ext cx="6834240" cy="4929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5"/>
          <p:cNvSpPr/>
          <p:nvPr/>
        </p:nvSpPr>
        <p:spPr>
          <a:xfrm>
            <a:off x="2357280" y="60721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И.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Левитан.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Мар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428840" y="785880"/>
            <a:ext cx="6667560" cy="5000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428760" y="2000160"/>
            <a:ext cx="8429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4000" spc="-1" strike="noStrike">
                <a:solidFill>
                  <a:srgbClr val="7030a0"/>
                </a:solidFill>
                <a:latin typeface="Arial"/>
              </a:rPr>
              <a:t>Эрмитаж,</a:t>
            </a:r>
            <a:r>
              <a:rPr b="0" i="1" lang="en-US" sz="4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7030a0"/>
                </a:solidFill>
                <a:latin typeface="Arial"/>
              </a:rPr>
              <a:t>Лувр, Третьяковская галерея – самые известные картинные галереи  ми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1T15:10:58Z</dcterms:created>
  <dc:creator>Admin</dc:creator>
  <dc:description/>
  <dc:language>en-US</dc:language>
  <cp:lastModifiedBy>Admin</cp:lastModifiedBy>
  <dcterms:modified xsi:type="dcterms:W3CDTF">2013-02-17T16:47:01Z</dcterms:modified>
  <cp:revision>63</cp:revision>
  <dc:subject/>
  <dc:title>Заочная экскурсия в Третьяковскую галерею</dc:title>
</cp:coreProperties>
</file>