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4C7-C31C-447C-B70E-C9B26D5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95A-C360-4192-B2F9-107B309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E8C-2C6D-41EE-A07A-DA92B585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682-12BE-40A6-BECB-EADC1798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D330-E3CA-400A-ADF2-7930C471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219E-1991-4B2C-AC80-ECA99DDA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54B-8648-4460-995F-380A70E9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F9C8-617E-47BD-9F37-A411D86F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66A-F2EF-4A64-A103-09CECF4D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F5FA-15C2-474F-8743-3BF92F6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8376-9D86-497C-8178-49D79E5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A62-405B-4935-9BDF-EBAEE18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E945-6A2F-4923-8DD4-ABFE2E6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616-2221-4DAF-8195-1F8173E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DC70-E927-45AC-9EDD-A161BDF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C9F3-571E-4D54-BF13-EAAAFA35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3CB8-7EE6-4D28-B79C-63828DF2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2B6-7E34-47B2-941B-B324213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833-8EED-4CF7-849B-B24AD47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1AD-FC89-41D0-B43E-93EFEB00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AF9-ABF6-4DDF-9904-458D838D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E2-97D6-46A6-9023-32937425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140-A09B-4E6A-A675-62794B4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0D2-16A4-4454-96B5-7841F10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B39-6619-4C54-A05B-1CFC6D0446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BCBD-1241-4CE3-B2EF-7FD2646886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Трудности при овладении чтением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С.Н. Костромина, Л.Г. Нагаев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преодолеть трудности в обучении детей. Чтение. – М.:АСТ; СПБ, 2008.)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Искажает окончания прочитанных слов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мысловой догадки;  поля зрения; функций словообразования и словоизменения; контроля за темпом чтения; само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Потеря строчки при считывании (повторное считывание, пропуск строчки, перескакивание с одной строчки на другу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пространственных представлений; устойчивости и концентрации внимания; самоконтроля; работоспособ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4. Нечёткое произношение слов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при чтен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… звукопроизношения отдельных звуков; артикуляции; контроля над психическими процессами (повышенная возбудимость, излишняя торопливост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. Регрессии (чтение с возвратом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навыка чтения (устойчивый стереотип чтения); устойчивости и концентрации внимания; самоконтроля, понимания текс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6. Не понимает смысла прочитанного предложения или текст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ловарного запаса;  словесно-логического мышления (слабо выделяет существенные признаки, обобщает, сравнивает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7. Пересказывает прочитанное дословн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ловарного запаса;  приёмов смысловой обработки текста; словесно-логического мыш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8. Не умеет выделять главное в прочитанно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лексико-грамматического строя речи;   приёмов смысловой обработки текста; словесно-логического мышления; памяти; устойчивости и концентрации вним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9. Низкая скорость чт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контроля над темпом деятельности (медлительность); поля зрения; смысловой догадки; навыка чтения; артикуля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0. «Угадывающее» чтени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концентрации и устойчивости внимания; работоспособности; контроля над темпом деятельности; навыка чтения целым слов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1. Невыразительное чте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понимания смысла прочитанного (читает механически; самоконтроля (не учитывает правил чтения); техники чтения (несформированность синтетического способа чт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слоговым способом чтения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. Затруднения в слиянии букв в слог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ичина трудностей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… звуко-буквенного анализа; артикуляции (произношения) отдельных звуков; памяти; восприятия; устойчивости и концентрации вним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2. Отсутствие желания чита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 мотивации; техники чтения; работоспособ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слоговым способом чтени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. Ошибки при слиянии слогов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в слова и прочтении коротких слов, пропуск букв, перестановка слого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памяти; устойчивости и концентрации внимания; контроля над темпом деятельности; пространственных представлений; само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слоговым способом чтени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3. Непонимание значения прочитанного слов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ловарного запаса;  смысловой догадки; памяти; слухового восприятия (неправильно ставит удар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чтения по слогам и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. Не может читать длинные слова целым слово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ловарного запаса;  навыков ч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Читает слова орфографическим способом (так, как они пишутся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поля зрения;  избирательности внимания; смысловой догад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чтения по слогам и целым словом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чтения по слогам и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. Двойное чтение (сначала про себя по слогам, затем вслух слитно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навыков чтения (сформирован устойчивый стереотип чтения); готовности к чтен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овладения чтения по слогам и целым слов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4. Трудности в слиянии слов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 словосочетан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лексико-грамматического строя речи; смысловой догадки; поля зр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Трудности на этапе чтения целым словом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.Читает отдельные слова послоговым способо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ичина трудностей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достаточное развитие …словарного запаса;   навыков чтения; поля зр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 User</cp:lastModifiedBy>
  <dcterms:modified xsi:type="dcterms:W3CDTF">2009-04-22T14:04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