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0B8-F32B-43F3-A836-FE7F5B4F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94B-6923-423D-A0CA-E9B82C2C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3EC-5595-4B47-8C69-AD0BA6D7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71E-C609-428D-8A6B-463DA377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5BF-BE9A-48C5-BF60-17625044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40F-CC95-4EA9-B288-6DD54551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0B7-9DA6-4CE0-A195-DB56DA35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928-D028-413A-BA8A-854DE2FE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52D-AB38-47F9-99FD-69BB0E3F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F76-B869-4E12-8003-188C7356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2A5-2AB9-4C86-B8FE-B25969B9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B6D-B7A7-4092-9989-32FD37DF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21E8-CFBF-4461-B2E4-05907EE1B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41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8a2e4e"/>
                </a:solidFill>
                <a:latin typeface="Constantia"/>
              </a:rPr>
              <a:t>ВВЕДЕНИЕ ЭЛЕМЕНТОВ КРАЕВЕДЕНИЯ         В ОБРАЗОВАТЕЛЬНЫЙ ПРОЦЕСС                       В НАЧАЛЬНОЙ ШКОЛЕ КАК СПОСОБ ФОРМИРОВАНИЯ ГРАЖДАНСТВЕННОСТИ</a:t>
            </a:r>
            <a:br>
              <a:rPr sz="2800"/>
            </a:br>
            <a:r>
              <a:rPr b="1" lang="ru-RU" sz="2800" spc="-1" strike="noStrike">
                <a:solidFill>
                  <a:srgbClr val="8a2e4e"/>
                </a:solidFill>
                <a:latin typeface="Constantia"/>
              </a:rPr>
              <a:t>И ПАТРИОТИЗМА МЛАДШИХ ШКОЛЬНИК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14520" y="5143680"/>
            <a:ext cx="442908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втор : Золотова Мария Юрьевна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ОУ СОШ п. Стан – Шелокш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6"/>
          <p:cNvSpPr/>
          <p:nvPr/>
        </p:nvSpPr>
        <p:spPr>
          <a:xfrm>
            <a:off x="3357720" y="0"/>
            <a:ext cx="3643200" cy="26892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5857920" y="2071800"/>
            <a:ext cx="3286080" cy="1728720"/>
          </a:xfrm>
          <a:prstGeom prst="irregularSeal1">
            <a:avLst/>
          </a:prstGeom>
          <a:solidFill>
            <a:srgbClr val="fcbb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жегородская стор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0" y="4000680"/>
            <a:ext cx="2521080" cy="1490400"/>
          </a:xfrm>
          <a:prstGeom prst="irregularSeal1">
            <a:avLst/>
          </a:prstGeom>
          <a:solidFill>
            <a:srgbClr val="fcbb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Естествозн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2500200" y="3286080"/>
            <a:ext cx="4214880" cy="1643040"/>
          </a:xfrm>
          <a:prstGeom prst="irregularSeal1">
            <a:avLst/>
          </a:prstGeom>
          <a:solidFill>
            <a:srgbClr val="fcbb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жданско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раз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6000840" y="4643280"/>
            <a:ext cx="2786040" cy="1633680"/>
          </a:xfrm>
          <a:prstGeom prst="irregularSeal1">
            <a:avLst/>
          </a:prstGeom>
          <a:solidFill>
            <a:srgbClr val="fcbb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хн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571680" y="2214720"/>
            <a:ext cx="2520720" cy="1490400"/>
          </a:xfrm>
          <a:prstGeom prst="irregularSeal1">
            <a:avLst/>
          </a:prstGeom>
          <a:solidFill>
            <a:srgbClr val="fcbb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итературное чт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571840" y="5143680"/>
            <a:ext cx="3298680" cy="1490400"/>
          </a:xfrm>
          <a:prstGeom prst="irregularSeal1">
            <a:avLst/>
          </a:prstGeom>
          <a:solidFill>
            <a:srgbClr val="fcbb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образительное искус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2786040" cy="19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Внеклассная работа по краевед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Прямая со стрелкой 4"/>
          <p:cNvCxnSpPr/>
          <p:nvPr/>
        </p:nvCxnSpPr>
        <p:spPr>
          <a:xfrm flipH="1">
            <a:off x="1856880" y="1356840"/>
            <a:ext cx="215280" cy="42948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83" name="Прямая со стрелкой 6"/>
          <p:cNvCxnSpPr/>
          <p:nvPr/>
        </p:nvCxnSpPr>
        <p:spPr>
          <a:xfrm flipH="1">
            <a:off x="4500360" y="1214280"/>
            <a:ext cx="2160" cy="5011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84" name="Прямая со стрелкой 8"/>
          <p:cNvCxnSpPr/>
          <p:nvPr/>
        </p:nvCxnSpPr>
        <p:spPr>
          <a:xfrm>
            <a:off x="6856920" y="1285560"/>
            <a:ext cx="214920" cy="42948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85" name="Прямая со стрелкой 10"/>
          <p:cNvCxnSpPr/>
          <p:nvPr/>
        </p:nvCxnSpPr>
        <p:spPr>
          <a:xfrm flipH="1">
            <a:off x="1928520" y="2785680"/>
            <a:ext cx="2160" cy="7866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sp>
        <p:nvSpPr>
          <p:cNvPr id="86" name="Овал 25"/>
          <p:cNvSpPr/>
          <p:nvPr/>
        </p:nvSpPr>
        <p:spPr>
          <a:xfrm>
            <a:off x="785880" y="1928880"/>
            <a:ext cx="2286000" cy="785880"/>
          </a:xfrm>
          <a:prstGeom prst="ellipse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1285920" y="21430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с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27"/>
          <p:cNvSpPr/>
          <p:nvPr/>
        </p:nvSpPr>
        <p:spPr>
          <a:xfrm>
            <a:off x="3357720" y="1857240"/>
            <a:ext cx="2357280" cy="785880"/>
          </a:xfrm>
          <a:prstGeom prst="ellipse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3714840" y="20718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9"/>
          <p:cNvSpPr/>
          <p:nvPr/>
        </p:nvSpPr>
        <p:spPr>
          <a:xfrm>
            <a:off x="6072120" y="1857240"/>
            <a:ext cx="2428920" cy="785880"/>
          </a:xfrm>
          <a:prstGeom prst="ellipse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0"/>
          <p:cNvSpPr/>
          <p:nvPr/>
        </p:nvSpPr>
        <p:spPr>
          <a:xfrm>
            <a:off x="6357960" y="20718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Прямая со стрелкой 32"/>
          <p:cNvCxnSpPr/>
          <p:nvPr/>
        </p:nvCxnSpPr>
        <p:spPr>
          <a:xfrm flipH="1">
            <a:off x="4500360" y="2714760"/>
            <a:ext cx="2160" cy="7862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93" name="Прямая со стрелкой 33"/>
          <p:cNvCxnSpPr/>
          <p:nvPr/>
        </p:nvCxnSpPr>
        <p:spPr>
          <a:xfrm flipH="1">
            <a:off x="7286400" y="2714760"/>
            <a:ext cx="2160" cy="7862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sp>
        <p:nvSpPr>
          <p:cNvPr id="94" name="TextBox 35"/>
          <p:cNvSpPr/>
          <p:nvPr/>
        </p:nvSpPr>
        <p:spPr>
          <a:xfrm>
            <a:off x="1071720" y="3857760"/>
            <a:ext cx="207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ку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ренн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ктор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к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3643200" y="392904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уж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аш кра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7"/>
          <p:cNvSpPr/>
          <p:nvPr/>
        </p:nvSpPr>
        <p:spPr>
          <a:xfrm>
            <a:off x="6357960" y="39290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тель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Экскур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2000" y="3357720"/>
            <a:ext cx="3933720" cy="300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500040" y="121428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6858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отрудничество с семь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Администратор\Мои документы\img065.jpg"/>
          <p:cNvPicPr/>
          <p:nvPr/>
        </p:nvPicPr>
        <p:blipFill>
          <a:blip r:embed="rId1"/>
          <a:stretch/>
        </p:blipFill>
        <p:spPr>
          <a:xfrm>
            <a:off x="2214720" y="3500280"/>
            <a:ext cx="488124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2"/>
          <a:stretch/>
        </p:blipFill>
        <p:spPr>
          <a:xfrm>
            <a:off x="642960" y="1071720"/>
            <a:ext cx="2801880" cy="221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5643720" y="1214280"/>
            <a:ext cx="2930400" cy="2136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0440" y="13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ем дальше в будущее входим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м больше прошлым дорожим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в старом красоту находим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оть новому принадлежи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. Шафнер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714680" y="35712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Школьны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DSC04557"/>
          <p:cNvPicPr/>
          <p:nvPr/>
        </p:nvPicPr>
        <p:blipFill>
          <a:blip r:embed="rId1"/>
          <a:stretch/>
        </p:blipFill>
        <p:spPr>
          <a:xfrm>
            <a:off x="295200" y="1143000"/>
            <a:ext cx="4205520" cy="292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rcRect l="0" t="0" r="-147" b="0"/>
          <a:stretch/>
        </p:blipFill>
        <p:spPr>
          <a:xfrm>
            <a:off x="4714920" y="3498840"/>
            <a:ext cx="4181400" cy="277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642960" y="4429080"/>
            <a:ext cx="2860560" cy="2127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:\музей_Ст.Шёлокша\P3250023.JPG"/>
          <p:cNvPicPr/>
          <p:nvPr/>
        </p:nvPicPr>
        <p:blipFill>
          <a:blip r:embed="rId1"/>
          <a:stretch/>
        </p:blipFill>
        <p:spPr>
          <a:xfrm>
            <a:off x="500040" y="21420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:\музей_Ст.Шёлокша\P3250052.JPG"/>
          <p:cNvPicPr/>
          <p:nvPr/>
        </p:nvPicPr>
        <p:blipFill>
          <a:blip r:embed="rId2"/>
          <a:stretch/>
        </p:blipFill>
        <p:spPr>
          <a:xfrm>
            <a:off x="3143160" y="214200"/>
            <a:ext cx="2571840" cy="300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H:\музей_Ст.Шёлокша\P3250016.JPG"/>
          <p:cNvPicPr/>
          <p:nvPr/>
        </p:nvPicPr>
        <p:blipFill>
          <a:blip r:embed="rId3"/>
          <a:stretch/>
        </p:blipFill>
        <p:spPr>
          <a:xfrm>
            <a:off x="214200" y="3714840"/>
            <a:ext cx="2786040" cy="235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:\музей_Ст.Шёлокша\P3250001.JPG"/>
          <p:cNvPicPr/>
          <p:nvPr/>
        </p:nvPicPr>
        <p:blipFill>
          <a:blip r:embed="rId4"/>
          <a:stretch/>
        </p:blipFill>
        <p:spPr>
          <a:xfrm>
            <a:off x="3286080" y="3714840"/>
            <a:ext cx="2428920" cy="3000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H:\музей_Ст.Шёлокша\P3250003.JPG"/>
          <p:cNvPicPr/>
          <p:nvPr/>
        </p:nvPicPr>
        <p:blipFill>
          <a:blip r:embed="rId5"/>
          <a:stretch/>
        </p:blipFill>
        <p:spPr>
          <a:xfrm>
            <a:off x="5857920" y="3857760"/>
            <a:ext cx="300024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:\музей_Ст.Шёлокша\P3250002.JPG"/>
          <p:cNvPicPr/>
          <p:nvPr/>
        </p:nvPicPr>
        <p:blipFill>
          <a:blip r:embed="rId6"/>
          <a:stretch/>
        </p:blipFill>
        <p:spPr>
          <a:xfrm>
            <a:off x="6143760" y="285840"/>
            <a:ext cx="2500200" cy="29289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9"/>
          <p:cNvSpPr/>
          <p:nvPr/>
        </p:nvSpPr>
        <p:spPr>
          <a:xfrm>
            <a:off x="285840" y="32446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одная стар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2928960" y="32148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Шёлокша - село родн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0" y="600084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утешествие в историю шк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>
            <a:off x="6072120" y="63579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оевые огневы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6143760" y="32878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ъявленная вой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Коса - девичья крас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929120" y="642960"/>
            <a:ext cx="3500640" cy="2714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571680" y="642960"/>
            <a:ext cx="3786120" cy="271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Documents and Settings\Администратор\Рабочий стол\фото (2)\фото с урока\SDC10784.JPG"/>
          <p:cNvPicPr/>
          <p:nvPr/>
        </p:nvPicPr>
        <p:blipFill>
          <a:blip r:embed="rId3"/>
          <a:stretch/>
        </p:blipFill>
        <p:spPr>
          <a:xfrm>
            <a:off x="2071800" y="3929040"/>
            <a:ext cx="4714920" cy="29289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1643040" y="72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Наша малая род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3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Льются с этих фотографи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Океаны биограф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Жизнь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в которых вся до дна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С нашей переплетена.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3857760" cy="3357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K:\флешка\фото (2)\SDC10885.JPG"/>
          <p:cNvPicPr/>
          <p:nvPr/>
        </p:nvPicPr>
        <p:blipFill>
          <a:blip r:embed="rId2"/>
          <a:stretch/>
        </p:blipFill>
        <p:spPr>
          <a:xfrm>
            <a:off x="4643280" y="2500200"/>
            <a:ext cx="4071960" cy="3143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треча с ветеранам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2286000" cy="3071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3929040" y="1285920"/>
            <a:ext cx="4143240" cy="25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2000160" y="3929040"/>
            <a:ext cx="5000760" cy="2714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формление книги памяти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«1941-1945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28760" y="2357280"/>
            <a:ext cx="4143240" cy="3000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:\фото класс\SDC11043.JPG"/>
          <p:cNvPicPr/>
          <p:nvPr/>
        </p:nvPicPr>
        <p:blipFill>
          <a:blip r:embed="rId2"/>
          <a:stretch/>
        </p:blipFill>
        <p:spPr>
          <a:xfrm>
            <a:off x="4929120" y="3429000"/>
            <a:ext cx="3571920" cy="2965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Д.С Лихач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0001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Забота о прошлом есть одновременно  и забота о  будуще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Любить  свою  семью, свой  дом, свою  школу, свое  село, свой  город, свою страну, свою  культуру и  язык  совершенно  необходимо  для  нравственной оседлости  челове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Лихачёв Дмитрий Сергеевич - его биография и жизнеописание"/>
          <p:cNvPicPr/>
          <p:nvPr/>
        </p:nvPicPr>
        <p:blipFill>
          <a:blip r:embed="rId1"/>
          <a:stretch/>
        </p:blipFill>
        <p:spPr>
          <a:xfrm>
            <a:off x="500040" y="14292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евые -огне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K:\флешка\фото (2)\SDC10880.JPG"/>
          <p:cNvPicPr/>
          <p:nvPr/>
        </p:nvPicPr>
        <p:blipFill>
          <a:blip r:embed="rId1"/>
          <a:stretch/>
        </p:blipFill>
        <p:spPr>
          <a:xfrm>
            <a:off x="4714920" y="1285920"/>
            <a:ext cx="3786120" cy="321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K:\флешка\фото (2)\SDC10881.JPG"/>
          <p:cNvPicPr/>
          <p:nvPr/>
        </p:nvPicPr>
        <p:blipFill>
          <a:blip r:embed="rId2"/>
          <a:stretch/>
        </p:blipFill>
        <p:spPr>
          <a:xfrm>
            <a:off x="428760" y="2857680"/>
            <a:ext cx="4071960" cy="2928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35676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0"/>
          </a:bodyPr>
          <a:p>
            <a:pPr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и в школьном муз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тарину бывало дед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K:\флешка\фото (2)\SDC10897.JPG"/>
          <p:cNvPicPr/>
          <p:nvPr/>
        </p:nvPicPr>
        <p:blipFill>
          <a:blip r:embed="rId1"/>
          <a:stretch/>
        </p:blipFill>
        <p:spPr>
          <a:xfrm>
            <a:off x="4572000" y="1500120"/>
            <a:ext cx="335772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K:\флешка\фото (2)\SDC10893.JPG"/>
          <p:cNvPicPr/>
          <p:nvPr/>
        </p:nvPicPr>
        <p:blipFill>
          <a:blip r:embed="rId2"/>
          <a:stretch/>
        </p:blipFill>
        <p:spPr>
          <a:xfrm>
            <a:off x="500040" y="1500120"/>
            <a:ext cx="3357720" cy="235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K:\флешка\фото (2)\SDC10896.JPG"/>
          <p:cNvPicPr/>
          <p:nvPr/>
        </p:nvPicPr>
        <p:blipFill>
          <a:blip r:embed="rId3"/>
          <a:stretch/>
        </p:blipFill>
        <p:spPr>
          <a:xfrm>
            <a:off x="2428920" y="4214880"/>
            <a:ext cx="3071880" cy="2286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Краеведение - социально значимое                                    и необходимое направление в работе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712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комство с историей, культурой, природой, бытом людей, живущих рядом, позволяет лучше почувствовать родное село, а значит, стать созидателем своей малой Род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льтура родного края должна войти в сердце ребенка и стать неотъемлемой частью его душ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00040" y="356760"/>
            <a:ext cx="8215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Constantia"/>
              </a:rPr>
              <a:t>Поисково-краеведческая работа с учащимися помогае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ать и передавать опыт предков следующим поколен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щать учащихся к ценностям русской культур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ять, фиксировать для потомков историю сел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ивать любовь учащихся к своей малой и большой Роди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щать учащихся к научно – исследовательской работ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лублять знания по школьным предмета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речь и эрудицию школь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7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7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3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7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7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7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7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3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7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7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сследовательское поведение - один из важнейших источников получения представлений о мир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00760" y="2142720"/>
            <a:ext cx="3929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ть, открыть, изучить - значит сделать шаг в неизведанное и непозна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4446720" cy="3929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PB030152"/>
          <p:cNvPicPr/>
          <p:nvPr/>
        </p:nvPicPr>
        <p:blipFill>
          <a:blip r:embed="rId1"/>
          <a:stretch/>
        </p:blipFill>
        <p:spPr>
          <a:xfrm>
            <a:off x="4572000" y="142920"/>
            <a:ext cx="3857760" cy="2873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714680" y="6242040"/>
            <a:ext cx="45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Кружок «Наш кра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4714920" y="3357720"/>
            <a:ext cx="3643200" cy="26413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53" name="Picture 4" descr="P7090123"/>
          <p:cNvPicPr/>
          <p:nvPr/>
        </p:nvPicPr>
        <p:blipFill>
          <a:blip r:embed="rId3"/>
          <a:stretch/>
        </p:blipFill>
        <p:spPr>
          <a:xfrm>
            <a:off x="857160" y="3286080"/>
            <a:ext cx="335772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P1000057"/>
          <p:cNvPicPr/>
          <p:nvPr/>
        </p:nvPicPr>
        <p:blipFill>
          <a:blip r:embed="rId4"/>
          <a:stretch/>
        </p:blipFill>
        <p:spPr>
          <a:xfrm>
            <a:off x="500040" y="142920"/>
            <a:ext cx="3786120" cy="290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4286160" cy="5214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5286240" y="1214280"/>
            <a:ext cx="3024360" cy="49294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5286240" y="6143760"/>
            <a:ext cx="300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товская районная газета «Маяк» №16-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928800" y="357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Результаты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Constantia"/>
              </a:rPr>
              <a:t>Изучение краеведения способству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ю активной гражданской позиции, патриотичности, чувств любви к прошлому, настоящему и будущему страны, родного края, своего се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ю экологических знаний учащихся, вооружение их навыками экологически грамотного использования природных ресур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285920" y="50004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071720" y="1428840"/>
            <a:ext cx="792000" cy="479880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5"/>
          <p:cNvSpPr/>
          <p:nvPr/>
        </p:nvSpPr>
        <p:spPr>
          <a:xfrm>
            <a:off x="2071800" y="1500120"/>
            <a:ext cx="5761080" cy="50004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ктивно и заинтересованно познающи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2071800" y="2143080"/>
            <a:ext cx="5761080" cy="50004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особный к организации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2071800" y="2786040"/>
            <a:ext cx="6143400" cy="5716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юбящий свой народ, свой край и свою Род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2071800" y="3571920"/>
            <a:ext cx="6215040" cy="5014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важающий и принимающий ценности семьи 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2000160" y="4214880"/>
            <a:ext cx="6357960" cy="5713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отовый самостоятельно действовать и отвечать за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1"/>
          <p:cNvSpPr/>
          <p:nvPr/>
        </p:nvSpPr>
        <p:spPr>
          <a:xfrm rot="13500000">
            <a:off x="7660800" y="1517040"/>
            <a:ext cx="431640" cy="4320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2"/>
          <p:cNvSpPr/>
          <p:nvPr/>
        </p:nvSpPr>
        <p:spPr>
          <a:xfrm rot="13500000">
            <a:off x="7660800" y="2160000"/>
            <a:ext cx="431640" cy="4320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3"/>
          <p:cNvSpPr/>
          <p:nvPr/>
        </p:nvSpPr>
        <p:spPr>
          <a:xfrm rot="13500000">
            <a:off x="8089560" y="2874240"/>
            <a:ext cx="431640" cy="431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4"/>
          <p:cNvSpPr/>
          <p:nvPr/>
        </p:nvSpPr>
        <p:spPr>
          <a:xfrm rot="13500000">
            <a:off x="8160840" y="3660120"/>
            <a:ext cx="431640" cy="4320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5"/>
          <p:cNvSpPr/>
          <p:nvPr/>
        </p:nvSpPr>
        <p:spPr>
          <a:xfrm rot="13500000">
            <a:off x="8228160" y="4299120"/>
            <a:ext cx="403200" cy="403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2071800" y="4929120"/>
            <a:ext cx="5761080" cy="57168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еющий слушать и слышать собес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5"/>
          <p:cNvSpPr/>
          <p:nvPr/>
        </p:nvSpPr>
        <p:spPr>
          <a:xfrm rot="13500000">
            <a:off x="7661160" y="5018040"/>
            <a:ext cx="432000" cy="4320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2071800" y="5643720"/>
            <a:ext cx="5689440" cy="50004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полняющий правила здорового образа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3500000">
            <a:off x="7589520" y="5661000"/>
            <a:ext cx="432000" cy="431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1"/>
          <p:cNvSpPr/>
          <p:nvPr/>
        </p:nvSpPr>
        <p:spPr>
          <a:xfrm>
            <a:off x="857160" y="35712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Портрет выпускника начально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6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7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8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9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я земля, моя Россия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DSC05296"/>
          <p:cNvPicPr/>
          <p:nvPr/>
        </p:nvPicPr>
        <p:blipFill>
          <a:blip r:embed="rId1"/>
          <a:stretch/>
        </p:blipFill>
        <p:spPr>
          <a:xfrm>
            <a:off x="857160" y="1143000"/>
            <a:ext cx="7500960" cy="515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P7210060"/>
          <p:cNvPicPr/>
          <p:nvPr/>
        </p:nvPicPr>
        <p:blipFill>
          <a:blip r:embed="rId2"/>
          <a:stretch/>
        </p:blipFill>
        <p:spPr>
          <a:xfrm>
            <a:off x="785880" y="1143000"/>
            <a:ext cx="7572240" cy="5372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H:\фото\SDC10877.JPG"/>
          <p:cNvPicPr/>
          <p:nvPr/>
        </p:nvPicPr>
        <p:blipFill>
          <a:blip r:embed="rId1"/>
          <a:srcRect l="0" t="-12375" r="0" b="0"/>
          <a:stretch/>
        </p:blipFill>
        <p:spPr>
          <a:xfrm>
            <a:off x="500040" y="0"/>
            <a:ext cx="8001000" cy="628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614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40000" y="28548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  <a:ea typeface="Arial"/>
              </a:rPr>
              <a:t>Воспитание гражданственности, патриотизма, уважения к правам, свободам и обязанностям человек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76360" y="1341360"/>
            <a:ext cx="72216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енност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юбовь к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ссии, к своему народу, к сво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й роди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ужение Отечеств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вовое государств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жданское обществ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лг перед Отечество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ршими поколениями, семь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кон и правопорядок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бода и ответственност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верие к люд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спасская башн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43800" y="3143160"/>
            <a:ext cx="1800000" cy="2925720"/>
          </a:xfrm>
          <a:prstGeom prst="rect">
            <a:avLst/>
          </a:prstGeom>
          <a:ln w="88920">
            <a:solidFill>
              <a:srgbClr val="993300"/>
            </a:solidFill>
            <a:miter/>
          </a:ln>
        </p:spPr>
      </p:pic>
      <p:pic>
        <p:nvPicPr>
          <p:cNvPr id="55" name="Рисунок 2" descr="прим_прог_нач_общ"/>
          <p:cNvPicPr/>
          <p:nvPr/>
        </p:nvPicPr>
        <p:blipFill>
          <a:blip r:embed="rId3"/>
          <a:stretch/>
        </p:blipFill>
        <p:spPr>
          <a:xfrm>
            <a:off x="0" y="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прим_прог_нач_общ"/>
          <p:cNvPicPr/>
          <p:nvPr/>
        </p:nvPicPr>
        <p:blipFill>
          <a:blip r:embed="rId4"/>
          <a:stretch/>
        </p:blipFill>
        <p:spPr>
          <a:xfrm>
            <a:off x="0" y="0"/>
            <a:ext cx="2160720" cy="1944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71680" y="319320"/>
            <a:ext cx="800100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  <a:ea typeface="Calibri"/>
              </a:rPr>
              <a:t>Виды деятельности и формы занятий с учащимися по воспитанию гражданственности, патриотизма, уважения к правам и обязанностям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Мы – будуще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Человек. Гражданин. Патри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Достойные сыны Оте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Символы нашей Ро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Конституция – основной закон Р. 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Моя Ро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Моя малая род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2f74"/>
                </a:solidFill>
                <a:latin typeface="Constantia"/>
              </a:rPr>
              <a:t>Формирование познавательного интереса в курсе краевед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9680" y="2000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знавательны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нтерес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и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пыт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зна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туативный интер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оретический интер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5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5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5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5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5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5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25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5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5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5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2f74"/>
                </a:solidFill>
                <a:latin typeface="Constantia"/>
              </a:rPr>
              <a:t>Роль интегрированного краеведческого  курса в формировании гражданственности и патриотиз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1320" y="2857680"/>
            <a:ext cx="746748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Разнообразие форм урока, связь с внеклассной рабо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рганизация разных видов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Развитие эмоциональной сферы 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2f74"/>
                </a:solidFill>
                <a:latin typeface="Constantia"/>
              </a:rPr>
              <a:t>Введение краеведения</a:t>
            </a:r>
            <a:r>
              <a:rPr b="0" lang="ru-RU" sz="3600" spc="-1" strike="noStrike">
                <a:solidFill>
                  <a:srgbClr val="852f74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852f74"/>
                </a:solidFill>
                <a:latin typeface="Constantia"/>
              </a:rPr>
              <a:t>в учебный процес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2643120" y="1714680"/>
            <a:ext cx="3357720" cy="571320"/>
          </a:xfrm>
          <a:prstGeom prst="rect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Е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857160" y="2786040"/>
            <a:ext cx="2286000" cy="500040"/>
          </a:xfrm>
          <a:prstGeom prst="rect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5429160" y="2786040"/>
            <a:ext cx="2500560" cy="571680"/>
          </a:xfrm>
          <a:prstGeom prst="rect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857160" y="3714840"/>
            <a:ext cx="2428920" cy="2214360"/>
          </a:xfrm>
          <a:prstGeom prst="rect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ние нравственных кач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ние «исторического чув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ние активной гражданской позиции, патриот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5500800" y="3714840"/>
            <a:ext cx="2500200" cy="2428920"/>
          </a:xfrm>
          <a:prstGeom prst="rect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13"/>
          <p:cNvCxnSpPr/>
          <p:nvPr/>
        </p:nvCxnSpPr>
        <p:spPr>
          <a:xfrm flipH="1">
            <a:off x="2142360" y="2286000"/>
            <a:ext cx="500760" cy="3578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69" name="Прямая со стрелкой 15"/>
          <p:cNvCxnSpPr/>
          <p:nvPr/>
        </p:nvCxnSpPr>
        <p:spPr>
          <a:xfrm>
            <a:off x="6000480" y="2286000"/>
            <a:ext cx="572040" cy="28656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70" name="Прямая со стрелкой 17"/>
          <p:cNvCxnSpPr>
            <a:stCxn id="64" idx="2"/>
          </p:cNvCxnSpPr>
          <p:nvPr/>
        </p:nvCxnSpPr>
        <p:spPr>
          <a:xfrm flipH="1">
            <a:off x="1998360" y="3285720"/>
            <a:ext cx="2160" cy="3596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71" name="Прямая со стрелкой 22"/>
          <p:cNvCxnSpPr/>
          <p:nvPr/>
        </p:nvCxnSpPr>
        <p:spPr>
          <a:xfrm>
            <a:off x="6714000" y="3357360"/>
            <a:ext cx="1080" cy="2862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sp>
        <p:nvSpPr>
          <p:cNvPr id="72" name="Rectangle 1"/>
          <p:cNvSpPr/>
          <p:nvPr/>
        </p:nvSpPr>
        <p:spPr>
          <a:xfrm>
            <a:off x="5643720" y="3796560"/>
            <a:ext cx="228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редства иллюстрации учеб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Конкретизация содержания учебных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Приобщение к видам национального искус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7:37:03Z</dcterms:created>
  <dc:creator>XTreme</dc:creator>
  <dc:description/>
  <dc:language>en-US</dc:language>
  <cp:lastModifiedBy>МАМА</cp:lastModifiedBy>
  <dcterms:modified xsi:type="dcterms:W3CDTF">2015-08-15T13:09:29Z</dcterms:modified>
  <cp:revision>190</cp:revision>
  <dc:subject/>
  <dc:title>Слайд 1</dc:title>
</cp:coreProperties>
</file>