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6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17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8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2FB5E2F2-0328-47D7-9B82-1B359AE6EF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EB002149-120B-4683-AB18-87EB394E5A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BD9-1906-45EB-A483-841F57EC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6F2-7040-4888-9A80-AA4D13F2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AE5-E3AA-4D19-B627-CE58CEF9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D3A-E1D6-4C4A-960C-8960FB1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5106-0D56-4599-9329-2D2F1002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B0A9-8812-4914-B638-ADCA700A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E6C3-B47A-4E48-A324-24A7823B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8014-842C-4EA1-872D-071A42AA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84CA-137E-4118-AA45-929EA1D7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0409-27A1-4713-899A-7BE97EFC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197B-671B-4A81-A008-A912D791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E0B-29EF-4C28-ACF8-229B3E27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8B2E-8B68-4C24-9B0A-D72DD999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D736-3E7C-439B-AAE6-CB5E0240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A8D6-5C02-4B70-AC92-37ADED93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93A3-8CF3-41B6-B895-D244F5AB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6BC8-57DC-4D46-882D-B2BF4376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16FA-CE9B-4823-98A5-A93F8D4D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3DF8-50DE-459F-89EB-B15E1250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67D8-E71D-4C8D-9BC7-963EB45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1A91-6B72-4AE6-A165-3FA7EC55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C829-BD02-459B-B364-C9FDE5E2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B50-1F72-4B61-9D3D-33A82550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C67C-BEDA-4E47-89A0-633CCBB2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3CC59-556D-42E7-A7A3-49F2589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1978-E04A-44A6-BE92-5DE5693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B330-2353-45E9-9C09-331D72C4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ABE0-EEEA-441E-87A7-9CA87CC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0F53-60F3-4399-ACA2-27D7C00D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DD12-F86D-40C5-95E7-F7EB488B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B5C67-5BAB-4A67-9C2E-F51FC911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42F8-8305-4EC7-986A-6DF918F7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7506-1B10-4E47-9348-98F7DE9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AAD-3D9F-404C-93A9-7EC80485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5F88-921D-41C9-9604-A1CD95C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9239-9956-4470-982D-01CB0E28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E99A-B0E1-4CCC-B058-577B443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EA21-5FFF-4156-A722-7252C4F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EB16-CF98-401B-A825-4010872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0DC2-0629-42B3-92F7-FB0995A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B11C-5FB7-4E62-99A2-F10115A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DF51B-BC91-4691-81BE-31E81186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E7EE-B547-42C9-9F1F-34A9B8C1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42D8-C07D-4CED-ADFE-F988D9DE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C3F-BC27-403A-9434-21702849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2EEB-7FC8-47C7-85EC-C9809AC7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30BB-39D3-4197-B33E-3AB6A3FE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0AEE-C250-4EC4-B0C8-E9A3133C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4733-2807-4686-BB1D-B251025B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96A3-7180-4676-A7C8-569CE8EF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07831-79BF-4D8D-BCAC-AA19359E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EAD60-1D2C-4729-B13B-E0F5AD8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04DE-D249-4A9D-9652-915D3A1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4F0AD-11DE-429C-95EA-BC0D5A83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50A3C-717C-4ED4-A71E-32CDF34E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774-FFED-4FA2-BC9D-D60EB4E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F0633-E4E1-4777-8597-698A228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632-7DBB-4DA5-8AA0-DD748E5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DFA-DEC5-40EA-8BC3-67810593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8EC-30FA-495F-8ACE-3D7F723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fld id="{AA212597-2DD4-4203-8E6C-A7B0733C44D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8425765-1361-4C5F-B664-6F7489DD2695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9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9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0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6CFF2A1-8A3F-455E-9761-28D68B9846A0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54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57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61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260EBDE-C3C0-4273-B935-50079FF2C1F7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20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208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212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47A0593-97E7-4553-91EB-7545305B0202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-841320" y="-287280"/>
            <a:ext cx="68184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Публичная презентация </a:t>
            </a:r>
            <a:br>
              <a:rPr sz="1700"/>
            </a:b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учителя начальных классов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720720" y="1325520"/>
            <a:ext cx="367200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"/>
              </a:rPr>
              <a:t>Хамидуллина Ольга Зуфа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"/>
          <p:cNvSpPr/>
          <p:nvPr/>
        </p:nvSpPr>
        <p:spPr>
          <a:xfrm>
            <a:off x="5688000" y="500040"/>
            <a:ext cx="3889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шкирский государственный педагогический институт, 1994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Педагогический стаж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6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Занимаемая должност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Категория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ш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Звания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Отличник Образования Республики Башкортостан 2012 год, Заслуженный учитель Республики Башкортостан 2014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Учебная нагрузка: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 ча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Руководитель кружков и факультатив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Юный математ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ельная граммати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2"/>
          <p:cNvSpPr/>
          <p:nvPr/>
        </p:nvSpPr>
        <p:spPr>
          <a:xfrm>
            <a:off x="1308240" y="6010200"/>
            <a:ext cx="251928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cc0099"/>
                </a:solidFill>
                <a:latin typeface="Arial"/>
              </a:rPr>
              <a:t>МАОУ лицей №42 город Уфа , РБ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792000" y="4643280"/>
            <a:ext cx="3600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е педагогическое кре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инимать детей такими, какие они есть, быть терпимей к ошибкам других,  требовательней к самой себ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8" descr="D:\ФОТО\олюшка\08.jpg"/>
          <p:cNvPicPr/>
          <p:nvPr/>
        </p:nvPicPr>
        <p:blipFill>
          <a:blip r:embed="rId2"/>
          <a:stretch/>
        </p:blipFill>
        <p:spPr>
          <a:xfrm>
            <a:off x="1944720" y="2336760"/>
            <a:ext cx="1452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182520" y="522360"/>
          <a:ext cx="9898200" cy="7110360"/>
        </p:xfrm>
        <a:graphic>
          <a:graphicData uri="http://schemas.openxmlformats.org/drawingml/2006/table">
            <a:tbl>
              <a:tblPr/>
              <a:tblGrid>
                <a:gridCol w="4849920"/>
                <a:gridCol w="5048280"/>
              </a:tblGrid>
              <a:tr h="210240">
                <a:tc>
                  <a:txBody>
                    <a:bodyPr lIns="13320" rIns="13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Место публикац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              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Публик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айт </a:t>
                      </a:r>
                      <a:r>
                        <a:rPr b="1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InfoUrok</a:t>
                      </a:r>
                      <a:r>
                        <a:rPr b="1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.</a:t>
                      </a:r>
                      <a:r>
                        <a:rPr b="1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ru</a:t>
                      </a:r>
                      <a:r>
                        <a:rPr b="1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«Использование регионального компонента на уроках литературного чтения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бразовательный портал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RODLEN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«Роль семьи в формировании здорового образа жизни младшего школьника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бразовательный портал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RODLEN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«Развитие логического мышления в процессе обучения младших школьников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урсы повышения квалификации учителей при БИРО, сборник ИРО «Инновации в управлении школ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бщение опыт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 «Проектная деятельность в рамках реализации ФГОС ГОО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нета Дет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«Сценарий праздника «Прощание  с начальной школой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ИРО Центр выявления и развития одаренных детей, международная НП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«Личностно-ориентированные технологии в организации процесса обучения одаренных детей в начальной школ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РО РБ сборник к году охраны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«Утилизация  и сроки разложения мусор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ttp://nsportal.ru/user/1435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Авторская программа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"Дошколенок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ttp://nsportal.ru/user/1435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«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Анализ учебно-воспитательной работы в начальных классах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ttp://nsportal.ru/user/1435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щепедагогические техн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Использование интерактивных игр на уроках и внеурочной деятельности в рамках реализации ФГОС НО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ttp://nsportal.ru/user/1435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Сценарий праздника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 для 4 класса "Прощание с начальной школой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ttp://nsportal.ru/user/1435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атериалы для родите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Домашние задания на лет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1"/>
          <p:cNvSpPr/>
          <p:nvPr/>
        </p:nvSpPr>
        <p:spPr>
          <a:xfrm>
            <a:off x="468360" y="35280"/>
            <a:ext cx="907236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Black"/>
                <a:ea typeface="Calibri"/>
              </a:rPr>
              <a:t>Наличие собственной методической системы Хамидуллиной О.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Black"/>
                <a:ea typeface="Calibri"/>
              </a:rPr>
              <a:t>Методические печатные изд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82520" y="650880"/>
          <a:ext cx="9572760" cy="6591240"/>
        </p:xfrm>
        <a:graphic>
          <a:graphicData uri="http://schemas.openxmlformats.org/drawingml/2006/table">
            <a:tbl>
              <a:tblPr/>
              <a:tblGrid>
                <a:gridCol w="4689360"/>
                <a:gridCol w="4883400"/>
              </a:tblGrid>
              <a:tr h="122724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4 специализированная городская научно-практическая конференция «Образование. Наука. Карьер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«Системно-деятельностный подход как один из способов личностно-ориентированных технологий в организации процесса обучения одаренных детей в начальной школ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Рус-конкурс.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публикаци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«В здоровом теле-здоровый ду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айт </a:t>
                      </a:r>
                      <a:r>
                        <a:rPr b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InfoUrok</a:t>
                      </a:r>
                      <a:r>
                        <a:rPr b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.</a:t>
                      </a:r>
                      <a:r>
                        <a:rPr b="1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ru</a:t>
                      </a:r>
                      <a:r>
                        <a:rPr b="1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 Black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ая разработк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Презентация по русскому языку во втором классе «Что такое текст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Научно-образовательный журнал Академиан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Academi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рекоменд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по организации проектной и исследовательской деятельности обучающихся в образовательных учрежде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бразовательный портал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RODLEN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ая разработк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«Системно -деятельностный подход как один из способов личностно-ориентированных технологий в организации процесса обучения одаренных детей в начальной школ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Образовательная программа «Интеллектуально-творческий потенциал России» форум «Перспективы образова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рекоменд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по организации проектной и исследовательской деятельности обучающихся в образовательных учрежде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борник материалов 16 Республиканской научно-практической конференции г.Стерлитамак  «Ломоносовские чт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тодические рекомендации 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спользование современных инновационных технологий во внеурочной деятельности в рамках ФГОС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1"/>
          <p:cNvSpPr/>
          <p:nvPr/>
        </p:nvSpPr>
        <p:spPr>
          <a:xfrm>
            <a:off x="468360" y="35280"/>
            <a:ext cx="907236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Black"/>
                <a:ea typeface="Calibri"/>
              </a:rPr>
              <a:t>Наличие собственной методической системы Хамидуллиной О.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Black"/>
                <a:ea typeface="Calibri"/>
              </a:rPr>
              <a:t>Методические печатные изд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3240" y="335160"/>
            <a:ext cx="10077480" cy="68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f14124"/>
                </a:solidFill>
                <a:latin typeface="Arial Black"/>
                <a:ea typeface="Calibri"/>
              </a:rPr>
              <a:t>Непрерывность профессионального развития  Хамидуллиной О.З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Своевременное повышение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Сведения об обучении информационно-коммуникативным технологиям: 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очная, Институт повышения квалификации и профессиональной переподготовки ГОУВПО «БГПУ им. М. Акмуллы» по программе «Информационно-коммуникационные технологии в начальной школе», с 18.05. – 30.05. 2010 года, 72 часа,  удостоверение  №8429;     </a:t>
            </a:r>
            <a:r>
              <a:rPr b="1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Сведения о повышении квалификации: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ГАОУ ДПО ИРО РБ, КПК по программе: «Реализация требований ФГОС начального общего образования в условиях развивающего обучения Л.В.Занкова», с 13.10.-29.10.2011года, 72 часа,  удостоверение  №2034;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          </a:t>
            </a:r>
            <a:r>
              <a:rPr b="1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Сведения об обучении информационно-коммуникативным технологиям: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очная,  МБОУДО «Научно-информационно-методический центр», 03.04.-24.04.2013 г., 72 часа,  удостоверение  № 783;              </a:t>
            </a:r>
            <a:r>
              <a:rPr b="1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Сведения о повышении квалификации: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ГАОУ ДПО ИРО РБ, КПК по программе: «Управление ОУ в условиях введения ФГОС основного общего образования», с 25.12.-11.03.2013 г., 96 часов, удостоверение №17740;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Сведения о повышении квалификации: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ГАОУ ДПО ИРО РБ, КПК по теме: «Реализация требования  ФГОС в системе начального образования», с 14.04.-23.04.2014 г., удостоверение № 23230;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Приняла активное участие в республиканском семинаре по теме «Система учебников «Начальная школа 21 века как учебно-методический ресурс для достижения требований ФГОС НОО», проведённого издательством «Ветана-Граф» 31.01.2013 год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    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Приняла активное участие во всероссийском семинаре по теме «Обучение по системе 2100 в рамках ФГОС НОО», проведенного ШКОЛОЙ Образовательная система нового поколения.25.02.2013 год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   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Приняла активное участие во всероссийском семинаре по теме «Основы духовно-нравственной культуры народов России. Основы мировых религиозных культур и светской этики», проведенного ШКОЛОЙ Образовательная система нового поколения.08.02.104 год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Приняла активное участие во всероссийском вебинаре  «Внеурочная деятельность в контексте ФГОС», проведённого издательством «Просвещение».21.01.2014 год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      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Приняла активное участие в обучении по программе дополнительного профессионального образования «Выявление и развитие способностей обучающихся в начальных классах с помощью интеллектуальных соревнований», проведенном Омским государственным университетом, 16.01.2014 год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      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Приняла активное участие в работе информационно-методического модульного семинара «Инновационный учебно-методический комплект «Планета знаний» как средство обеспечения качества образования младших школьников в соответствии с требованиями ФГОС НОО»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Наличие наград, званий, ученой степени, ученого звания:</a:t>
            </a: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 нагрудный знак «Отличник  образования Республики Башкортостан» (2012г.) «Ветеран труда» (2014г.)почетное звание «Заслуженный учитель Республики Башкортостан» (2014г.)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ru-RU" sz="1300" spc="-1" strike="noStrike">
                <a:solidFill>
                  <a:srgbClr val="7030a0"/>
                </a:solidFill>
                <a:latin typeface="Arial Black"/>
                <a:ea typeface="Calibri"/>
              </a:rPr>
              <a:t>Ольга Зуфаровна принимала участие в конкурсе «Учитель года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7:23:51Z</dcterms:created>
  <dc:creator>User</dc:creator>
  <dc:description/>
  <dc:language>en-US</dc:language>
  <cp:lastModifiedBy>Хамидуллина</cp:lastModifiedBy>
  <dcterms:modified xsi:type="dcterms:W3CDTF">2015-05-20T07:46:10Z</dcterms:modified>
  <cp:revision>61</cp:revision>
  <dc:subject/>
  <dc:title>Слайд 1</dc:title>
</cp:coreProperties>
</file>