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07720" y="812520"/>
            <a:ext cx="533556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dt" idx="28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29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30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5DF54C5F-6E19-4AC1-9CA1-93A2949503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2A2CAE4C-5FBB-4AC4-8A6E-1840A8ABC4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1256-0FFE-4560-B002-ED97762B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03FE-6A08-4F1F-821B-98EB5E85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CF208-62F6-425B-8528-BC03EC51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15998-F63E-49E1-93D6-D227B5A2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91922-65E2-4DC3-9850-4E35086A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DAFBD-EF69-41BE-B7C8-B261D3D5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BB996-6E9A-4FDA-B8A3-3DD5EC04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2DC8E-B7CB-4F00-9BE5-CC398333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5EB5F-83C3-4A85-BA7F-79D43CF4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1FEFF-1D67-4141-845A-97003FC0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BEDCD-4D9A-44BB-A282-D8683611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424-D008-4DF3-9DA4-5725F75F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C2EC-1ECF-48C8-9322-A9297DB5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5D6E-CBF1-4C81-B813-E5085A24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6D11-60A0-45E1-8F4C-DD835ACF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FD8D-DDF1-49F6-894E-7623E2B8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9DF4-2478-42CA-B64F-35E8E741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A66C-C52D-4556-BA96-16C2BFDF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F796-4194-4AA3-95F3-D94F91C5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54DF-5E93-43C9-9248-218B3ECE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0210-DB43-44BF-8357-CCF119DD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321D-B280-4B32-867A-17A9BFA9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F08D-DDB8-4F85-A034-51B8575D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48F3-AC35-4682-87D4-587ED503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E802-7684-4C50-9D81-2B9012FE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F8B2-01C5-4182-9C24-D527AEC2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AF5D7-0157-424F-A11D-FD55AFE7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32EA3-E11B-4B80-82EB-CD6625F8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64AC5-0AC9-46DF-8500-C619C0E7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7D423-C0ED-4C0A-B7C1-5992EA27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D0F1A-F1EB-45AB-868D-49792FC2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B94-5571-4D46-9B43-36EDF1C8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3887F-512C-4732-9C0C-2E446713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CADE4-F9E1-4B33-B196-967B4082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3486C-83A5-4E29-8F2E-11966D87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51493-4262-4A9D-AD03-92E8E066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D65E4-B8E4-41E7-BE82-A0574581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96371-7F24-4B80-B093-B0DB8F34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2F54F-DFC9-4B58-8142-5C5B328E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88EFA-F657-48B1-B6AA-ADDC4719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4A390-140B-4749-920A-D5C31D31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81EFF-A836-454D-9D57-6570CD1C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C3A-5A64-4C40-A914-A3DF13A1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E64A8-8ABE-439A-B586-4B9FC552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B97C5-BC20-4637-BA48-970C16A6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8D91B-A9AA-4271-B1A5-73238429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22A4D-7169-454F-B395-D97D6865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8A06B-4D15-4595-9502-D80C28A8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69D01-45A1-4D88-99D0-F5D5FAA3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94D56-1CB0-47C0-9143-9F09423A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BD7DB-9183-411A-8FFA-5DFA914B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0A2F0-D63A-49AB-B51D-99D0EC57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215F5-570D-4E59-B875-527F6C26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C22-4227-4F4C-AE92-5807E2BC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08C9A-B6BB-4291-B402-444ACE4E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CD95D-B9F0-48BC-A135-4C9366CB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C0BB9-19F6-40DA-924B-B5D684E6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246D4-EA75-410F-A46D-CD7AAB69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F08D0-C300-455C-A3A0-4152DE5A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026E9-BF2B-4C1E-8F68-F7AA5E78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85863-30C3-4BFE-87CA-3F934F3A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8E393-D957-40F1-89AF-ED635CE0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787EE-BE3C-4D52-8C9F-EA9DC6D3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54A8D-6B85-4525-B72D-D03CF8A5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B13-499C-44E6-8D81-013CA9F0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16A1B-D7BC-45C4-8BA0-8BB3F94A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329C3-3C0E-41B4-A2D7-608ED077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1A9F8-0534-4483-8DD9-1B9F629D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8F2F2-74FF-451F-BFD1-D97017E6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615BC-BD79-402F-B742-4B260114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1DF1C-935F-4974-AAF1-ED11AFFE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8C1D9-BACE-479B-90DF-1EFAB19E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30A2A-FEC4-47CC-8849-98EC0FF2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49DED-F8E3-4C30-B612-68E86E15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634E4-75A6-4F3F-B473-E24B969C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CAD-6369-4A6B-9901-94F83811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37D76-7B9A-46DB-9AF9-E2E94111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D451B-5A3D-41EA-9781-9467C0AC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C118F-7519-4B9E-A7A2-E68BEBEC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14C56-5FBD-4852-858B-BA8B7A47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5A247-8F96-40AE-A310-A28A6833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584B0-96AF-40B9-9A23-39E184AB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94E27-209A-4F60-BA51-B88F2DC6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25002-B587-49DB-9B2A-45080BD3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B8322-4556-4A90-B890-0365F5E8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ED9AC-D3A2-4EEC-B427-511FB4F2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64B7-8F42-4ED0-8DEE-ED81221D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A4AF1-12C3-47AD-86C2-4AEF7DF3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49AC7-D8C6-4DCA-AA00-BD96CF3C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C988B-57FA-4131-983C-1CE01F17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D7DE9-F3CE-4482-B325-537488E1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1A2B3-7ED0-4C64-B664-28866C44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4E4FF-FC49-4F81-9F26-F25DA0EB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9E98E-DB7D-422E-B950-781874EB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7BF08-DE1A-4234-BAAF-AB9CE18F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FCD3C-FA4A-4D58-AC53-E12E3091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FECA9-4ECE-414E-9042-04CD88CF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A339-35AA-4A11-92C6-63CF64E1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BDE7F-FBCB-4A34-AE2F-25D3A15C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CF5B8-38C5-4E39-B54E-0527493B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77D2F-F750-415A-965C-62D3A17C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57361-8A86-41C5-9B5A-8CEB67C7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0D044-24B9-4232-9087-7736C65F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15665-5F48-4525-A2E9-E0694303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35C85-4D7F-4D2C-BC8C-AE2072C6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06F47-4215-4956-8A10-7ECF685B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DF00D-F1FB-48C7-894C-1F329DFE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E1283-F25E-44CF-8FE6-34833A9F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fld id="{50F2584C-4BDA-4ED0-9D60-DA861273A8C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6"/>
          <p:cNvGrpSpPr/>
          <p:nvPr/>
        </p:nvGrpSpPr>
        <p:grpSpPr>
          <a:xfrm>
            <a:off x="0" y="5626080"/>
            <a:ext cx="10082160" cy="1933560"/>
            <a:chOff x="0" y="5626080"/>
            <a:chExt cx="10082160" cy="1933560"/>
          </a:xfrm>
        </p:grpSpPr>
        <p:pic>
          <p:nvPicPr>
            <p:cNvPr id="4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626080"/>
              <a:ext cx="100821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5627520"/>
              <a:ext cx="1008072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Rectangle 7"/>
          <p:cNvGrpSpPr/>
          <p:nvPr/>
        </p:nvGrpSpPr>
        <p:grpSpPr>
          <a:xfrm>
            <a:off x="0" y="0"/>
            <a:ext cx="10082160" cy="5626080"/>
            <a:chOff x="0" y="0"/>
            <a:chExt cx="10082160" cy="5626080"/>
          </a:xfrm>
        </p:grpSpPr>
        <p:pic>
          <p:nvPicPr>
            <p:cNvPr id="4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56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10080720" cy="56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0" y="415440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49" name="Oval 9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0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0360" indent="-20016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0360" indent="-20016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04720" y="6804000"/>
            <a:ext cx="369576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ru-RU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14E376D-8E94-449B-BD13-B168AD6E2B85}" type="slidenum">
              <a:rPr b="1" lang="ru-RU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6"/>
          <p:cNvGrpSpPr/>
          <p:nvPr/>
        </p:nvGrpSpPr>
        <p:grpSpPr>
          <a:xfrm>
            <a:off x="0" y="5626080"/>
            <a:ext cx="10082160" cy="1933560"/>
            <a:chOff x="0" y="5626080"/>
            <a:chExt cx="10082160" cy="1933560"/>
          </a:xfrm>
        </p:grpSpPr>
        <p:pic>
          <p:nvPicPr>
            <p:cNvPr id="9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626080"/>
              <a:ext cx="100821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5627520"/>
              <a:ext cx="1008072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Rectangle 7"/>
          <p:cNvGrpSpPr/>
          <p:nvPr/>
        </p:nvGrpSpPr>
        <p:grpSpPr>
          <a:xfrm>
            <a:off x="0" y="0"/>
            <a:ext cx="10082160" cy="5626080"/>
            <a:chOff x="0" y="0"/>
            <a:chExt cx="10082160" cy="5626080"/>
          </a:xfrm>
        </p:grpSpPr>
        <p:pic>
          <p:nvPicPr>
            <p:cNvPr id="9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56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10080720" cy="56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8"/>
          <p:cNvSpPr/>
          <p:nvPr/>
        </p:nvSpPr>
        <p:spPr>
          <a:xfrm>
            <a:off x="0" y="415440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100" name="Oval 9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ru-RU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FA0905A-B3FC-451E-9473-05D84C1DA96E}" type="slidenum">
              <a:rPr b="1" lang="ru-RU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10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14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Rectangle 11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14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Rectangle 12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Oval 13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15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0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0360" indent="-20016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0360" indent="-20016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504720" y="6804000"/>
            <a:ext cx="369576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ru-RU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77219D98-D077-46AA-A2E6-DC58D7AC015F}" type="slidenum">
              <a:rPr b="1" lang="ru-RU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6"/>
          <p:cNvGrpSpPr/>
          <p:nvPr/>
        </p:nvGrpSpPr>
        <p:grpSpPr>
          <a:xfrm>
            <a:off x="0" y="5626080"/>
            <a:ext cx="10082160" cy="1933560"/>
            <a:chOff x="0" y="5626080"/>
            <a:chExt cx="10082160" cy="1933560"/>
          </a:xfrm>
        </p:grpSpPr>
        <p:pic>
          <p:nvPicPr>
            <p:cNvPr id="19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626080"/>
              <a:ext cx="100821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5627520"/>
              <a:ext cx="1008072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Rectangle 7"/>
          <p:cNvGrpSpPr/>
          <p:nvPr/>
        </p:nvGrpSpPr>
        <p:grpSpPr>
          <a:xfrm>
            <a:off x="0" y="0"/>
            <a:ext cx="10082160" cy="5626080"/>
            <a:chOff x="0" y="0"/>
            <a:chExt cx="10082160" cy="5626080"/>
          </a:xfrm>
        </p:grpSpPr>
        <p:pic>
          <p:nvPicPr>
            <p:cNvPr id="19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56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0" y="0"/>
              <a:ext cx="10080720" cy="56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Rectangle 8"/>
          <p:cNvSpPr/>
          <p:nvPr/>
        </p:nvSpPr>
        <p:spPr>
          <a:xfrm>
            <a:off x="0" y="415440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202" name="Oval 9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Rectangle 6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205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Rectangle 7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208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Rectangle 8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212" name="Oval 9" descr=""/>
            <p:cNvPicPr/>
            <p:nvPr/>
          </p:nvPicPr>
          <p:blipFill>
            <a:blip r:embed="rId8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0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0360" indent="-20016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0360" indent="-20016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504720" y="6804000"/>
            <a:ext cx="369576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ru-RU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FE25212-CCAA-449A-A5AC-C33096EF0606}" type="slidenum">
              <a:rPr b="1" lang="ru-RU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Rectangle 7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25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Rectangle 8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259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Rectangle 9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Oval 10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263" name="Oval 10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0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0360" indent="-20016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0360" indent="-20016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504720" y="6804000"/>
            <a:ext cx="369576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ru-RU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F80C00EE-D582-4559-AB97-A4117D1B552E}" type="slidenum">
              <a:rPr b="1" lang="ru-RU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Rectangle 10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307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Rectangle 11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310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12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Oval 13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314" name="Oval 13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ru-RU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F10FFAF-946A-417D-B178-D0747F9C76E3}" type="slidenum">
              <a:rPr b="1" lang="ru-RU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Rectangle 6"/>
          <p:cNvGrpSpPr/>
          <p:nvPr/>
        </p:nvGrpSpPr>
        <p:grpSpPr>
          <a:xfrm>
            <a:off x="0" y="5626080"/>
            <a:ext cx="10082160" cy="1933560"/>
            <a:chOff x="0" y="5626080"/>
            <a:chExt cx="10082160" cy="1933560"/>
          </a:xfrm>
        </p:grpSpPr>
        <p:pic>
          <p:nvPicPr>
            <p:cNvPr id="35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626080"/>
              <a:ext cx="100821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5627520"/>
              <a:ext cx="1008072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Rectangle 7"/>
          <p:cNvGrpSpPr/>
          <p:nvPr/>
        </p:nvGrpSpPr>
        <p:grpSpPr>
          <a:xfrm>
            <a:off x="0" y="0"/>
            <a:ext cx="10082160" cy="5626080"/>
            <a:chOff x="0" y="0"/>
            <a:chExt cx="10082160" cy="5626080"/>
          </a:xfrm>
        </p:grpSpPr>
        <p:pic>
          <p:nvPicPr>
            <p:cNvPr id="361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56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0" y="0"/>
              <a:ext cx="10080720" cy="56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Rectangle 8"/>
          <p:cNvSpPr/>
          <p:nvPr/>
        </p:nvSpPr>
        <p:spPr>
          <a:xfrm>
            <a:off x="0" y="415440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365" name="Oval 9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6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368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Rectangle 7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371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Rectangle 8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375" name="Oval 9" descr=""/>
            <p:cNvPicPr/>
            <p:nvPr/>
          </p:nvPicPr>
          <p:blipFill>
            <a:blip r:embed="rId8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ru-RU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2E7BA83-3D96-46B5-A1CC-F4E48C4C5BDA}" type="slidenum">
              <a:rPr b="1" lang="ru-RU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Rectangle 7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41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1" name="Rectangle 8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422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Rectangle 9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Oval 10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426" name="Oval 10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ru-RU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D67C09E8-5B8A-45D2-9532-1A5CD9323D48}" type="slidenum">
              <a:rPr b="1" lang="ru-RU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-841320" y="-287280"/>
            <a:ext cx="6818400" cy="25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1700" spc="-1" strike="noStrike">
                <a:solidFill>
                  <a:srgbClr val="cc0099"/>
                </a:solidFill>
                <a:latin typeface="Arial"/>
              </a:rPr>
              <a:t>Публичная презентация </a:t>
            </a:r>
            <a:br>
              <a:rPr sz="1700"/>
            </a:br>
            <a:r>
              <a:rPr b="1" lang="ru-RU" sz="1700" spc="-1" strike="noStrike">
                <a:solidFill>
                  <a:srgbClr val="cc0099"/>
                </a:solidFill>
                <a:latin typeface="Arial"/>
              </a:rPr>
              <a:t>учителя начальных классов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720720" y="1325520"/>
            <a:ext cx="3672000" cy="33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Arial"/>
              </a:rPr>
              <a:t>Хамидуллина Ольга Зуфа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Прямоугольник 1"/>
          <p:cNvSpPr/>
          <p:nvPr/>
        </p:nvSpPr>
        <p:spPr>
          <a:xfrm>
            <a:off x="5688000" y="500040"/>
            <a:ext cx="388944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Образ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шкирский государственный педагогический институт, 1994 го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Педагогический стаж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6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Занимаемая должность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Категория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ш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Звания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Отличник Образования Республики Башкортостан 2012 год, Заслуженный учитель Республики Башкортостан 2014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Учебная нагрузка: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5 ча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Руководитель кружков и факультатив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Юный математи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ельная граммати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Прямоугольник 2"/>
          <p:cNvSpPr/>
          <p:nvPr/>
        </p:nvSpPr>
        <p:spPr>
          <a:xfrm>
            <a:off x="1308240" y="6010200"/>
            <a:ext cx="251928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7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cc0099"/>
                </a:solidFill>
                <a:latin typeface="Arial"/>
              </a:rPr>
              <a:t>МАОУ лицей №42 город Уфа , РБ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Прямоугольник 3"/>
          <p:cNvSpPr/>
          <p:nvPr/>
        </p:nvSpPr>
        <p:spPr>
          <a:xfrm>
            <a:off x="792000" y="4643280"/>
            <a:ext cx="36007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е педагогическое кред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инимать детей такими, какие они есть, быть терпимей к ошибкам других,  требовательней к самой себ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4" name="Picture 8" descr="D:\ФОТО\олюшка\08.jpg"/>
          <p:cNvPicPr/>
          <p:nvPr/>
        </p:nvPicPr>
        <p:blipFill>
          <a:blip r:embed="rId2"/>
          <a:stretch/>
        </p:blipFill>
        <p:spPr>
          <a:xfrm>
            <a:off x="1944720" y="2336760"/>
            <a:ext cx="1452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Диаграмма 1" descr=""/>
          <p:cNvPicPr/>
          <p:nvPr/>
        </p:nvPicPr>
        <p:blipFill>
          <a:blip r:embed="rId1"/>
          <a:stretch/>
        </p:blipFill>
        <p:spPr>
          <a:xfrm>
            <a:off x="325440" y="1258920"/>
            <a:ext cx="4618080" cy="3092400"/>
          </a:xfrm>
          <a:prstGeom prst="rect">
            <a:avLst/>
          </a:prstGeom>
          <a:ln w="0">
            <a:noFill/>
          </a:ln>
        </p:spPr>
      </p:pic>
      <p:sp>
        <p:nvSpPr>
          <p:cNvPr id="486" name="Прямоугольник 2"/>
          <p:cNvSpPr/>
          <p:nvPr/>
        </p:nvSpPr>
        <p:spPr>
          <a:xfrm>
            <a:off x="216000" y="39600"/>
            <a:ext cx="918360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7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Высокие результаты учебных достижений обучающих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Хамидуллиной Ольги Зуфаров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Диаграмма 3" descr=""/>
          <p:cNvPicPr/>
          <p:nvPr/>
        </p:nvPicPr>
        <p:blipFill>
          <a:blip r:embed="rId2"/>
          <a:stretch/>
        </p:blipFill>
        <p:spPr>
          <a:xfrm>
            <a:off x="5468760" y="1065240"/>
            <a:ext cx="4302360" cy="3232080"/>
          </a:xfrm>
          <a:prstGeom prst="rect">
            <a:avLst/>
          </a:prstGeom>
          <a:ln w="0">
            <a:noFill/>
          </a:ln>
        </p:spPr>
      </p:pic>
      <p:pic>
        <p:nvPicPr>
          <p:cNvPr id="488" name="Диаграмма 4" descr=""/>
          <p:cNvPicPr/>
          <p:nvPr/>
        </p:nvPicPr>
        <p:blipFill>
          <a:blip r:embed="rId3"/>
          <a:stretch/>
        </p:blipFill>
        <p:spPr>
          <a:xfrm>
            <a:off x="431640" y="4376880"/>
            <a:ext cx="4357800" cy="2855880"/>
          </a:xfrm>
          <a:prstGeom prst="rect">
            <a:avLst/>
          </a:prstGeom>
          <a:ln w="0">
            <a:noFill/>
          </a:ln>
        </p:spPr>
      </p:pic>
      <p:pic>
        <p:nvPicPr>
          <p:cNvPr id="489" name="Диаграмма 5" descr=""/>
          <p:cNvPicPr/>
          <p:nvPr/>
        </p:nvPicPr>
        <p:blipFill>
          <a:blip r:embed="rId4"/>
          <a:stretch/>
        </p:blipFill>
        <p:spPr>
          <a:xfrm>
            <a:off x="5349960" y="4449600"/>
            <a:ext cx="4286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825480" y="922320"/>
          <a:ext cx="8715240" cy="2724120"/>
        </p:xfrm>
        <a:graphic>
          <a:graphicData uri="http://schemas.openxmlformats.org/drawingml/2006/table">
            <a:tbl>
              <a:tblPr/>
              <a:tblGrid>
                <a:gridCol w="1722600"/>
                <a:gridCol w="419040"/>
                <a:gridCol w="1392120"/>
                <a:gridCol w="293760"/>
                <a:gridCol w="1390680"/>
                <a:gridCol w="612720"/>
                <a:gridCol w="1200240"/>
                <a:gridCol w="449280"/>
                <a:gridCol w="1234800"/>
              </a:tblGrid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-ны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-ны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российс-кий уровен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-ны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1-201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-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-20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-201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896760" y="4780080"/>
          <a:ext cx="8715600" cy="2571480"/>
        </p:xfrm>
        <a:graphic>
          <a:graphicData uri="http://schemas.openxmlformats.org/drawingml/2006/table">
            <a:tbl>
              <a:tblPr/>
              <a:tblGrid>
                <a:gridCol w="2001960"/>
                <a:gridCol w="293760"/>
                <a:gridCol w="1352520"/>
                <a:gridCol w="295200"/>
                <a:gridCol w="1354320"/>
                <a:gridCol w="610920"/>
                <a:gridCol w="1038240"/>
                <a:gridCol w="640080"/>
                <a:gridCol w="1128600"/>
              </a:tblGrid>
              <a:tr h="1101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-ный уров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-ный уров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российс-кий уровен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-ный уров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5320"/>
                          <a:tab algn="l" pos="1343160"/>
                          <a:tab algn="l" pos="1790640"/>
                          <a:tab algn="l" pos="2238480"/>
                          <a:tab algn="l" pos="2685960"/>
                          <a:tab algn="l" pos="3133800"/>
                          <a:tab algn="l" pos="3581280"/>
                          <a:tab algn="l" pos="4029120"/>
                          <a:tab algn="l" pos="4476600"/>
                          <a:tab algn="l" pos="4924440"/>
                          <a:tab algn="l" pos="5372280"/>
                          <a:tab algn="l" pos="5819760"/>
                          <a:tab algn="l" pos="6267600"/>
                          <a:tab algn="l" pos="6715080"/>
                          <a:tab algn="l" pos="7162920"/>
                          <a:tab algn="l" pos="7610400"/>
                          <a:tab algn="l" pos="8058240"/>
                          <a:tab algn="l" pos="8505720"/>
                          <a:tab algn="l" pos="89535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1-201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-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-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-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2" name="Rectangle 1"/>
          <p:cNvSpPr/>
          <p:nvPr/>
        </p:nvSpPr>
        <p:spPr>
          <a:xfrm>
            <a:off x="539640" y="5400"/>
            <a:ext cx="864396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  <a:ea typeface="Calibri"/>
              </a:rPr>
              <a:t>Увеличение количества обучающихся Хамидуллиной О.З., принимающих участие в олимпиада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1"/>
          <p:cNvSpPr/>
          <p:nvPr/>
        </p:nvSpPr>
        <p:spPr>
          <a:xfrm>
            <a:off x="468360" y="3855240"/>
            <a:ext cx="90723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Увеличение количества и повышение качества творческих работ обучающихся </a:t>
            </a:r>
            <a:r>
              <a:rPr b="1" lang="en-GB" sz="1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(проектов, исследований и др.)</a:t>
            </a:r>
            <a:r>
              <a:rPr b="1" lang="en-GB" sz="1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Хамидуллиной О.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539640" y="422280"/>
          <a:ext cx="9072720" cy="7005600"/>
        </p:xfrm>
        <a:graphic>
          <a:graphicData uri="http://schemas.openxmlformats.org/drawingml/2006/table">
            <a:tbl>
              <a:tblPr/>
              <a:tblGrid>
                <a:gridCol w="781200"/>
                <a:gridCol w="2276280"/>
                <a:gridCol w="1890720"/>
                <a:gridCol w="2743200"/>
                <a:gridCol w="1381320"/>
              </a:tblGrid>
              <a:tr h="433440"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Предм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Ф.И. обучающего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Название конкурса, олимпиа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ест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Экология, хим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АсадуллинОск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Республиканский НПК«Ломоносовские чтен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ежпредметный конкур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Асадуллин Оска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Всероссийский конкурс «Квадра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ежпредметный конкур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Богданов Ив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Всероссийский конкурс «Квадрат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ХамадьяноваКами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Всероссийский интеллектуальный турнир «Мозаик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Окружающий ми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Булаева Пол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сероссийский детский конкурс научно-исследовательских и творческих работ «Шаги в науку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Информатика и информационные техноло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ХамадьяноваКами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еждународный конкурс «Бобер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Сличенко Анастас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еждународный математический конкурс-игр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« Кенгуру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Селиванов Владими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еждународный конкурс «Заморочки русского язык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ежпредметный конкур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Хамадьянова Ками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еждународный межпредметный конкурс «Итоговый квадра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ИЗ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Селиванов Владими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еждународный НПК «Акмуллинские чтен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Сличенко Анастас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еждународный математический конкурс-игра « Кенгуру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Rectangle 1"/>
          <p:cNvSpPr/>
          <p:nvPr/>
        </p:nvSpPr>
        <p:spPr>
          <a:xfrm>
            <a:off x="611280" y="18360"/>
            <a:ext cx="892944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  <a:ea typeface="Calibri"/>
              </a:rPr>
              <a:t>Результаты внеурочной деятельности обучающихся (победител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6" name=""/>
          <p:cNvGraphicFramePr/>
          <p:nvPr/>
        </p:nvGraphicFramePr>
        <p:xfrm>
          <a:off x="254160" y="993600"/>
          <a:ext cx="9540720" cy="6215400"/>
        </p:xfrm>
        <a:graphic>
          <a:graphicData uri="http://schemas.openxmlformats.org/drawingml/2006/table">
            <a:tbl>
              <a:tblPr/>
              <a:tblGrid>
                <a:gridCol w="822240"/>
                <a:gridCol w="1820880"/>
                <a:gridCol w="2214360"/>
                <a:gridCol w="3714840"/>
                <a:gridCol w="968400"/>
              </a:tblGrid>
              <a:tr h="533520"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Год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Предм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Ф.И. обучающегос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Название  олимпиад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ест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атемати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Степанова Таис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Городская олимпиа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Окружающий ми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ХамадьяноваКамил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Городская олимпиа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атемати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Асадуллин Оска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Республиканская олимпиа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Творчеств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Асадуллин Оскар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Всероссийская тест-рейтинговая творческая олимпиа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атемати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Дулясова Дарь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Всероссийская олимпиа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атемати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Одинцова Надеж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Всероссийская олимпиа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атемати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Нафикова Диляр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еждународная олимпиада «Глобус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Окружающий ми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Нафикова Диляр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еждународная олимпиада «Глобус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Русский язы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Чибиряев Михаи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еждународная олимпиада «Глобус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Русский язы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Валиева Регин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еждународная олимпиада «Глобус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Русский язы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Резнова Ксе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еждународная олимпиада «Глобус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атемати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Селиванов Владими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еждународная олимпиада «Глобус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атемати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Богданов Иван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еждународная олимпиада «Глобус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атемати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Сличенко Анастас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еждународная олимпиада «Глобус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Эвристическая олимпиад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Селиванов Владими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Международная олимпиада «Совенок-2015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Rectangle 1"/>
          <p:cNvSpPr/>
          <p:nvPr/>
        </p:nvSpPr>
        <p:spPr>
          <a:xfrm>
            <a:off x="468360" y="20880"/>
            <a:ext cx="90010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  <a:ea typeface="Calibri"/>
              </a:rPr>
              <a:t>Высокие достижения (первые и призовые места) обучающихся, посещающих внеурочные мероприятия Хамидуллиной О.З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  <a:ea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  <a:ea typeface="Calibri"/>
              </a:rPr>
              <a:t>в олимпиадах разного уров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7:23:51Z</dcterms:created>
  <dc:creator>User</dc:creator>
  <dc:description/>
  <dc:language>en-US</dc:language>
  <cp:lastModifiedBy>Хамидуллина</cp:lastModifiedBy>
  <dcterms:modified xsi:type="dcterms:W3CDTF">2015-05-20T07:43:42Z</dcterms:modified>
  <cp:revision>61</cp:revision>
  <dc:subject/>
  <dc:title>Слайд 1</dc:title>
</cp:coreProperties>
</file>