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950-597E-4F93-866C-9D08EC8E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88E-7FD6-4955-9823-6369989E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C97-7A9E-42C8-87E7-004F8160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867-37CA-44D5-89F4-D1DB12B7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295C-B754-45FE-AF98-20831C80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3DBA-83C5-4271-9D26-ACC1329E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F55F-66C6-41B0-A8B0-B28F50D8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0E29-1A1F-4788-BC5A-752DA031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7C18-3C48-46F8-9C05-B0B0D26E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7D0E-740E-45FA-97D7-B1A50879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5FE5-A357-4CD1-8790-C38F9424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463-E62B-47AE-AB31-46BF7C66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C178-703A-4BEB-BBCF-075CB41C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06DB-EC14-46F4-80DD-53CD5A6E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29AF-6C5D-4F5A-9CBB-E1AC9950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2807-5780-4F7D-925D-A79E3FD4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0446-6C09-42B3-8141-3513C280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6CC-BA99-4DDC-8DE8-B03C3EF2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C68-EF1A-408A-B38D-79A7BBC3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049-4207-4104-8A0C-66BF500D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0D2-BD2A-4D07-AEC4-6286E8D7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87B-9C82-48A3-8374-573406C4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850-6D79-42E6-ABFE-0740C46B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8DB-0675-464D-990D-15CC90B2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4C87-F207-4159-911C-C78E2606E6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8C8C-11DA-4166-82A4-89791CE8AA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ort2all.dp.ua/uploads/posts/2010-02/1265924951_14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ort2all.dp.ua/uploads/posts/2010-02/1265924977_17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ort2all.dp.ua/uploads/posts/2010-02/1265924895_18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anqueteur.ru/articles/view/64/" TargetMode="External"/><Relationship Id="rId2" Type="http://schemas.openxmlformats.org/officeDocument/2006/relationships/hyperlink" Target="http://foto.mail.ru/community/k__ch/18/33.html" TargetMode="External"/><Relationship Id="rId3" Type="http://schemas.openxmlformats.org/officeDocument/2006/relationships/hyperlink" Target="http://prikol.i.ua/view/707362/" TargetMode="External"/><Relationship Id="rId4" Type="http://schemas.openxmlformats.org/officeDocument/2006/relationships/hyperlink" Target="http://top10best.ucoz.ru/news/2009-02-08-8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rt2all.dp.ua/uploads/posts/2010-02/1265924942_1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rt2all.dp.ua/uploads/posts/2010-02/1265924902_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lady.mail.ru/article/448143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Arial"/>
              </a:rPr>
              <a:t>Какой еде ставят памятники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3429000"/>
            <a:ext cx="554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Нестеренко Ан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Arial"/>
              </a:rPr>
              <a:t>учитель  МБОУ «СОШ № 3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ff"/>
                </a:solidFill>
                <a:latin typeface="Arial"/>
              </a:rPr>
              <a:t>г. Энгельс, Сарат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33ff"/>
                </a:solidFill>
                <a:latin typeface="Arial"/>
              </a:rPr>
              <a:t>Огурцу </a:t>
            </a:r>
            <a:br>
              <a:rPr sz="38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.Б.Горбунов. Россия, г. Луховицы (Московская область). 2007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Луховицы по праву можно назвать огуречной столицей России. Именно здесь масштабно выращивают этот зеленый пупырчатый овощ. И надпись на памятнике «Огурцу-кормильцу от благодарных луховичан» лишний раз напоминает, благодаря какому овощу городок живет и процветает. Здесь же находится Музей огурца и регулярно проводятся Огуречные фестивали. Кроме огурца и бочки в нежинскую скульптурную композицию добавлен еще один важный атрибут — погребок для хранения со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62400" y="1600200"/>
            <a:ext cx="300852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ff"/>
                </a:solidFill>
                <a:latin typeface="Arial"/>
              </a:rPr>
              <a:t>Помидор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мидорной столице Украины (Запорожская область)- благодарные жители поставили памятник Помидору-кормильцу. Монумент, увековечивший главный местный стратегический продукт, разместили возле проходной промбазы Каменко-Днепровского гослесхоза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alt"/>
          <p:cNvPicPr/>
          <p:nvPr/>
        </p:nvPicPr>
        <p:blipFill>
          <a:blip r:embed="rId1"/>
          <a:stretch/>
        </p:blipFill>
        <p:spPr>
          <a:xfrm>
            <a:off x="809640" y="2617920"/>
            <a:ext cx="3333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ff"/>
                </a:solidFill>
                <a:latin typeface="Arial"/>
              </a:rPr>
              <a:t>                 </a:t>
            </a:r>
            <a:r>
              <a:rPr b="0" lang="ru-RU" sz="3800" spc="-1" strike="noStrike">
                <a:solidFill>
                  <a:srgbClr val="9933ff"/>
                </a:solidFill>
                <a:latin typeface="Arial"/>
              </a:rPr>
              <a:t>Тыкве в Соч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7760" y="1389960"/>
            <a:ext cx="21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1265924951_14" descr="Памятники еде. Памятник ед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8400" y="1604880"/>
            <a:ext cx="4869000" cy="3649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39840" y="5253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ff"/>
                </a:solidFill>
                <a:latin typeface="Arial"/>
              </a:rPr>
              <a:t>Яблок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рупный местный праздник яблочного Спаса в Курске торжественно открыт памятник яблоку-антоновке. Курская антоновка доставлялась даже к царскому двору, в то время, когда Россией правила Екатерина II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но этот сорт яблока вот уже много лет является символом Курска.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alt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33ff"/>
                </a:solidFill>
                <a:latin typeface="Arial"/>
              </a:rPr>
              <a:t>Апельсину</a:t>
            </a:r>
            <a:br>
              <a:rPr sz="34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втор скульптуры — Александр Токарев, автор идеи — Валерий Балух. Украина, Одесса. 200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319280" cy="3554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, что народное название этого памятника — «памятник взятке», потому как именно апельсинами одесситы умилостивили (подкупили) императора Павла I, который приостановил начавшееся по указу Екатерины II финансирование постройки крупнейшего на юге морского порта. В середине февраля 1800 года находчивые жители отправили ко двору Павла I подарок — три тысячи «апельсиновых фруктов самого лучшего сорта», и уже 1 марта император своим указом возобновил строительство. Этот исторический момент считается поворотным в истории города. Как говорят сами одесситы: «Гуси спасли Рим, а Одессу спасли апельсин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ff"/>
                </a:solidFill>
                <a:latin typeface="Arial"/>
              </a:rPr>
              <a:t>Балтийским шпрота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лининградской области в Мамоново откры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алтийским шпрот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вухметровая скульптура представляет собой большой мраморный стол с водруженной на нём банкой с двенадцатью кильками. Одна из рыбок увенчана золотой короной. Рыбоконсервный комбинат действует в городе с 1949 года, а потому Мамоново можно считать родиной отечественных шпро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23920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5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Памятник балтийским шпротам в Мамоново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33ff"/>
                </a:solidFill>
                <a:latin typeface="Arial"/>
              </a:rPr>
              <a:t>Вобле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страха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1265924977_17" descr="Памятники еде. Памятник еде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3649680" cy="4869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076720" y="224676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онзовый памятник вобле, длина ры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мет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33ff"/>
                </a:solidFill>
                <a:latin typeface="Arial"/>
              </a:rPr>
              <a:t>Арахису</a:t>
            </a:r>
            <a:br>
              <a:rPr sz="3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ША, штат Джорджия. 197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тате Джорджия находится крупнейший в мире завод по переработке арахиса. Именно поэтому там установлено сразу несколько памятников этому земляному орешку. Самый забавный из всех — памятник «Большому улыбающемуся арахису» находится в городке Плейнс. Этот 4-метровый гигант был сконструирован еще в 1976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84720" y="1600200"/>
            <a:ext cx="296388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ff"/>
                </a:solidFill>
                <a:latin typeface="Arial"/>
              </a:rPr>
              <a:t>Конфктк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города Озеры, в непосредственной близости от кондитерского комбината, был установлен памятник конфетке в знак признания заслуг предприятия, являющегося на сегодняшний день одним из лидеров кондитерской отрасл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1265924895_18" descr="Памятники еде. Памятник ед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484280"/>
            <a:ext cx="3649680" cy="486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ff"/>
                </a:solidFill>
                <a:latin typeface="Arial"/>
              </a:rPr>
              <a:t>Источ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324000" y="213372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253880"/>
            <a:ext cx="5737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63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banqueteur.ru/articles/view/64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foto.mail.ru/community/k__ch/18/33.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prikol.i.ua/view/707362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top10best.ucoz.ru/news/2009-02-08-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foorel.ru/forum/forum_read.ph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tardogs.ru/brand/corporate/28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op10best.ucoz.ru/news/1-0-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anqueteur.ru/articles/view/64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ripadvisor.ru/ShowUserRevie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kusitsvet.ru/tovarisch-est/ty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ady.mail.ru/article/45246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esher.ru/2009/12/16/pamyatn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ff"/>
                </a:solidFill>
                <a:latin typeface="Arial"/>
              </a:rPr>
              <a:t>Памятник хлеб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скромный памятник хлебо-булочным изделиям установлен в г.Зеленогорске, Ленинградская об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гранитном постаменте  лежат бронзовые хлебобулочные изделия. Основа композиции - чёрный хлеб, который, как известно, всему голова,125 суточных граммов которого сохранили жизнь тысячам голодных блокад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военной буханки, разрезанной наполовину, в композиции присутствует и современная продукция местного хлебокомбината - сухари, батон, бубл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памятник хлебо-булочным изделиям "/>
          <p:cNvPicPr/>
          <p:nvPr/>
        </p:nvPicPr>
        <p:blipFill>
          <a:blip r:embed="rId1"/>
          <a:stretch/>
        </p:blipFill>
        <p:spPr>
          <a:xfrm>
            <a:off x="4648320" y="2576520"/>
            <a:ext cx="40384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ff"/>
                </a:solidFill>
                <a:latin typeface="Arial"/>
              </a:rPr>
              <a:t>Картофелю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узбассе увековечили картошку, в Мариинске 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не мирового рекорда урожая картофеля, установленного более 65 лет назад. Рекорд не побит до сих пор. В 1942 году звено местного совхоза «Красный Перекоп» одного гектара 1 331 центнер картоф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стати, на родине культуры, в Америке рекордный урожай составляет 1 100 центнеров с гект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1265924942_15" descr="Памятники еде. Памятник ед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413000"/>
            <a:ext cx="4069080" cy="4868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981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 в 2008 году,ООН объявила Международным годом картоф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33ff"/>
                </a:solidFill>
                <a:latin typeface="Arial"/>
              </a:rPr>
              <a:t>Памятник-фонтан Spoonbridge and Cherry. Ложка-мост с вишенко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4105440" cy="2189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лас Ольденбург и Кузи ван Брюгген. США, Скульптурный парк Миннеаполиса. 198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412640"/>
            <a:ext cx="4038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5-метровой ложке, изогнутой над небольшим прудом, «лежит» темно-красная вишенка. Из основания ягоды струйка воды стекает по ручке ложки, а из ее черенка беспорядочно разбрызгивает фонт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11840" y="2703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9933ff"/>
                </a:solidFill>
                <a:latin typeface="Arial"/>
              </a:rPr>
              <a:t>Гигантская вилка</a:t>
            </a:r>
            <a:br>
              <a:rPr sz="38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Жан-Пьер Зауг. Швейцария, Веве. 1995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345600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00360" y="1599840"/>
            <a:ext cx="3958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-метровая вилка из нержавеющей стали воткнута прямо в дно Женевского озера. Она служит ориентиром — напротив нее, на берегу, расположен Музей еды «Алиментариум». Именно в честь 10-летнего юбилея музея вилка и появилась в озере. Ей пришлось покинуть женевские воды более чем на 10 лет! В 2008 местные власти передумали и вернули этот столовый прибор на прежне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33ff"/>
                </a:solidFill>
                <a:latin typeface="Arial"/>
              </a:rPr>
              <a:t>Пельменю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ровый в диаметре пельмень, насаженный на 3-метровую вилку. Памятник напоминает всем о родине всемирно известного блюда. Примерно в X веке на территории современной Удмуртии были впервые приготовлены и обрели популярность пельмени. Русское слово «пельмень» происходит от удмуртского «пельнянь», что означает «хлебное ушк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лексей Шкляев. Россия, Ижевск. 200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036960" cy="4530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33ff"/>
                </a:solidFill>
                <a:latin typeface="Arial"/>
              </a:rPr>
              <a:t>Варенику</a:t>
            </a:r>
            <a:br>
              <a:rPr sz="3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 проекта — Иван Физер. Украина, г. Черкассы. 200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й вареник этой скульптурной композиции высотой 2,5 метра красуется за спиной казака Мамая. Популярный герой украинского фольклора держит одной рукой целую миску этого национального блюда, а другой — привычным современным жестом выражает свое одобрение кушанья. Что интересно: к открытию памятника в специально сконструированной кастрюле-коробе был сварен настоящий гигантский вареник длиной 174 см, шириной — 75 см, а весом — 72,5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97692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ff"/>
                </a:solidFill>
                <a:latin typeface="Arial"/>
              </a:rPr>
              <a:t>Галушк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лтаве 1 апреля 2006 года был открыт памятник галушке- представляет собой глубокую тарелку с 12 галушками и царь-ложк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ее галушка была признана официальным символом Полтавы, а памятный знак галушке официально внесен в городскую символ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4064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4064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1265924902_1" descr="Памятники еде. Памятник ед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205000"/>
            <a:ext cx="4618080" cy="368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2631960" y="0"/>
          <a:ext cx="3879720" cy="517680"/>
        </p:xfrm>
        <a:graphic>
          <a:graphicData uri="http://schemas.openxmlformats.org/drawingml/2006/table">
            <a:tbl>
              <a:tblPr/>
              <a:tblGrid>
                <a:gridCol w="387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641680" y="9360"/>
          <a:ext cx="164880" cy="470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33ff"/>
                </a:solidFill>
                <a:latin typeface="Arial"/>
              </a:rPr>
              <a:t>Памятник плавленому сырку «Дружба»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вторы проекта — профессор Алексей Семенов и художница Марина Лескова, скульпторы — отец и сын Щербаковы. Россия, Москва. 2005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7920" y="1600200"/>
            <a:ext cx="3135600" cy="4530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 установлен в связи с 40-летием выпуска сырка. Невозможно смотреть на скульптуру без умиления: Ворона и Лисица, не поделившие в басне Крылова кусочек сыра и ставшие врагами, наконец-то примирились: они сидят в обнимку на пеньке и нежно держат огромный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сырок «Друж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ам сырок размером один на полтора метра сделан  из бронзы и весит около 200 килогра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16:29Z</dcterms:created>
  <dc:creator> </dc:creator>
  <dc:description/>
  <dc:language>en-US</dc:language>
  <cp:lastModifiedBy> </cp:lastModifiedBy>
  <dcterms:modified xsi:type="dcterms:W3CDTF">2012-01-26T17:48:33Z</dcterms:modified>
  <cp:revision>4</cp:revision>
  <dc:subject/>
  <dc:title>Какой еде ставят памятники </dc:title>
</cp:coreProperties>
</file>