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3B0-9412-49E6-87B1-22153431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735-CC94-4D2C-850D-2DA91055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FFC-9242-49E8-BCE1-EF679103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AB0-D4E1-420F-ABDD-DD71438E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862-1A95-40B9-9172-D5D9238B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323-8EE3-4EF5-9BED-1C4C3C55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F0D-E45F-4067-AE05-02810D8D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E52-A0F3-4453-9F57-3A6D702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D94-32E9-44A4-93F7-FE2D7F2E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03F-3663-4486-84B4-4858619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BAC-E5A0-41CD-A9B4-68430F5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009-8722-4B96-A8F4-3FA0B66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5FC8-128E-4237-8A29-06CBF24A1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4;&#1077;&#1076;&#1074;&#1077;&#1076;&#1100;.wav" TargetMode="External"/><Relationship Id="rId2" Type="http://schemas.microsoft.com/office/2007/relationships/media" Target="file:///tmp/home/.config/libreoffice/4/user/gallery/&#1084;&#1077;&#1076;&#1074;&#1077;&#1076;&#1100;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476280"/>
            <a:ext cx="71535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 - СКАЗКА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РУССКОМУ ЯЗЫКУ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2 КЛАССЕ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ЕНИЕ ГЛАГОЛОВ ПО ЧИСЛАМ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А РОССИИ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24360" y="4221000"/>
            <a:ext cx="4579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 Родионова Ольга Викторовна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категории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У СОШ № 585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Санкт-Петербург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2843280" cy="187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84328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2842920" cy="160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059280" y="260280"/>
            <a:ext cx="25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РЮК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59280" y="1125360"/>
            <a:ext cx="165564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ЛЕ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59280" y="1989000"/>
            <a:ext cx="237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ГОЧ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59280" y="2924280"/>
            <a:ext cx="2352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ДАХЧ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59280" y="378936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41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9826 L -0.28733 0.09826 E">
                                      <p:cBhvr>
                                        <p:cTn id="23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44 0.02358 L 0.42344 -0.30937 E">
                                      <p:cBhvr>
                                        <p:cTn id="23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4 0.67653 L -0.31094 0.67653 E">
                                      <p:cBhvr>
                                        <p:cTn id="23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802 0.1311 L 0.38802 0.46404 E">
                                      <p:cBhvr>
                                        <p:cTn id="24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2 0.14682 L 0.06042 0.47977 E">
                                      <p:cBhvr>
                                        <p:cTn id="24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kolobok.jpg"/>
          <p:cNvPicPr/>
          <p:nvPr/>
        </p:nvPicPr>
        <p:blipFill>
          <a:blip r:embed="rId2"/>
          <a:stretch/>
        </p:blipFill>
        <p:spPr>
          <a:xfrm>
            <a:off x="6772320" y="3860640"/>
            <a:ext cx="2371680" cy="3283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48360" y="836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907920"/>
            <a:ext cx="410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Б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.33  УПРАЖНЕНИЕ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24000" y="189000"/>
            <a:ext cx="5184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Найди глаго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413000"/>
            <a:ext cx="82072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г, бегал, беглы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ть, пение, певуч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сьмо, писчая, пиш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аренье, варил, варёны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ст, рослый, ро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220500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21300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234936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3357720"/>
            <a:ext cx="136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149720"/>
            <a:ext cx="180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4292640"/>
            <a:ext cx="1727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22936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544500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623736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638172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kolobok.jpg"/>
          <p:cNvPicPr/>
          <p:nvPr/>
        </p:nvPicPr>
        <p:blipFill>
          <a:blip r:embed="rId1"/>
          <a:stretch/>
        </p:blipFill>
        <p:spPr>
          <a:xfrm>
            <a:off x="1258920" y="1700280"/>
            <a:ext cx="4114800" cy="549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611280" y="620640"/>
            <a:ext cx="806436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ПАСИБО  ЗА  УРОК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55 0.0916 C -0.10313 0.0879 -0.10625 0.08559 -0.10382 0.08142 C -0.10209 0.07818 -0.09254 0.06893 -0.08959 0.06731 C -0.0849 0.06153 -0.08038 0.06037 -0.075 0.05667 C -0.06597 0.05066 -0.05747 0.04418 -0.04827 0.03886 C -0.04375 0.03631 -0.04011 0.03146 -0.03542 0.03007 C -0.02483 0.0266 -0.01372 0.02544 -0.00295 0.0229 C 0.01337 0.01388 0.03177 0.01573 0.04861 0.00971 C 0.1 0.00115 0.14913 -0.00579 0.20017 -0.01226 C 0.21927 -0.00579 0.23993 -0.00949 0.25937 -0.01111 C 0.26753 -0.01111 0.27344 -0.00741 0.2809 -0.00717 C 0.28889 -0.00486 0.30347 -0.00023 0.3092 0.00069 C 0.3217 0.00277 0.33906 0.00416 0.35173 0.01018 C 0.36163 0.01411 0.36979 0.02267 0.37951 0.02591 C 0.38194 0.02683 0.38472 0.02637 0.3875 0.02706 C 0.39774 0.02961 0.40764 0.03493 0.41788 0.03863 C 0.42118 0.03978 0.42153 0.03909 0.42517 0.04117 C 0.42795 0.04302 0.4335 0.04742 0.4335 0.04765 C 0.4283 0.03261 0.42031 0.01665 0.40989 0.0074 C 0.40642 0.00416 0.40416 0.00485 0.40034 0.00254 C 0.39548 -0.0007 0.39114 -0.0037 0.38594 -0.00648 C 0.37621 -0.0118 0.36788 -0.0199 0.35607 -0.02082 C 0.32725 -0.03956 0.29722 -0.04419 0.2651 -0.05136 C 0.25139 -0.05483 0.23715 -0.062 0.22274 -0.062 C 0.21684 -0.06292 0.21163 -0.06408 0.20573 -0.06431 C 0.19948 -0.06616 0.19427 -0.06616 0.18802 -0.06616 C 0.17205 -0.07102 0.15937 -0.06917 0.14288 -0.06709 C 0.10347 -0.05968 0.05729 -0.07379 0.02465 -0.04326 C 0.01007 -0.02984 -0.00104 -0.01527 -0.01077 0.00485 C -0.0132 0.00994 -0.01493 0.01457 -0.01684 0.02012 C -0.01806 0.02336 -0.02084 0.02984 -0.02066 0.03007 C -0.02188 0.03655 -0.02205 0.03909 -0.02622 0.04279 C -0.02726 0.04881 -0.02934 0.05274 -0.03177 0.05806 C -0.03229 0.06407 -0.03368 0.06824 -0.03716 0.07217 C -0.0375 0.07841 -0.03872 0.08073 -0.0415 0.08605 C -0.04184 0.09391 -0.04219 0.09761 -0.04566 0.10386 C -0.04688 0.11404 -0.04497 0.09947 -0.04827 0.11589 C -0.04896 0.11866 -0.05018 0.12653 -0.04948 0.12399 C -0.04566 0.11173 -0.0441 0.10849 -0.03733 0.0997 C -0.03056 0.09091 -0.03976 0.09947 -0.03125 0.09067 C -0.029 0.08836 -0.02639 0.08674 -0.02413 0.0842 C -0.02257 0.08235 -0.02153 0.0798 -0.01997 0.07818 C -0.01406 0.07194 -0.00434 0.06962 0.0026 0.06639 C 0.04184 0.03446 0.1085 0.04441 0.15729 0.03724 C 0.16545 0.03724 0.17309 0.04163 0.18125 0.04187 C 0.1967 0.04279 0.21302 0.03863 0.22882 0.03724 C 0.24357 0.04002 0.25868 0.04187 0.27361 0.04372 C 0.29184 0.04626 0.30955 0.05551 0.32725 0.05736 C 0.34184 0.06361 0.35312 0.07633 0.36823 0.08027 C 0.37864 0.08281 0.37257 0.08142 0.38837 0.0842 C 0.38941 0.08466 0.39201 0.08489 0.39219 0.08512 C 0.39774 0.08836 0.40312 0.09114 0.40885 0.09368 C 0.41094 0.08836 0.41128 0.08466 0.41232 0.07888 C 0.41215 0.07495 0.41232 0.07101 0.41198 0.06708 C 0.40885 0.03863 0.4059 0.00994 0.40121 -0.01851 C 0.3993 -0.03054 0.39305 -0.04048 0.38923 -0.05159 C 0.38489 -0.06477 0.38177 -0.07634 0.37309 -0.08513 C 0.36805 -0.09554 0.36302 -0.10016 0.35712 -0.10965 C 0.33142 -0.15406 0.29357 -0.18043 0.25625 -0.2038 C 0.23767 -0.21536 0.21927 -0.22785 0.19809 -0.22716 C 0.18177 -0.23179 0.15712 -0.22531 0.14253 -0.22369 C 0.11493 -0.21814 0.08837 -0.21305 0.06128 -0.20403 C 0.05555 -0.20195 0.05087 -0.20033 0.04531 -0.19709 C 0.03941 -0.19385 0.02778 -0.18622 0.02778 -0.18598 C 0.01059 -0.16447 0.03125 -0.1883 0.01614 -0.17627 C 0.00712 -0.1691 -0.00018 -0.15915 -0.01007 -0.15337 C -0.01806 -0.1418 -0.02552 -0.13463 -0.03438 -0.12422 C -0.0408 -0.11659 -0.04636 -0.10826 -0.05382 -0.10225 C -0.06007 -0.0879 -0.05625 -0.0923 -0.06302 -0.08629 C -0.06684 -0.07703 -0.07118 -0.06871 -0.075 -0.05945 C -0.08004 -0.04719 -0.08316 -0.03262 -0.08976 -0.02152 C -0.09167 -0.00764 -0.09445 -0.0037 -0.09844 0.00856 C -0.10087 0.01665 -0.10087 0.02498 -0.10278 0.03308 C -0.10382 0.04788 -0.10278 0.03909 -0.10486 0.05043 C -0.10538 0.05297 -0.10625 0.05829 -0.10608 0.05852 C -0.10625 0.0643 -0.10712 0.06986 -0.10729 0.07564 C -0.10747 0.07055 -0.10851 0.065 -0.10799 0.06014 C -0.10764 0.05736 -0.10243 0.0495 -0.10139 0.04719 C -0.09341 0.03076 -0.08108 0.02128 -0.06997 0.00902 C -0.05174 -0.01111 -0.06632 -0.000229999999999999 -0.04757 -0.01203 C -0.04341 -0.01504 -0.04028 -0.02036 -0.03594 -0.02337 C -0.02205 -0.03239 -0.00729 -0.03933 0.00642 -0.04927 C 0.02864 -0.06524 0.05069 -0.07888 0.075 -0.08906 C 0.12986 -0.12977 0.19913 -0.11289 0.26163 -0.1226 C 0.28316 -0.11381 0.30781 -0.11104 0.33055 -0.10479 C 0.35295 -0.09855 0.37639 -0.09161 0.3993 -0.08744 C 0.40659 -0.08328 0.41423 -0.08143 0.42187 -0.07842 C 0.42587 -0.0768 0.4283 -0.07356 0.43229 -0.07241 C 0.43298 -0.07102 0.43368 -0.06986 0.43455 -0.06871 C 0.43594 -0.06709 0.4375 -0.06616 0.43889 -0.06431 C 0.44844 -0.0502 0.43646 -0.06269 0.44705 -0.05274 C 0.44896 -0.04696 0.45139 -0.04349 0.45521 -0.03979 C 0.45764 -0.03401 0.45972 -0.02915 0.46423 -0.02568 C 0.4651 -0.02429 0.46597 -0.02267 0.46684 -0.02105 C 0.46753 -0.0199 0.46927 -0.01596 0.46909 -0.01758 C 0.46701 -0.0384 0.44548 -0.04303 0.43298 -0.04511 C 0.42309 -0.04673 0.41319 -0.05043 0.40312 -0.04997 C 0.39132 -0.04927 0.34878 -0.0428 0.34392 -0.0421 C 0.24722 -0.0347 0.12812 -0.00509 0.04392 0.01064 C 0.01562 0.02267 -0.00938 0.04534 -0.03629 0.06153 C -0.03906 0.06662 -0.04462 0.07309 -0.04844 0.0768 C -0.05156 0.07934 -0.05747 0.08489 -0.05747 0.08512 C -0.06372 0.09576 -0.07084 0.10293 -0.07813 0.11219 C -0.08351 0.1189 -0.07761 0.11496 -0.08351 0.1182 C -0.0842 0.11982 -0.08507 0.12121 -0.08577 0.1226 C -0.08646 0.12399 -0.08733 0.12861 -0.08733 0.12676 C -0.08785 0.11311 -0.0849 0.0997 -0.07865 0.08859 C -0.07518 0.06523 -0.06545 0.05644 -0.05191 0.0421 C -0.04549 0.03516 -0.04028 0.02776 -0.03212 0.02429 C -0.00504 0.00393 0.02708 -0.00324 0.05729 -0.00995 C 0.09896 -0.01689 0.12708 -0.02013 0.16475 -0.02429 C 0.18281 -0.0236 0.20017 -0.01781 0.21788 -0.01296 C 0.24375 -0.00602 0.26979 0.00162 0.29531 0.00578 C 0.30816 0.01179 0.32309 0.01596 0.33732 0.01665 C 0.34184 0.0192 0.34583 0.02197 0.35069 0.02452 C 0.35607 0.02776 0.35903 0.03238 0.36545 0.03377 C 0.36909 0.03863 0.37448 0.04025 0.37934 0.04302 C 0.38472 0.04603 0.38941 0.05158 0.39496 0.0532 C 0.39982 0.06523 0.39444 0.05482 0.40139 0.06107 C 0.40434 0.06361 0.40347 0.06523 0.40521 0.06847 C 0.40729 0.07194 0.4125 0.07841 0.41528 0.08073 C 0.41649 0.08188 0.41823 0.08188 0.41962 0.08258 C 0.42153 0.08397 0.42569 0.08697 0.42569 0.08721 C 0.42864 0.07865 0.42587 0.0724 0.42274 0.06523 C 0.41666 0.05158 0.41198 0.04233 0.40069 0.03516 C 0.38403 0.02405 0.36857 0.01897 0.34982 0.0155 C 0.3401 0.01388 0.33194 0.00971 0.32222 0.0074 C 0.31684 0.00578 0.31007 0.00717 0.30416 0.00671 C 0.26684 0.00532 0.29514 0.00532 0.27534 0.00532 C 0.26041 -0.00116 0.25521 -0.00023 0.23871 0.00162 C 0.19618 0.01041 0.15347 0.01735 0.11128 0.02729 C 0.09288 0.03146 0.07743 0.0532 0.06076 0.06245 C 0.05937 0.06407 0.05798 0.06592 0.05642 0.06708 C 0.05521 0.06801 0.05364 0.06801 0.05278 0.06893 C 0.05139 0.07032 0.05052 0.07309 0.0493 0.07471 C 0.04583 0.07934 0.04132 0.08281 0.03802 0.08721 C 0.03403 0.09253 0.03194 0.09923 0.02673 0.10247 C 0.02222 0.10756 0.01962 0.11496 0.0158 0.12144 C 0.01545 0.12676 0.01475 0.12954 0.01215 0.1337 C 0.01007 0.14226 0.00694 0.15082 0.00399 0.15868 C 0.0033 0.13092 0.01562 0.13046 0.02882 0.11242 C 0.04184 0.09461 0.05625 0.08235 0.07257 0.07055 C 0.08524 0.0613 0.06909 0.06801 0.0934 0.05505 C 0.09844 0.05274 0.10382 0.05112 0.10833 0.04742 C 0.12309 0.03493 0.13923 0.02336 0.15607 0.01781 C 0.17743 0.01434 0.19861 0.01018 0.21996 0.00763 C 0.24635 0.00485 0.27187 0.01966 0.29705 0.02382 C 0.30191 0.02637 0.31493 0.03238 0.31753 0.03446 C 0.31892 0.03585 0.32014 0.0377 0.32187 0.03886 C 0.3309 0.04534 0.32239 0.03493 0.33229 0.04487 C 0.33628 0.04927 0.33854 0.05482 0.34357 0.05852 C 0.34653 0.06546 0.35 0.06916 0.35364 0.07495 C 0.35764 0.07957 0.35937 0.08559 0.36232 0.09044 C 0.37048 0.10247 0.36337 0.08697 0.37031 0.09947 C 0.37517 0.10826 0.37048 0.1027 0.3743 0.10918 C 0.37951 0.1152 0.38507 0.12121 0.38837 0.12884 E">
                                      <p:cBhvr>
                                        <p:cTn id="323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ина Л.М., Хохлова Т.Е. Русский язык 2 кл. Москва «Просвещение»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енко О.Е., Обухова Л.А. Поурочные разработки по русскому языку 2 кл. Москва «Вако»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хомирова Е.М. Растительный и животный мир.Сборник загадок 1-4 кл. Москва «Экзамен»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ина Л.М., Хохлова Т.Е. Дидактические материалы по русскому языку 2 кл. Москва «Просвещение»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fotki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smeshariki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kolobok.jpg"/>
          <p:cNvPicPr/>
          <p:nvPr/>
        </p:nvPicPr>
        <p:blipFill>
          <a:blip r:embed="rId2"/>
          <a:stretch/>
        </p:blipFill>
        <p:spPr>
          <a:xfrm>
            <a:off x="6372360" y="4076640"/>
            <a:ext cx="2638440" cy="3238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2.jpg"/>
          <p:cNvPicPr/>
          <p:nvPr/>
        </p:nvPicPr>
        <p:blipFill>
          <a:blip r:embed="rId3"/>
          <a:stretch/>
        </p:blipFill>
        <p:spPr>
          <a:xfrm>
            <a:off x="395280" y="3417840"/>
            <a:ext cx="38894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049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 ДВЕ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724360" y="33336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1600200"/>
            <a:ext cx="1066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0492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11200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133720"/>
            <a:ext cx="7488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имой  медведь  спи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3640" y="1773360"/>
            <a:ext cx="95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щ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773360"/>
            <a:ext cx="100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д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4076640"/>
            <a:ext cx="273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88000" y="1773360"/>
            <a:ext cx="5619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г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0360" y="1773360"/>
            <a:ext cx="100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д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407664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429264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42920" y="1844640"/>
            <a:ext cx="727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имой  медведи  спя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1640" y="1628640"/>
            <a:ext cx="1057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020000" y="1628640"/>
            <a:ext cx="1057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46836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587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333360"/>
            <a:ext cx="8578800" cy="73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ленький медвежонок уп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обрыва. Он поп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сеть. Малыш жалобно стон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ядом проходили лесни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и услышали ст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сники подбежали и освободи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днягу. Медвежонка принесли домо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9079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105264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162864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1773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421000"/>
            <a:ext cx="136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2565360"/>
            <a:ext cx="136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213000"/>
            <a:ext cx="230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357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3933720"/>
            <a:ext cx="22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4076640"/>
            <a:ext cx="22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724280"/>
            <a:ext cx="230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4869000"/>
            <a:ext cx="223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724280"/>
            <a:ext cx="2449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869000"/>
            <a:ext cx="2449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5516640"/>
            <a:ext cx="20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19640" y="5734080"/>
            <a:ext cx="20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948360" y="115920"/>
            <a:ext cx="8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д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51640" y="907920"/>
            <a:ext cx="100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д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948360" y="1557360"/>
            <a:ext cx="1009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д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95640" y="2349360"/>
            <a:ext cx="86364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43520" y="3284640"/>
            <a:ext cx="9601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51280" y="4005360"/>
            <a:ext cx="7920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20000" y="3860640"/>
            <a:ext cx="8650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12000" y="4869000"/>
            <a:ext cx="7920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н.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kolobok.jpg"/>
          <p:cNvPicPr/>
          <p:nvPr/>
        </p:nvPicPr>
        <p:blipFill>
          <a:blip r:embed="rId2"/>
          <a:stretch/>
        </p:blipFill>
        <p:spPr>
          <a:xfrm>
            <a:off x="4716360" y="3203640"/>
            <a:ext cx="35355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7:48:46Z</dcterms:created>
  <dc:creator>Пользователь</dc:creator>
  <dc:description/>
  <dc:language>en-US</dc:language>
  <cp:lastModifiedBy>Пользователь</cp:lastModifiedBy>
  <dcterms:modified xsi:type="dcterms:W3CDTF">2011-10-31T14:45:11Z</dcterms:modified>
  <cp:revision>12</cp:revision>
  <dc:subject/>
  <dc:title>Слайд 1</dc:title>
</cp:coreProperties>
</file>