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DA9-B98A-4C8C-9627-60F351EA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210-0BF4-4C48-8E9B-E2CAC82E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0E4-C4F8-4CAB-8A3E-780BAD9D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F57-9F58-47FC-BE42-BD66C331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690-61D6-455D-B3A3-021C5B7F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631-A050-4D4D-95C6-00A83B74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661-7E48-4E49-983C-1CC4B681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A6A-61CE-407F-AC0F-4BE936CC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6F1-0366-4F11-8E2E-837790C5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651-E51D-4D3F-BE4C-9F441580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2F5-8A38-4E74-B629-A6B002C7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5B8-0525-466F-A82F-C174DF88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7D74-5CD5-48DA-A84E-5C164B8E0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620280"/>
            <a:ext cx="81784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Verdana"/>
                <a:ea typeface="Arial"/>
              </a:rPr>
              <a:t>Ударные и безударные 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Verdana"/>
                <a:ea typeface="Arial"/>
              </a:rPr>
              <a:t>гласные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2813040" y="4365720"/>
            <a:ext cx="351648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  <a:ea typeface="Arial"/>
              </a:rPr>
              <a:t>Начать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1708200" y="2847960"/>
            <a:ext cx="572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Тест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1-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  <a:ea typeface="Arial"/>
              </a:rPr>
              <a:t>8. В каком столбике слова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11280" y="2492280"/>
            <a:ext cx="201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хле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п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гря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987640" y="2492280"/>
            <a:ext cx="21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до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хл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п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гр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4"/>
          <p:cNvSpPr/>
          <p:nvPr/>
        </p:nvSpPr>
        <p:spPr>
          <a:xfrm>
            <a:off x="5796000" y="515772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нет такого 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5724360" y="213372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1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5796000" y="364500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2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69880" y="475920"/>
            <a:ext cx="81057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  <a:ea typeface="Arial"/>
              </a:rPr>
              <a:t>9. В какой паре слов, проверочное слово подобрано вер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4932360" y="2852640"/>
            <a:ext cx="3816360" cy="85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зелёный - зе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4932360" y="5445000"/>
            <a:ext cx="3656160" cy="85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весна - весен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4932360" y="4221000"/>
            <a:ext cx="3745080" cy="85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ой -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list13"/>
          <p:cNvPicPr/>
          <p:nvPr/>
        </p:nvPicPr>
        <p:blipFill>
          <a:blip r:embed="rId1"/>
          <a:stretch/>
        </p:blipFill>
        <p:spPr>
          <a:xfrm>
            <a:off x="1116000" y="1916280"/>
            <a:ext cx="2573280" cy="46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  <a:ea typeface="Arial"/>
              </a:rPr>
              <a:t>10. Буквы каких звуков не следует проверять ударени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6156360" y="4581360"/>
            <a:ext cx="223200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80000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611280" y="4653000"/>
            <a:ext cx="2232000" cy="164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80000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deva13"/>
          <p:cNvPicPr/>
          <p:nvPr/>
        </p:nvPicPr>
        <p:blipFill>
          <a:blip r:embed="rId1"/>
          <a:stretch/>
        </p:blipFill>
        <p:spPr>
          <a:xfrm>
            <a:off x="3346560" y="2073240"/>
            <a:ext cx="245088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  <a:ea typeface="Arial"/>
              </a:rPr>
              <a:t>11. В каких словах безударные гласные можно провер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6156360" y="2852640"/>
            <a:ext cx="2376360" cy="3451320"/>
          </a:xfrm>
          <a:custGeom>
            <a:avLst/>
            <a:gdLst>
              <a:gd name="textAreaLeft" fmla="*/ 164520 w 2376360"/>
              <a:gd name="textAreaRight" fmla="*/ 2211840 w 2376360"/>
              <a:gd name="textAreaTop" fmla="*/ 164520 h 3451320"/>
              <a:gd name="textAreaBottom" fmla="*/ 3286800 h 3451320"/>
            </a:gdLst>
            <a:ahLst/>
            <a:rect l="textAreaLeft" t="textAreaTop" r="textAreaRight" b="textAreaBottom"/>
            <a:pathLst>
              <a:path w="21600" h="31369">
                <a:moveTo>
                  <a:pt x="5109" y="0"/>
                </a:moveTo>
                <a:arcTo wR="5109" hR="5109" stAng="16200000" swAng="-5400000"/>
                <a:lnTo>
                  <a:pt x="0" y="26260"/>
                </a:lnTo>
                <a:arcTo wR="5109" hR="5109" stAng="10800000" swAng="-5400000"/>
                <a:lnTo>
                  <a:pt x="16491" y="31369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дома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рог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зме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пчел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гроз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3351240" y="2852640"/>
            <a:ext cx="2440080" cy="3451320"/>
          </a:xfrm>
          <a:custGeom>
            <a:avLst/>
            <a:gdLst>
              <a:gd name="textAreaLeft" fmla="*/ 164160 w 2440080"/>
              <a:gd name="textAreaRight" fmla="*/ 2275920 w 2440080"/>
              <a:gd name="textAreaTop" fmla="*/ 164160 h 3451320"/>
              <a:gd name="textAreaBottom" fmla="*/ 3287160 h 3451320"/>
            </a:gdLst>
            <a:ahLst/>
            <a:rect l="textAreaLeft" t="textAreaTop" r="textAreaRight" b="textAreaBottom"/>
            <a:pathLst>
              <a:path w="21600" h="30550">
                <a:moveTo>
                  <a:pt x="4971" y="0"/>
                </a:moveTo>
                <a:arcTo wR="4971" hR="4971" stAng="16200000" swAng="-5400000"/>
                <a:lnTo>
                  <a:pt x="0" y="25579"/>
                </a:lnTo>
                <a:arcTo wR="4971" hR="4971" stAng="10800000" swAng="-5400000"/>
                <a:lnTo>
                  <a:pt x="16629" y="30550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gradFill rotWithShape="0">
            <a:gsLst>
              <a:gs pos="0">
                <a:srgbClr val="ff9933">
                  <a:alpha val="65098"/>
                </a:srgbClr>
              </a:gs>
              <a:gs pos="100000">
                <a:srgbClr val="4f81bd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раб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дежу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моро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мол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684360" y="2852640"/>
            <a:ext cx="2305080" cy="3451320"/>
          </a:xfrm>
          <a:custGeom>
            <a:avLst/>
            <a:gdLst>
              <a:gd name="textAreaLeft" fmla="*/ 185400 w 2305080"/>
              <a:gd name="textAreaRight" fmla="*/ 2119680 w 2305080"/>
              <a:gd name="textAreaTop" fmla="*/ 185400 h 3451320"/>
              <a:gd name="textAreaBottom" fmla="*/ 3265920 h 3451320"/>
            </a:gdLst>
            <a:ahLst/>
            <a:rect l="textAreaLeft" t="textAreaTop" r="textAreaRight" b="textAreaBottom"/>
            <a:pathLst>
              <a:path w="21600" h="32339">
                <a:moveTo>
                  <a:pt x="5931" y="0"/>
                </a:moveTo>
                <a:arcTo wR="5931" hR="5931" stAng="16200000" swAng="-5400000"/>
                <a:lnTo>
                  <a:pt x="0" y="26408"/>
                </a:lnTo>
                <a:arcTo wR="5931" hR="5931" stAng="10800000" swAng="-5400000"/>
                <a:lnTo>
                  <a:pt x="15669" y="32339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хоро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каранд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посу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рус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яг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одержимое 2"/>
          <p:cNvSpPr/>
          <p:nvPr/>
        </p:nvSpPr>
        <p:spPr>
          <a:xfrm>
            <a:off x="324000" y="3068640"/>
            <a:ext cx="3313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  <a:ea typeface="Arial"/>
              </a:rPr>
              <a:t>Верно: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  <a:ea typeface="Arial"/>
              </a:rPr>
              <a:t>Ошибки: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  <a:ea typeface="Arial"/>
              </a:rPr>
              <a:t>Отметка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4"/>
          <p:cNvGrpSpPr/>
          <p:nvPr/>
        </p:nvGrpSpPr>
        <p:grpSpPr>
          <a:xfrm>
            <a:off x="6284880" y="5425920"/>
            <a:ext cx="2498760" cy="987480"/>
            <a:chOff x="6284880" y="5425920"/>
            <a:chExt cx="2498760" cy="987480"/>
          </a:xfrm>
        </p:grpSpPr>
        <p:pic>
          <p:nvPicPr>
            <p:cNvPr id="47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6284880" y="5425920"/>
              <a:ext cx="24987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346800" y="5491080"/>
              <a:ext cx="237168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Arial"/>
                  <a:ea typeface="Arial"/>
                </a:rPr>
                <a:t>Время: 1 мин. 16 с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db6b8344716b"/>
          <p:cNvPicPr/>
          <p:nvPr/>
        </p:nvPicPr>
        <p:blipFill>
          <a:blip r:embed="rId2"/>
          <a:stretch/>
        </p:blipFill>
        <p:spPr>
          <a:xfrm>
            <a:off x="3492360" y="1700280"/>
            <a:ext cx="50403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6600" y="476280"/>
            <a:ext cx="79308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  <a:ea typeface="Arial"/>
              </a:rPr>
              <a:t>1. В слове может быт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211640" y="4076640"/>
            <a:ext cx="4248000" cy="78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один ударный гласный 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140360" y="2708280"/>
            <a:ext cx="4321080" cy="855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два  ударных гласных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140360" y="5300640"/>
            <a:ext cx="4321080" cy="784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все гласные звуки уд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барабан"/>
          <p:cNvPicPr/>
          <p:nvPr/>
        </p:nvPicPr>
        <p:blipFill>
          <a:blip r:embed="rId1"/>
          <a:stretch/>
        </p:blipFill>
        <p:spPr>
          <a:xfrm>
            <a:off x="900000" y="2781360"/>
            <a:ext cx="241488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6600" y="333360"/>
            <a:ext cx="793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  <a:ea typeface="Arial"/>
              </a:rPr>
              <a:t>2. Чтобы проверить безударный гласный звук, над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1042920" y="5445000"/>
            <a:ext cx="424836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поставить его под уда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971640" y="3933720"/>
            <a:ext cx="432108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заменить на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971640" y="2492280"/>
            <a:ext cx="4321080" cy="71136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проверить его соглас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2020864"/>
          <p:cNvPicPr/>
          <p:nvPr/>
        </p:nvPicPr>
        <p:blipFill>
          <a:blip r:embed="rId1"/>
          <a:stretch/>
        </p:blipFill>
        <p:spPr>
          <a:xfrm>
            <a:off x="6516720" y="2708280"/>
            <a:ext cx="17478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69520" y="333000"/>
            <a:ext cx="82501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  <a:ea typeface="Arial"/>
              </a:rPr>
              <a:t>3. Какие гласные звуки в безударных слогах всегда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2411280" y="2708280"/>
            <a:ext cx="432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а, о, и, е,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2419200" y="3645000"/>
            <a:ext cx="4305600" cy="711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у, ю, ы, э, 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2419200" y="4653000"/>
            <a:ext cx="43056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у, а, е, ы 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5120" y="475920"/>
            <a:ext cx="82137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  <a:ea typeface="Arial"/>
              </a:rPr>
              <a:t>4. В каком столбике слова не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9640" y="2349360"/>
            <a:ext cx="22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звёз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сви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мя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журав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492360" y="2421000"/>
            <a:ext cx="21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мя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журав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6659640" y="501336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нет такого 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4"/>
          <p:cNvSpPr/>
          <p:nvPr/>
        </p:nvSpPr>
        <p:spPr>
          <a:xfrm>
            <a:off x="6588000" y="364500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2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6588000" y="228600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1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  <a:ea typeface="Arial"/>
              </a:rPr>
              <a:t>5. В какой паре слов, проверочное слово подобрано неправиль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664000" y="2571840"/>
            <a:ext cx="3816000" cy="85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ходил - ход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5076720" y="4292640"/>
            <a:ext cx="3656160" cy="927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хлеба - хлеб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95280" y="4292640"/>
            <a:ext cx="3745080" cy="927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2156"/>
                </a:srgbClr>
              </a:gs>
              <a:gs pos="100000">
                <a:srgbClr val="ff9933">
                  <a:alpha val="80000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мясной - мя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69880" y="475920"/>
            <a:ext cx="80028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  <a:ea typeface="Arial"/>
              </a:rPr>
              <a:t>6. Буквы каких звуков проверяются ударени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3"/>
          <p:cNvSpPr/>
          <p:nvPr/>
        </p:nvSpPr>
        <p:spPr>
          <a:xfrm>
            <a:off x="3346560" y="5300640"/>
            <a:ext cx="2449440" cy="128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буквы 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468360" y="4076640"/>
            <a:ext cx="24494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6156360" y="3933720"/>
            <a:ext cx="273672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глухих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2020865"/>
          <p:cNvPicPr/>
          <p:nvPr/>
        </p:nvPicPr>
        <p:blipFill>
          <a:blip r:embed="rId1"/>
          <a:stretch/>
        </p:blipFill>
        <p:spPr>
          <a:xfrm>
            <a:off x="2754360" y="1773360"/>
            <a:ext cx="3633840" cy="20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69880" y="476280"/>
            <a:ext cx="800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  <a:ea typeface="Arial"/>
              </a:rPr>
              <a:t>7. В каких словах безударные гласные нельзя провер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3571920" y="2852640"/>
            <a:ext cx="2000160" cy="3451320"/>
          </a:xfrm>
          <a:custGeom>
            <a:avLst/>
            <a:gdLst>
              <a:gd name="textAreaLeft" fmla="*/ 138240 w 2000160"/>
              <a:gd name="textAreaRight" fmla="*/ 1861920 w 2000160"/>
              <a:gd name="textAreaTop" fmla="*/ 138240 h 3451320"/>
              <a:gd name="textAreaBottom" fmla="*/ 3313080 h 3451320"/>
            </a:gdLst>
            <a:ahLst/>
            <a:rect l="textAreaLeft" t="textAreaTop" r="textAreaRight" b="textAreaBottom"/>
            <a:pathLst>
              <a:path w="21600" h="37268">
                <a:moveTo>
                  <a:pt x="5109" y="0"/>
                </a:moveTo>
                <a:arcTo wR="5109" hR="5109" stAng="16200000" swAng="-5400000"/>
                <a:lnTo>
                  <a:pt x="0" y="32159"/>
                </a:lnTo>
                <a:arcTo wR="5109" hR="5109" stAng="10800000" swAng="-5400000"/>
                <a:lnTo>
                  <a:pt x="16491" y="37268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gradFill rotWithShape="0">
            <a:gsLst>
              <a:gs pos="0">
                <a:srgbClr val="ff9966">
                  <a:alpha val="51372"/>
                </a:srgbClr>
              </a:gs>
              <a:gs pos="50000">
                <a:srgbClr val="4f81bd">
                  <a:alpha val="51372"/>
                </a:srgbClr>
              </a:gs>
              <a:gs pos="100000">
                <a:srgbClr val="ff9966">
                  <a:alpha val="51372"/>
                </a:srgbClr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паль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ко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сап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6300720" y="2852640"/>
            <a:ext cx="2000160" cy="3451320"/>
          </a:xfrm>
          <a:custGeom>
            <a:avLst/>
            <a:gdLst>
              <a:gd name="textAreaLeft" fmla="*/ 134640 w 2000160"/>
              <a:gd name="textAreaRight" fmla="*/ 1865520 w 2000160"/>
              <a:gd name="textAreaTop" fmla="*/ 134640 h 3451320"/>
              <a:gd name="textAreaBottom" fmla="*/ 3316680 h 3451320"/>
            </a:gdLst>
            <a:ahLst/>
            <a:rect l="textAreaLeft" t="textAreaTop" r="textAreaRight" b="textAreaBottom"/>
            <a:pathLst>
              <a:path w="21600" h="37268">
                <a:moveTo>
                  <a:pt x="4971" y="0"/>
                </a:moveTo>
                <a:arcTo wR="4971" hR="4971" stAng="16200000" swAng="-5400000"/>
                <a:lnTo>
                  <a:pt x="0" y="32297"/>
                </a:lnTo>
                <a:arcTo wR="4971" hR="4971" stAng="10800000" swAng="-5400000"/>
                <a:lnTo>
                  <a:pt x="16629" y="37268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gradFill rotWithShape="0">
            <a:gsLst>
              <a:gs pos="0">
                <a:srgbClr val="ff9966">
                  <a:alpha val="51372"/>
                </a:srgbClr>
              </a:gs>
              <a:gs pos="100000">
                <a:srgbClr val="4f81bd">
                  <a:alpha val="51372"/>
                </a:srgbClr>
              </a:gs>
            </a:gsLst>
            <a:lin ang="189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мя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зелё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моло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826920" y="2852640"/>
            <a:ext cx="2000520" cy="3451320"/>
          </a:xfrm>
          <a:custGeom>
            <a:avLst/>
            <a:gdLst>
              <a:gd name="textAreaLeft" fmla="*/ 160920 w 2000520"/>
              <a:gd name="textAreaRight" fmla="*/ 1839600 w 2000520"/>
              <a:gd name="textAreaTop" fmla="*/ 160920 h 3451320"/>
              <a:gd name="textAreaBottom" fmla="*/ 3290400 h 3451320"/>
            </a:gdLst>
            <a:ahLst/>
            <a:rect l="textAreaLeft" t="textAreaTop" r="textAreaRight" b="textAreaBottom"/>
            <a:pathLst>
              <a:path w="21600" h="37262">
                <a:moveTo>
                  <a:pt x="5931" y="0"/>
                </a:moveTo>
                <a:arcTo wR="5931" hR="5931" stAng="16200000" swAng="-5400000"/>
                <a:lnTo>
                  <a:pt x="0" y="31331"/>
                </a:lnTo>
                <a:arcTo wR="5931" hR="5931" stAng="10800000" swAng="-5400000"/>
                <a:lnTo>
                  <a:pt x="15669" y="37262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66">
                  <a:alpha val="50196"/>
                </a:srgbClr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ве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лош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User</cp:lastModifiedBy>
  <dcterms:modified xsi:type="dcterms:W3CDTF">2013-03-24T13:40:19Z</dcterms:modified>
  <cp:revision>728</cp:revision>
  <dc:subject/>
  <dc:title>Слайд 1</dc:title>
</cp:coreProperties>
</file>