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6D8-A8DC-489D-925B-7DEC1133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553-2074-49ED-AF7C-55DCE25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2C61-7CA8-41B4-A96E-B20DD48F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39FA3-24A4-4F1D-B97A-2EDC6DBD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013BC-85FD-40E4-B882-AFB43B11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A7A8-CF62-4A2A-B673-9CB314EA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EAA16-BB0B-4552-A3CF-C8103C50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7FA8F-8D05-4E5E-9875-AE01D96F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FD33C-76DA-425B-B2EF-809F71BB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88088-4408-44E4-81DF-0B089088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D2315-75E2-4F5D-9687-A44CF45E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AFC7E-CD7C-46F5-9C04-62328C89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F61-D598-4980-953F-970FC470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297B7-FED1-4DB3-AC6A-3575F8415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11D1E-3B1F-4D75-B819-68833566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9619B-6C14-4D4C-8C02-7305AE96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630DB-E9FF-4CBC-AE75-66445AC0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DB09C-B319-4E61-8CE5-18FF1BC5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0A706-49CC-4F11-A57A-86E8E7A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111D3-3AD0-4D88-ACDE-7A6C555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ECD14-F353-4F52-BE14-98661FCA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B9DCD-B853-42B1-ABC0-807E48B3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99513-4B11-436B-9168-C3CF3E1A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8B9-A7F4-405E-A7EE-060C6A1A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31775-A351-4BD9-BA7B-A9C420E3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68FE6-3E6D-49D9-AE8D-45088799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E403D-D961-40A7-906D-2339B7B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C0164-E601-44F8-BBBC-1A2C8E9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F11AD-27DB-421B-B2F3-A5166EDC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25332-C6E0-430D-BABF-07B6B66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13794-039B-4668-99DA-918C44D0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6619F-0EF7-493B-B086-6E50CBD6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D8754-AA8A-4F68-A0B1-2DF17E89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3D6C-9B45-4B14-93FB-D2B9D079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B25-9864-4F97-BC88-1B3E48A6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84E32-A1B6-4791-8822-1BDF0148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26619-048F-400E-B57F-F6D24346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97692-12D1-4015-868B-35FAC89D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72528-69E0-4A4A-9E71-0AD798C8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032B01-7919-4B33-9E96-C2371A6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63E87-3201-4747-9232-105E4B5B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54D74-DBDF-44E4-AAB8-787A01A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2AC6A-0744-4230-B542-DADAD4A9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EF342-270C-4054-B759-3EC4D16F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C20A7-61D0-4218-9CA6-0972D30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0629-BFF9-43C3-B0C5-F7F4318A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2977A-18D6-430E-BE9A-655B829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FA6AC-4043-49EB-A8E3-11A1A987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A3250-A01A-4C63-A097-2105CC23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B9B8B-80EC-4DDD-8B40-DE27A907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A77A-20C1-4426-A5B8-D815668D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CDE912-24C3-4D5D-AAF8-4A7C5CAD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B5CB1-37C2-4A3D-9493-8E548693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094F1-218A-474F-B08C-80E6C97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5524E-01E2-427B-8C89-5B63D7E2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7705E-CEDF-43DA-BF52-5B44F69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111D-1D9F-4D5B-8C0D-3807A7A4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07C09-2D34-4E0B-8F46-8DA0C8F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E8A976-2BAB-470C-BD5C-B761844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61F06-BE80-4A89-8A25-F0BFE97E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6F05F-E8E9-4F79-92E6-9F4EBEF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192D2-4626-48F9-84B4-D5054384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0A6935-5E5D-4CB1-9B22-C5021A07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7C03E-0401-4AF3-898E-45AA3BD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8DCA6-5E48-48CA-98F2-C7117737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8081B-472B-4BD7-B94F-64DAA608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09FD7-163E-4CDA-B31D-EC692DE7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6174-26F0-411E-AB7F-8EBF202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A8DEC-B0E3-4415-B71A-5FBCB564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047DA8-D8F1-47D3-8FC5-335EA1A8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78BD9-CD87-48DA-B325-9587938A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D0739-C8C8-4871-AFE9-2CFC276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EAF214-F5D1-4EB8-B3A6-23F08D7C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E7F15-45DF-4CED-9972-234341F1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F0D58-2EA9-4D0B-B997-C1E0FD9C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12A403-5513-4C66-B6DA-0BB911B7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63AED-C019-40E9-BD96-2F0E4C72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9CE52-5464-4450-AD06-F8BC3EAF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25AC-3E2E-4122-80B9-281C9D49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204AB-8916-4720-84C3-33F99AEC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24E51-D50B-495C-A8CE-4B584C00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1BCC7-57B9-4241-AF4E-D2D0E548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3CDDE-5B2A-4E76-B12C-8DC98435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838AD-A456-472E-AE0A-837A6E67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7CCEA-48C8-4C14-A9D7-2265398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A4980-9301-4662-AC09-92947F5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5318C-1823-41CD-BE64-83273EE2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E56D9-C830-476B-AD53-D93B8B0C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2472F-6F2E-494C-8534-C0B7C4AE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7732-B831-4A64-B472-E0054C23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F8A6E-E65E-4FDD-8E65-BBFCCEF4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30A424-079C-477E-ABE6-4D335C35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0FFC5-F354-435B-8C46-43D5430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81B30-A51C-4EA1-80B7-DAB4CA69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1495B3-E24E-4385-B88D-ACC52CF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16FD7-A467-4753-B31D-693A4F36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84B61-B7FF-4513-BDFA-44E7650E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F5A1B2-BECC-4F56-808B-263A51A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EE05A-2C5F-4A56-94BA-09C6745D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2625C-41A3-43B1-9297-5DDF91E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D68B-C87B-4D19-A043-313B8AA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0D53D5-2C36-48C6-BBF3-FF9E58D4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12578-C2CC-43FA-AADB-63D70930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F280B-3499-454F-B6C4-5D8566C5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3514-8F1C-41B0-AC88-AD9D758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02BD-FD6D-4DAE-B05B-06A7A379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1550-F27F-4DC8-816C-4073280D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8E75-C2CB-4F08-924F-688852CE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A86-9D1B-4912-A43B-5F1DD35F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40EB-57CE-44E8-BC12-9469F441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573D-1FA9-43FB-A21F-A42D8D56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0911-3217-44C2-B560-4C87A55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97B8-1A6A-4BA9-B9A2-2EF4998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A17D-D019-4ECB-864F-2BBD841B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7BC3-9D32-4BCF-9E44-D3118790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8B1-662E-48C8-8268-CADC73B1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CA67-5D35-448E-B62A-080A1C4E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7CF5-20E1-46B3-84BE-EA7E1CA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64AB-632A-47D3-8BC7-6A8F8EB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C4242-55E4-4D1B-A9B7-95F1186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013D-1267-4F23-A83E-CBA1FD2B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9BE5-7E07-408F-8342-39E64FDB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9A2A-7871-4ECE-A190-0E0AE2F7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C851C-BFC6-49B4-BB66-16B6D06D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317BA-4316-4F42-9BF9-4AE08B17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7C0C7-B8AF-4C03-8E18-F7B4168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5B7-791B-4D42-8829-51C617E8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9183-3113-4A74-8967-A152DCD5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2164-8AC8-4E8E-AA8D-5CBE6692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F2CB2-7C84-48B3-B5EF-F288E34B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9EEA-5201-4941-89B0-656E202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5E75-2C2F-4DC0-9144-4563EEA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B39D-7352-404F-80BF-5E0348B5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C882E-A9C8-404F-8D23-99276F0D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1A73-0622-4E34-A498-6B4CD058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C88F-A98E-4871-B0CB-DF95CB57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34EF-58B7-48F8-88BC-9F778234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5D7-7598-42FA-B035-5C8C09BD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7190-B9B7-4783-8574-407EB7AC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45C3-816C-4FFC-AB43-943B45BB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36F3-F05F-482C-B83B-928FDA4D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D2E1E-0626-4BEE-87C7-27D2EEA6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37935-2A05-432E-BFDD-97BD7AB9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72B9-45AB-430A-884D-89420FC6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B1A4-48F3-44F0-9147-20A39A8C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E185F-0182-474A-970D-B4109B6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0063-3A45-4601-82A6-D8B6F13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8AECD-A993-4BD5-9B49-D96FB702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45B1-9240-46AF-B112-1EE1D3A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2A05-64DC-4755-AC51-C64FA059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9499F-E127-4771-8F9B-0AE298B0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6DDC-C646-4DB5-9E8B-58BDDEC3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BCA03-D8BA-461E-9DBD-FE6258A0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C013-40A2-4AF6-8F9A-B5D38AA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8700-0CE2-4D1B-8B7D-12A65CB5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E8537-CCD5-4A27-A2B1-8D337550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4887-A682-4251-84BF-304CC2C4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AF50D-4E28-4887-99FE-0BCAD24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72D3B-58B2-4C8B-B452-B17EEE2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217-57F8-4200-AC59-1437FF6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725E-0D4A-4310-963C-5CF3C69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562A3-4277-4C0C-A0DF-9C625C93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B605-70E4-40D7-A68E-948F9A4E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31A59-46C7-4BAD-AD49-3A82B06B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17326-2D1E-4723-925C-0DE2B880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2BB97-F0D1-46DB-B8FA-4B75F203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A05CD-9B11-4221-862E-69F614D7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21264-A6DB-4966-97ED-EC3EC5C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60FB9-A4EE-498F-8C24-E902160E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8F153-8BB6-40CB-8CC0-1CCFD47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6F5-DAF3-4DBD-B285-610D611D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88A70-F40C-4771-9B12-071FB3F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524D1-1F9D-4167-9FC1-93585C2E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0EA16-4029-47E6-ADE6-69B4FE48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6881-2366-4F77-8186-8BE85387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72423-2138-4300-8D6B-00DC1EEF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1772-6ADB-4166-A934-3539A67A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F503B-23D7-4AFC-A286-50D72920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4DB6-B8FF-4931-B5A9-C27091C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41BC-7E0E-4C22-A74C-68CCCA64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460CC-800B-4570-ABC4-6388B9B2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A79-CCA5-4AF6-80C6-2613F88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4B528-29C1-44B0-BC6A-244AA848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D723-9585-46CE-8E7C-AC6A52F9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9F44-65D8-4CF5-9C3F-CBD7678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142E-694E-4F48-B7FA-135E6410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56D49-71BC-4A93-96FC-19F2AD1A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46690-EBB8-4CF8-B91F-82CC4741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DDEC7-ABCE-47C1-96E0-1C2814E2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BDF4-1057-40A2-BDAC-76C36E82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3882C-7967-408D-B6ED-320E00C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61CF2-F822-4FAB-963A-2D0DF599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2C1-06C7-4D4D-94F5-8B1A00EB36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9E7D-7F71-4159-AD9D-4316F4E8F6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B736-1FDF-46D7-9719-79A210EF3E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4AC-47E8-4446-8328-E8FCC8D046A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4F0-1BCE-4CC1-8919-6A95A976A5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AB07-C9B9-41B1-A90A-25F84C48F5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6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6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F73B-3D1A-4E61-B017-C010EC8F4A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0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1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F0ED-A43A-46F5-ACE5-8B55FAD3A8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8C79-2186-4D64-8CDD-AD0F5130D3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E91E-4634-49A9-8FBD-562C72AE11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04AF-300F-4F73-B1C4-EDB6A4A8FD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E96-4FAD-4195-B9AF-FF216E7702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3957-79EE-4CFF-AEA8-42999C6AF6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B88D-762B-48E8-BADE-F962947A95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EA93-56D8-4E34-874E-AA494418A2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A35-A04C-4419-B7A5-BDA16E0ED6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571400" y="371484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Урок физики в 7 классе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1000080" y="785880"/>
            <a:ext cx="75009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cc"/>
                </a:solidFill>
                <a:latin typeface="Book Antiqua"/>
              </a:rPr>
              <a:t>Способы изменения давл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Comic Sans MS"/>
              </a:rPr>
              <a:t>Знания о способах изменения давления очень широко используются и в природе и в деятельности человека.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В какой обуви удобнее отправляться в пох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Picture 8" descr="2058739"/>
          <p:cNvPicPr/>
          <p:nvPr/>
        </p:nvPicPr>
        <p:blipFill>
          <a:blip r:embed="rId1"/>
          <a:stretch/>
        </p:blipFill>
        <p:spPr>
          <a:xfrm>
            <a:off x="5580000" y="1844640"/>
            <a:ext cx="2952720" cy="172872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9" descr="2081516"/>
          <p:cNvPicPr/>
          <p:nvPr/>
        </p:nvPicPr>
        <p:blipFill>
          <a:blip r:embed="rId2"/>
          <a:stretch/>
        </p:blipFill>
        <p:spPr>
          <a:xfrm>
            <a:off x="5580000" y="4221000"/>
            <a:ext cx="338472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69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69" fill="hold"/>
                                        <p:tgtEl>
                                          <p:spTgt spid="7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69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69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1" fill="hold">
                                          <p:stCondLst>
                                            <p:cond delay="76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В обуви на низком каблуке, т. к. в этом случае вес равномерно распределен по большей площади стопы и давление на стопу меньше, чем в обуви на высоком узком каблуке и ноги устают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7" descr="j0299125"/>
          <p:cNvPicPr/>
          <p:nvPr/>
        </p:nvPicPr>
        <p:blipFill>
          <a:blip r:embed="rId1"/>
          <a:stretch/>
        </p:blipFill>
        <p:spPr>
          <a:xfrm>
            <a:off x="1835280" y="189000"/>
            <a:ext cx="1028520" cy="1224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2058739"/>
          <p:cNvPicPr/>
          <p:nvPr/>
        </p:nvPicPr>
        <p:blipFill>
          <a:blip r:embed="rId2"/>
          <a:stretch/>
        </p:blipFill>
        <p:spPr>
          <a:xfrm>
            <a:off x="5148360" y="2708280"/>
            <a:ext cx="3744720" cy="237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акую ручку лучше пришить к рюкзаку?</a:t>
            </a: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83" name="Picture 6" descr="проен 001"/>
          <p:cNvPicPr/>
          <p:nvPr/>
        </p:nvPicPr>
        <p:blipFill>
          <a:blip r:embed="rId1"/>
          <a:stretch/>
        </p:blipFill>
        <p:spPr>
          <a:xfrm>
            <a:off x="324000" y="3141720"/>
            <a:ext cx="4244760" cy="3267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7" descr="проен 002"/>
          <p:cNvPicPr/>
          <p:nvPr/>
        </p:nvPicPr>
        <p:blipFill>
          <a:blip r:embed="rId2"/>
          <a:stretch/>
        </p:blipFill>
        <p:spPr>
          <a:xfrm>
            <a:off x="4716360" y="3141720"/>
            <a:ext cx="4172040" cy="3267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Какой из лопат легче вскапывать грядку?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Лопатой овальной формы, т. к. площадь режущей кромки меньше, то давление на почву можно создавать, действуя меньшей сил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876560" y="394128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11" descr=""/>
          <p:cNvPicPr/>
          <p:nvPr/>
        </p:nvPicPr>
        <p:blipFill>
          <a:blip r:embed="rId1"/>
          <a:stretch/>
        </p:blipFill>
        <p:spPr>
          <a:xfrm>
            <a:off x="5799240" y="1600200"/>
            <a:ext cx="1963800" cy="2189160"/>
          </a:xfrm>
          <a:prstGeom prst="rect">
            <a:avLst/>
          </a:prstGeom>
          <a:ln w="0">
            <a:noFill/>
          </a:ln>
        </p:spPr>
      </p:pic>
      <p:sp>
        <p:nvSpPr>
          <p:cNvPr id="78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12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4057560" cy="215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Почему ножи нужно подавать тупыми концами вперед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Comic Sans MS"/>
              </a:rPr>
              <a:t>У острых концов ножей площадь меньше, чем у тупых, поэтому даже небольшим усилием можно создать значительное давление, что может привести к трав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11" descr=""/>
          <p:cNvPicPr/>
          <p:nvPr/>
        </p:nvPicPr>
        <p:blipFill>
          <a:blip r:embed="rId1"/>
          <a:stretch/>
        </p:blipFill>
        <p:spPr>
          <a:xfrm>
            <a:off x="4876920" y="1862280"/>
            <a:ext cx="3809880" cy="400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Times New Roman"/>
              </a:rPr>
              <a:t>По какому признаку объединены эти объекты?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95" name="Picture 9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1532160" cy="218916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10" descr=""/>
          <p:cNvPicPr/>
          <p:nvPr/>
        </p:nvPicPr>
        <p:blipFill>
          <a:blip r:embed="rId2"/>
          <a:stretch/>
        </p:blipFill>
        <p:spPr>
          <a:xfrm>
            <a:off x="2627280" y="1557360"/>
            <a:ext cx="1738440" cy="218916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Из-за маленькой площади поверхности острия можно создавать большое давление, действуя мал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7" descr=""/>
          <p:cNvPicPr/>
          <p:nvPr/>
        </p:nvPicPr>
        <p:blipFill>
          <a:blip r:embed="rId3"/>
          <a:stretch/>
        </p:blipFill>
        <p:spPr>
          <a:xfrm>
            <a:off x="1403280" y="3933720"/>
            <a:ext cx="2592360" cy="223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33"/>
                </a:solidFill>
                <a:latin typeface="Times New Roman"/>
              </a:rPr>
              <a:t>Удав не ядовит, но не менее опасен, чем ядовитые змеи. Почему?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800" name="Object 12"/>
          <p:cNvGraphicFramePr/>
          <p:nvPr/>
        </p:nvGraphicFramePr>
        <p:xfrm>
          <a:off x="-5653080" y="1557360"/>
          <a:ext cx="9504360" cy="42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653080" y="1557360"/>
                    <a:ext cx="95043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omic Sans MS"/>
              </a:rPr>
              <a:t>Удав, обвиваясь вокруг тела жертвы, напрягает мышцы (т.е. увеличивает силу) и, таким образом, создает большое давление на неё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7" descr=""/>
          <p:cNvPicPr/>
          <p:nvPr/>
        </p:nvPicPr>
        <p:blipFill>
          <a:blip r:embed="rId3"/>
          <a:stretch/>
        </p:blipFill>
        <p:spPr>
          <a:xfrm>
            <a:off x="5940360" y="4581360"/>
            <a:ext cx="2376720" cy="2171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ff"/>
                </a:solidFill>
                <a:latin typeface="Book Antiqua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  <a:ea typeface="Arial"/>
              </a:rPr>
              <a:t>§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  <a:ea typeface="Arial"/>
              </a:rPr>
              <a:t> 34, упр. 13 у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  <a:ea typeface="Arial"/>
              </a:rPr>
              <a:t>Для желающих – выполнить задание 6 или придумать свой вопрос о применении способов изменения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5"/>
          <p:cNvSpPr/>
          <p:nvPr/>
        </p:nvSpPr>
        <p:spPr>
          <a:xfrm>
            <a:off x="1258920" y="4941720"/>
            <a:ext cx="6769080" cy="1008360"/>
          </a:xfrm>
          <a:custGeom>
            <a:avLst/>
            <a:gdLst>
              <a:gd name="textAreaLeft" fmla="*/ 1692360 w 6769080"/>
              <a:gd name="textAreaRight" fmla="*/ 5077080 w 6769080"/>
              <a:gd name="textAreaTop" fmla="*/ 252000 h 1008360"/>
              <a:gd name="textAreaBottom" fmla="*/ 9784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2987640" y="5300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Спасибо за ур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18">
                                  <p:stCondLst>
                                    <p:cond delay="2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3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18">
                                  <p:stCondLst>
                                    <p:cond delay="2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330033"/>
                </a:solidFill>
                <a:latin typeface="Book Antiqua"/>
              </a:rPr>
              <a:t>Цели и задачи уро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Познакомить учащихся со способами изменения давления, с использованием этих способов в природе и в тех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Создать условия для развития умений анализировать информацию, выстраивать причинно-следственные связи, применять знания в стандартных и в новых ситуациях, переводить невербальную информацию в вербальную, систематизировать информацию в виде схемы; для расширения кругозора и, как следствие, способствовать формированию культуры учебного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Book Antiqua"/>
              </a:rPr>
              <a:t>Кто из  вас знает, как называется это растение?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Book Antiqua"/>
              </a:rPr>
              <a:t>Чем оно знаменито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60" name="Picture 8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72360" cy="4176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914400" y="1844640"/>
            <a:ext cx="76183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Это растение из семейства кувшинко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Листья этого растения удивительно похожи на плотики. Некоторые из листьев выдерживают насыпанный песок массой до 50 кг, но если на лист поставить мешок с песком той же массы, то лист деформируется и начинает тону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4" descr="Водяные лилии"/>
          <p:cNvPicPr/>
          <p:nvPr/>
        </p:nvPicPr>
        <p:blipFill>
          <a:blip r:embed="rId1"/>
          <a:stretch/>
        </p:blipFill>
        <p:spPr>
          <a:xfrm>
            <a:off x="4140360" y="0"/>
            <a:ext cx="4319280" cy="1773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j0299125"/>
          <p:cNvPicPr/>
          <p:nvPr/>
        </p:nvPicPr>
        <p:blipFill>
          <a:blip r:embed="rId2"/>
          <a:stretch/>
        </p:blipFill>
        <p:spPr>
          <a:xfrm>
            <a:off x="1835280" y="189000"/>
            <a:ext cx="1028520" cy="122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Насыпанный песок и мешок с песком создают разное давление, т.к. один и тот же вес действует на разную площад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Т. е. давление можно изме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Arial"/>
              </a:rPr>
              <a:t>Итак, тема нашего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«Способы изменения давлен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j0299125"/>
          <p:cNvPicPr/>
          <p:nvPr/>
        </p:nvPicPr>
        <p:blipFill>
          <a:blip r:embed="rId1"/>
          <a:stretch/>
        </p:blipFill>
        <p:spPr>
          <a:xfrm>
            <a:off x="971640" y="18900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0033"/>
                </a:solidFill>
                <a:latin typeface="Times New Roman"/>
              </a:rPr>
              <a:t>Целеполагание . </a:t>
            </a:r>
            <a:r>
              <a:rPr b="0" lang="ru-RU" sz="2600" spc="-1" strike="noStrike">
                <a:solidFill>
                  <a:srgbClr val="9900cc"/>
                </a:solidFill>
                <a:latin typeface="Times New Roman"/>
              </a:rPr>
              <a:t>Что можно</a:t>
            </a:r>
            <a:r>
              <a:rPr b="0" lang="ru-RU" sz="42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9900cc"/>
                </a:solidFill>
                <a:latin typeface="Times New Roman"/>
              </a:rPr>
              <a:t>узнать по теме урока?</a:t>
            </a:r>
            <a:endParaRPr b="0" lang="en-US" sz="2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Как можно изменить дав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Зачем нужно изменять давл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omic Sans MS"/>
              </a:rPr>
              <a:t>Где можно использовать знания об изменении давле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68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68" fill="hold"/>
                                        <p:tgtEl>
                                          <p:spTgt spid="7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68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68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равнение дробе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2" descr="Рис.1. Сравнение дробей"/>
          <p:cNvPicPr/>
          <p:nvPr/>
        </p:nvPicPr>
        <p:blipFill>
          <a:blip r:embed="rId2"/>
          <a:stretch/>
        </p:blipFill>
        <p:spPr>
          <a:xfrm>
            <a:off x="755640" y="1484280"/>
            <a:ext cx="7920000" cy="47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ff"/>
                </a:solidFill>
                <a:latin typeface="Comic Sans MS"/>
              </a:rPr>
              <a:t>Что значит «изменить давление»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772" name="Picture 4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4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68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68" fill="hold"/>
                                        <p:tgtEl>
                                          <p:spTgt spid="7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68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68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Comic Sans MS"/>
              </a:rPr>
              <a:t>Экспресс - закреп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Если сила увеличилась в 2 раза, то давлени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увеличилось в 2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Если площадь увеличилась в 4 раза, то давлени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уменьшилось в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Если давление увеличилось в 5 раз, то площад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уменьшилась в 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33"/>
                </a:solidFill>
                <a:latin typeface="Arial"/>
              </a:rPr>
              <a:t>Если давление уменьшилось в 2,7 раза, то си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…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уменьшилась в 2,7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68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68" fill="hold"/>
                                        <p:tgtEl>
                                          <p:spTgt spid="7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68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68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5:20:37Z</dcterms:created>
  <dc:creator>User</dc:creator>
  <dc:description/>
  <dc:language>en-US</dc:language>
  <cp:lastModifiedBy>RePack by SPecialiST</cp:lastModifiedBy>
  <dcterms:modified xsi:type="dcterms:W3CDTF">2015-08-28T18:46:21Z</dcterms:modified>
  <cp:revision>14</cp:revision>
  <dc:subject/>
  <dc:title>Урок физики в 7 классе</dc:title>
</cp:coreProperties>
</file>