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gif" ContentType="image/gif"/>
  <Override PartName="/ppt/media/image8.png" ContentType="image/png"/>
  <Override PartName="/ppt/media/image7.gif" ContentType="image/gif"/>
  <Override PartName="/ppt/media/image5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00C-B2C0-4CEF-B5D2-F6DA2E29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3DC-7970-4AAE-9497-8EE457A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ACC-B054-46E2-8F4A-ABE7D96C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223-07AA-47C3-82CB-BA13A702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C538-55BD-445B-BFD0-FBAF8B75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44E9-BF41-4877-AECD-D9FD45F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55D-D33B-4A7F-8B9F-CC20CED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4F0D-6A6D-4329-AC6D-D092790B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4397-5711-4647-842A-DA8BB7FA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9074-2230-4C07-8839-CA4167CA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AD81-B601-4F9C-83BE-AAE7C88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C1A-E7F5-489D-9C2D-FC069B6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05A-D474-435D-A2BA-BBE9ED0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435-FBF3-4159-9E99-E1DAA7C8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7B3-D4F6-4359-9E90-7CD52957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630A-64B9-4D85-AEE4-ECBB2317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D49-3E08-4603-B78F-23D9E67D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4EA-DB3F-47CE-9C40-9608095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890-F1E1-4DA7-94DA-D4DF6946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CFB-1B22-4CE6-A8B8-9919A11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B64-B1CF-4632-B91F-9AFEAD9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3A3-7A25-41DC-B048-3811645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D1B-14D9-4A39-9A2B-47D42CEA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F67-AEB2-48AD-B875-D1AA6F65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29A-B118-419B-BC38-A26FD714022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78F-2F6E-4252-926E-868A787A070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23800" y="-171360"/>
            <a:ext cx="7797960" cy="1671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92560" y="5078520"/>
          <a:ext cx="4051440" cy="1779480"/>
        </p:xfrm>
        <a:graphic>
          <a:graphicData uri="http://schemas.openxmlformats.org/drawingml/2006/table">
            <a:tbl>
              <a:tblPr/>
              <a:tblGrid>
                <a:gridCol w="173520"/>
                <a:gridCol w="3877920"/>
              </a:tblGrid>
              <a:tr h="177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ефьева Валентина Петров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питатель МКДОУ ДС «Семицветик»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Краснослободс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гоградской обла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2" descr="http://www.yerelgundem.com/uploads/haberler/2013/01/25/11a55af_o.jpg"/>
          <p:cNvPicPr/>
          <p:nvPr/>
        </p:nvPicPr>
        <p:blipFill>
          <a:blip r:embed="rId2"/>
          <a:stretch/>
        </p:blipFill>
        <p:spPr>
          <a:xfrm>
            <a:off x="1187280" y="1341360"/>
            <a:ext cx="705672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-208080" y="396720"/>
            <a:ext cx="3926160" cy="1230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rcRect l="0" t="10436" r="0" b="0"/>
          <a:stretch/>
        </p:blipFill>
        <p:spPr>
          <a:xfrm>
            <a:off x="3348000" y="-6480"/>
            <a:ext cx="5796000" cy="686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682560" y="-42840"/>
            <a:ext cx="7766280" cy="110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Рисунок 3" descr="C:\Users\учитель\AppData\Local\Temp\Rar$DI13.113\созвездия осенн неба.gif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682560" y="-66600"/>
            <a:ext cx="7766280" cy="1700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C:\Users\учитель\AppData\Local\Temp\Rar$DI00.572\больш и малая медведица.gif"/>
          <p:cNvPicPr/>
          <p:nvPr/>
        </p:nvPicPr>
        <p:blipFill>
          <a:blip r:embed="rId2"/>
          <a:stretch/>
        </p:blipFill>
        <p:spPr>
          <a:xfrm>
            <a:off x="25560" y="1413000"/>
            <a:ext cx="9118440" cy="5445000"/>
          </a:xfrm>
          <a:prstGeom prst="rect">
            <a:avLst/>
          </a:prstGeom>
          <a:ln w="0">
            <a:noFill/>
          </a:ln>
        </p:spPr>
      </p:pic>
      <p:pic>
        <p:nvPicPr>
          <p:cNvPr id="94" name="076 HAMPTON THE HAMPSTER - JINGLE BELLS.mp3" descr=""/>
          <p:cNvPicPr/>
          <p:nvPr/>
        </p:nvPicPr>
        <p:blipFill>
          <a:blip r:embed="rId3"/>
          <a:stretch/>
        </p:blipFill>
        <p:spPr>
          <a:xfrm>
            <a:off x="4419720" y="3801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8778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-6480" y="-103320"/>
            <a:ext cx="9156960" cy="156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http://img1.liveinternet.ru/images/attach/c/2/65/872/65872151_f599e6d69d047a2a988d813d6222498b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8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g1.liveinternet.ru/images/attach/c/0/48/411/48411202_tcefey_kass.gif"/>
          <p:cNvPicPr/>
          <p:nvPr/>
        </p:nvPicPr>
        <p:blipFill>
          <a:blip r:embed="rId3"/>
          <a:stretch/>
        </p:blipFill>
        <p:spPr>
          <a:xfrm>
            <a:off x="0" y="1522440"/>
            <a:ext cx="9144000" cy="533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meteoweb.ru/astro/img/clnd/clnd047-3.gif"/>
          <p:cNvPicPr/>
          <p:nvPr/>
        </p:nvPicPr>
        <p:blipFill>
          <a:blip r:embed="rId4"/>
          <a:stretch/>
        </p:blipFill>
        <p:spPr>
          <a:xfrm>
            <a:off x="0" y="1397160"/>
            <a:ext cx="9144000" cy="546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5092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Самая   большая звезда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Times New Roman"/>
              </a:rPr>
              <a:t>планета - Солнц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stat17.privet.ru/lr/0a35114f0445520f45637badc81a8437"/>
          <p:cNvPicPr/>
          <p:nvPr/>
        </p:nvPicPr>
        <p:blipFill>
          <a:blip r:embed="rId1"/>
          <a:stretch/>
        </p:blipFill>
        <p:spPr>
          <a:xfrm>
            <a:off x="-34920" y="1300320"/>
            <a:ext cx="9178920" cy="5591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slunecni_soustava_jpg_4c7b8000e4.jpg"/>
          <p:cNvPicPr/>
          <p:nvPr/>
        </p:nvPicPr>
        <p:blipFill>
          <a:blip r:embed="rId2"/>
          <a:stretch/>
        </p:blipFill>
        <p:spPr>
          <a:xfrm>
            <a:off x="0" y="1341360"/>
            <a:ext cx="9043920" cy="556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06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meteoweb.ru/astro/img/lessons/less004-1.gif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12" descr=""/>
          <p:cNvPicPr/>
          <p:nvPr/>
        </p:nvPicPr>
        <p:blipFill>
          <a:blip r:embed="rId1"/>
          <a:stretch/>
        </p:blipFill>
        <p:spPr>
          <a:xfrm>
            <a:off x="317520" y="396720"/>
            <a:ext cx="843588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8:26:49Z</dcterms:created>
  <dc:creator>user</dc:creator>
  <dc:description/>
  <dc:language>en-US</dc:language>
  <cp:lastModifiedBy>Валентина</cp:lastModifiedBy>
  <dcterms:modified xsi:type="dcterms:W3CDTF">2015-07-20T21:25:29Z</dcterms:modified>
  <cp:revision>18</cp:revision>
  <dc:subject/>
  <dc:title>Слайд 1</dc:title>
</cp:coreProperties>
</file>