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F3C-CB8A-47FA-B675-5B62C289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3F1-B544-4365-B0E8-8FB9FF93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39C-158C-4DE2-85D5-C846A43A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590-417B-402D-9D97-6CB2A144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08B-F574-4AD1-87A3-E370FB10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EBB-CABF-4924-9305-2ED7148A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74E-B4A4-443F-82FF-4300E1E5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A71-3CFE-497D-ABA5-306E2BBB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0F2-ED94-4447-99A2-A3738A9C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0C4-28D3-4EF9-9E1C-61E2C98C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427-CB02-4768-859E-C92E25E5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E88-DD4D-4301-9B24-F0965E70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B75E-781E-44ED-9277-08C3461A4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28600"/>
            <a:ext cx="8534520" cy="642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60 лет Белгород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600"/>
            <a:ext cx="8610480" cy="6324480"/>
          </a:xfrm>
          <a:prstGeom prst="rect">
            <a:avLst/>
          </a:prstGeom>
          <a:blipFill rotWithShape="0">
            <a:blip r:embed="rId1">
              <a:alphaModFix amt="4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c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lavianskiy"/>
              </a:rPr>
              <a:t>Белгородской области 60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276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Герб Белгородской области был утверждён постановлением Белгородской областной Думы 15 февраля 1996 года и внесён в геральдический регистр Российской Федерации под №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2743" t="3685" r="4089" b="1550"/>
          <a:stretch/>
        </p:blipFill>
        <p:spPr>
          <a:xfrm>
            <a:off x="1427040" y="3505320"/>
            <a:ext cx="2575080" cy="272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181480" y="3429000"/>
            <a:ext cx="3429000" cy="2538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67080" y="1295280"/>
            <a:ext cx="4419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Белгородская область расположена на юго-западных и южных склонах Среднерусской возвышенности в бассейне рек Днепра и Дон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Её площадь составляет 27,1 тыс. кв. к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Общая длинна границ области   составляет около 115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blipFill rotWithShape="0">
            <a:blip r:embed="rId1">
              <a:alphaModFix amt="4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c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lavianskiy"/>
              </a:rPr>
              <a:t>Белгородской области 60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419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Общая площадь земельных угодий области составляет 2713,4 тыс. 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77% площади занято чернозём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15% площади приходится на долю лесных поч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eorgia"/>
              </a:rPr>
              <a:t>ЧЕРНОЗЕМЫ – НАЦИОНАЛЬНОЕ БОГАТСВО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10080" y="1143000"/>
            <a:ext cx="2819520" cy="2089080"/>
          </a:xfrm>
          <a:prstGeom prst="rect">
            <a:avLst/>
          </a:prstGeom>
          <a:ln w="0">
            <a:noFill/>
          </a:ln>
          <a:effectLst>
            <a:outerShdw dist="143570" dir="2700000" blurRad="0" rotWithShape="0">
              <a:srgbClr val="3333cc">
                <a:alpha val="50000"/>
              </a:srgbClr>
            </a:outerShdw>
          </a:effectLst>
        </p:spPr>
      </p:pic>
      <p:sp>
        <p:nvSpPr>
          <p:cNvPr id="53" name=""/>
          <p:cNvSpPr/>
          <p:nvPr/>
        </p:nvSpPr>
        <p:spPr>
          <a:xfrm>
            <a:off x="990720" y="5562720"/>
            <a:ext cx="3429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В Белгородской области  создан Государственный заповедник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«Белогорь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990720" y="3149640"/>
            <a:ext cx="2971800" cy="2317680"/>
          </a:xfrm>
          <a:prstGeom prst="rect">
            <a:avLst/>
          </a:prstGeom>
          <a:ln w="0">
            <a:noFill/>
          </a:ln>
          <a:effectLst>
            <a:outerShdw dist="143570" dir="2700000" blurRad="0" rotWithShape="0">
              <a:srgbClr val="3333cc">
                <a:alpha val="50000"/>
              </a:srgbClr>
            </a:outerShdw>
          </a:effectLst>
        </p:spPr>
      </p:pic>
      <p:sp>
        <p:nvSpPr>
          <p:cNvPr id="55" name=""/>
          <p:cNvSpPr/>
          <p:nvPr/>
        </p:nvSpPr>
        <p:spPr>
          <a:xfrm>
            <a:off x="4572000" y="3581280"/>
            <a:ext cx="4343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Видовой состав флоры насчитывает около 1500 ви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Условно по значению выделяют 8 групп: пищевые, медоносные, кормовые, ядовитые, лекарственные, витаминоносные, технические, декоративны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Из них 37 в Красной  книги РСФ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blipFill rotWithShape="0">
            <a:blip r:embed="rId1">
              <a:alphaModFix amt="4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c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lavianskiy"/>
              </a:rPr>
              <a:t>Белгородской области 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3505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В Белгородской обла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1 сахарных заво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6 консервных комбина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0 мясокомбина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2 молокоперерабатывающих зав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5 предприятий, вырабатывающих  консервы, кондитерские изделия, лимонную кислоту, крахмал, растительное масло, эфиромасличную продук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10280" y="990720"/>
            <a:ext cx="1905120" cy="190476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952880" y="3429000"/>
            <a:ext cx="1447920" cy="1373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257800" y="1905120"/>
            <a:ext cx="2181240" cy="1414440"/>
          </a:xfrm>
          <a:prstGeom prst="rect">
            <a:avLst/>
          </a:prstGeom>
          <a:ln w="0">
            <a:noFill/>
          </a:ln>
          <a:effectLst>
            <a:outerShdw dist="143570" dir="2700000" blurRad="0" rotWithShape="0">
              <a:srgbClr val="3333cc">
                <a:alpha val="50000"/>
              </a:srgbClr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962520" y="4952880"/>
            <a:ext cx="2260440" cy="146556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6248520" y="4495680"/>
            <a:ext cx="2666880" cy="200052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6781680" y="2895480"/>
            <a:ext cx="1752840" cy="17528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533520" y="1295280"/>
            <a:ext cx="1871640" cy="2468520"/>
          </a:xfrm>
          <a:prstGeom prst="rect">
            <a:avLst/>
          </a:prstGeom>
          <a:ln w="57240">
            <a:solidFill>
              <a:srgbClr val="cc0000"/>
            </a:solidFill>
            <a:miter/>
          </a:ln>
          <a:effectLst>
            <a:outerShdw dist="143570" dir="2700000" blurRad="0" rotWithShape="0">
              <a:srgbClr val="3333cc">
                <a:alpha val="50000"/>
              </a:srgbClr>
            </a:outerShdw>
          </a:effectLst>
        </p:spPr>
      </p:pic>
      <p:sp>
        <p:nvSpPr>
          <p:cNvPr id="66" name=""/>
          <p:cNvSpPr/>
          <p:nvPr/>
        </p:nvSpPr>
        <p:spPr>
          <a:xfrm>
            <a:off x="2666880" y="1371600"/>
            <a:ext cx="2667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В  структуре промышленности ведущее положение заним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-черная металлургия (46%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-пищевая промышленность (21%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-машиностроение и металлообработка (10%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-Электроэнергетика(9%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-Промышленность стройматериалов (7%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blipFill rotWithShape="0">
            <a:blip r:embed="rId1">
              <a:alphaModFix amt="4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814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c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lavianskiy"/>
              </a:rPr>
              <a:t>Высшие учебные заведения </a:t>
            </a:r>
            <a:r>
              <a:rPr b="0" lang="en-US" sz="3600" spc="-1" strike="noStrike">
                <a:solidFill>
                  <a:srgbClr val="ff0000"/>
                </a:solidFill>
                <a:latin typeface="Slavianskiy"/>
              </a:rPr>
              <a:t>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Систему высшего  и среднего профессионального образования в области представляю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Белгородский государственный университе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Белгородская государственная технологическая академия строительных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Белгородская государственная сельскохозяйственная академ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Белгородский университет потребительской коопер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Белгородский государственный институт культу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Белгородский институт экономики управл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Белгородский институт предпринимательства и культу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Многочисленные филиалы московских вузов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5000" y="547560"/>
            <a:ext cx="2590920" cy="1376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</p:pic>
      <p:pic>
        <p:nvPicPr>
          <p:cNvPr id="71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724280" y="1752480"/>
            <a:ext cx="2514600" cy="14734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562720" y="4572000"/>
            <a:ext cx="2895480" cy="155736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4038480" y="3200400"/>
            <a:ext cx="2667240" cy="150012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3353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В области сформировался ряд добровольно – спортивных обществ: «Труд», «Трудовые резервы», «Буревестник», «Спартак», «Динамо», «Локомотив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1280 физкультурно-спортивных  коллектив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23 детско-юношеские спортивные шк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порт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Спорт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Спор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141640" cy="3200400"/>
          </a:xfrm>
          <a:prstGeom prst="rect">
            <a:avLst/>
          </a:prstGeom>
          <a:ln w="0">
            <a:noFill/>
          </a:ln>
          <a:effectLst>
            <a:outerShdw dist="117181" dir="2438368" blurRad="0" rotWithShape="0">
              <a:srgbClr val="3333cc">
                <a:alpha val="50000"/>
              </a:srgbClr>
            </a:outerShdw>
          </a:effectLst>
        </p:spPr>
      </p:pic>
      <p:pic>
        <p:nvPicPr>
          <p:cNvPr id="77" name="" descr=""/>
          <p:cNvPicPr/>
          <p:nvPr/>
        </p:nvPicPr>
        <p:blipFill>
          <a:blip r:embed="rId2"/>
          <a:srcRect l="12165" t="0" r="22972" b="0"/>
          <a:stretch/>
        </p:blipFill>
        <p:spPr>
          <a:xfrm>
            <a:off x="6324480" y="4191120"/>
            <a:ext cx="2590920" cy="187956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3333cc"/>
            </a:outerShdw>
          </a:effectLst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191120" y="2895480"/>
            <a:ext cx="2590560" cy="232596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3333c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08-30T17:05:2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