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wmf" ContentType="image/x-wmf"/>
  <Override PartName="/ppt/media/image15.jpeg" ContentType="image/jpeg"/>
  <Override PartName="/ppt/media/image23.png" ContentType="image/png"/>
  <Override PartName="/ppt/media/image13.png" ContentType="image/png"/>
  <Override PartName="/ppt/media/image27.jpeg" ContentType="image/jpeg"/>
  <Override PartName="/ppt/media/image6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drumroll.wav" ContentType="audio/x-wav"/>
  <Override PartName="/ppt/media/image29.jpeg" ContentType="image/jpeg"/>
  <Override PartName="/ppt/media/image30.png" ContentType="image/png"/>
  <Override PartName="/ppt/media/image5.png" ContentType="image/png"/>
  <Override PartName="/ppt/media/image31.png" ContentType="image/png"/>
  <Override PartName="/ppt/media/image12.png" ContentType="image/png"/>
  <Override PartName="/ppt/media/image32.gif" ContentType="image/gif"/>
  <Override PartName="/ppt/media/image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4.png" ContentType="image/png"/>
  <Override PartName="/ppt/media/image20.png" ContentType="image/png"/>
  <Override PartName="/ppt/media/image28.jpeg" ContentType="image/jpe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E684-AF46-4EBD-8C61-302582F3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6A2-E7A9-4CCA-B96B-2802B2DD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F477-09E5-4B3F-BA25-C6E935DE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29E5-C26D-4FDE-8461-7ED1D144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1392-3BBF-48D3-B36B-663114A85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B2B9-2CC8-4D16-9735-CA91419F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0CBF-C22F-436B-816E-4A311EE6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1EC0-42A5-4D4F-AB09-36D0CC6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E5C5-9D80-436E-98FE-49B3215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2FBC-7954-4F1C-9802-3A826303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3C75-6C8E-4E40-AC19-39A90984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4073-B21A-479D-A082-3956FD1F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9BBA-2087-4037-B652-BC470102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A696-0ADE-44E2-B330-CAAE9941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F83C-FFE5-4DDF-86CB-AD829A10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63A-35BB-4135-9F71-123BDC8F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63C7-A20C-439C-B0FF-D955BF70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C924-49BA-4563-AC38-47BA3316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54506-4CC5-41CE-9980-36002E3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885CB-C4A6-42E7-B7F5-557B4CB1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4AB8-FEA4-4BB3-894F-B0FCFD81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69D83-9CC8-4C1D-9948-FE343E06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A56-F260-4718-B016-7E22EC36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89ED9-1731-4242-8100-2BF121BD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F7235-279B-4A7A-A0CE-E3DBB1D1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449C4-5670-4B70-8783-2512296F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46EC8-6E40-4C13-A3CB-0C423552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2E1C6-4195-4799-8C0B-EA831530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93EB7-E37F-4969-AEFA-E6938E693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2B922-E7B4-42CF-9B5D-C471ECEA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44EEB-BC18-40A4-80C3-70D25074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D1E8F-CCE7-45E7-84D6-EBA3BCB0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9B3CD-80EE-48F0-97D1-B2C6CDB7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BE7-A58D-4DBD-9AED-AA634621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A9FC0-C45C-4288-9A76-1CEFF958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5780-3094-410F-A8E5-755F8707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2326F-59C0-4C06-B3DD-F4E306D0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1255-3109-4933-9356-83B3F82C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893D2-7DCA-4A8B-B6FC-AA7FD5A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61100-E6DF-4494-BBDA-61D539FF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090A0-9570-4A34-AD50-2E2B2606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75557-3D37-4533-BCAC-CA834FC35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7E20-6CEB-40A1-B368-1BDE44C70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9E10-430A-483A-BCCD-8EEFD551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678A-11DC-4E19-9B8C-519A3631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039-7B78-4267-A54F-99703E88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0745-137B-485E-ACC3-55AAF47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B6F3-E0E7-4361-BA22-806564A0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B57E-6832-4C84-8B49-75013A14022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58B5-8248-4797-B144-0C2341D40D5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F877-C38C-47D7-8DE3-BF43AB00B1F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26AE-887E-49A3-84A6-294B2A66D99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1.jpe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Рисунок 4" descr="j0407523.jpg"/>
          <p:cNvPicPr/>
          <p:nvPr/>
        </p:nvPicPr>
        <p:blipFill>
          <a:blip r:embed="rId1"/>
          <a:stretch/>
        </p:blipFill>
        <p:spPr>
          <a:xfrm>
            <a:off x="0" y="3571920"/>
            <a:ext cx="5143680" cy="328608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530280" y="633240"/>
            <a:ext cx="8626320" cy="30798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72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дготовил учитель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чальных классов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ОУ «СОШ№4»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Ефимова Т.А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3"/>
          <a:srcRect l="39492" t="0" r="0" b="0"/>
          <a:stretch/>
        </p:blipFill>
        <p:spPr>
          <a:xfrm>
            <a:off x="2714760" y="4724280"/>
            <a:ext cx="10951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2" name="Picture 2" descr="pictur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3" name="Picture 2" descr="pictur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34" name="Picture 2" descr="http://img1.liveinternet.ru/images/attach/b/3/16/939/16939967_V.JPG"/>
          <p:cNvPicPr/>
          <p:nvPr/>
        </p:nvPicPr>
        <p:blipFill>
          <a:blip r:embed="rId3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235" name="Picture 2" descr="http://img1.liveinternet.ru/images/attach/b/3/16/940/16940055_V.JPG"/>
          <p:cNvPicPr/>
          <p:nvPr/>
        </p:nvPicPr>
        <p:blipFill>
          <a:blip r:embed="rId4"/>
          <a:stretch/>
        </p:blipFill>
        <p:spPr>
          <a:xfrm>
            <a:off x="304920" y="304920"/>
            <a:ext cx="9144000" cy="6858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nstantia"/>
              </a:rPr>
              <a:t>Высокомерна, неуважительна, трудолюбива, зла, скромна, груба, почтительна, добра, ленива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609480"/>
            <a:ext cx="8229600" cy="110340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мальчик.png"/>
          <p:cNvPicPr/>
          <p:nvPr/>
        </p:nvPicPr>
        <p:blipFill>
          <a:blip r:embed="rId2"/>
          <a:stretch/>
        </p:blipFill>
        <p:spPr>
          <a:xfrm>
            <a:off x="6429240" y="1571760"/>
            <a:ext cx="239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Calibri"/>
              </a:rPr>
              <a:t>Рефлексия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Какую сказку дочитали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Что понравилось на уроке  …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Рисунок 3" descr="Изображение 4534.gif"/>
          <p:cNvPicPr/>
          <p:nvPr/>
        </p:nvPicPr>
        <p:blipFill>
          <a:blip r:embed="rId1"/>
          <a:stretch/>
        </p:blipFill>
        <p:spPr>
          <a:xfrm>
            <a:off x="4857840" y="3357720"/>
            <a:ext cx="38574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4" descr="05Z0015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7542000"/>
          </a:xfrm>
          <a:prstGeom prst="rect">
            <a:avLst/>
          </a:prstGeom>
          <a:ln w="0">
            <a:noFill/>
          </a:ln>
        </p:spPr>
      </p:pic>
      <p:sp>
        <p:nvSpPr>
          <p:cNvPr id="202" name="Скругленная прямоугольная выноска 4"/>
          <p:cNvSpPr/>
          <p:nvPr/>
        </p:nvSpPr>
        <p:spPr>
          <a:xfrm>
            <a:off x="428760" y="4929120"/>
            <a:ext cx="4429080" cy="1571760"/>
          </a:xfrm>
          <a:prstGeom prst="wedgeRoundRectCallout">
            <a:avLst>
              <a:gd name="adj1" fmla="val -22935"/>
              <a:gd name="adj2" fmla="val 70814"/>
              <a:gd name="adj3" fmla="val 16667"/>
            </a:avLst>
          </a:prstGeom>
          <a:solidFill>
            <a:srgbClr val="0f6fc6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nstantia"/>
              </a:rPr>
              <a:t>Вы получите Деда Мороза, когда выполните мои зад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group" descr=""/>
          <p:cNvPicPr/>
          <p:nvPr/>
        </p:nvPicPr>
        <p:blipFill>
          <a:blip r:embed="rId1"/>
          <a:stretch/>
        </p:blipFill>
        <p:spPr>
          <a:xfrm>
            <a:off x="1378080" y="652320"/>
            <a:ext cx="5314680" cy="2352960"/>
          </a:xfrm>
          <a:prstGeom prst="rect">
            <a:avLst/>
          </a:prstGeom>
          <a:ln w="0">
            <a:noFill/>
          </a:ln>
        </p:spPr>
      </p:pic>
      <p:pic>
        <p:nvPicPr>
          <p:cNvPr id="204" name="Diagram group" descr=""/>
          <p:cNvPicPr/>
          <p:nvPr/>
        </p:nvPicPr>
        <p:blipFill>
          <a:blip r:embed="rId2"/>
          <a:stretch/>
        </p:blipFill>
        <p:spPr>
          <a:xfrm>
            <a:off x="2646360" y="2620800"/>
            <a:ext cx="1303200" cy="1055880"/>
          </a:xfrm>
          <a:prstGeom prst="rect">
            <a:avLst/>
          </a:prstGeom>
          <a:ln w="0">
            <a:noFill/>
          </a:ln>
        </p:spPr>
      </p:pic>
      <p:sp>
        <p:nvSpPr>
          <p:cNvPr id="205" name="Скругленный прямоугольник 19"/>
          <p:cNvSpPr/>
          <p:nvPr/>
        </p:nvSpPr>
        <p:spPr>
          <a:xfrm>
            <a:off x="571680" y="4143240"/>
            <a:ext cx="3643200" cy="162900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народ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Diagram group" descr=""/>
          <p:cNvPicPr/>
          <p:nvPr/>
        </p:nvPicPr>
        <p:blipFill>
          <a:blip r:embed="rId3"/>
          <a:stretch/>
        </p:blipFill>
        <p:spPr>
          <a:xfrm>
            <a:off x="5357880" y="2341440"/>
            <a:ext cx="1298520" cy="1060560"/>
          </a:xfrm>
          <a:prstGeom prst="rect">
            <a:avLst/>
          </a:prstGeom>
          <a:ln w="0">
            <a:noFill/>
          </a:ln>
        </p:spPr>
      </p:pic>
      <p:sp>
        <p:nvSpPr>
          <p:cNvPr id="207" name="Скругленный прямоугольник 40"/>
          <p:cNvSpPr/>
          <p:nvPr/>
        </p:nvSpPr>
        <p:spPr>
          <a:xfrm>
            <a:off x="4929120" y="3786120"/>
            <a:ext cx="3571920" cy="1571760"/>
          </a:xfrm>
          <a:prstGeom prst="roundRect">
            <a:avLst>
              <a:gd name="adj" fmla="val 1666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onstantia"/>
              </a:rPr>
              <a:t>авторск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Picture 4" descr="05Z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Блок-схема: альтернативный процесс 4"/>
          <p:cNvSpPr/>
          <p:nvPr/>
        </p:nvSpPr>
        <p:spPr>
          <a:xfrm>
            <a:off x="571680" y="5214960"/>
            <a:ext cx="3143160" cy="1285920"/>
          </a:xfrm>
          <a:prstGeom prst="flowChartAlternateProcess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Перескажите сказ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2" name="Прямоугольник 5" descr=""/>
          <p:cNvPicPr/>
          <p:nvPr/>
        </p:nvPicPr>
        <p:blipFill>
          <a:blip r:embed="rId1"/>
          <a:stretch/>
        </p:blipFill>
        <p:spPr>
          <a:xfrm>
            <a:off x="493560" y="542880"/>
            <a:ext cx="7297920" cy="11034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picture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6" name="Picture 2" descr="picture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217" name="Picture 2" descr="picture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4617b"/>
                </a:solidFill>
                <a:latin typeface="Calibri"/>
              </a:rPr>
              <a:t>Физкультминутка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Содержимое 3" descr="Изображение 4524.gif"/>
          <p:cNvPicPr/>
          <p:nvPr/>
        </p:nvPicPr>
        <p:blipFill>
          <a:blip r:embed="rId1"/>
          <a:stretch/>
        </p:blipFill>
        <p:spPr>
          <a:xfrm>
            <a:off x="1643040" y="2143080"/>
            <a:ext cx="6357960" cy="4071960"/>
          </a:xfrm>
          <a:prstGeom prst="rect">
            <a:avLst/>
          </a:prstGeom>
          <a:ln w="0">
            <a:noFill/>
          </a:ln>
        </p:spPr>
      </p:pic>
      <p:pic>
        <p:nvPicPr>
          <p:cNvPr id="220" name="БОЛЬШОЙ ХОРОВОД.mp3" descr=""/>
          <p:cNvPicPr/>
          <p:nvPr/>
        </p:nvPicPr>
        <p:blipFill>
          <a:blip r:embed="rId2"/>
          <a:stretch/>
        </p:blipFill>
        <p:spPr>
          <a:xfrm>
            <a:off x="7858080" y="59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94874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4" descr="05Z0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Волна 4"/>
          <p:cNvSpPr/>
          <p:nvPr/>
        </p:nvSpPr>
        <p:spPr>
          <a:xfrm>
            <a:off x="285840" y="4929120"/>
            <a:ext cx="3500280" cy="1571760"/>
          </a:xfrm>
          <a:custGeom>
            <a:avLst/>
            <a:gdLst>
              <a:gd name="textAreaLeft" fmla="*/ 315360 w 3500280"/>
              <a:gd name="textAreaRight" fmla="*/ 3184920 w 3500280"/>
              <a:gd name="textAreaTop" fmla="*/ 392760 h 1571760"/>
              <a:gd name="textAreaBottom" fmla="*/ 1179000 h 157176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227" y="-6865"/>
                  <a:pt x="13427" y="12265"/>
                  <a:pt x="19654" y="2700"/>
                </a:cubicBezTo>
                <a:lnTo>
                  <a:pt x="21600" y="18900"/>
                </a:lnTo>
                <a:cubicBezTo>
                  <a:pt x="15373" y="28465"/>
                  <a:pt x="8173" y="9335"/>
                  <a:pt x="1946" y="18900"/>
                </a:cubicBez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чтите сказку до ко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Содержимое 4" descr="Анна Владимировна 045.jpg"/>
          <p:cNvPicPr/>
          <p:nvPr/>
        </p:nvPicPr>
        <p:blipFill>
          <a:blip r:embed="rId2"/>
          <a:stretch/>
        </p:blipFill>
        <p:spPr>
          <a:xfrm>
            <a:off x="241200" y="260280"/>
            <a:ext cx="86234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Рукодельниц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Ленивица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8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nstantia"/>
              </a:rPr>
              <a:t>Студенец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6" name="Прямоугольник 3" descr=""/>
          <p:cNvPicPr/>
          <p:nvPr/>
        </p:nvPicPr>
        <p:blipFill>
          <a:blip r:embed="rId1"/>
          <a:stretch/>
        </p:blipFill>
        <p:spPr>
          <a:xfrm>
            <a:off x="450720" y="701640"/>
            <a:ext cx="8577360" cy="12495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5" descr="1.gif"/>
          <p:cNvPicPr/>
          <p:nvPr/>
        </p:nvPicPr>
        <p:blipFill>
          <a:blip r:embed="rId2"/>
          <a:stretch/>
        </p:blipFill>
        <p:spPr>
          <a:xfrm>
            <a:off x="6929280" y="4786200"/>
            <a:ext cx="1643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 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Прямоугольник 3" descr=""/>
          <p:cNvPicPr/>
          <p:nvPr/>
        </p:nvPicPr>
        <p:blipFill>
          <a:blip r:embed="rId1"/>
          <a:stretch/>
        </p:blipFill>
        <p:spPr>
          <a:xfrm>
            <a:off x="493560" y="542880"/>
            <a:ext cx="8296560" cy="1103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MCj02812840000[1]"/>
          <p:cNvPicPr/>
          <p:nvPr/>
        </p:nvPicPr>
        <p:blipFill>
          <a:blip r:embed="rId2"/>
          <a:stretch/>
        </p:blipFill>
        <p:spPr>
          <a:xfrm>
            <a:off x="2428920" y="2643120"/>
            <a:ext cx="39290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2T08:35:12Z</dcterms:created>
  <dc:creator>ИнЯз</dc:creator>
  <dc:description/>
  <dc:language>en-US</dc:language>
  <cp:lastModifiedBy>Пользователь</cp:lastModifiedBy>
  <dcterms:modified xsi:type="dcterms:W3CDTF">2011-11-07T11:38:46Z</dcterms:modified>
  <cp:revision>28</cp:revision>
  <dc:subject/>
  <dc:title>Слайд 1</dc:title>
</cp:coreProperties>
</file>