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F9F-5A21-4E50-ACFE-9500A99A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7CB-3364-4B18-A473-F73859E4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07A-D380-4C35-9F1E-9EC4F0B0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D8F-8CA4-4AC5-8F4C-495015E9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4C9-43BB-404B-8B07-BCCF7222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A57-2685-407D-9241-9DA8A821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B24-1C44-4FA0-A38F-AA562428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889-1D7C-4F71-82C2-A2ECEC1D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D97-8FF3-46ED-B7FB-91E2CE09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352-7CAF-4668-A8BA-095DFD0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31B-D4DA-4804-AB06-554551C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72B-85BD-483E-BA90-32D8611B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CC4D-EF52-420B-8B10-6F4D410A5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9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Constantia"/>
              </a:rPr>
              <a:t>Создание ситуации успеха на уроках в начальной школе, при использовании групповых игровых форм работ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Constantia"/>
              </a:rPr>
              <a:t>Миронова Е. А. учитель начальных классов МОУ СОШ №  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Работа в группе отвечает на вопросы почему (мотив) и за­чем (цель) нужно что-то сказать. В центре внимания оказы­вается содержание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Групповое общение (особенно в игровой форме) дает воз­можность неуверенным в себе учащимся преодолевать пси­хологический барьер, не бояться ошибок. Ученики-лидеры помогают слабым учащимся, а учитель управляет процес­сом общения, вносит необходимые коррективы в рабо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Monotype Corsiva"/>
              </a:rPr>
              <a:t>Урок литературного чт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5788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Constantia"/>
              </a:rPr>
              <a:t>Тема. Русские  писатели  о  различных  периодах 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Constantia"/>
              </a:rPr>
              <a:t>А.П.Чехов  «Весн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Constantia"/>
              </a:rPr>
              <a:t>К.Д.Ушинский «Утренние   луч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Цели: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- обобщить  знания  детей о весне, как времени года, подчеркнуть                 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функциональные отличия  различных периодов  весны на примере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литературных произве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- развивать умение  анализа  художественного произведения с точки зрения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эмоционального восприятия через    «своё 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- формирование навыка работы в  группах, создания  творческого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характера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- развитие   умения  сочинительской деятельности, расширение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словарного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запаса  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- развитие литературоведческой  зоркости по составлению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деформированных рассказов + написанию своих с опорой на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заданные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сло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- воспитывать  чуткость, отзывчивость, умение  слушать и слышать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других ,культуру общения, открытость восприятия и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высказывания своих мыс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Оборудование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рисунки и сочинения  детей; карточки для работы в группах, тексты  для  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работы с произведениями, эпиграф - облач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30480" y="-2823120"/>
            <a:ext cx="485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Ход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Орг.мо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Вступительная  беседа. Работа с   выставкой  рисун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1700280"/>
          <a:ext cx="8856720" cy="48229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ебята, в рамках   нашего проекта вы рисовали иллюстрации к различным произведениям. Какая  тема  их   объединя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ес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акое  настроение  сегодня  вызывает у вас это слово? Выразите  это  отдельными слов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ыслушать ответы  детей, выбрать  что-то  общее в  ответах    и   обратить  внимание   на индивидуальные  высказы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А  все ли ваши рисунки передают  радостное  настроени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Н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Почем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акой период  весны на них  изображён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анняя, середина весны, поздня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азделим  ваши работы на групп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ыберите  из отрывков стихотворений  на  доске  четверостишия, подходящие к каждой группе   рисунков. Обоснуйте  свой выб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09240" y="950040"/>
            <a:ext cx="693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I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.Орг.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II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.Вступительная  беседа. Работа с   выставкой  рису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86080" y="24120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nstantia"/>
              </a:rPr>
              <a:t>Ход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274680"/>
          <a:ext cx="8229600" cy="59338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На доске  представлены  отрывки из стихотвор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Ещё капели не отпели,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Ещё  в полях белеет снег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Звенел ручей на мостовой,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 воды уж весной шумят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огда из тёплых стран летели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Бегут и будят сонный брег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кворцы весёлые домой.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Бегут, и блещут, и гласят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Ещё  Алёнка и Алёшка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ни гласят во все конц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т солнца щурились во сне,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«Весна  идёт! Весна идёт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огда скворец над их окошком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Мы молодой весны гонц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Запел вдруг  песню о весне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на нас выслала вперёд.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Ф.Тютч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н славил ясный день апреля,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кворечню милую свою-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Зима недаром злиться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Да так искусно сыпал трели,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рошла её пор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Что не суметь и соловью!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есна в окно стучи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Г.Ладонщиков.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 гонит со дв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Ф.Тютч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Уж  тает снег, бегут ручьи,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Ещё светло перед окном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 окно повеяло весною…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 разрыве облак солнце блеще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Засвищут скоро соловьи,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 воробей своим крылом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 лес оденется листвою!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  песке купаяся, трепещ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.Фет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Чиста небесная  лазур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Теплей и ярче солнце стал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ора метелей злых  и бу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пять надолго минова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.Плеще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526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5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i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.Сравнительный анализ произведений А.П.Чехова «Весной»  и К.Д.Ушинск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«Утренние луч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.   А.П.Чехов   «Весн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)Первичное  восприятие тек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братите внимание на первые строчки этих произвед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к вы думаете, в какой последова-тельности их лучше читать? Почему? Давайте  проверим наши предположения (чтение рассказа А.П.Чехова «Весной»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ервым А. Чехов «Весной», т.к. там период ранней вес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б)Проверка  первичного восприя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кое настроение у   автора  вызывает эта картина весны? Обоснуйте свой отв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Грусть, хмурое настро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кой  это период  весны? Подберите для доказательства своей правоты строчки из тек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Два времени и зима, и вес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кие  объекты неживой и живой природы описывает автор? Как? Зачитайте соответствующие отры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Земля, воздух, солнце, речка, дерев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кие развлечения весной у детей  описывает автор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Залезть на голубятню, гнать воду, долбить лёд, пускать кораблики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кие виды развлечений  остались и по сей ден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Долбить лёд, пускать корабл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очему автор, чтобы увидеть окрестности, предлагает залезть на колокольню или голубятню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Это были самые высокие строения в русской  дерев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кое слово повторяет  автор в каждом предложении последнего  абзац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 чём оно говори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Хорошо, это значит,  что зима уходит, идёт вес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кова, на ваш  взгляд, главная мысль   рассказа? Зачитайте предложение из произве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оследн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44280"/>
          <a:ext cx="9144000" cy="698688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743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К.Д.Ушинский   «Утренние  луч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) Первичное восприятие  текста</a:t>
                      </a: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(у детей текст напечатан  на листах, чтение  по абзаца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б)Проверка первичного вос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Что это рассказ  или сказ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Рассказ, сказ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акие фрагменты текста указывают на то, что это жизненная истори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Животные показаны в реальной жизненной ситу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акой по  своему   настроению этот рассказ  на ваш взгляд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Жизнерадостны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акие ласковые слова говорит автор? Зачитайте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олнышко, зайчик, окошечко, медок и 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о вашему   сегодняшнему   настроению какое произведение вам близко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торой рассказ ближе, т.к. у нас радостное настро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ерно ли мы с вами предположили последовательность сезонных изменений, этапов весны в рассказах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1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i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 Физминут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i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Работа в групп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Мы с вами тоже учимся писать, сочинять, составлять стихи, рассказы, сказки, как настоящие мастера слова. Давайте потренируемся! Разделитесь  на группы  и получите задания.(дети заранее разделены на группы 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Задания   для работы в группа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Отгадать кроссворд.(облегчённое  задание для «слабых» ученик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Восстановить стихотвор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Составить рассказ, начинающийся со слов: «Согрело солнышко сосульку и……..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Подобрать синони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Составить  текст(деформац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(подробнее задания см. «Приложение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1" i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Презентация  работ, выполненных детьми по групп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r>
                        <a:rPr b="1" i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Итог уро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Мы сегодня тоже были писателями-сказочниками и хотим  поделиться своим настроением с гостями и зачитать свои сказ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r>
                        <a:rPr b="1" i="1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. Д\з. </a:t>
                      </a: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Составить  рассказ на тему «Весна» для  конкурса «Читательских удовольств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 рамках нашего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760" y="258840"/>
            <a:ext cx="53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Задания  для  работы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.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21440" y="189000"/>
          <a:ext cx="284328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27520"/>
                <a:gridCol w="216000"/>
                <a:gridCol w="216000"/>
                <a:gridCol w="216000"/>
                <a:gridCol w="216000"/>
                <a:gridCol w="216000"/>
                <a:gridCol w="228600"/>
                <a:gridCol w="216000"/>
                <a:gridCol w="216000"/>
                <a:gridCol w="216000"/>
                <a:gridCol w="216000"/>
                <a:gridCol w="22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72080" y="1130760"/>
            <a:ext cx="6451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.Растёт  вниз головой, не летом растёт, а зи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Чуть солнце её припечёт, заплачет она и умр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2.Я сильней  десяти коней. Где в полях пройду весной-летом встанет хлеб сте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3.Висит сито, не руками сви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4.Время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5.Красная  девушка по небу 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6.Весной вырастают, а осенью опад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лючевое слово: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айти его объяснение в толковом слова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3716280"/>
          <a:ext cx="4032360" cy="2184480"/>
        </p:xfrm>
        <a:graphic>
          <a:graphicData uri="http://schemas.openxmlformats.org/drawingml/2006/table">
            <a:tbl>
              <a:tblPr/>
              <a:tblGrid>
                <a:gridCol w="388440"/>
                <a:gridCol w="348840"/>
                <a:gridCol w="396720"/>
                <a:gridCol w="216000"/>
                <a:gridCol w="288720"/>
                <a:gridCol w="331560"/>
                <a:gridCol w="339120"/>
                <a:gridCol w="345960"/>
                <a:gridCol w="258480"/>
                <a:gridCol w="258840"/>
                <a:gridCol w="260280"/>
                <a:gridCol w="262080"/>
                <a:gridCol w="3373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с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0" y="756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1038680" y="218160"/>
            <a:ext cx="312217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.Восстанови  стихотворный тек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Блестящие,_____________________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Слова  для справо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Хрустят, как ____________________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вопящие, звенящие, стонущ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___________________         висящие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чипсы, леденцы, сухар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_______________             -сорванцы.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под крышами, под ногами, п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Блестящие, звенящие,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туч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Как солнышка _________________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сосульки, карамельки, букаш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…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Отсюда                  начинаются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ноги, ручки, лу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__________                         ручьи.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осенние, весенние, мокры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А. Иве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Times New Roman"/>
              </a:rPr>
              <a:t>III</a:t>
            </a: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.1.Составьте рассказ, начинающийся со сл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Согрело  солнышко сосульку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2.Придумайте  название  расска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Слова для справок: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холодными слезами, разноцветные капельки-огонь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зажурчали ручейки, радостные воробьи, всё засверкал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весь мир осветила  рад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Times New Roman"/>
              </a:rPr>
              <a:t>IV</a:t>
            </a: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.Подберите  подходящие по смыслу  синони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1.Солнышко согрело -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2.Капля радостная-   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3.Слёзы  холодные-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4.Ручеёк солнечный-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5.Воробьи купаются -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6.Огни радужные -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81560" y="267120"/>
            <a:ext cx="540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V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Составь   текст   из  разрозненных  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олнечная   кап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63680" y="1612800"/>
            <a:ext cx="7421400" cy="10242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662120"/>
            <a:ext cx="767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рело  солнышко  сосульку. Заплакала она холодными сле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ыхнули капельки на солнце. Засветились  красными,    синими, жёлтыми  огоньками. Зажурчали они ручей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63680" y="2852640"/>
            <a:ext cx="7421400" cy="79236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63680" y="3862440"/>
            <a:ext cx="7421400" cy="71892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534960" y="4941720"/>
            <a:ext cx="7421760" cy="86544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322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робьи искупались в солнечном  ручейке и заголос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-весеннему  радо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9402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кругом изменилось:засияло,засверкало,заискрилось  радужными   ог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720" y="5013360"/>
            <a:ext cx="64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 мир осветила  и зажгла крохотная  солнечная кап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  Э.Ши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В заключение хотелось бы подчеркнуть необходимость использования на уроках разных форм групповой работы, так как это позволяет активизировать учащихся всей группы и вовлечь их в речевое общение на изучаемом предмете, а также создать благоприятную морально-психологическую атмосферу в классе, располагающую к межличностному взаимодействию и заинтересованности в изучении предм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4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Constantia"/>
              </a:rPr>
              <a:t>Игра – многогранное по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620640"/>
            <a:ext cx="7632720" cy="1728720"/>
          </a:xfrm>
          <a:prstGeom prst="rect">
            <a:avLst/>
          </a:prstGeom>
          <a:gradFill rotWithShape="0">
            <a:gsLst>
              <a:gs pos="0">
                <a:srgbClr val="f3dbaf"/>
              </a:gs>
              <a:gs pos="100000">
                <a:srgbClr val="feb3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79280" y="620640"/>
            <a:ext cx="432000" cy="6048360"/>
          </a:xfrm>
          <a:prstGeom prst="rect">
            <a:avLst/>
          </a:prstGeom>
          <a:gradFill rotWithShape="0">
            <a:gsLst>
              <a:gs pos="0">
                <a:srgbClr val="f6f4ae"/>
              </a:gs>
              <a:gs pos="100000">
                <a:srgbClr val="feb3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403280" y="2421000"/>
            <a:ext cx="7632720" cy="936720"/>
          </a:xfrm>
          <a:prstGeom prst="rect">
            <a:avLst/>
          </a:prstGeom>
          <a:gradFill rotWithShape="0">
            <a:gsLst>
              <a:gs pos="0">
                <a:srgbClr val="f3dbaf"/>
              </a:gs>
              <a:gs pos="100000">
                <a:srgbClr val="feb3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403280" y="3500280"/>
            <a:ext cx="7632720" cy="1219320"/>
          </a:xfrm>
          <a:prstGeom prst="rect">
            <a:avLst/>
          </a:prstGeom>
          <a:gradFill rotWithShape="0">
            <a:gsLst>
              <a:gs pos="0">
                <a:srgbClr val="f3dbaf"/>
              </a:gs>
              <a:gs pos="100000">
                <a:srgbClr val="feb3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755640" y="1052640"/>
            <a:ext cx="43344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eb368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549360"/>
            <a:ext cx="7561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Занятие, отдых, развлечение, забаву, потеху, соревнование, упражнение, тренинг, в процессе которых воспитательные требования взрослых к детям становятся их требованиями к самим себе, значит, активным средством воспитания и самовоспитания. Игра выступает самостоятельным видом развивающей деятельности детей разных возрастов, принципом и способом их жизнедеятельности, методом познания ребенка и методом организации его жизни и неигровой деятельности;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754200" y="2492280"/>
            <a:ext cx="4330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eb368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754200" y="3789360"/>
            <a:ext cx="4330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eb368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754200" y="4979880"/>
            <a:ext cx="4330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eb368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754200" y="5915160"/>
            <a:ext cx="4330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eb368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2349360"/>
            <a:ext cx="7632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Times New Roman"/>
              </a:rPr>
              <a:t>Свободная , естественная форма проявления их деятельности, в которой осознается , изучается окружающий мир, открывается широкий простор для проявления своего «Я», личного творчества, активности, самопознания, самовыражения;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3409920"/>
            <a:ext cx="763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Обладая синтетическим свойством, вбирает в себя многие стороны иных видов деятельности, выступает в жизни ребенка многогранным явлением. Игра - первая ступень деятельности ребенка - дошкольника, изначальная школа его поведения, нормативная и равноправная деятельность младших школьников, подростков и юношества, меняющая свои цели по мере взросления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403280" y="4869000"/>
            <a:ext cx="7632720" cy="936360"/>
          </a:xfrm>
          <a:prstGeom prst="rect">
            <a:avLst/>
          </a:prstGeom>
          <a:gradFill rotWithShape="0">
            <a:gsLst>
              <a:gs pos="0">
                <a:srgbClr val="f3dbaf"/>
              </a:gs>
              <a:gs pos="100000">
                <a:srgbClr val="feb3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1403280" y="5877000"/>
            <a:ext cx="7632720" cy="790560"/>
          </a:xfrm>
          <a:prstGeom prst="rect">
            <a:avLst/>
          </a:prstGeom>
          <a:gradFill rotWithShape="0">
            <a:gsLst>
              <a:gs pos="0">
                <a:srgbClr val="f3dbaf"/>
              </a:gs>
              <a:gs pos="100000">
                <a:srgbClr val="feb3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479736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Times New Roman"/>
              </a:rPr>
              <a:t>Потребность растущего ребенка: его психики, интеллекта, биологического фонда. Игра - специфический, чисто детский мир жизни ребенка. Игра есть практика развития. Дети играют, потому что развиваются и развиваются потому, что играют;</a:t>
            </a:r>
            <a:r>
              <a:rPr b="0" lang="en-US" sz="1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5843520"/>
            <a:ext cx="76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Свобода самораскрытия, саморазвития с опорой на подсознание, разум и творчество. Продукт игры - наслаждение ее процессом, конечный результат - развитие реализуемых в ней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39640" y="44280"/>
            <a:ext cx="83534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Спасибо </a:t>
            </a:r>
            <a:endParaRPr b="1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 </a:t>
            </a:r>
            <a:endParaRPr b="1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нимание !</a:t>
            </a:r>
            <a:endParaRPr b="1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nstantia"/>
              </a:rPr>
              <a:t>Групповые игры с элементами соревн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игра «Смекай, считай, отгадывай» проводятся на уроке в виде соревнования двух и более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мини – КВНы по предмет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игры – путешествия по станц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nstantia"/>
              </a:rPr>
              <a:t>Организация групповой рабо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разделение детей на группы, 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организация работы групп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подведение итогов игры (презентация)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методика оценки групповой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3"/>
          <p:cNvSpPr/>
          <p:nvPr/>
        </p:nvSpPr>
        <p:spPr>
          <a:xfrm>
            <a:off x="3132000" y="1268280"/>
            <a:ext cx="2808360" cy="228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be6e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nstantia"/>
              </a:rPr>
              <a:t>Критерии создания временных гру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5867280" y="4508640"/>
            <a:ext cx="31114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be6e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интересы учащихся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3"/>
          <p:cNvSpPr/>
          <p:nvPr/>
        </p:nvSpPr>
        <p:spPr>
          <a:xfrm rot="16200000">
            <a:off x="2413080" y="2563560"/>
            <a:ext cx="430200" cy="576360"/>
          </a:xfrm>
          <a:prstGeom prst="upDownArrow">
            <a:avLst>
              <a:gd name="adj1" fmla="val 50000"/>
              <a:gd name="adj2" fmla="val 26671"/>
            </a:avLst>
          </a:prstGeom>
          <a:solidFill>
            <a:srgbClr val="f3dba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4"/>
          <p:cNvSpPr/>
          <p:nvPr/>
        </p:nvSpPr>
        <p:spPr>
          <a:xfrm>
            <a:off x="6505560" y="2417760"/>
            <a:ext cx="26035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be6e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уровень эмоциональности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5"/>
          <p:cNvSpPr/>
          <p:nvPr/>
        </p:nvSpPr>
        <p:spPr>
          <a:xfrm>
            <a:off x="96840" y="2490840"/>
            <a:ext cx="21715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be6e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уровень обуч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7"/>
          <p:cNvSpPr/>
          <p:nvPr/>
        </p:nvSpPr>
        <p:spPr>
          <a:xfrm>
            <a:off x="88920" y="4508640"/>
            <a:ext cx="31878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be6e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инициативность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2987640" y="5445000"/>
            <a:ext cx="30733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be6e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коммуникабельность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9"/>
          <p:cNvSpPr/>
          <p:nvPr/>
        </p:nvSpPr>
        <p:spPr>
          <a:xfrm rot="13258200">
            <a:off x="2410920" y="3573000"/>
            <a:ext cx="436680" cy="914400"/>
          </a:xfrm>
          <a:prstGeom prst="upDownArrow">
            <a:avLst>
              <a:gd name="adj1" fmla="val 50000"/>
              <a:gd name="adj2" fmla="val 41686"/>
            </a:avLst>
          </a:prstGeom>
          <a:solidFill>
            <a:srgbClr val="f3dba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0"/>
          <p:cNvSpPr/>
          <p:nvPr/>
        </p:nvSpPr>
        <p:spPr>
          <a:xfrm>
            <a:off x="4211640" y="3789360"/>
            <a:ext cx="385920" cy="1511280"/>
          </a:xfrm>
          <a:prstGeom prst="upDownArrow">
            <a:avLst>
              <a:gd name="adj1" fmla="val 50000"/>
              <a:gd name="adj2" fmla="val 77958"/>
            </a:avLst>
          </a:prstGeom>
          <a:solidFill>
            <a:srgbClr val="f3dba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3"/>
          <p:cNvSpPr/>
          <p:nvPr/>
        </p:nvSpPr>
        <p:spPr>
          <a:xfrm rot="18843600">
            <a:off x="6204600" y="3434400"/>
            <a:ext cx="385560" cy="1047600"/>
          </a:xfrm>
          <a:prstGeom prst="upDownArrow">
            <a:avLst>
              <a:gd name="adj1" fmla="val 50000"/>
              <a:gd name="adj2" fmla="val 54090"/>
            </a:avLst>
          </a:prstGeom>
          <a:solidFill>
            <a:srgbClr val="f3dba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4"/>
          <p:cNvSpPr/>
          <p:nvPr/>
        </p:nvSpPr>
        <p:spPr>
          <a:xfrm rot="5400000">
            <a:off x="6008040" y="2562120"/>
            <a:ext cx="438480" cy="431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3dba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BDB3-9945-42AA-AA83-C0F6D58C7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6600"/>
                </a:solidFill>
                <a:uFillTx/>
                <a:latin typeface="Constantia"/>
              </a:rPr>
              <a:t>Ролев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форма моделирования ребенком прежде всего социальных отношений и свободная импрови-зация, не подчиненная жестким правилам, неизменяемым условиям. В ролевых играх дети вступают в разнообразные контакты между собой и по собственной инициативе. Они имеют возможность строить свои взаимоотношения в значительной мере самостоятельно, сталкиваясь с особенностями и интересами своих партнеров и приучаясь считаться с ними в совмест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nstantia"/>
              </a:rPr>
              <a:t>Разновидности ролей, которые принимают дети в иг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роль конкретного взрослого, известного деятеля, героя фильма, кни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роли - профессии обобщенного типа ( врач, учитель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роли детей - популярных героев книги, фильмов, телепере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этнографические роли ( дикари, поморы и д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семейные роли ( отец, мать, сын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роли сказочного, карнавального характера            ( Нептун, Дед-Мороз, пират и д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роли животных ( собака, лев, кошка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роли другого пола ( мальчики играют роли девочек и наоборо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0033"/>
                </a:solidFill>
                <a:uFillTx/>
                <a:latin typeface="Constantia"/>
              </a:rPr>
              <a:t>Игра - путеше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" y="44280"/>
            <a:ext cx="8569080" cy="6562800"/>
            <a:chOff x="324000" y="44280"/>
            <a:chExt cx="8569080" cy="65628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324000" y="698040"/>
              <a:ext cx="8569080" cy="590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580760" y="44280"/>
              <a:ext cx="59040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ambria"/>
                </a:rPr>
                <a:t>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193760" y="6243480"/>
            <a:ext cx="71424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89800" y="5862600"/>
            <a:ext cx="1170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ИНИ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0033"/>
                </a:solidFill>
                <a:uFillTx/>
                <a:latin typeface="Constantia"/>
              </a:rPr>
              <a:t>Игра - 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763560"/>
            <a:ext cx="3414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День Космонав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есной наша страна отмечает ещё один праздник - День космонавтики!                 12 апреля 1961 года впервые в космосе побывал человек – Юрий Алексеевич Гагар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664240" y="1527120"/>
            <a:ext cx="2171520" cy="2743200"/>
            <a:chOff x="5664240" y="1527120"/>
            <a:chExt cx="2171520" cy="27432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5944320" y="1732320"/>
              <a:ext cx="1301400" cy="25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664240" y="1527120"/>
              <a:ext cx="2171520" cy="1692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103640" y="69228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Запомни названия планет Солнеч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rcRect l="0" t="0" r="0" b="20554"/>
          <a:stretch/>
        </p:blipFill>
        <p:spPr>
          <a:xfrm>
            <a:off x="3780000" y="1341360"/>
            <a:ext cx="5276520" cy="295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3246120" y="1789560"/>
            <a:ext cx="15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утн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3433680" y="18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3433680" y="1820880"/>
            <a:ext cx="1647720" cy="234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-3433680" y="2522520"/>
          <a:ext cx="182520" cy="16477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059280" y="4680720"/>
            <a:ext cx="594036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путники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Franklin Gothic Book"/>
                <a:ea typeface="Times New Roman"/>
              </a:rPr>
              <a:t>Идёт по дороге путник. Мне с ним по пути. Мы — спутн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Franklin Gothic Book"/>
                <a:ea typeface="Times New Roman"/>
              </a:rPr>
              <a:t>Летит в космосе пла­нета Земля. Рядом пла­нета Луна. Луна — спутник Земли. Запустили мы в космос корабли. Летят рядом Земля и корабли. Корабли — спутники Земл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Franklin Gothic Book"/>
                <a:ea typeface="Times New Roman"/>
              </a:rPr>
              <a:t>Доброго им пути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979640" y="3933720"/>
            <a:ext cx="1511280" cy="134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79280" y="4797360"/>
            <a:ext cx="1897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6:33Z</dcterms:created>
  <dc:creator>User</dc:creator>
  <dc:description/>
  <dc:language>en-US</dc:language>
  <cp:lastModifiedBy>User</cp:lastModifiedBy>
  <dcterms:modified xsi:type="dcterms:W3CDTF">2014-01-12T00:23:22Z</dcterms:modified>
  <cp:revision>4</cp:revision>
  <dc:subject/>
  <dc:title>Создание ситуации успеха на уроках в начальной школе, при использовании групповых игровых форм работы. </dc:title>
</cp:coreProperties>
</file>