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E3B-63BD-469B-9898-56154E94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25D-32DD-4C97-A907-A0E5769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D3D-83C0-4F0C-A592-510484D8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29F-6F9B-41C0-93B2-5DEE87A1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4BE-AA4A-423A-A9EC-DD1FF876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7C8-37C6-4F5E-9EA5-10571CA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79E-5DE3-49E7-97E3-17F7971B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1C1-C201-47BF-9536-9E7C609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680-3AE4-42C3-B766-E36A028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E35-E3B0-4F82-A6E3-66D2ACD3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611-8408-4347-82D7-2EB1783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997-7EFF-48BF-BC5E-BB4D85D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2D7-DE0E-47FD-BD48-A7F8D9601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ma-na-ger.ru/2010-07-21-17-04-56?start=90" TargetMode="External"/><Relationship Id="rId3" Type="http://schemas.openxmlformats.org/officeDocument/2006/relationships/hyperlink" Target="http://www.ma-na-ger.ru/2010-07-21-17-04-56?start=90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571680" y="0"/>
            <a:ext cx="4357440" cy="49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4480">
                  <a:solidFill>
                    <a:srgbClr val="1515a8"/>
                  </a:solidFill>
                  <a:miter/>
                </a:ln>
                <a:gradFill rotWithShape="0">
                  <a:gsLst>
                    <a:gs pos="0">
                      <a:srgbClr val="f3f3f8"/>
                    </a:gs>
                    <a:gs pos="100000">
                      <a:srgbClr val="8888c7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</a:t>
            </a:r>
            <a:endParaRPr b="1" i="1" lang="en-US" sz="3200" spc="1" strike="noStrike">
              <a:ln w="24480">
                <a:solidFill>
                  <a:srgbClr val="1515a8"/>
                </a:solidFill>
                <a:miter/>
              </a:ln>
              <a:gradFill rotWithShape="0">
                <a:gsLst>
                  <a:gs pos="0">
                    <a:srgbClr val="f3f3f8"/>
                  </a:gs>
                  <a:gs pos="100000">
                    <a:srgbClr val="8888c7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4480">
                  <a:solidFill>
                    <a:srgbClr val="1515a8"/>
                  </a:solidFill>
                  <a:miter/>
                </a:ln>
                <a:gradFill rotWithShape="0">
                  <a:gsLst>
                    <a:gs pos="0">
                      <a:srgbClr val="f3f3f8"/>
                    </a:gs>
                    <a:gs pos="100000">
                      <a:srgbClr val="8888c7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                      </a:t>
            </a:r>
            <a:endParaRPr b="1" i="1" lang="en-US" sz="3200" spc="1" strike="noStrike">
              <a:ln w="24480">
                <a:solidFill>
                  <a:srgbClr val="1515a8"/>
                </a:solidFill>
                <a:miter/>
              </a:ln>
              <a:gradFill rotWithShape="0">
                <a:gsLst>
                  <a:gs pos="0">
                    <a:srgbClr val="f3f3f8"/>
                  </a:gs>
                  <a:gs pos="100000">
                    <a:srgbClr val="8888c7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4480">
                  <a:solidFill>
                    <a:srgbClr val="1515a8"/>
                  </a:solidFill>
                  <a:miter/>
                </a:ln>
                <a:gradFill rotWithShape="0">
                  <a:gsLst>
                    <a:gs pos="0">
                      <a:srgbClr val="f3f3f8"/>
                    </a:gs>
                    <a:gs pos="100000">
                      <a:srgbClr val="8888c7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                 </a:t>
            </a:r>
            <a:endParaRPr b="1" i="1" lang="en-US" sz="3200" spc="1" strike="noStrike">
              <a:ln w="24480">
                <a:solidFill>
                  <a:srgbClr val="1515a8"/>
                </a:solidFill>
                <a:miter/>
              </a:ln>
              <a:gradFill rotWithShape="0">
                <a:gsLst>
                  <a:gs pos="0">
                    <a:srgbClr val="f3f3f8"/>
                  </a:gs>
                  <a:gs pos="100000">
                    <a:srgbClr val="8888c7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4480">
                  <a:solidFill>
                    <a:srgbClr val="1515a8"/>
                  </a:solidFill>
                  <a:miter/>
                </a:ln>
                <a:gradFill rotWithShape="0">
                  <a:gsLst>
                    <a:gs pos="0">
                      <a:srgbClr val="f3f3f8"/>
                    </a:gs>
                    <a:gs pos="100000">
                      <a:srgbClr val="8888c7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             </a:t>
            </a:r>
            <a:endParaRPr b="1" i="1" lang="en-US" sz="3200" spc="1" strike="noStrike">
              <a:ln w="24480">
                <a:solidFill>
                  <a:srgbClr val="1515a8"/>
                </a:solidFill>
                <a:miter/>
              </a:ln>
              <a:gradFill rotWithShape="0">
                <a:gsLst>
                  <a:gs pos="0">
                    <a:srgbClr val="f3f3f8"/>
                  </a:gs>
                  <a:gs pos="100000">
                    <a:srgbClr val="8888c7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732720" y="2997360"/>
            <a:ext cx="2411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Book Antiqua"/>
              </a:rPr>
              <a:t>Автор: Маликова Светла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Book Antiqua"/>
              </a:rPr>
              <a:t>учитель начальных классов, высшей 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Book Antiqua"/>
              </a:rPr>
              <a:t>МБОУ-СОШ 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Book Antiqua"/>
              </a:rPr>
              <a:t>г. Асино Томской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665280" y="317520"/>
            <a:ext cx="4394160" cy="6102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9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Freeform 4"/>
          <p:cNvSpPr/>
          <p:nvPr/>
        </p:nvSpPr>
        <p:spPr>
          <a:xfrm>
            <a:off x="1000080" y="1285920"/>
            <a:ext cx="3643200" cy="328608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3696" h="2399">
                <a:moveTo>
                  <a:pt x="1457" y="332"/>
                </a:moveTo>
                <a:cubicBezTo>
                  <a:pt x="1447" y="304"/>
                  <a:pt x="1409" y="257"/>
                  <a:pt x="1409" y="257"/>
                </a:cubicBezTo>
                <a:cubicBezTo>
                  <a:pt x="1379" y="172"/>
                  <a:pt x="1332" y="140"/>
                  <a:pt x="1260" y="95"/>
                </a:cubicBezTo>
                <a:cubicBezTo>
                  <a:pt x="1206" y="61"/>
                  <a:pt x="1167" y="25"/>
                  <a:pt x="1104" y="7"/>
                </a:cubicBezTo>
                <a:cubicBezTo>
                  <a:pt x="613" y="13"/>
                  <a:pt x="748" y="1"/>
                  <a:pt x="488" y="40"/>
                </a:cubicBezTo>
                <a:cubicBezTo>
                  <a:pt x="469" y="65"/>
                  <a:pt x="464" y="79"/>
                  <a:pt x="454" y="108"/>
                </a:cubicBezTo>
                <a:cubicBezTo>
                  <a:pt x="447" y="159"/>
                  <a:pt x="448" y="194"/>
                  <a:pt x="427" y="237"/>
                </a:cubicBezTo>
                <a:cubicBezTo>
                  <a:pt x="384" y="324"/>
                  <a:pt x="238" y="335"/>
                  <a:pt x="156" y="352"/>
                </a:cubicBezTo>
                <a:cubicBezTo>
                  <a:pt x="142" y="361"/>
                  <a:pt x="125" y="366"/>
                  <a:pt x="115" y="379"/>
                </a:cubicBezTo>
                <a:cubicBezTo>
                  <a:pt x="101" y="397"/>
                  <a:pt x="74" y="433"/>
                  <a:pt x="74" y="433"/>
                </a:cubicBezTo>
                <a:cubicBezTo>
                  <a:pt x="27" y="597"/>
                  <a:pt x="27" y="777"/>
                  <a:pt x="74" y="942"/>
                </a:cubicBezTo>
                <a:cubicBezTo>
                  <a:pt x="67" y="980"/>
                  <a:pt x="50" y="1003"/>
                  <a:pt x="34" y="1037"/>
                </a:cubicBezTo>
                <a:cubicBezTo>
                  <a:pt x="26" y="1073"/>
                  <a:pt x="9" y="1102"/>
                  <a:pt x="0" y="1138"/>
                </a:cubicBezTo>
                <a:cubicBezTo>
                  <a:pt x="2" y="1237"/>
                  <a:pt x="1" y="1337"/>
                  <a:pt x="7" y="1436"/>
                </a:cubicBezTo>
                <a:cubicBezTo>
                  <a:pt x="9" y="1462"/>
                  <a:pt x="27" y="1467"/>
                  <a:pt x="40" y="1484"/>
                </a:cubicBezTo>
                <a:cubicBezTo>
                  <a:pt x="48" y="1495"/>
                  <a:pt x="51" y="1509"/>
                  <a:pt x="61" y="1518"/>
                </a:cubicBezTo>
                <a:cubicBezTo>
                  <a:pt x="100" y="1556"/>
                  <a:pt x="178" y="1576"/>
                  <a:pt x="230" y="1585"/>
                </a:cubicBezTo>
                <a:cubicBezTo>
                  <a:pt x="343" y="1655"/>
                  <a:pt x="570" y="1620"/>
                  <a:pt x="705" y="1626"/>
                </a:cubicBezTo>
                <a:cubicBezTo>
                  <a:pt x="825" y="1640"/>
                  <a:pt x="931" y="1710"/>
                  <a:pt x="1050" y="1728"/>
                </a:cubicBezTo>
                <a:cubicBezTo>
                  <a:pt x="1096" y="1751"/>
                  <a:pt x="1144" y="1758"/>
                  <a:pt x="1192" y="1775"/>
                </a:cubicBezTo>
                <a:cubicBezTo>
                  <a:pt x="1357" y="2042"/>
                  <a:pt x="1676" y="2062"/>
                  <a:pt x="1945" y="2168"/>
                </a:cubicBezTo>
                <a:cubicBezTo>
                  <a:pt x="2166" y="2255"/>
                  <a:pt x="2429" y="2343"/>
                  <a:pt x="2663" y="2399"/>
                </a:cubicBezTo>
                <a:cubicBezTo>
                  <a:pt x="2841" y="2392"/>
                  <a:pt x="3020" y="2391"/>
                  <a:pt x="3198" y="2378"/>
                </a:cubicBezTo>
                <a:cubicBezTo>
                  <a:pt x="3288" y="2372"/>
                  <a:pt x="3359" y="2251"/>
                  <a:pt x="3415" y="2195"/>
                </a:cubicBezTo>
                <a:cubicBezTo>
                  <a:pt x="3439" y="2137"/>
                  <a:pt x="3485" y="2093"/>
                  <a:pt x="3517" y="2040"/>
                </a:cubicBezTo>
                <a:cubicBezTo>
                  <a:pt x="3528" y="2023"/>
                  <a:pt x="3533" y="2002"/>
                  <a:pt x="3544" y="1985"/>
                </a:cubicBezTo>
                <a:cubicBezTo>
                  <a:pt x="3599" y="1904"/>
                  <a:pt x="3583" y="1963"/>
                  <a:pt x="3612" y="1884"/>
                </a:cubicBezTo>
                <a:cubicBezTo>
                  <a:pt x="3627" y="1844"/>
                  <a:pt x="3638" y="1803"/>
                  <a:pt x="3652" y="1762"/>
                </a:cubicBezTo>
                <a:cubicBezTo>
                  <a:pt x="3659" y="1742"/>
                  <a:pt x="3673" y="1701"/>
                  <a:pt x="3673" y="1701"/>
                </a:cubicBezTo>
                <a:cubicBezTo>
                  <a:pt x="3696" y="1466"/>
                  <a:pt x="3691" y="1545"/>
                  <a:pt x="3666" y="1077"/>
                </a:cubicBezTo>
                <a:cubicBezTo>
                  <a:pt x="3665" y="1054"/>
                  <a:pt x="3616" y="946"/>
                  <a:pt x="3612" y="935"/>
                </a:cubicBezTo>
                <a:cubicBezTo>
                  <a:pt x="3608" y="924"/>
                  <a:pt x="3562" y="788"/>
                  <a:pt x="3551" y="752"/>
                </a:cubicBezTo>
                <a:cubicBezTo>
                  <a:pt x="3521" y="657"/>
                  <a:pt x="3502" y="564"/>
                  <a:pt x="3435" y="488"/>
                </a:cubicBezTo>
                <a:cubicBezTo>
                  <a:pt x="3414" y="434"/>
                  <a:pt x="3367" y="364"/>
                  <a:pt x="3313" y="339"/>
                </a:cubicBezTo>
                <a:cubicBezTo>
                  <a:pt x="3287" y="311"/>
                  <a:pt x="3262" y="311"/>
                  <a:pt x="3225" y="298"/>
                </a:cubicBezTo>
                <a:cubicBezTo>
                  <a:pt x="2839" y="433"/>
                  <a:pt x="3471" y="348"/>
                  <a:pt x="2351" y="359"/>
                </a:cubicBezTo>
                <a:cubicBezTo>
                  <a:pt x="2290" y="368"/>
                  <a:pt x="2250" y="398"/>
                  <a:pt x="2189" y="406"/>
                </a:cubicBezTo>
                <a:cubicBezTo>
                  <a:pt x="2182" y="411"/>
                  <a:pt x="2176" y="420"/>
                  <a:pt x="2168" y="420"/>
                </a:cubicBezTo>
                <a:cubicBezTo>
                  <a:pt x="2140" y="420"/>
                  <a:pt x="2098" y="392"/>
                  <a:pt x="2073" y="379"/>
                </a:cubicBezTo>
                <a:cubicBezTo>
                  <a:pt x="2055" y="348"/>
                  <a:pt x="2035" y="325"/>
                  <a:pt x="2026" y="291"/>
                </a:cubicBezTo>
                <a:cubicBezTo>
                  <a:pt x="2021" y="239"/>
                  <a:pt x="2023" y="186"/>
                  <a:pt x="2012" y="135"/>
                </a:cubicBezTo>
                <a:cubicBezTo>
                  <a:pt x="2009" y="119"/>
                  <a:pt x="1985" y="95"/>
                  <a:pt x="1985" y="95"/>
                </a:cubicBezTo>
                <a:cubicBezTo>
                  <a:pt x="1963" y="29"/>
                  <a:pt x="1902" y="21"/>
                  <a:pt x="1843" y="0"/>
                </a:cubicBezTo>
                <a:cubicBezTo>
                  <a:pt x="1692" y="9"/>
                  <a:pt x="1596" y="23"/>
                  <a:pt x="1470" y="101"/>
                </a:cubicBezTo>
                <a:cubicBezTo>
                  <a:pt x="1451" y="132"/>
                  <a:pt x="1436" y="146"/>
                  <a:pt x="1430" y="183"/>
                </a:cubicBezTo>
                <a:cubicBezTo>
                  <a:pt x="1432" y="190"/>
                  <a:pt x="1431" y="199"/>
                  <a:pt x="1436" y="203"/>
                </a:cubicBezTo>
                <a:cubicBezTo>
                  <a:pt x="1450" y="214"/>
                  <a:pt x="1502" y="220"/>
                  <a:pt x="1518" y="223"/>
                </a:cubicBezTo>
                <a:cubicBezTo>
                  <a:pt x="1552" y="237"/>
                  <a:pt x="1584" y="247"/>
                  <a:pt x="1619" y="257"/>
                </a:cubicBezTo>
                <a:cubicBezTo>
                  <a:pt x="1634" y="301"/>
                  <a:pt x="1599" y="335"/>
                  <a:pt x="1565" y="359"/>
                </a:cubicBezTo>
                <a:cubicBezTo>
                  <a:pt x="1540" y="341"/>
                  <a:pt x="1521" y="338"/>
                  <a:pt x="1491" y="332"/>
                </a:cubicBezTo>
                <a:cubicBezTo>
                  <a:pt x="1465" y="314"/>
                  <a:pt x="1476" y="312"/>
                  <a:pt x="1457" y="33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WordArt 5" descr=""/>
          <p:cNvPicPr/>
          <p:nvPr/>
        </p:nvPicPr>
        <p:blipFill>
          <a:blip r:embed="rId2"/>
          <a:stretch/>
        </p:blipFill>
        <p:spPr>
          <a:xfrm>
            <a:off x="2114640" y="133200"/>
            <a:ext cx="6035760" cy="1567080"/>
          </a:xfrm>
          <a:prstGeom prst="rect">
            <a:avLst/>
          </a:prstGeom>
          <a:ln w="0">
            <a:noFill/>
          </a:ln>
        </p:spPr>
      </p:pic>
      <p:sp>
        <p:nvSpPr>
          <p:cNvPr id="264" name="Oval 6"/>
          <p:cNvSpPr/>
          <p:nvPr/>
        </p:nvSpPr>
        <p:spPr>
          <a:xfrm>
            <a:off x="3214800" y="200016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1714680" y="3000240"/>
            <a:ext cx="108108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1428840" y="1928880"/>
            <a:ext cx="792000" cy="865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3492360" y="3573360"/>
            <a:ext cx="792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99680" y="160020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вадрата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ег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равен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м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00680" y="1571760"/>
            <a:ext cx="39290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В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ик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длина равна 8 см ,а ширина в 4 раза меньше,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длин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Прямоугольник 7" descr=""/>
          <p:cNvPicPr/>
          <p:nvPr/>
        </p:nvPicPr>
        <p:blipFill>
          <a:blip r:embed="rId2"/>
          <a:stretch/>
        </p:blipFill>
        <p:spPr>
          <a:xfrm>
            <a:off x="901800" y="324000"/>
            <a:ext cx="7261200" cy="107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5000760"/>
            <a:ext cx="711504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Цилиндр, шестиугольник, шар, конус, квадрат, пирамида, прямоугольник,  круг, четырехугольник, куб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14680"/>
            <a:ext cx="4040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ГЕОМЕТРИЧЕСКИЕ  ФИГУРЫ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1714680"/>
            <a:ext cx="40417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ГЕОМЕТРИЧЕСКИЕ  ФИГУРЫ  ПЛОСКИ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Прямоугольник 7" descr=""/>
          <p:cNvPicPr/>
          <p:nvPr/>
        </p:nvPicPr>
        <p:blipFill>
          <a:blip r:embed="rId2"/>
          <a:stretch/>
        </p:blipFill>
        <p:spPr>
          <a:xfrm>
            <a:off x="-244440" y="-171360"/>
            <a:ext cx="9821880" cy="1933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ГЕОМЕТРИЧЕСКИЕ  ФИГУРЫ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ша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Кону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Пирамид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куб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ГЕОМЕТРИЧЕСКИЕ  ФИГУРЫ  ПЛОСКИ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Шестиугольни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четырехугольни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3200"/>
            <a:ext cx="761364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WordArt 4"/>
          <p:cNvSpPr txBox="1"/>
          <p:nvPr/>
        </p:nvSpPr>
        <p:spPr>
          <a:xfrm>
            <a:off x="971640" y="714240"/>
            <a:ext cx="7672320" cy="45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СТРУКТОР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3382920" cy="3314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3672000" cy="321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4"/>
          <a:stretch/>
        </p:blipFill>
        <p:spPr>
          <a:xfrm>
            <a:off x="2556000" y="3716280"/>
            <a:ext cx="3887640" cy="303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6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7"/>
          <p:cNvSpPr/>
          <p:nvPr/>
        </p:nvSpPr>
        <p:spPr>
          <a:xfrm>
            <a:off x="857160" y="642960"/>
            <a:ext cx="3571920" cy="400032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4000320"/>
              <a:gd name="textAreaBottom" fmla="*/ 4000680 h 4000320"/>
            </a:gdLst>
            <a:ahLst/>
            <a:rect l="textAreaLeft" t="textAreaTop" r="textAreaRight" b="textAreaBottom"/>
            <a:pathLst>
              <a:path w="3136" h="3502">
                <a:moveTo>
                  <a:pt x="996" y="351"/>
                </a:moveTo>
                <a:cubicBezTo>
                  <a:pt x="981" y="282"/>
                  <a:pt x="1002" y="362"/>
                  <a:pt x="976" y="303"/>
                </a:cubicBezTo>
                <a:cubicBezTo>
                  <a:pt x="956" y="258"/>
                  <a:pt x="976" y="269"/>
                  <a:pt x="935" y="229"/>
                </a:cubicBezTo>
                <a:cubicBezTo>
                  <a:pt x="924" y="191"/>
                  <a:pt x="872" y="133"/>
                  <a:pt x="834" y="120"/>
                </a:cubicBezTo>
                <a:cubicBezTo>
                  <a:pt x="772" y="0"/>
                  <a:pt x="621" y="33"/>
                  <a:pt x="502" y="26"/>
                </a:cubicBezTo>
                <a:cubicBezTo>
                  <a:pt x="429" y="7"/>
                  <a:pt x="350" y="10"/>
                  <a:pt x="278" y="32"/>
                </a:cubicBezTo>
                <a:cubicBezTo>
                  <a:pt x="233" y="125"/>
                  <a:pt x="356" y="166"/>
                  <a:pt x="400" y="236"/>
                </a:cubicBezTo>
                <a:cubicBezTo>
                  <a:pt x="339" y="238"/>
                  <a:pt x="278" y="238"/>
                  <a:pt x="217" y="242"/>
                </a:cubicBezTo>
                <a:cubicBezTo>
                  <a:pt x="161" y="245"/>
                  <a:pt x="102" y="283"/>
                  <a:pt x="48" y="297"/>
                </a:cubicBezTo>
                <a:cubicBezTo>
                  <a:pt x="19" y="315"/>
                  <a:pt x="9" y="317"/>
                  <a:pt x="0" y="351"/>
                </a:cubicBezTo>
                <a:cubicBezTo>
                  <a:pt x="2" y="374"/>
                  <a:pt x="0" y="397"/>
                  <a:pt x="7" y="419"/>
                </a:cubicBezTo>
                <a:cubicBezTo>
                  <a:pt x="11" y="430"/>
                  <a:pt x="84" y="505"/>
                  <a:pt x="95" y="513"/>
                </a:cubicBezTo>
                <a:cubicBezTo>
                  <a:pt x="102" y="519"/>
                  <a:pt x="113" y="518"/>
                  <a:pt x="122" y="520"/>
                </a:cubicBezTo>
                <a:cubicBezTo>
                  <a:pt x="139" y="533"/>
                  <a:pt x="153" y="549"/>
                  <a:pt x="170" y="561"/>
                </a:cubicBezTo>
                <a:cubicBezTo>
                  <a:pt x="204" y="584"/>
                  <a:pt x="253" y="592"/>
                  <a:pt x="292" y="602"/>
                </a:cubicBezTo>
                <a:cubicBezTo>
                  <a:pt x="316" y="617"/>
                  <a:pt x="340" y="623"/>
                  <a:pt x="366" y="635"/>
                </a:cubicBezTo>
                <a:cubicBezTo>
                  <a:pt x="409" y="630"/>
                  <a:pt x="457" y="636"/>
                  <a:pt x="495" y="615"/>
                </a:cubicBezTo>
                <a:cubicBezTo>
                  <a:pt x="509" y="607"/>
                  <a:pt x="522" y="597"/>
                  <a:pt x="536" y="588"/>
                </a:cubicBezTo>
                <a:cubicBezTo>
                  <a:pt x="543" y="583"/>
                  <a:pt x="556" y="574"/>
                  <a:pt x="556" y="574"/>
                </a:cubicBezTo>
                <a:cubicBezTo>
                  <a:pt x="561" y="567"/>
                  <a:pt x="564" y="548"/>
                  <a:pt x="570" y="554"/>
                </a:cubicBezTo>
                <a:cubicBezTo>
                  <a:pt x="580" y="564"/>
                  <a:pt x="562" y="592"/>
                  <a:pt x="576" y="595"/>
                </a:cubicBezTo>
                <a:cubicBezTo>
                  <a:pt x="618" y="603"/>
                  <a:pt x="662" y="586"/>
                  <a:pt x="705" y="581"/>
                </a:cubicBezTo>
                <a:cubicBezTo>
                  <a:pt x="734" y="571"/>
                  <a:pt x="760" y="565"/>
                  <a:pt x="786" y="547"/>
                </a:cubicBezTo>
                <a:cubicBezTo>
                  <a:pt x="802" y="549"/>
                  <a:pt x="830" y="538"/>
                  <a:pt x="834" y="554"/>
                </a:cubicBezTo>
                <a:cubicBezTo>
                  <a:pt x="859" y="648"/>
                  <a:pt x="836" y="707"/>
                  <a:pt x="786" y="771"/>
                </a:cubicBezTo>
                <a:cubicBezTo>
                  <a:pt x="776" y="804"/>
                  <a:pt x="760" y="827"/>
                  <a:pt x="732" y="845"/>
                </a:cubicBezTo>
                <a:cubicBezTo>
                  <a:pt x="719" y="885"/>
                  <a:pt x="677" y="879"/>
                  <a:pt x="644" y="900"/>
                </a:cubicBezTo>
                <a:cubicBezTo>
                  <a:pt x="611" y="922"/>
                  <a:pt x="576" y="932"/>
                  <a:pt x="542" y="954"/>
                </a:cubicBezTo>
                <a:cubicBezTo>
                  <a:pt x="499" y="982"/>
                  <a:pt x="529" y="963"/>
                  <a:pt x="495" y="1001"/>
                </a:cubicBezTo>
                <a:cubicBezTo>
                  <a:pt x="482" y="1015"/>
                  <a:pt x="454" y="1042"/>
                  <a:pt x="454" y="1042"/>
                </a:cubicBezTo>
                <a:cubicBezTo>
                  <a:pt x="443" y="1079"/>
                  <a:pt x="456" y="1046"/>
                  <a:pt x="427" y="1083"/>
                </a:cubicBezTo>
                <a:cubicBezTo>
                  <a:pt x="417" y="1096"/>
                  <a:pt x="400" y="1123"/>
                  <a:pt x="400" y="1123"/>
                </a:cubicBezTo>
                <a:cubicBezTo>
                  <a:pt x="374" y="1200"/>
                  <a:pt x="348" y="1276"/>
                  <a:pt x="326" y="1354"/>
                </a:cubicBezTo>
                <a:cubicBezTo>
                  <a:pt x="330" y="1407"/>
                  <a:pt x="337" y="1504"/>
                  <a:pt x="366" y="1557"/>
                </a:cubicBezTo>
                <a:cubicBezTo>
                  <a:pt x="397" y="1614"/>
                  <a:pt x="420" y="1623"/>
                  <a:pt x="461" y="1665"/>
                </a:cubicBezTo>
                <a:cubicBezTo>
                  <a:pt x="498" y="1703"/>
                  <a:pt x="462" y="1686"/>
                  <a:pt x="509" y="1720"/>
                </a:cubicBezTo>
                <a:cubicBezTo>
                  <a:pt x="556" y="1754"/>
                  <a:pt x="608" y="1789"/>
                  <a:pt x="664" y="1808"/>
                </a:cubicBezTo>
                <a:cubicBezTo>
                  <a:pt x="733" y="1857"/>
                  <a:pt x="833" y="1868"/>
                  <a:pt x="915" y="1875"/>
                </a:cubicBezTo>
                <a:cubicBezTo>
                  <a:pt x="979" y="1897"/>
                  <a:pt x="1045" y="1896"/>
                  <a:pt x="1112" y="1903"/>
                </a:cubicBezTo>
                <a:cubicBezTo>
                  <a:pt x="1177" y="1917"/>
                  <a:pt x="1235" y="1940"/>
                  <a:pt x="1301" y="1950"/>
                </a:cubicBezTo>
                <a:cubicBezTo>
                  <a:pt x="1399" y="1983"/>
                  <a:pt x="1489" y="2016"/>
                  <a:pt x="1593" y="2025"/>
                </a:cubicBezTo>
                <a:cubicBezTo>
                  <a:pt x="1648" y="2060"/>
                  <a:pt x="1699" y="2099"/>
                  <a:pt x="1755" y="2133"/>
                </a:cubicBezTo>
                <a:cubicBezTo>
                  <a:pt x="1776" y="2163"/>
                  <a:pt x="1802" y="2175"/>
                  <a:pt x="1837" y="2187"/>
                </a:cubicBezTo>
                <a:cubicBezTo>
                  <a:pt x="1903" y="2238"/>
                  <a:pt x="1980" y="2274"/>
                  <a:pt x="2047" y="2323"/>
                </a:cubicBezTo>
                <a:cubicBezTo>
                  <a:pt x="2093" y="2357"/>
                  <a:pt x="2137" y="2399"/>
                  <a:pt x="2189" y="2424"/>
                </a:cubicBezTo>
                <a:cubicBezTo>
                  <a:pt x="2196" y="2446"/>
                  <a:pt x="2223" y="2485"/>
                  <a:pt x="2223" y="2485"/>
                </a:cubicBezTo>
                <a:cubicBezTo>
                  <a:pt x="2232" y="2511"/>
                  <a:pt x="2249" y="2523"/>
                  <a:pt x="2264" y="2546"/>
                </a:cubicBezTo>
                <a:cubicBezTo>
                  <a:pt x="2291" y="2586"/>
                  <a:pt x="2311" y="2614"/>
                  <a:pt x="2345" y="2648"/>
                </a:cubicBezTo>
                <a:cubicBezTo>
                  <a:pt x="2357" y="2660"/>
                  <a:pt x="2373" y="2665"/>
                  <a:pt x="2386" y="2675"/>
                </a:cubicBezTo>
                <a:cubicBezTo>
                  <a:pt x="2413" y="2697"/>
                  <a:pt x="2433" y="2719"/>
                  <a:pt x="2467" y="2729"/>
                </a:cubicBezTo>
                <a:cubicBezTo>
                  <a:pt x="2481" y="2743"/>
                  <a:pt x="2502" y="2751"/>
                  <a:pt x="2508" y="2770"/>
                </a:cubicBezTo>
                <a:cubicBezTo>
                  <a:pt x="2517" y="2799"/>
                  <a:pt x="2509" y="2785"/>
                  <a:pt x="2535" y="2811"/>
                </a:cubicBezTo>
                <a:cubicBezTo>
                  <a:pt x="2537" y="2818"/>
                  <a:pt x="2539" y="2824"/>
                  <a:pt x="2541" y="2831"/>
                </a:cubicBezTo>
                <a:cubicBezTo>
                  <a:pt x="2543" y="2838"/>
                  <a:pt x="2555" y="2851"/>
                  <a:pt x="2548" y="2851"/>
                </a:cubicBezTo>
                <a:cubicBezTo>
                  <a:pt x="2540" y="2851"/>
                  <a:pt x="2541" y="2836"/>
                  <a:pt x="2535" y="2831"/>
                </a:cubicBezTo>
                <a:cubicBezTo>
                  <a:pt x="2518" y="2816"/>
                  <a:pt x="2461" y="2777"/>
                  <a:pt x="2440" y="2770"/>
                </a:cubicBezTo>
                <a:cubicBezTo>
                  <a:pt x="2430" y="2773"/>
                  <a:pt x="2379" y="2780"/>
                  <a:pt x="2365" y="2797"/>
                </a:cubicBezTo>
                <a:cubicBezTo>
                  <a:pt x="2350" y="2816"/>
                  <a:pt x="2373" y="2824"/>
                  <a:pt x="2338" y="2831"/>
                </a:cubicBezTo>
                <a:cubicBezTo>
                  <a:pt x="2309" y="2837"/>
                  <a:pt x="2279" y="2836"/>
                  <a:pt x="2250" y="2838"/>
                </a:cubicBezTo>
                <a:cubicBezTo>
                  <a:pt x="2216" y="2850"/>
                  <a:pt x="2187" y="2858"/>
                  <a:pt x="2155" y="2878"/>
                </a:cubicBezTo>
                <a:cubicBezTo>
                  <a:pt x="2146" y="2906"/>
                  <a:pt x="2129" y="2916"/>
                  <a:pt x="2121" y="2946"/>
                </a:cubicBezTo>
                <a:cubicBezTo>
                  <a:pt x="2119" y="2982"/>
                  <a:pt x="2120" y="3019"/>
                  <a:pt x="2115" y="3055"/>
                </a:cubicBezTo>
                <a:cubicBezTo>
                  <a:pt x="2113" y="3069"/>
                  <a:pt x="2101" y="3095"/>
                  <a:pt x="2101" y="3095"/>
                </a:cubicBezTo>
                <a:cubicBezTo>
                  <a:pt x="2103" y="3113"/>
                  <a:pt x="2093" y="3139"/>
                  <a:pt x="2108" y="3149"/>
                </a:cubicBezTo>
                <a:cubicBezTo>
                  <a:pt x="2133" y="3165"/>
                  <a:pt x="2168" y="3149"/>
                  <a:pt x="2196" y="3156"/>
                </a:cubicBezTo>
                <a:cubicBezTo>
                  <a:pt x="2205" y="3158"/>
                  <a:pt x="2209" y="3170"/>
                  <a:pt x="2216" y="3177"/>
                </a:cubicBezTo>
                <a:cubicBezTo>
                  <a:pt x="2231" y="3219"/>
                  <a:pt x="2229" y="3224"/>
                  <a:pt x="2270" y="3238"/>
                </a:cubicBezTo>
                <a:cubicBezTo>
                  <a:pt x="2296" y="3263"/>
                  <a:pt x="2331" y="3273"/>
                  <a:pt x="2365" y="3285"/>
                </a:cubicBezTo>
                <a:cubicBezTo>
                  <a:pt x="2445" y="3344"/>
                  <a:pt x="2535" y="3391"/>
                  <a:pt x="2616" y="3448"/>
                </a:cubicBezTo>
                <a:cubicBezTo>
                  <a:pt x="2642" y="3485"/>
                  <a:pt x="2701" y="3491"/>
                  <a:pt x="2745" y="3502"/>
                </a:cubicBezTo>
                <a:cubicBezTo>
                  <a:pt x="2853" y="3490"/>
                  <a:pt x="2946" y="3469"/>
                  <a:pt x="3050" y="3441"/>
                </a:cubicBezTo>
                <a:cubicBezTo>
                  <a:pt x="3096" y="3410"/>
                  <a:pt x="3104" y="3399"/>
                  <a:pt x="3117" y="3346"/>
                </a:cubicBezTo>
                <a:cubicBezTo>
                  <a:pt x="3121" y="3328"/>
                  <a:pt x="3131" y="3292"/>
                  <a:pt x="3131" y="3292"/>
                </a:cubicBezTo>
                <a:cubicBezTo>
                  <a:pt x="3122" y="3181"/>
                  <a:pt x="3136" y="3150"/>
                  <a:pt x="3097" y="3075"/>
                </a:cubicBezTo>
                <a:cubicBezTo>
                  <a:pt x="3083" y="2955"/>
                  <a:pt x="3085" y="2968"/>
                  <a:pt x="3090" y="2797"/>
                </a:cubicBezTo>
                <a:cubicBezTo>
                  <a:pt x="3084" y="2744"/>
                  <a:pt x="3093" y="2651"/>
                  <a:pt x="3029" y="2634"/>
                </a:cubicBezTo>
                <a:cubicBezTo>
                  <a:pt x="2982" y="2602"/>
                  <a:pt x="2935" y="2589"/>
                  <a:pt x="2880" y="2580"/>
                </a:cubicBezTo>
                <a:cubicBezTo>
                  <a:pt x="2831" y="2593"/>
                  <a:pt x="2809" y="2651"/>
                  <a:pt x="2758" y="2655"/>
                </a:cubicBezTo>
                <a:cubicBezTo>
                  <a:pt x="2711" y="2659"/>
                  <a:pt x="2663" y="2660"/>
                  <a:pt x="2616" y="2662"/>
                </a:cubicBezTo>
                <a:cubicBezTo>
                  <a:pt x="2564" y="2678"/>
                  <a:pt x="2587" y="2622"/>
                  <a:pt x="2575" y="2587"/>
                </a:cubicBezTo>
                <a:cubicBezTo>
                  <a:pt x="2563" y="2552"/>
                  <a:pt x="2531" y="2536"/>
                  <a:pt x="2514" y="2506"/>
                </a:cubicBezTo>
                <a:cubicBezTo>
                  <a:pt x="2498" y="2478"/>
                  <a:pt x="2501" y="2463"/>
                  <a:pt x="2474" y="2445"/>
                </a:cubicBezTo>
                <a:cubicBezTo>
                  <a:pt x="2460" y="2418"/>
                  <a:pt x="2410" y="2339"/>
                  <a:pt x="2386" y="2323"/>
                </a:cubicBezTo>
                <a:cubicBezTo>
                  <a:pt x="2362" y="2287"/>
                  <a:pt x="2341" y="2252"/>
                  <a:pt x="2298" y="2241"/>
                </a:cubicBezTo>
                <a:cubicBezTo>
                  <a:pt x="2268" y="2222"/>
                  <a:pt x="2245" y="2203"/>
                  <a:pt x="2216" y="2187"/>
                </a:cubicBezTo>
                <a:cubicBezTo>
                  <a:pt x="2202" y="2179"/>
                  <a:pt x="2176" y="2160"/>
                  <a:pt x="2176" y="2160"/>
                </a:cubicBezTo>
                <a:cubicBezTo>
                  <a:pt x="2162" y="2134"/>
                  <a:pt x="2141" y="2118"/>
                  <a:pt x="2128" y="2092"/>
                </a:cubicBezTo>
                <a:cubicBezTo>
                  <a:pt x="2110" y="2057"/>
                  <a:pt x="2086" y="2017"/>
                  <a:pt x="2054" y="1991"/>
                </a:cubicBezTo>
                <a:cubicBezTo>
                  <a:pt x="2030" y="1971"/>
                  <a:pt x="1998" y="1961"/>
                  <a:pt x="1972" y="1943"/>
                </a:cubicBezTo>
                <a:cubicBezTo>
                  <a:pt x="1944" y="1924"/>
                  <a:pt x="1914" y="1898"/>
                  <a:pt x="1884" y="1882"/>
                </a:cubicBezTo>
                <a:cubicBezTo>
                  <a:pt x="1865" y="1872"/>
                  <a:pt x="1842" y="1870"/>
                  <a:pt x="1823" y="1862"/>
                </a:cubicBezTo>
                <a:cubicBezTo>
                  <a:pt x="1777" y="1842"/>
                  <a:pt x="1814" y="1855"/>
                  <a:pt x="1776" y="1835"/>
                </a:cubicBezTo>
                <a:cubicBezTo>
                  <a:pt x="1758" y="1825"/>
                  <a:pt x="1740" y="1817"/>
                  <a:pt x="1722" y="1808"/>
                </a:cubicBezTo>
                <a:cubicBezTo>
                  <a:pt x="1713" y="1803"/>
                  <a:pt x="1694" y="1794"/>
                  <a:pt x="1694" y="1794"/>
                </a:cubicBezTo>
                <a:cubicBezTo>
                  <a:pt x="1513" y="1808"/>
                  <a:pt x="1327" y="1832"/>
                  <a:pt x="1152" y="1774"/>
                </a:cubicBezTo>
                <a:cubicBezTo>
                  <a:pt x="1121" y="1743"/>
                  <a:pt x="1110" y="1749"/>
                  <a:pt x="1078" y="1726"/>
                </a:cubicBezTo>
                <a:cubicBezTo>
                  <a:pt x="1061" y="1701"/>
                  <a:pt x="1047" y="1705"/>
                  <a:pt x="1024" y="1686"/>
                </a:cubicBezTo>
                <a:cubicBezTo>
                  <a:pt x="955" y="1629"/>
                  <a:pt x="884" y="1562"/>
                  <a:pt x="793" y="1543"/>
                </a:cubicBezTo>
                <a:cubicBezTo>
                  <a:pt x="742" y="1510"/>
                  <a:pt x="686" y="1489"/>
                  <a:pt x="651" y="1435"/>
                </a:cubicBezTo>
                <a:cubicBezTo>
                  <a:pt x="653" y="1324"/>
                  <a:pt x="649" y="1213"/>
                  <a:pt x="658" y="1103"/>
                </a:cubicBezTo>
                <a:cubicBezTo>
                  <a:pt x="660" y="1083"/>
                  <a:pt x="694" y="1084"/>
                  <a:pt x="712" y="1076"/>
                </a:cubicBezTo>
                <a:cubicBezTo>
                  <a:pt x="754" y="1058"/>
                  <a:pt x="801" y="1055"/>
                  <a:pt x="841" y="1035"/>
                </a:cubicBezTo>
                <a:cubicBezTo>
                  <a:pt x="872" y="1020"/>
                  <a:pt x="902" y="1000"/>
                  <a:pt x="935" y="988"/>
                </a:cubicBezTo>
                <a:cubicBezTo>
                  <a:pt x="962" y="961"/>
                  <a:pt x="990" y="943"/>
                  <a:pt x="1024" y="927"/>
                </a:cubicBezTo>
                <a:cubicBezTo>
                  <a:pt x="1047" y="895"/>
                  <a:pt x="1080" y="884"/>
                  <a:pt x="1105" y="852"/>
                </a:cubicBezTo>
                <a:cubicBezTo>
                  <a:pt x="1115" y="839"/>
                  <a:pt x="1123" y="825"/>
                  <a:pt x="1132" y="812"/>
                </a:cubicBezTo>
                <a:cubicBezTo>
                  <a:pt x="1137" y="805"/>
                  <a:pt x="1146" y="791"/>
                  <a:pt x="1146" y="791"/>
                </a:cubicBezTo>
                <a:cubicBezTo>
                  <a:pt x="1165" y="728"/>
                  <a:pt x="1191" y="465"/>
                  <a:pt x="1091" y="385"/>
                </a:cubicBezTo>
                <a:cubicBezTo>
                  <a:pt x="1080" y="376"/>
                  <a:pt x="1024" y="371"/>
                  <a:pt x="1024" y="371"/>
                </a:cubicBezTo>
                <a:cubicBezTo>
                  <a:pt x="1012" y="367"/>
                  <a:pt x="958" y="331"/>
                  <a:pt x="996" y="351"/>
                </a:cubicBezTo>
                <a:close/>
              </a:path>
            </a:pathLst>
          </a:custGeom>
          <a:solidFill>
            <a:srgbClr val="67ac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2786040" y="29289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3214440" y="31431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000240" y="30002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928960" y="28576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1357200" y="192888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3286080" y="3286080"/>
            <a:ext cx="527040" cy="455760"/>
          </a:xfrm>
          <a:custGeom>
            <a:avLst/>
            <a:gdLst>
              <a:gd name="textAreaLeft" fmla="*/ 0 w 527040"/>
              <a:gd name="textAreaRight" fmla="*/ 527400 w 52704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332" h="287">
                <a:moveTo>
                  <a:pt x="15" y="60"/>
                </a:moveTo>
                <a:cubicBezTo>
                  <a:pt x="7" y="30"/>
                  <a:pt x="0" y="0"/>
                  <a:pt x="15" y="15"/>
                </a:cubicBezTo>
                <a:cubicBezTo>
                  <a:pt x="30" y="30"/>
                  <a:pt x="68" y="128"/>
                  <a:pt x="106" y="151"/>
                </a:cubicBezTo>
                <a:cubicBezTo>
                  <a:pt x="144" y="174"/>
                  <a:pt x="205" y="128"/>
                  <a:pt x="242" y="151"/>
                </a:cubicBezTo>
                <a:cubicBezTo>
                  <a:pt x="279" y="174"/>
                  <a:pt x="317" y="264"/>
                  <a:pt x="332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785960" y="264312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 flipV="1">
            <a:off x="2571840" y="27144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6"/>
          <p:cNvSpPr/>
          <p:nvPr/>
        </p:nvSpPr>
        <p:spPr>
          <a:xfrm flipH="1">
            <a:off x="1857240" y="14288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1357200" y="2286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1714680" y="2428920"/>
            <a:ext cx="142560" cy="287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1500120" y="928800"/>
            <a:ext cx="4320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 flipH="1">
            <a:off x="1642680" y="4143240"/>
            <a:ext cx="36036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000160" y="4214880"/>
            <a:ext cx="3571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2"/>
          <p:cNvSpPr/>
          <p:nvPr/>
        </p:nvSpPr>
        <p:spPr>
          <a:xfrm flipH="1">
            <a:off x="2071440" y="41432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2214720" y="41432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571760" y="400068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 flipH="1">
            <a:off x="1214280" y="4000680"/>
            <a:ext cx="43200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 flipH="1">
            <a:off x="3214440" y="114300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3643200" y="114300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 flipH="1">
            <a:off x="3714480" y="71424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4071960" y="714240"/>
            <a:ext cx="42876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 flipH="1">
            <a:off x="4286160" y="71424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4572000" y="714240"/>
            <a:ext cx="28584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2"/>
          <p:cNvSpPr/>
          <p:nvPr/>
        </p:nvSpPr>
        <p:spPr>
          <a:xfrm>
            <a:off x="1571760" y="528624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4214880" y="271476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40"/>
          <p:cNvSpPr txBox="1"/>
          <p:nvPr/>
        </p:nvSpPr>
        <p:spPr>
          <a:xfrm>
            <a:off x="285840" y="0"/>
            <a:ext cx="4643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метр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17" name="WordArt 41" descr=""/>
          <p:cNvPicPr/>
          <p:nvPr/>
        </p:nvPicPr>
        <p:blipFill>
          <a:blip r:embed="rId2"/>
          <a:stretch/>
        </p:blipFill>
        <p:spPr>
          <a:xfrm>
            <a:off x="4400640" y="2597040"/>
            <a:ext cx="3975120" cy="963720"/>
          </a:xfrm>
          <a:prstGeom prst="rect">
            <a:avLst/>
          </a:prstGeom>
          <a:ln w="0">
            <a:noFill/>
          </a:ln>
        </p:spPr>
      </p:pic>
      <p:sp>
        <p:nvSpPr>
          <p:cNvPr id="318" name="WordArt 42"/>
          <p:cNvSpPr txBox="1"/>
          <p:nvPr/>
        </p:nvSpPr>
        <p:spPr>
          <a:xfrm>
            <a:off x="4714920" y="907920"/>
            <a:ext cx="271476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Гор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вычислен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"/>
              <a:ea typeface="Arial"/>
            </a:endParaRPr>
          </a:p>
        </p:txBody>
      </p:sp>
      <p:sp>
        <p:nvSpPr>
          <p:cNvPr id="319" name="WordArt 43"/>
          <p:cNvSpPr txBox="1"/>
          <p:nvPr/>
        </p:nvSpPr>
        <p:spPr>
          <a:xfrm>
            <a:off x="214200" y="5589720"/>
            <a:ext cx="2571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d06"/>
                </a:solidFill>
                <a:latin typeface="Arial"/>
              </a:rPr>
              <a:t>Горы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02d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d06"/>
                </a:solidFill>
                <a:latin typeface="Arial"/>
              </a:rPr>
              <a:t>постро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02d06"/>
              </a:solidFill>
              <a:latin typeface="Arial"/>
              <a:ea typeface="Arial"/>
            </a:endParaRPr>
          </a:p>
        </p:txBody>
      </p:sp>
      <p:sp>
        <p:nvSpPr>
          <p:cNvPr id="320" name="WordArt 44"/>
          <p:cNvSpPr txBox="1"/>
          <p:nvPr/>
        </p:nvSpPr>
        <p:spPr>
          <a:xfrm>
            <a:off x="3429000" y="4071960"/>
            <a:ext cx="16430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Озеро </a:t>
            </a:r>
            <a:endParaRPr b="0" lang="en-US" sz="32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Симметрий</a:t>
            </a:r>
            <a:endParaRPr b="0" lang="en-US" sz="32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1" name="WordArt 45"/>
          <p:cNvSpPr txBox="1"/>
          <p:nvPr/>
        </p:nvSpPr>
        <p:spPr>
          <a:xfrm>
            <a:off x="1928880" y="2000160"/>
            <a:ext cx="22557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400000"/>
                </a:gradFill>
                <a:latin typeface="Arial"/>
              </a:rPr>
              <a:t>     </a:t>
            </a:r>
            <a:endParaRPr b="1" lang="en-US" sz="32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400000"/>
                </a:gradFill>
                <a:latin typeface="Arial"/>
              </a:rPr>
              <a:t>      </a:t>
            </a:r>
            <a:endParaRPr b="1" lang="en-US" sz="32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22" name="Прямоугольник 35" descr=""/>
          <p:cNvPicPr/>
          <p:nvPr/>
        </p:nvPicPr>
        <p:blipFill>
          <a:blip r:embed="rId3"/>
          <a:stretch/>
        </p:blipFill>
        <p:spPr>
          <a:xfrm>
            <a:off x="1914480" y="517680"/>
            <a:ext cx="2108160" cy="780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1187280" y="62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исок используемых источ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одержимое 2"/>
          <p:cNvSpPr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«Математика» 3 класс автор Рудницкая В. Н., Юдачева Т. В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«Дружим с математикой» В. Н. Рудниц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борник заданий для подготовки к олимпиадам» - «Просвещение» Москва – 2009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слайда №1,2,6,7,10,16 -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ma-na-ger.ru/2010-07-21-17-04-56?start=9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свиток с пе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слайда № 3,4,5,8,9,11,12,13,14,15,17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ma-na-ger.ru/2010-07-21-17-04-56?start=9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-книги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лайд №15 авторская робот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Маликова С. В.) создана в текстовом редактор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6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Freeform 7" descr=""/>
          <p:cNvPicPr/>
          <p:nvPr/>
        </p:nvPicPr>
        <p:blipFill>
          <a:blip r:embed="rId2"/>
          <a:stretch/>
        </p:blipFill>
        <p:spPr>
          <a:xfrm>
            <a:off x="847800" y="603360"/>
            <a:ext cx="3591000" cy="412092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>
            <a:off x="2786040" y="29289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214440" y="31431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3000240" y="30002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2928960" y="28576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357200" y="192888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3286080" y="3286080"/>
            <a:ext cx="527040" cy="455760"/>
          </a:xfrm>
          <a:custGeom>
            <a:avLst/>
            <a:gdLst>
              <a:gd name="textAreaLeft" fmla="*/ 0 w 527040"/>
              <a:gd name="textAreaRight" fmla="*/ 527400 w 52704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332" h="287">
                <a:moveTo>
                  <a:pt x="15" y="60"/>
                </a:moveTo>
                <a:cubicBezTo>
                  <a:pt x="7" y="30"/>
                  <a:pt x="0" y="0"/>
                  <a:pt x="15" y="15"/>
                </a:cubicBezTo>
                <a:cubicBezTo>
                  <a:pt x="30" y="30"/>
                  <a:pt x="68" y="128"/>
                  <a:pt x="106" y="151"/>
                </a:cubicBezTo>
                <a:cubicBezTo>
                  <a:pt x="144" y="174"/>
                  <a:pt x="205" y="128"/>
                  <a:pt x="242" y="151"/>
                </a:cubicBezTo>
                <a:cubicBezTo>
                  <a:pt x="279" y="174"/>
                  <a:pt x="317" y="264"/>
                  <a:pt x="332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785960" y="264312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 flipV="1">
            <a:off x="2500200" y="2785680"/>
            <a:ext cx="287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1857240" y="14288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1357200" y="2286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1714680" y="2428920"/>
            <a:ext cx="142560" cy="287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357200" y="785880"/>
            <a:ext cx="4320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H="1">
            <a:off x="1642680" y="4143240"/>
            <a:ext cx="36036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2000160" y="4214880"/>
            <a:ext cx="3571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H="1">
            <a:off x="2071440" y="41432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2214720" y="41432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1571760" y="400068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 flipH="1">
            <a:off x="1214280" y="4000680"/>
            <a:ext cx="43200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 flipH="1">
            <a:off x="3214440" y="114300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3643200" y="114300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 flipH="1">
            <a:off x="3714480" y="71424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4071960" y="714240"/>
            <a:ext cx="42876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 flipH="1">
            <a:off x="4286160" y="71424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4572000" y="714240"/>
            <a:ext cx="28584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1571760" y="528624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4214880" y="271476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0"/>
          <p:cNvSpPr txBox="1"/>
          <p:nvPr/>
        </p:nvSpPr>
        <p:spPr>
          <a:xfrm>
            <a:off x="285840" y="0"/>
            <a:ext cx="4643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метр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4" name="WordArt 41" descr=""/>
          <p:cNvPicPr/>
          <p:nvPr/>
        </p:nvPicPr>
        <p:blipFill>
          <a:blip r:embed="rId3"/>
          <a:stretch/>
        </p:blipFill>
        <p:spPr>
          <a:xfrm>
            <a:off x="4400640" y="2597040"/>
            <a:ext cx="3975120" cy="963720"/>
          </a:xfrm>
          <a:prstGeom prst="rect">
            <a:avLst/>
          </a:prstGeom>
          <a:ln w="0">
            <a:noFill/>
          </a:ln>
        </p:spPr>
      </p:pic>
      <p:sp>
        <p:nvSpPr>
          <p:cNvPr id="75" name="WordArt 42"/>
          <p:cNvSpPr txBox="1"/>
          <p:nvPr/>
        </p:nvSpPr>
        <p:spPr>
          <a:xfrm>
            <a:off x="4714920" y="907920"/>
            <a:ext cx="271476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Гор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вычислен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"/>
              <a:ea typeface="Arial"/>
            </a:endParaRPr>
          </a:p>
        </p:txBody>
      </p:sp>
      <p:sp>
        <p:nvSpPr>
          <p:cNvPr id="76" name="WordArt 43"/>
          <p:cNvSpPr txBox="1"/>
          <p:nvPr/>
        </p:nvSpPr>
        <p:spPr>
          <a:xfrm>
            <a:off x="214200" y="5589720"/>
            <a:ext cx="2571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d06"/>
                </a:solidFill>
                <a:latin typeface="Arial"/>
              </a:rPr>
              <a:t>Горы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02d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d06"/>
                </a:solidFill>
                <a:latin typeface="Arial"/>
              </a:rPr>
              <a:t>постро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02d06"/>
              </a:solidFill>
              <a:latin typeface="Arial"/>
              <a:ea typeface="Arial"/>
            </a:endParaRPr>
          </a:p>
        </p:txBody>
      </p:sp>
      <p:sp>
        <p:nvSpPr>
          <p:cNvPr id="77" name="WordArt 44"/>
          <p:cNvSpPr txBox="1"/>
          <p:nvPr/>
        </p:nvSpPr>
        <p:spPr>
          <a:xfrm>
            <a:off x="3429000" y="4071960"/>
            <a:ext cx="16430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Озеро </a:t>
            </a:r>
            <a:endParaRPr b="0" lang="en-US" sz="32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Симметрий</a:t>
            </a:r>
            <a:endParaRPr b="0" lang="en-US" sz="32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45"/>
          <p:cNvSpPr txBox="1"/>
          <p:nvPr/>
        </p:nvSpPr>
        <p:spPr>
          <a:xfrm>
            <a:off x="2071800" y="1928880"/>
            <a:ext cx="2428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400000"/>
                </a:gradFill>
                <a:latin typeface="Arial"/>
              </a:rPr>
              <a:t>     </a:t>
            </a:r>
            <a:endParaRPr b="1" lang="en-US" sz="32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400000"/>
                </a:gradFill>
                <a:latin typeface="Arial"/>
              </a:rPr>
              <a:t>      </a:t>
            </a:r>
            <a:endParaRPr b="1" lang="en-US" sz="32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pull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7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4"/>
          <p:cNvSpPr/>
          <p:nvPr/>
        </p:nvSpPr>
        <p:spPr>
          <a:xfrm flipV="1">
            <a:off x="539640" y="227664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928880" y="2286000"/>
            <a:ext cx="928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2556000" y="2349360"/>
            <a:ext cx="28728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 flipH="1">
            <a:off x="1187280" y="5589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1187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1187280" y="48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H="1">
            <a:off x="3059280" y="486900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V="1">
            <a:off x="3059280" y="458100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 flipV="1">
            <a:off x="3708360" y="2636640"/>
            <a:ext cx="71928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70836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219640" y="26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356364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3564000" y="400536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6012000" y="3573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6012000" y="357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6877080" y="2000160"/>
            <a:ext cx="480960" cy="15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>
            <a:off x="7358040" y="2000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8215200" y="2000160"/>
            <a:ext cx="716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 flipH="1" flipV="1">
            <a:off x="6357960" y="2571480"/>
            <a:ext cx="221472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6429240" y="2643120"/>
            <a:ext cx="185760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 flipH="1" flipV="1">
            <a:off x="7019640" y="4365720"/>
            <a:ext cx="16239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 flipH="1">
            <a:off x="6786720" y="4365720"/>
            <a:ext cx="2332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357120" y="2714760"/>
            <a:ext cx="7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1865160" y="2116080"/>
            <a:ext cx="5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2705040" y="206064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2411280" y="5214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1000080" y="5286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076400" y="4653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3357720" y="4572000"/>
            <a:ext cx="5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2916360" y="537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4284720" y="436572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9"/>
          <p:cNvSpPr/>
          <p:nvPr/>
        </p:nvSpPr>
        <p:spPr>
          <a:xfrm>
            <a:off x="3564000" y="2492280"/>
            <a:ext cx="5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5076720" y="2349360"/>
            <a:ext cx="4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5076720" y="3716280"/>
            <a:ext cx="4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3348000" y="3789360"/>
            <a:ext cx="5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5940360" y="45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4"/>
          <p:cNvSpPr/>
          <p:nvPr/>
        </p:nvSpPr>
        <p:spPr>
          <a:xfrm>
            <a:off x="5796000" y="3357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5"/>
          <p:cNvSpPr/>
          <p:nvPr/>
        </p:nvSpPr>
        <p:spPr>
          <a:xfrm>
            <a:off x="6732720" y="32148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6"/>
          <p:cNvSpPr/>
          <p:nvPr/>
        </p:nvSpPr>
        <p:spPr>
          <a:xfrm>
            <a:off x="7164360" y="1643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8101080" y="16430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8172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8501040" y="4149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6877080" y="414972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1"/>
          <p:cNvSpPr/>
          <p:nvPr/>
        </p:nvSpPr>
        <p:spPr>
          <a:xfrm>
            <a:off x="6072120" y="5143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2"/>
          <p:cNvSpPr txBox="1"/>
          <p:nvPr/>
        </p:nvSpPr>
        <p:spPr>
          <a:xfrm>
            <a:off x="785880" y="285840"/>
            <a:ext cx="78166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4480">
                  <a:solidFill>
                    <a:srgbClr val="1515a8"/>
                  </a:solidFill>
                  <a:miter/>
                </a:ln>
                <a:gradFill rotWithShape="0">
                  <a:gsLst>
                    <a:gs pos="0">
                      <a:srgbClr val="f3f3f8"/>
                    </a:gs>
                    <a:gs pos="100000">
                      <a:srgbClr val="8888c7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                    </a:t>
            </a:r>
            <a:endParaRPr b="1" lang="en-US" sz="3200" spc="1" strike="noStrike">
              <a:ln w="24480">
                <a:solidFill>
                  <a:srgbClr val="1515a8"/>
                </a:solidFill>
                <a:miter/>
              </a:ln>
              <a:gradFill rotWithShape="0">
                <a:gsLst>
                  <a:gs pos="0">
                    <a:srgbClr val="f3f3f8"/>
                  </a:gs>
                  <a:gs pos="100000">
                    <a:srgbClr val="8888c7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6227640" y="2349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4"/>
          <p:cNvSpPr/>
          <p:nvPr/>
        </p:nvSpPr>
        <p:spPr>
          <a:xfrm>
            <a:off x="6786720" y="5357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7786800" y="5000760"/>
            <a:ext cx="73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extBox 53" descr=""/>
          <p:cNvPicPr/>
          <p:nvPr/>
        </p:nvPicPr>
        <p:blipFill>
          <a:blip r:embed="rId2"/>
          <a:stretch/>
        </p:blipFill>
        <p:spPr>
          <a:xfrm>
            <a:off x="1036800" y="371520"/>
            <a:ext cx="7143480" cy="99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WordArt 4" descr=""/>
          <p:cNvPicPr/>
          <p:nvPr/>
        </p:nvPicPr>
        <p:blipFill>
          <a:blip r:embed="rId2"/>
          <a:stretch/>
        </p:blipFill>
        <p:spPr>
          <a:xfrm>
            <a:off x="781200" y="549360"/>
            <a:ext cx="7027560" cy="8435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2" descr=""/>
          <p:cNvPicPr/>
          <p:nvPr/>
        </p:nvPicPr>
        <p:blipFill>
          <a:blip r:embed="rId2"/>
          <a:stretch/>
        </p:blipFill>
        <p:spPr>
          <a:xfrm>
            <a:off x="457200" y="244440"/>
            <a:ext cx="8339040" cy="162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71680" y="1916280"/>
            <a:ext cx="803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Что можно постав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на бумаг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карандашом, ручкой, фломастер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1571760" y="5072040"/>
            <a:ext cx="52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Ч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6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3"/>
          <p:cNvSpPr/>
          <p:nvPr/>
        </p:nvSpPr>
        <p:spPr>
          <a:xfrm>
            <a:off x="928800" y="642960"/>
            <a:ext cx="3571920" cy="407196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4071960"/>
              <a:gd name="textAreaBottom" fmla="*/ 4072320 h 4071960"/>
            </a:gdLst>
            <a:ahLst/>
            <a:rect l="textAreaLeft" t="textAreaTop" r="textAreaRight" b="textAreaBottom"/>
            <a:pathLst>
              <a:path w="3136" h="3502">
                <a:moveTo>
                  <a:pt x="996" y="351"/>
                </a:moveTo>
                <a:cubicBezTo>
                  <a:pt x="981" y="282"/>
                  <a:pt x="1002" y="362"/>
                  <a:pt x="976" y="303"/>
                </a:cubicBezTo>
                <a:cubicBezTo>
                  <a:pt x="956" y="258"/>
                  <a:pt x="976" y="269"/>
                  <a:pt x="935" y="229"/>
                </a:cubicBezTo>
                <a:cubicBezTo>
                  <a:pt x="924" y="191"/>
                  <a:pt x="872" y="133"/>
                  <a:pt x="834" y="120"/>
                </a:cubicBezTo>
                <a:cubicBezTo>
                  <a:pt x="772" y="0"/>
                  <a:pt x="621" y="33"/>
                  <a:pt x="502" y="26"/>
                </a:cubicBezTo>
                <a:cubicBezTo>
                  <a:pt x="429" y="7"/>
                  <a:pt x="350" y="10"/>
                  <a:pt x="278" y="32"/>
                </a:cubicBezTo>
                <a:cubicBezTo>
                  <a:pt x="233" y="125"/>
                  <a:pt x="356" y="166"/>
                  <a:pt x="400" y="236"/>
                </a:cubicBezTo>
                <a:cubicBezTo>
                  <a:pt x="339" y="238"/>
                  <a:pt x="278" y="238"/>
                  <a:pt x="217" y="242"/>
                </a:cubicBezTo>
                <a:cubicBezTo>
                  <a:pt x="161" y="245"/>
                  <a:pt x="102" y="283"/>
                  <a:pt x="48" y="297"/>
                </a:cubicBezTo>
                <a:cubicBezTo>
                  <a:pt x="19" y="315"/>
                  <a:pt x="9" y="317"/>
                  <a:pt x="0" y="351"/>
                </a:cubicBezTo>
                <a:cubicBezTo>
                  <a:pt x="2" y="374"/>
                  <a:pt x="0" y="397"/>
                  <a:pt x="7" y="419"/>
                </a:cubicBezTo>
                <a:cubicBezTo>
                  <a:pt x="11" y="430"/>
                  <a:pt x="84" y="505"/>
                  <a:pt x="95" y="513"/>
                </a:cubicBezTo>
                <a:cubicBezTo>
                  <a:pt x="102" y="519"/>
                  <a:pt x="113" y="518"/>
                  <a:pt x="122" y="520"/>
                </a:cubicBezTo>
                <a:cubicBezTo>
                  <a:pt x="139" y="533"/>
                  <a:pt x="153" y="549"/>
                  <a:pt x="170" y="561"/>
                </a:cubicBezTo>
                <a:cubicBezTo>
                  <a:pt x="204" y="584"/>
                  <a:pt x="253" y="592"/>
                  <a:pt x="292" y="602"/>
                </a:cubicBezTo>
                <a:cubicBezTo>
                  <a:pt x="316" y="617"/>
                  <a:pt x="340" y="623"/>
                  <a:pt x="366" y="635"/>
                </a:cubicBezTo>
                <a:cubicBezTo>
                  <a:pt x="409" y="630"/>
                  <a:pt x="457" y="636"/>
                  <a:pt x="495" y="615"/>
                </a:cubicBezTo>
                <a:cubicBezTo>
                  <a:pt x="509" y="607"/>
                  <a:pt x="522" y="597"/>
                  <a:pt x="536" y="588"/>
                </a:cubicBezTo>
                <a:cubicBezTo>
                  <a:pt x="543" y="583"/>
                  <a:pt x="556" y="574"/>
                  <a:pt x="556" y="574"/>
                </a:cubicBezTo>
                <a:cubicBezTo>
                  <a:pt x="561" y="567"/>
                  <a:pt x="564" y="548"/>
                  <a:pt x="570" y="554"/>
                </a:cubicBezTo>
                <a:cubicBezTo>
                  <a:pt x="580" y="564"/>
                  <a:pt x="562" y="592"/>
                  <a:pt x="576" y="595"/>
                </a:cubicBezTo>
                <a:cubicBezTo>
                  <a:pt x="618" y="603"/>
                  <a:pt x="662" y="586"/>
                  <a:pt x="705" y="581"/>
                </a:cubicBezTo>
                <a:cubicBezTo>
                  <a:pt x="734" y="571"/>
                  <a:pt x="760" y="565"/>
                  <a:pt x="786" y="547"/>
                </a:cubicBezTo>
                <a:cubicBezTo>
                  <a:pt x="802" y="549"/>
                  <a:pt x="830" y="538"/>
                  <a:pt x="834" y="554"/>
                </a:cubicBezTo>
                <a:cubicBezTo>
                  <a:pt x="859" y="648"/>
                  <a:pt x="836" y="707"/>
                  <a:pt x="786" y="771"/>
                </a:cubicBezTo>
                <a:cubicBezTo>
                  <a:pt x="776" y="804"/>
                  <a:pt x="760" y="827"/>
                  <a:pt x="732" y="845"/>
                </a:cubicBezTo>
                <a:cubicBezTo>
                  <a:pt x="719" y="885"/>
                  <a:pt x="677" y="879"/>
                  <a:pt x="644" y="900"/>
                </a:cubicBezTo>
                <a:cubicBezTo>
                  <a:pt x="611" y="922"/>
                  <a:pt x="576" y="932"/>
                  <a:pt x="542" y="954"/>
                </a:cubicBezTo>
                <a:cubicBezTo>
                  <a:pt x="499" y="982"/>
                  <a:pt x="529" y="963"/>
                  <a:pt x="495" y="1001"/>
                </a:cubicBezTo>
                <a:cubicBezTo>
                  <a:pt x="482" y="1015"/>
                  <a:pt x="454" y="1042"/>
                  <a:pt x="454" y="1042"/>
                </a:cubicBezTo>
                <a:cubicBezTo>
                  <a:pt x="443" y="1079"/>
                  <a:pt x="456" y="1046"/>
                  <a:pt x="427" y="1083"/>
                </a:cubicBezTo>
                <a:cubicBezTo>
                  <a:pt x="417" y="1096"/>
                  <a:pt x="400" y="1123"/>
                  <a:pt x="400" y="1123"/>
                </a:cubicBezTo>
                <a:cubicBezTo>
                  <a:pt x="374" y="1200"/>
                  <a:pt x="348" y="1276"/>
                  <a:pt x="326" y="1354"/>
                </a:cubicBezTo>
                <a:cubicBezTo>
                  <a:pt x="330" y="1407"/>
                  <a:pt x="337" y="1504"/>
                  <a:pt x="366" y="1557"/>
                </a:cubicBezTo>
                <a:cubicBezTo>
                  <a:pt x="397" y="1614"/>
                  <a:pt x="420" y="1623"/>
                  <a:pt x="461" y="1665"/>
                </a:cubicBezTo>
                <a:cubicBezTo>
                  <a:pt x="498" y="1703"/>
                  <a:pt x="462" y="1686"/>
                  <a:pt x="509" y="1720"/>
                </a:cubicBezTo>
                <a:cubicBezTo>
                  <a:pt x="556" y="1754"/>
                  <a:pt x="608" y="1789"/>
                  <a:pt x="664" y="1808"/>
                </a:cubicBezTo>
                <a:cubicBezTo>
                  <a:pt x="733" y="1857"/>
                  <a:pt x="833" y="1868"/>
                  <a:pt x="915" y="1875"/>
                </a:cubicBezTo>
                <a:cubicBezTo>
                  <a:pt x="979" y="1897"/>
                  <a:pt x="1045" y="1896"/>
                  <a:pt x="1112" y="1903"/>
                </a:cubicBezTo>
                <a:cubicBezTo>
                  <a:pt x="1177" y="1917"/>
                  <a:pt x="1235" y="1940"/>
                  <a:pt x="1301" y="1950"/>
                </a:cubicBezTo>
                <a:cubicBezTo>
                  <a:pt x="1399" y="1983"/>
                  <a:pt x="1489" y="2016"/>
                  <a:pt x="1593" y="2025"/>
                </a:cubicBezTo>
                <a:cubicBezTo>
                  <a:pt x="1648" y="2060"/>
                  <a:pt x="1699" y="2099"/>
                  <a:pt x="1755" y="2133"/>
                </a:cubicBezTo>
                <a:cubicBezTo>
                  <a:pt x="1776" y="2163"/>
                  <a:pt x="1802" y="2175"/>
                  <a:pt x="1837" y="2187"/>
                </a:cubicBezTo>
                <a:cubicBezTo>
                  <a:pt x="1903" y="2238"/>
                  <a:pt x="1980" y="2274"/>
                  <a:pt x="2047" y="2323"/>
                </a:cubicBezTo>
                <a:cubicBezTo>
                  <a:pt x="2093" y="2357"/>
                  <a:pt x="2137" y="2399"/>
                  <a:pt x="2189" y="2424"/>
                </a:cubicBezTo>
                <a:cubicBezTo>
                  <a:pt x="2196" y="2446"/>
                  <a:pt x="2223" y="2485"/>
                  <a:pt x="2223" y="2485"/>
                </a:cubicBezTo>
                <a:cubicBezTo>
                  <a:pt x="2232" y="2511"/>
                  <a:pt x="2249" y="2523"/>
                  <a:pt x="2264" y="2546"/>
                </a:cubicBezTo>
                <a:cubicBezTo>
                  <a:pt x="2291" y="2586"/>
                  <a:pt x="2311" y="2614"/>
                  <a:pt x="2345" y="2648"/>
                </a:cubicBezTo>
                <a:cubicBezTo>
                  <a:pt x="2357" y="2660"/>
                  <a:pt x="2373" y="2665"/>
                  <a:pt x="2386" y="2675"/>
                </a:cubicBezTo>
                <a:cubicBezTo>
                  <a:pt x="2413" y="2697"/>
                  <a:pt x="2433" y="2719"/>
                  <a:pt x="2467" y="2729"/>
                </a:cubicBezTo>
                <a:cubicBezTo>
                  <a:pt x="2481" y="2743"/>
                  <a:pt x="2502" y="2751"/>
                  <a:pt x="2508" y="2770"/>
                </a:cubicBezTo>
                <a:cubicBezTo>
                  <a:pt x="2517" y="2799"/>
                  <a:pt x="2509" y="2785"/>
                  <a:pt x="2535" y="2811"/>
                </a:cubicBezTo>
                <a:cubicBezTo>
                  <a:pt x="2537" y="2818"/>
                  <a:pt x="2539" y="2824"/>
                  <a:pt x="2541" y="2831"/>
                </a:cubicBezTo>
                <a:cubicBezTo>
                  <a:pt x="2543" y="2838"/>
                  <a:pt x="2555" y="2851"/>
                  <a:pt x="2548" y="2851"/>
                </a:cubicBezTo>
                <a:cubicBezTo>
                  <a:pt x="2540" y="2851"/>
                  <a:pt x="2541" y="2836"/>
                  <a:pt x="2535" y="2831"/>
                </a:cubicBezTo>
                <a:cubicBezTo>
                  <a:pt x="2518" y="2816"/>
                  <a:pt x="2461" y="2777"/>
                  <a:pt x="2440" y="2770"/>
                </a:cubicBezTo>
                <a:cubicBezTo>
                  <a:pt x="2430" y="2773"/>
                  <a:pt x="2379" y="2780"/>
                  <a:pt x="2365" y="2797"/>
                </a:cubicBezTo>
                <a:cubicBezTo>
                  <a:pt x="2350" y="2816"/>
                  <a:pt x="2373" y="2824"/>
                  <a:pt x="2338" y="2831"/>
                </a:cubicBezTo>
                <a:cubicBezTo>
                  <a:pt x="2309" y="2837"/>
                  <a:pt x="2279" y="2836"/>
                  <a:pt x="2250" y="2838"/>
                </a:cubicBezTo>
                <a:cubicBezTo>
                  <a:pt x="2216" y="2850"/>
                  <a:pt x="2187" y="2858"/>
                  <a:pt x="2155" y="2878"/>
                </a:cubicBezTo>
                <a:cubicBezTo>
                  <a:pt x="2146" y="2906"/>
                  <a:pt x="2129" y="2916"/>
                  <a:pt x="2121" y="2946"/>
                </a:cubicBezTo>
                <a:cubicBezTo>
                  <a:pt x="2119" y="2982"/>
                  <a:pt x="2120" y="3019"/>
                  <a:pt x="2115" y="3055"/>
                </a:cubicBezTo>
                <a:cubicBezTo>
                  <a:pt x="2113" y="3069"/>
                  <a:pt x="2101" y="3095"/>
                  <a:pt x="2101" y="3095"/>
                </a:cubicBezTo>
                <a:cubicBezTo>
                  <a:pt x="2103" y="3113"/>
                  <a:pt x="2093" y="3139"/>
                  <a:pt x="2108" y="3149"/>
                </a:cubicBezTo>
                <a:cubicBezTo>
                  <a:pt x="2133" y="3165"/>
                  <a:pt x="2168" y="3149"/>
                  <a:pt x="2196" y="3156"/>
                </a:cubicBezTo>
                <a:cubicBezTo>
                  <a:pt x="2205" y="3158"/>
                  <a:pt x="2209" y="3170"/>
                  <a:pt x="2216" y="3177"/>
                </a:cubicBezTo>
                <a:cubicBezTo>
                  <a:pt x="2231" y="3219"/>
                  <a:pt x="2229" y="3224"/>
                  <a:pt x="2270" y="3238"/>
                </a:cubicBezTo>
                <a:cubicBezTo>
                  <a:pt x="2296" y="3263"/>
                  <a:pt x="2331" y="3273"/>
                  <a:pt x="2365" y="3285"/>
                </a:cubicBezTo>
                <a:cubicBezTo>
                  <a:pt x="2445" y="3344"/>
                  <a:pt x="2535" y="3391"/>
                  <a:pt x="2616" y="3448"/>
                </a:cubicBezTo>
                <a:cubicBezTo>
                  <a:pt x="2642" y="3485"/>
                  <a:pt x="2701" y="3491"/>
                  <a:pt x="2745" y="3502"/>
                </a:cubicBezTo>
                <a:cubicBezTo>
                  <a:pt x="2853" y="3490"/>
                  <a:pt x="2946" y="3469"/>
                  <a:pt x="3050" y="3441"/>
                </a:cubicBezTo>
                <a:cubicBezTo>
                  <a:pt x="3096" y="3410"/>
                  <a:pt x="3104" y="3399"/>
                  <a:pt x="3117" y="3346"/>
                </a:cubicBezTo>
                <a:cubicBezTo>
                  <a:pt x="3121" y="3328"/>
                  <a:pt x="3131" y="3292"/>
                  <a:pt x="3131" y="3292"/>
                </a:cubicBezTo>
                <a:cubicBezTo>
                  <a:pt x="3122" y="3181"/>
                  <a:pt x="3136" y="3150"/>
                  <a:pt x="3097" y="3075"/>
                </a:cubicBezTo>
                <a:cubicBezTo>
                  <a:pt x="3083" y="2955"/>
                  <a:pt x="3085" y="2968"/>
                  <a:pt x="3090" y="2797"/>
                </a:cubicBezTo>
                <a:cubicBezTo>
                  <a:pt x="3084" y="2744"/>
                  <a:pt x="3093" y="2651"/>
                  <a:pt x="3029" y="2634"/>
                </a:cubicBezTo>
                <a:cubicBezTo>
                  <a:pt x="2982" y="2602"/>
                  <a:pt x="2935" y="2589"/>
                  <a:pt x="2880" y="2580"/>
                </a:cubicBezTo>
                <a:cubicBezTo>
                  <a:pt x="2831" y="2593"/>
                  <a:pt x="2809" y="2651"/>
                  <a:pt x="2758" y="2655"/>
                </a:cubicBezTo>
                <a:cubicBezTo>
                  <a:pt x="2711" y="2659"/>
                  <a:pt x="2663" y="2660"/>
                  <a:pt x="2616" y="2662"/>
                </a:cubicBezTo>
                <a:cubicBezTo>
                  <a:pt x="2564" y="2678"/>
                  <a:pt x="2587" y="2622"/>
                  <a:pt x="2575" y="2587"/>
                </a:cubicBezTo>
                <a:cubicBezTo>
                  <a:pt x="2563" y="2552"/>
                  <a:pt x="2531" y="2536"/>
                  <a:pt x="2514" y="2506"/>
                </a:cubicBezTo>
                <a:cubicBezTo>
                  <a:pt x="2498" y="2478"/>
                  <a:pt x="2501" y="2463"/>
                  <a:pt x="2474" y="2445"/>
                </a:cubicBezTo>
                <a:cubicBezTo>
                  <a:pt x="2460" y="2418"/>
                  <a:pt x="2410" y="2339"/>
                  <a:pt x="2386" y="2323"/>
                </a:cubicBezTo>
                <a:cubicBezTo>
                  <a:pt x="2362" y="2287"/>
                  <a:pt x="2341" y="2252"/>
                  <a:pt x="2298" y="2241"/>
                </a:cubicBezTo>
                <a:cubicBezTo>
                  <a:pt x="2268" y="2222"/>
                  <a:pt x="2245" y="2203"/>
                  <a:pt x="2216" y="2187"/>
                </a:cubicBezTo>
                <a:cubicBezTo>
                  <a:pt x="2202" y="2179"/>
                  <a:pt x="2176" y="2160"/>
                  <a:pt x="2176" y="2160"/>
                </a:cubicBezTo>
                <a:cubicBezTo>
                  <a:pt x="2162" y="2134"/>
                  <a:pt x="2141" y="2118"/>
                  <a:pt x="2128" y="2092"/>
                </a:cubicBezTo>
                <a:cubicBezTo>
                  <a:pt x="2110" y="2057"/>
                  <a:pt x="2086" y="2017"/>
                  <a:pt x="2054" y="1991"/>
                </a:cubicBezTo>
                <a:cubicBezTo>
                  <a:pt x="2030" y="1971"/>
                  <a:pt x="1998" y="1961"/>
                  <a:pt x="1972" y="1943"/>
                </a:cubicBezTo>
                <a:cubicBezTo>
                  <a:pt x="1944" y="1924"/>
                  <a:pt x="1914" y="1898"/>
                  <a:pt x="1884" y="1882"/>
                </a:cubicBezTo>
                <a:cubicBezTo>
                  <a:pt x="1865" y="1872"/>
                  <a:pt x="1842" y="1870"/>
                  <a:pt x="1823" y="1862"/>
                </a:cubicBezTo>
                <a:cubicBezTo>
                  <a:pt x="1777" y="1842"/>
                  <a:pt x="1814" y="1855"/>
                  <a:pt x="1776" y="1835"/>
                </a:cubicBezTo>
                <a:cubicBezTo>
                  <a:pt x="1758" y="1825"/>
                  <a:pt x="1740" y="1817"/>
                  <a:pt x="1722" y="1808"/>
                </a:cubicBezTo>
                <a:cubicBezTo>
                  <a:pt x="1713" y="1803"/>
                  <a:pt x="1694" y="1794"/>
                  <a:pt x="1694" y="1794"/>
                </a:cubicBezTo>
                <a:cubicBezTo>
                  <a:pt x="1513" y="1808"/>
                  <a:pt x="1327" y="1832"/>
                  <a:pt x="1152" y="1774"/>
                </a:cubicBezTo>
                <a:cubicBezTo>
                  <a:pt x="1121" y="1743"/>
                  <a:pt x="1110" y="1749"/>
                  <a:pt x="1078" y="1726"/>
                </a:cubicBezTo>
                <a:cubicBezTo>
                  <a:pt x="1061" y="1701"/>
                  <a:pt x="1047" y="1705"/>
                  <a:pt x="1024" y="1686"/>
                </a:cubicBezTo>
                <a:cubicBezTo>
                  <a:pt x="955" y="1629"/>
                  <a:pt x="884" y="1562"/>
                  <a:pt x="793" y="1543"/>
                </a:cubicBezTo>
                <a:cubicBezTo>
                  <a:pt x="742" y="1510"/>
                  <a:pt x="686" y="1489"/>
                  <a:pt x="651" y="1435"/>
                </a:cubicBezTo>
                <a:cubicBezTo>
                  <a:pt x="653" y="1324"/>
                  <a:pt x="649" y="1213"/>
                  <a:pt x="658" y="1103"/>
                </a:cubicBezTo>
                <a:cubicBezTo>
                  <a:pt x="660" y="1083"/>
                  <a:pt x="694" y="1084"/>
                  <a:pt x="712" y="1076"/>
                </a:cubicBezTo>
                <a:cubicBezTo>
                  <a:pt x="754" y="1058"/>
                  <a:pt x="801" y="1055"/>
                  <a:pt x="841" y="1035"/>
                </a:cubicBezTo>
                <a:cubicBezTo>
                  <a:pt x="872" y="1020"/>
                  <a:pt x="902" y="1000"/>
                  <a:pt x="935" y="988"/>
                </a:cubicBezTo>
                <a:cubicBezTo>
                  <a:pt x="962" y="961"/>
                  <a:pt x="990" y="943"/>
                  <a:pt x="1024" y="927"/>
                </a:cubicBezTo>
                <a:cubicBezTo>
                  <a:pt x="1047" y="895"/>
                  <a:pt x="1080" y="884"/>
                  <a:pt x="1105" y="852"/>
                </a:cubicBezTo>
                <a:cubicBezTo>
                  <a:pt x="1115" y="839"/>
                  <a:pt x="1123" y="825"/>
                  <a:pt x="1132" y="812"/>
                </a:cubicBezTo>
                <a:cubicBezTo>
                  <a:pt x="1137" y="805"/>
                  <a:pt x="1146" y="791"/>
                  <a:pt x="1146" y="791"/>
                </a:cubicBezTo>
                <a:cubicBezTo>
                  <a:pt x="1165" y="728"/>
                  <a:pt x="1191" y="465"/>
                  <a:pt x="1091" y="385"/>
                </a:cubicBezTo>
                <a:cubicBezTo>
                  <a:pt x="1080" y="376"/>
                  <a:pt x="1024" y="371"/>
                  <a:pt x="1024" y="371"/>
                </a:cubicBezTo>
                <a:cubicBezTo>
                  <a:pt x="1012" y="367"/>
                  <a:pt x="958" y="331"/>
                  <a:pt x="996" y="351"/>
                </a:cubicBezTo>
                <a:close/>
              </a:path>
            </a:pathLst>
          </a:custGeom>
          <a:solidFill>
            <a:srgbClr val="67ac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857680" y="285768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357360" y="3286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143160" y="321480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357720" y="335772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571920" y="3500280"/>
            <a:ext cx="214200" cy="2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2071800" y="2643120"/>
            <a:ext cx="714240" cy="357120"/>
          </a:xfrm>
          <a:custGeom>
            <a:avLst/>
            <a:gdLst>
              <a:gd name="textAreaLeft" fmla="*/ 0 w 714240"/>
              <a:gd name="textAreaRight" fmla="*/ 714600 w 7142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332" h="287">
                <a:moveTo>
                  <a:pt x="15" y="60"/>
                </a:moveTo>
                <a:cubicBezTo>
                  <a:pt x="7" y="30"/>
                  <a:pt x="0" y="0"/>
                  <a:pt x="15" y="15"/>
                </a:cubicBezTo>
                <a:cubicBezTo>
                  <a:pt x="30" y="30"/>
                  <a:pt x="68" y="128"/>
                  <a:pt x="106" y="151"/>
                </a:cubicBezTo>
                <a:cubicBezTo>
                  <a:pt x="144" y="174"/>
                  <a:pt x="205" y="128"/>
                  <a:pt x="242" y="151"/>
                </a:cubicBezTo>
                <a:cubicBezTo>
                  <a:pt x="279" y="174"/>
                  <a:pt x="317" y="264"/>
                  <a:pt x="332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57200" y="2214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1357200" y="20714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1928520" y="1214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2071800" y="1214280"/>
            <a:ext cx="712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1857240" y="250020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1071720" y="928800"/>
            <a:ext cx="288720" cy="214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 flipH="1">
            <a:off x="1642680" y="3857760"/>
            <a:ext cx="360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2000160" y="3857760"/>
            <a:ext cx="432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H="1">
            <a:off x="2142720" y="38577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2286000" y="3857760"/>
            <a:ext cx="5716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1714680" y="36432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1356840" y="3643200"/>
            <a:ext cx="360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>
            <a:off x="2928600" y="100008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3357720" y="100008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H="1">
            <a:off x="3429000" y="1071720"/>
            <a:ext cx="217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3643200" y="1071720"/>
            <a:ext cx="4287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H="1">
            <a:off x="3929040" y="107172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4214880" y="114300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8"/>
          <p:cNvSpPr/>
          <p:nvPr/>
        </p:nvSpPr>
        <p:spPr>
          <a:xfrm>
            <a:off x="2214720" y="485784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9"/>
          <p:cNvSpPr/>
          <p:nvPr/>
        </p:nvSpPr>
        <p:spPr>
          <a:xfrm>
            <a:off x="4071960" y="300024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30"/>
          <p:cNvSpPr txBox="1"/>
          <p:nvPr/>
        </p:nvSpPr>
        <p:spPr>
          <a:xfrm>
            <a:off x="428760" y="142920"/>
            <a:ext cx="4143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метр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64" name="WordArt 31" descr=""/>
          <p:cNvPicPr/>
          <p:nvPr/>
        </p:nvPicPr>
        <p:blipFill>
          <a:blip r:embed="rId2"/>
          <a:stretch/>
        </p:blipFill>
        <p:spPr>
          <a:xfrm>
            <a:off x="4260960" y="2451240"/>
            <a:ext cx="4260600" cy="110304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2"/>
          <p:cNvSpPr txBox="1"/>
          <p:nvPr/>
        </p:nvSpPr>
        <p:spPr>
          <a:xfrm>
            <a:off x="4429080" y="928800"/>
            <a:ext cx="2928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Гор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"/>
              </a:rPr>
              <a:t>вычислен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"/>
              <a:ea typeface="Arial"/>
            </a:endParaRPr>
          </a:p>
        </p:txBody>
      </p:sp>
      <p:sp>
        <p:nvSpPr>
          <p:cNvPr id="166" name="WordArt 33"/>
          <p:cNvSpPr txBox="1"/>
          <p:nvPr/>
        </p:nvSpPr>
        <p:spPr>
          <a:xfrm>
            <a:off x="142920" y="4714920"/>
            <a:ext cx="285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d06"/>
                </a:solidFill>
                <a:latin typeface="Arial"/>
              </a:rPr>
              <a:t>Горы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02d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d06"/>
                </a:solidFill>
                <a:latin typeface="Arial"/>
              </a:rPr>
              <a:t>постро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02d06"/>
              </a:solidFill>
              <a:latin typeface="Arial"/>
              <a:ea typeface="Arial"/>
            </a:endParaRPr>
          </a:p>
        </p:txBody>
      </p:sp>
      <p:sp>
        <p:nvSpPr>
          <p:cNvPr id="167" name="WordArt 34"/>
          <p:cNvSpPr txBox="1"/>
          <p:nvPr/>
        </p:nvSpPr>
        <p:spPr>
          <a:xfrm>
            <a:off x="3286080" y="4071960"/>
            <a:ext cx="2714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Озеро </a:t>
            </a:r>
            <a:endParaRPr b="0" lang="en-US" sz="32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Симметрий</a:t>
            </a:r>
            <a:endParaRPr b="0" lang="en-US" sz="32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35"/>
          <p:cNvSpPr txBox="1"/>
          <p:nvPr/>
        </p:nvSpPr>
        <p:spPr>
          <a:xfrm rot="21239400">
            <a:off x="1966680" y="1927080"/>
            <a:ext cx="227160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760000"/>
                </a:gradFill>
                <a:latin typeface="Arial"/>
              </a:rPr>
              <a:t>            </a:t>
            </a:r>
            <a:endParaRPr b="1" lang="en-US" sz="32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760000"/>
              </a:gradFill>
              <a:latin typeface="Arial"/>
              <a:ea typeface="Arial"/>
            </a:endParaRPr>
          </a:p>
        </p:txBody>
      </p:sp>
      <p:pic>
        <p:nvPicPr>
          <p:cNvPr id="169" name="Прямоугольник 35" descr=""/>
          <p:cNvPicPr/>
          <p:nvPr/>
        </p:nvPicPr>
        <p:blipFill>
          <a:blip r:embed="rId3"/>
          <a:stretch/>
        </p:blipFill>
        <p:spPr>
          <a:xfrm>
            <a:off x="1298520" y="517680"/>
            <a:ext cx="2109960" cy="780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8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Franklin Gothic Medium"/>
              </a:rPr>
              <a:t>Река Линий.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AutoShape 23"/>
          <p:cNvSpPr/>
          <p:nvPr/>
        </p:nvSpPr>
        <p:spPr>
          <a:xfrm rot="13392000">
            <a:off x="620280" y="2050560"/>
            <a:ext cx="4545000" cy="1316160"/>
          </a:xfrm>
          <a:custGeom>
            <a:avLst/>
            <a:gdLst>
              <a:gd name="textAreaLeft" fmla="*/ 0 w 4545000"/>
              <a:gd name="textAreaRight" fmla="*/ 4545360 w 4545000"/>
              <a:gd name="textAreaTop" fmla="*/ 170640 h 1316160"/>
              <a:gd name="textAreaBottom" fmla="*/ 1145520 h 1316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2000160" y="20718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 flipV="1">
            <a:off x="2214720" y="21430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 flipV="1">
            <a:off x="2571840" y="17856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2428920" y="2357280"/>
            <a:ext cx="288720" cy="505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3714840" y="3929040"/>
            <a:ext cx="647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6372360" y="5734080"/>
            <a:ext cx="5760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0"/>
          <p:cNvSpPr/>
          <p:nvPr/>
        </p:nvSpPr>
        <p:spPr>
          <a:xfrm>
            <a:off x="3500280" y="3571920"/>
            <a:ext cx="792360" cy="228600"/>
          </a:xfrm>
          <a:custGeom>
            <a:avLst/>
            <a:gdLst>
              <a:gd name="textAreaLeft" fmla="*/ 0 w 792360"/>
              <a:gd name="textAreaRight" fmla="*/ 792720 w 792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99" h="144">
                <a:moveTo>
                  <a:pt x="0" y="91"/>
                </a:moveTo>
                <a:cubicBezTo>
                  <a:pt x="49" y="65"/>
                  <a:pt x="98" y="39"/>
                  <a:pt x="136" y="46"/>
                </a:cubicBezTo>
                <a:cubicBezTo>
                  <a:pt x="174" y="53"/>
                  <a:pt x="182" y="144"/>
                  <a:pt x="227" y="136"/>
                </a:cubicBezTo>
                <a:cubicBezTo>
                  <a:pt x="272" y="128"/>
                  <a:pt x="363" y="0"/>
                  <a:pt x="408" y="0"/>
                </a:cubicBezTo>
                <a:cubicBezTo>
                  <a:pt x="453" y="0"/>
                  <a:pt x="484" y="113"/>
                  <a:pt x="499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 flipV="1">
            <a:off x="2857680" y="2356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3357720" y="32860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3"/>
          <p:cNvSpPr/>
          <p:nvPr/>
        </p:nvSpPr>
        <p:spPr>
          <a:xfrm flipV="1">
            <a:off x="3571920" y="3357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4"/>
          <p:cNvSpPr/>
          <p:nvPr/>
        </p:nvSpPr>
        <p:spPr>
          <a:xfrm flipH="1">
            <a:off x="1499760" y="1143000"/>
            <a:ext cx="14292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5"/>
          <p:cNvSpPr/>
          <p:nvPr/>
        </p:nvSpPr>
        <p:spPr>
          <a:xfrm flipV="1">
            <a:off x="1500120" y="1642680"/>
            <a:ext cx="574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3500280" y="278604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7"/>
          <p:cNvSpPr/>
          <p:nvPr/>
        </p:nvSpPr>
        <p:spPr>
          <a:xfrm>
            <a:off x="3000240" y="27860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1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000080" y="0"/>
          <a:ext cx="7858080" cy="6948360"/>
        </p:xfrm>
        <a:graphic>
          <a:graphicData uri="http://schemas.openxmlformats.org/drawingml/2006/table">
            <a:tbl>
              <a:tblPr/>
              <a:tblGrid>
                <a:gridCol w="2268720"/>
                <a:gridCol w="2654280"/>
                <a:gridCol w="293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ман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мкнутая крив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з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ой у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вая замкнут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й у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у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ж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Oval 44"/>
          <p:cNvSpPr/>
          <p:nvPr/>
        </p:nvSpPr>
        <p:spPr>
          <a:xfrm>
            <a:off x="4067280" y="476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3357720" y="15717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6"/>
          <p:cNvSpPr/>
          <p:nvPr/>
        </p:nvSpPr>
        <p:spPr>
          <a:xfrm>
            <a:off x="4140360" y="1916280"/>
            <a:ext cx="1188720" cy="433080"/>
          </a:xfrm>
          <a:custGeom>
            <a:avLst/>
            <a:gdLst>
              <a:gd name="textAreaLeft" fmla="*/ 0 w 1188720"/>
              <a:gd name="textAreaRight" fmla="*/ 1189080 w 118872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522" h="113">
                <a:moveTo>
                  <a:pt x="174" y="7"/>
                </a:moveTo>
                <a:cubicBezTo>
                  <a:pt x="144" y="14"/>
                  <a:pt x="0" y="83"/>
                  <a:pt x="38" y="98"/>
                </a:cubicBezTo>
                <a:cubicBezTo>
                  <a:pt x="76" y="113"/>
                  <a:pt x="325" y="113"/>
                  <a:pt x="401" y="98"/>
                </a:cubicBezTo>
                <a:cubicBezTo>
                  <a:pt x="477" y="83"/>
                  <a:pt x="522" y="14"/>
                  <a:pt x="492" y="7"/>
                </a:cubicBezTo>
                <a:cubicBezTo>
                  <a:pt x="462" y="0"/>
                  <a:pt x="272" y="53"/>
                  <a:pt x="219" y="53"/>
                </a:cubicBezTo>
                <a:cubicBezTo>
                  <a:pt x="166" y="53"/>
                  <a:pt x="204" y="0"/>
                  <a:pt x="174" y="7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7"/>
          <p:cNvSpPr/>
          <p:nvPr/>
        </p:nvSpPr>
        <p:spPr>
          <a:xfrm>
            <a:off x="3286080" y="2786040"/>
            <a:ext cx="432000" cy="43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4500720" y="278136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9"/>
          <p:cNvSpPr/>
          <p:nvPr/>
        </p:nvSpPr>
        <p:spPr>
          <a:xfrm>
            <a:off x="3276720" y="3429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3564000" y="3357720"/>
            <a:ext cx="431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1"/>
          <p:cNvSpPr/>
          <p:nvPr/>
        </p:nvSpPr>
        <p:spPr>
          <a:xfrm>
            <a:off x="3995640" y="3357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2"/>
          <p:cNvSpPr/>
          <p:nvPr/>
        </p:nvSpPr>
        <p:spPr>
          <a:xfrm>
            <a:off x="4427640" y="3309840"/>
            <a:ext cx="1020600" cy="4064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643" h="256">
                <a:moveTo>
                  <a:pt x="0" y="211"/>
                </a:moveTo>
                <a:cubicBezTo>
                  <a:pt x="41" y="117"/>
                  <a:pt x="83" y="23"/>
                  <a:pt x="136" y="30"/>
                </a:cubicBezTo>
                <a:cubicBezTo>
                  <a:pt x="189" y="37"/>
                  <a:pt x="242" y="256"/>
                  <a:pt x="318" y="256"/>
                </a:cubicBezTo>
                <a:cubicBezTo>
                  <a:pt x="394" y="256"/>
                  <a:pt x="537" y="60"/>
                  <a:pt x="590" y="30"/>
                </a:cubicBezTo>
                <a:cubicBezTo>
                  <a:pt x="643" y="0"/>
                  <a:pt x="628" y="68"/>
                  <a:pt x="635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3"/>
          <p:cNvSpPr/>
          <p:nvPr/>
        </p:nvSpPr>
        <p:spPr>
          <a:xfrm flipV="1">
            <a:off x="3429000" y="400068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4"/>
          <p:cNvSpPr/>
          <p:nvPr/>
        </p:nvSpPr>
        <p:spPr>
          <a:xfrm>
            <a:off x="4284720" y="393372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5"/>
          <p:cNvSpPr/>
          <p:nvPr/>
        </p:nvSpPr>
        <p:spPr>
          <a:xfrm>
            <a:off x="4284720" y="3933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6"/>
          <p:cNvSpPr/>
          <p:nvPr/>
        </p:nvSpPr>
        <p:spPr>
          <a:xfrm>
            <a:off x="4716360" y="4221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7"/>
          <p:cNvSpPr/>
          <p:nvPr/>
        </p:nvSpPr>
        <p:spPr>
          <a:xfrm>
            <a:off x="3419640" y="4869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8"/>
          <p:cNvSpPr/>
          <p:nvPr/>
        </p:nvSpPr>
        <p:spPr>
          <a:xfrm flipV="1">
            <a:off x="3419640" y="472428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9"/>
          <p:cNvSpPr/>
          <p:nvPr/>
        </p:nvSpPr>
        <p:spPr>
          <a:xfrm>
            <a:off x="3419640" y="4941720"/>
            <a:ext cx="1152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0"/>
          <p:cNvSpPr/>
          <p:nvPr/>
        </p:nvSpPr>
        <p:spPr>
          <a:xfrm>
            <a:off x="5580000" y="4724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1"/>
          <p:cNvSpPr/>
          <p:nvPr/>
        </p:nvSpPr>
        <p:spPr>
          <a:xfrm flipH="1">
            <a:off x="4716000" y="4724280"/>
            <a:ext cx="863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2"/>
          <p:cNvSpPr/>
          <p:nvPr/>
        </p:nvSpPr>
        <p:spPr>
          <a:xfrm>
            <a:off x="5580000" y="4724280"/>
            <a:ext cx="287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3"/>
          <p:cNvSpPr/>
          <p:nvPr/>
        </p:nvSpPr>
        <p:spPr>
          <a:xfrm>
            <a:off x="3276720" y="5229360"/>
            <a:ext cx="28728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4"/>
          <p:cNvSpPr/>
          <p:nvPr/>
        </p:nvSpPr>
        <p:spPr>
          <a:xfrm>
            <a:off x="406728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5"/>
          <p:cNvSpPr/>
          <p:nvPr/>
        </p:nvSpPr>
        <p:spPr>
          <a:xfrm>
            <a:off x="4211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6"/>
          <p:cNvSpPr/>
          <p:nvPr/>
        </p:nvSpPr>
        <p:spPr>
          <a:xfrm>
            <a:off x="406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7"/>
          <p:cNvSpPr/>
          <p:nvPr/>
        </p:nvSpPr>
        <p:spPr>
          <a:xfrm>
            <a:off x="406728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8"/>
          <p:cNvSpPr/>
          <p:nvPr/>
        </p:nvSpPr>
        <p:spPr>
          <a:xfrm>
            <a:off x="3419640" y="6165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9"/>
          <p:cNvSpPr/>
          <p:nvPr/>
        </p:nvSpPr>
        <p:spPr>
          <a:xfrm>
            <a:off x="3492360" y="61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0"/>
          <p:cNvSpPr/>
          <p:nvPr/>
        </p:nvSpPr>
        <p:spPr>
          <a:xfrm>
            <a:off x="5364000" y="5300640"/>
            <a:ext cx="432000" cy="43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7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214200" y="71280"/>
          <a:ext cx="8143920" cy="6812280"/>
        </p:xfrm>
        <a:graphic>
          <a:graphicData uri="http://schemas.openxmlformats.org/drawingml/2006/table">
            <a:tbl>
              <a:tblPr/>
              <a:tblGrid>
                <a:gridCol w="2832120"/>
                <a:gridCol w="2656080"/>
                <a:gridCol w="265572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ман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мкнутая крив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з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ой у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вая замкнут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й у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у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ж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Oval 41"/>
          <p:cNvSpPr/>
          <p:nvPr/>
        </p:nvSpPr>
        <p:spPr>
          <a:xfrm>
            <a:off x="4067280" y="476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2"/>
          <p:cNvSpPr/>
          <p:nvPr/>
        </p:nvSpPr>
        <p:spPr>
          <a:xfrm>
            <a:off x="3203640" y="162864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43"/>
          <p:cNvSpPr/>
          <p:nvPr/>
        </p:nvSpPr>
        <p:spPr>
          <a:xfrm>
            <a:off x="4140360" y="1916280"/>
            <a:ext cx="1188720" cy="433080"/>
          </a:xfrm>
          <a:custGeom>
            <a:avLst/>
            <a:gdLst>
              <a:gd name="textAreaLeft" fmla="*/ 0 w 1188720"/>
              <a:gd name="textAreaRight" fmla="*/ 1189080 w 118872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522" h="113">
                <a:moveTo>
                  <a:pt x="174" y="7"/>
                </a:moveTo>
                <a:cubicBezTo>
                  <a:pt x="144" y="14"/>
                  <a:pt x="0" y="83"/>
                  <a:pt x="38" y="98"/>
                </a:cubicBezTo>
                <a:cubicBezTo>
                  <a:pt x="76" y="113"/>
                  <a:pt x="325" y="113"/>
                  <a:pt x="401" y="98"/>
                </a:cubicBezTo>
                <a:cubicBezTo>
                  <a:pt x="477" y="83"/>
                  <a:pt x="522" y="14"/>
                  <a:pt x="492" y="7"/>
                </a:cubicBezTo>
                <a:cubicBezTo>
                  <a:pt x="462" y="0"/>
                  <a:pt x="272" y="53"/>
                  <a:pt x="219" y="53"/>
                </a:cubicBezTo>
                <a:cubicBezTo>
                  <a:pt x="166" y="53"/>
                  <a:pt x="204" y="0"/>
                  <a:pt x="174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4"/>
          <p:cNvSpPr/>
          <p:nvPr/>
        </p:nvSpPr>
        <p:spPr>
          <a:xfrm>
            <a:off x="3419640" y="256536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5"/>
          <p:cNvSpPr/>
          <p:nvPr/>
        </p:nvSpPr>
        <p:spPr>
          <a:xfrm>
            <a:off x="4500720" y="2781360"/>
            <a:ext cx="647640" cy="216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6"/>
          <p:cNvSpPr/>
          <p:nvPr/>
        </p:nvSpPr>
        <p:spPr>
          <a:xfrm>
            <a:off x="3276720" y="3429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7"/>
          <p:cNvSpPr/>
          <p:nvPr/>
        </p:nvSpPr>
        <p:spPr>
          <a:xfrm flipV="1">
            <a:off x="3564000" y="3357720"/>
            <a:ext cx="431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8"/>
          <p:cNvSpPr/>
          <p:nvPr/>
        </p:nvSpPr>
        <p:spPr>
          <a:xfrm>
            <a:off x="3995640" y="3357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9"/>
          <p:cNvSpPr/>
          <p:nvPr/>
        </p:nvSpPr>
        <p:spPr>
          <a:xfrm>
            <a:off x="4427640" y="3309840"/>
            <a:ext cx="1020600" cy="4064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643" h="256">
                <a:moveTo>
                  <a:pt x="0" y="211"/>
                </a:moveTo>
                <a:cubicBezTo>
                  <a:pt x="41" y="117"/>
                  <a:pt x="83" y="23"/>
                  <a:pt x="136" y="30"/>
                </a:cubicBezTo>
                <a:cubicBezTo>
                  <a:pt x="189" y="37"/>
                  <a:pt x="242" y="256"/>
                  <a:pt x="318" y="256"/>
                </a:cubicBezTo>
                <a:cubicBezTo>
                  <a:pt x="394" y="256"/>
                  <a:pt x="537" y="60"/>
                  <a:pt x="590" y="30"/>
                </a:cubicBezTo>
                <a:cubicBezTo>
                  <a:pt x="643" y="0"/>
                  <a:pt x="628" y="68"/>
                  <a:pt x="635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0"/>
          <p:cNvSpPr/>
          <p:nvPr/>
        </p:nvSpPr>
        <p:spPr>
          <a:xfrm flipV="1">
            <a:off x="3203640" y="393372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4284720" y="393372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2"/>
          <p:cNvSpPr/>
          <p:nvPr/>
        </p:nvSpPr>
        <p:spPr>
          <a:xfrm>
            <a:off x="4284720" y="3933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3"/>
          <p:cNvSpPr/>
          <p:nvPr/>
        </p:nvSpPr>
        <p:spPr>
          <a:xfrm>
            <a:off x="4716360" y="4221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4"/>
          <p:cNvSpPr/>
          <p:nvPr/>
        </p:nvSpPr>
        <p:spPr>
          <a:xfrm>
            <a:off x="3419640" y="4869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5"/>
          <p:cNvSpPr/>
          <p:nvPr/>
        </p:nvSpPr>
        <p:spPr>
          <a:xfrm flipV="1">
            <a:off x="3419640" y="472428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3419640" y="4941720"/>
            <a:ext cx="1152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7"/>
          <p:cNvSpPr/>
          <p:nvPr/>
        </p:nvSpPr>
        <p:spPr>
          <a:xfrm>
            <a:off x="4500720" y="44290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8"/>
          <p:cNvSpPr/>
          <p:nvPr/>
        </p:nvSpPr>
        <p:spPr>
          <a:xfrm flipH="1">
            <a:off x="3642840" y="4429080"/>
            <a:ext cx="863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9"/>
          <p:cNvSpPr/>
          <p:nvPr/>
        </p:nvSpPr>
        <p:spPr>
          <a:xfrm>
            <a:off x="4500720" y="4429080"/>
            <a:ext cx="287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0"/>
          <p:cNvSpPr/>
          <p:nvPr/>
        </p:nvSpPr>
        <p:spPr>
          <a:xfrm>
            <a:off x="3276720" y="5229360"/>
            <a:ext cx="28728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1"/>
          <p:cNvSpPr/>
          <p:nvPr/>
        </p:nvSpPr>
        <p:spPr>
          <a:xfrm>
            <a:off x="406728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2"/>
          <p:cNvSpPr/>
          <p:nvPr/>
        </p:nvSpPr>
        <p:spPr>
          <a:xfrm>
            <a:off x="4211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3"/>
          <p:cNvSpPr/>
          <p:nvPr/>
        </p:nvSpPr>
        <p:spPr>
          <a:xfrm>
            <a:off x="406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4"/>
          <p:cNvSpPr/>
          <p:nvPr/>
        </p:nvSpPr>
        <p:spPr>
          <a:xfrm>
            <a:off x="406728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5"/>
          <p:cNvSpPr/>
          <p:nvPr/>
        </p:nvSpPr>
        <p:spPr>
          <a:xfrm>
            <a:off x="3419640" y="6165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6"/>
          <p:cNvSpPr/>
          <p:nvPr/>
        </p:nvSpPr>
        <p:spPr>
          <a:xfrm>
            <a:off x="3492360" y="61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7"/>
          <p:cNvSpPr/>
          <p:nvPr/>
        </p:nvSpPr>
        <p:spPr>
          <a:xfrm>
            <a:off x="5364000" y="5300640"/>
            <a:ext cx="432000" cy="43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2"/>
          <p:cNvSpPr/>
          <p:nvPr/>
        </p:nvSpPr>
        <p:spPr>
          <a:xfrm flipH="1">
            <a:off x="3929040" y="1071720"/>
            <a:ext cx="194472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3"/>
          <p:cNvSpPr/>
          <p:nvPr/>
        </p:nvSpPr>
        <p:spPr>
          <a:xfrm>
            <a:off x="1619280" y="476280"/>
            <a:ext cx="180036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4"/>
          <p:cNvSpPr/>
          <p:nvPr/>
        </p:nvSpPr>
        <p:spPr>
          <a:xfrm>
            <a:off x="1042920" y="2781360"/>
            <a:ext cx="244944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5"/>
          <p:cNvSpPr/>
          <p:nvPr/>
        </p:nvSpPr>
        <p:spPr>
          <a:xfrm>
            <a:off x="2700360" y="2060640"/>
            <a:ext cx="1727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6"/>
          <p:cNvSpPr/>
          <p:nvPr/>
        </p:nvSpPr>
        <p:spPr>
          <a:xfrm flipV="1">
            <a:off x="2286000" y="713880"/>
            <a:ext cx="1800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7"/>
          <p:cNvSpPr/>
          <p:nvPr/>
        </p:nvSpPr>
        <p:spPr>
          <a:xfrm>
            <a:off x="2571840" y="4572000"/>
            <a:ext cx="142380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8"/>
          <p:cNvSpPr/>
          <p:nvPr/>
        </p:nvSpPr>
        <p:spPr>
          <a:xfrm>
            <a:off x="255600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9"/>
          <p:cNvSpPr/>
          <p:nvPr/>
        </p:nvSpPr>
        <p:spPr>
          <a:xfrm flipV="1">
            <a:off x="2411280" y="2997000"/>
            <a:ext cx="1081080" cy="31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0"/>
          <p:cNvSpPr/>
          <p:nvPr/>
        </p:nvSpPr>
        <p:spPr>
          <a:xfrm flipH="1" flipV="1">
            <a:off x="3348000" y="1916280"/>
            <a:ext cx="2664000" cy="46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1"/>
          <p:cNvSpPr/>
          <p:nvPr/>
        </p:nvSpPr>
        <p:spPr>
          <a:xfrm flipH="1">
            <a:off x="4643280" y="1916280"/>
            <a:ext cx="136872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2"/>
          <p:cNvSpPr/>
          <p:nvPr/>
        </p:nvSpPr>
        <p:spPr>
          <a:xfrm flipH="1">
            <a:off x="4571640" y="2643120"/>
            <a:ext cx="1290600" cy="19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3"/>
          <p:cNvSpPr/>
          <p:nvPr/>
        </p:nvSpPr>
        <p:spPr>
          <a:xfrm flipH="1" flipV="1">
            <a:off x="5076720" y="2276640"/>
            <a:ext cx="935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4"/>
          <p:cNvSpPr/>
          <p:nvPr/>
        </p:nvSpPr>
        <p:spPr>
          <a:xfrm flipH="1">
            <a:off x="3928680" y="4429080"/>
            <a:ext cx="207180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5"/>
          <p:cNvSpPr/>
          <p:nvPr/>
        </p:nvSpPr>
        <p:spPr>
          <a:xfrm flipH="1" flipV="1">
            <a:off x="5003280" y="2997360"/>
            <a:ext cx="1297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6"/>
          <p:cNvSpPr/>
          <p:nvPr/>
        </p:nvSpPr>
        <p:spPr>
          <a:xfrm flipH="1" flipV="1">
            <a:off x="5643360" y="564372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45:21Z</dcterms:created>
  <dc:creator>**</dc:creator>
  <dc:description/>
  <dc:language>en-US</dc:language>
  <cp:lastModifiedBy>Admin</cp:lastModifiedBy>
  <dcterms:modified xsi:type="dcterms:W3CDTF">2012-10-31T15:42:04Z</dcterms:modified>
  <cp:revision>41</cp:revision>
  <dc:subject/>
  <dc:title>28  ноября.</dc:title>
</cp:coreProperties>
</file>