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7C3-72CB-484B-A6AF-1F89B256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07E-AAD5-4BE8-9ED1-C798DEBF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67F-601E-4322-8FDF-1753CD8E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E8D-8087-4206-AF41-432CFC7F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9B3-6360-4CDE-A0C9-012E2347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09B-9825-4E1C-99D4-4EADD368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59E-BE49-408E-AB58-EF661FAF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270-0188-40F9-AB3A-5C89892D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3BA-D7F1-4118-89E3-368D6473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644-BFE1-4068-B41B-864EC4D0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42C-4B06-470B-839D-1F0051B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BC8-288A-4256-8BC3-B475540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A234-0DD7-4120-A584-8FE52EEAF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ramki.superall.ru/images/skola/sk5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3203640" y="450864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1"/>
          <p:cNvSpPr/>
          <p:nvPr/>
        </p:nvSpPr>
        <p:spPr>
          <a:xfrm>
            <a:off x="1908000" y="476280"/>
            <a:ext cx="540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Автор-составитель: Фокина Лидия Петровна,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скитимского района Новосибир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835280" y="5445000"/>
            <a:ext cx="457200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Яценко И. Ф. Контрольно-измерительные материалы. Окружающий мир: 4 класс. М.: ВАКО, 2010, 96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Шаблон теста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nachalka.com/test_shab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Фон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ramki.superall.ru/images/skola/sk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390600" y="1609560"/>
            <a:ext cx="8345520" cy="160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0" y="3284640"/>
            <a:ext cx="4176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кружающий ми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4 клас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МК «Школа Росс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Скругленный прямоугольник 3"/>
          <p:cNvSpPr/>
          <p:nvPr/>
        </p:nvSpPr>
        <p:spPr>
          <a:xfrm>
            <a:off x="3564000" y="3068640"/>
            <a:ext cx="2000160" cy="5745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х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3564000" y="4076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3564000" y="2133720"/>
            <a:ext cx="2000160" cy="5745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т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476360" y="62064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ой минерал искал герой сказ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. Бажова Данила у хозяйки Медной го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кругленный прямоугольник 12"/>
          <p:cNvSpPr/>
          <p:nvPr/>
        </p:nvSpPr>
        <p:spPr>
          <a:xfrm>
            <a:off x="2340000" y="3068640"/>
            <a:ext cx="2360520" cy="64764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ы Камч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3"/>
          <p:cNvSpPr/>
          <p:nvPr/>
        </p:nvSpPr>
        <p:spPr>
          <a:xfrm>
            <a:off x="2340000" y="2060640"/>
            <a:ext cx="2360520" cy="6411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4"/>
          <p:cNvSpPr/>
          <p:nvPr/>
        </p:nvSpPr>
        <p:spPr>
          <a:xfrm>
            <a:off x="4859280" y="306864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6"/>
          <p:cNvSpPr/>
          <p:nvPr/>
        </p:nvSpPr>
        <p:spPr>
          <a:xfrm>
            <a:off x="4859280" y="206064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20"/>
          <p:cNvSpPr/>
          <p:nvPr/>
        </p:nvSpPr>
        <p:spPr>
          <a:xfrm>
            <a:off x="3348000" y="443700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476360" y="62064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ие горы Росс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писке Всемирного наслед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Monotype Corsiva"/>
                <a:ea typeface="Times New Roman"/>
              </a:rPr>
              <a:t>Результат те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000" y="119700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: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: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2050920" y="342900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ремя: 0 мин. 9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3851280" y="4437000"/>
            <a:ext cx="1657440" cy="7146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3564000" y="558972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3"/>
          <p:cNvSpPr/>
          <p:nvPr/>
        </p:nvSpPr>
        <p:spPr>
          <a:xfrm>
            <a:off x="2268360" y="1844640"/>
            <a:ext cx="511200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чно - Европе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2268360" y="2924280"/>
            <a:ext cx="511200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сибирское плоского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/>
          <p:cNvSpPr/>
          <p:nvPr/>
        </p:nvSpPr>
        <p:spPr>
          <a:xfrm>
            <a:off x="2195640" y="4149720"/>
            <a:ext cx="5184720" cy="719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но - Сиби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547640" y="620640"/>
            <a:ext cx="60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ая равнина раскинулась от западных границ России до Уральских г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Скругленный прямоугольник 3"/>
          <p:cNvSpPr/>
          <p:nvPr/>
        </p:nvSpPr>
        <p:spPr>
          <a:xfrm>
            <a:off x="2340000" y="4221000"/>
            <a:ext cx="4824360" cy="7923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но - Сибир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2340000" y="1989000"/>
            <a:ext cx="4824360" cy="719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чно - Европей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2340000" y="3068640"/>
            <a:ext cx="4824360" cy="792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сибирского плоского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547640" y="620640"/>
            <a:ext cx="60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верхность какой из равнин России более плоск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кругленный прямоугольник 3"/>
          <p:cNvSpPr/>
          <p:nvPr/>
        </p:nvSpPr>
        <p:spPr>
          <a:xfrm>
            <a:off x="2987640" y="4149720"/>
            <a:ext cx="3456000" cy="719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2987640" y="2133720"/>
            <a:ext cx="3456000" cy="7189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2987640" y="3141720"/>
            <a:ext cx="3456000" cy="7189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547640" y="620640"/>
            <a:ext cx="60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ие горы называют Каменным поясом земли Русс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2987640" y="1844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4"/>
          <p:cNvSpPr/>
          <p:nvPr/>
        </p:nvSpPr>
        <p:spPr>
          <a:xfrm>
            <a:off x="2987640" y="2852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ы Камч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5"/>
          <p:cNvSpPr/>
          <p:nvPr/>
        </p:nvSpPr>
        <p:spPr>
          <a:xfrm>
            <a:off x="2987640" y="3860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547640" y="62064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ие горы России самые высо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Скругленный прямоугольник 3"/>
          <p:cNvSpPr/>
          <p:nvPr/>
        </p:nvSpPr>
        <p:spPr>
          <a:xfrm>
            <a:off x="2987640" y="292428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2987640" y="191628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2987640" y="3933720"/>
            <a:ext cx="3313080" cy="719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547640" y="620640"/>
            <a:ext cx="60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звание каких гор России означает «золотой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Скругленный прямоугольник 3"/>
          <p:cNvSpPr/>
          <p:nvPr/>
        </p:nvSpPr>
        <p:spPr>
          <a:xfrm>
            <a:off x="3492360" y="4076640"/>
            <a:ext cx="200052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ме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3492360" y="1844640"/>
            <a:ext cx="200052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3492360" y="2924280"/>
            <a:ext cx="2000520" cy="72072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1547640" y="620640"/>
            <a:ext cx="60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ой минерал был впервые найден в предгорьях Ур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3"/>
          <p:cNvSpPr/>
          <p:nvPr/>
        </p:nvSpPr>
        <p:spPr>
          <a:xfrm>
            <a:off x="2195640" y="3573360"/>
            <a:ext cx="5329080" cy="5763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28 действующих вул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"/>
          <p:cNvSpPr/>
          <p:nvPr/>
        </p:nvSpPr>
        <p:spPr>
          <a:xfrm>
            <a:off x="2195640" y="1844640"/>
            <a:ext cx="5329080" cy="5763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самые высокие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2195640" y="2708280"/>
            <a:ext cx="5329080" cy="5763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много редки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547640" y="620640"/>
            <a:ext cx="60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чему Камчатка включена в Список Всемирного наслед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Компас</cp:lastModifiedBy>
  <dcterms:modified xsi:type="dcterms:W3CDTF">2012-11-02T05:14:10Z</dcterms:modified>
  <cp:revision>722</cp:revision>
  <dc:subject/>
  <dc:title>Слайд 1</dc:title>
</cp:coreProperties>
</file>