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167563" cy="10680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B86-5305-4816-B364-E6995F3D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64483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6173640"/>
            <a:ext cx="64483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0AF-B72B-462D-814D-7BAD254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336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617364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3360" y="617364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125-DB1B-4335-8370-21CC91FB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39080" y="249192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9600" y="249192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617364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39080" y="617364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19600" y="6173640"/>
            <a:ext cx="20761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A23-F748-4CE7-B01E-2B82349D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2491920"/>
            <a:ext cx="6448320" cy="70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02F-0F77-4E5B-9385-D2FEC10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644832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978-A628-43ED-9A4C-DB52681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314676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3360" y="2491920"/>
            <a:ext cx="314676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14F-18D4-4B35-B672-A0E769A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6EC-7330-4449-9D5D-8E046BB7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920" y="426960"/>
            <a:ext cx="644832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8D0-02F6-4CBC-84C6-3227C69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3360" y="2491920"/>
            <a:ext cx="314676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617364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04E-CDA8-4B4B-8517-6E778FC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314676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336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3360" y="617364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BFB-DD6D-44D2-B9EA-C33C72C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3360" y="2491920"/>
            <a:ext cx="31467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6173640"/>
            <a:ext cx="64483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84C-B0D4-4746-8FF6-0761F2C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426960"/>
            <a:ext cx="644832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920" y="2491920"/>
            <a:ext cx="644832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9899280"/>
            <a:ext cx="16714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8000" y="9899280"/>
            <a:ext cx="22701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5400" y="9899280"/>
            <a:ext cx="16718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634-DBBF-4639-9C94-275ABC490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DreamWolf\Рабочий стол\bumaga_dlya_stendov\bumaga dlya stendov\12.jpg"/>
          <p:cNvPicPr/>
          <p:nvPr/>
        </p:nvPicPr>
        <p:blipFill>
          <a:blip r:embed="rId1"/>
          <a:stretch/>
        </p:blipFill>
        <p:spPr>
          <a:xfrm>
            <a:off x="0" y="-11160"/>
            <a:ext cx="7165800" cy="10692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:\Documents and Settings\DreamWolf\Рабочий стол\sadovie_cveti\1-10.jpg"/>
          <p:cNvPicPr/>
          <p:nvPr/>
        </p:nvPicPr>
        <p:blipFill>
          <a:blip r:embed="rId2"/>
          <a:stretch/>
        </p:blipFill>
        <p:spPr>
          <a:xfrm>
            <a:off x="919080" y="731880"/>
            <a:ext cx="547236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DreamWolf\Рабочий стол\sadovie_cveti\1-17.jpg"/>
          <p:cNvPicPr/>
          <p:nvPr/>
        </p:nvPicPr>
        <p:blipFill>
          <a:blip r:embed="rId2"/>
          <a:stretch/>
        </p:blipFill>
        <p:spPr>
          <a:xfrm>
            <a:off x="846000" y="803160"/>
            <a:ext cx="5473800" cy="90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7165800" cy="1069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DreamWolf\Рабочий стол\sadovie_cveti\1-9.jpg"/>
          <p:cNvPicPr/>
          <p:nvPr/>
        </p:nvPicPr>
        <p:blipFill>
          <a:blip r:embed="rId2"/>
          <a:stretch/>
        </p:blipFill>
        <p:spPr>
          <a:xfrm>
            <a:off x="846000" y="731880"/>
            <a:ext cx="547380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7165800" cy="10696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C:\Documents and Settings\DreamWolf\Рабочий стол\sadovie_cveti\1-8.jpg"/>
          <p:cNvPicPr/>
          <p:nvPr/>
        </p:nvPicPr>
        <p:blipFill>
          <a:blip r:embed="rId2"/>
          <a:stretch/>
        </p:blipFill>
        <p:spPr>
          <a:xfrm>
            <a:off x="774720" y="803160"/>
            <a:ext cx="5616720" cy="91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DreamWolf\Рабочий стол\sadovie_cveti\1-11.jpg"/>
          <p:cNvPicPr/>
          <p:nvPr/>
        </p:nvPicPr>
        <p:blipFill>
          <a:blip r:embed="rId2"/>
          <a:stretch/>
        </p:blipFill>
        <p:spPr>
          <a:xfrm>
            <a:off x="846000" y="876240"/>
            <a:ext cx="54738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DreamWolf\Рабочий стол\sadovie_cveti\1-12.jpg"/>
          <p:cNvPicPr/>
          <p:nvPr/>
        </p:nvPicPr>
        <p:blipFill>
          <a:blip r:embed="rId2"/>
          <a:stretch/>
        </p:blipFill>
        <p:spPr>
          <a:xfrm>
            <a:off x="774720" y="876240"/>
            <a:ext cx="5616720" cy="90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DreamWolf\Рабочий стол\sadovie_cveti\1-13.jpg"/>
          <p:cNvPicPr/>
          <p:nvPr/>
        </p:nvPicPr>
        <p:blipFill>
          <a:blip r:embed="rId2"/>
          <a:stretch/>
        </p:blipFill>
        <p:spPr>
          <a:xfrm>
            <a:off x="846000" y="876240"/>
            <a:ext cx="5473800" cy="90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DreamWolf\Рабочий стол\sadovie_cveti\1-14.jpg"/>
          <p:cNvPicPr/>
          <p:nvPr/>
        </p:nvPicPr>
        <p:blipFill>
          <a:blip r:embed="rId2"/>
          <a:stretch/>
        </p:blipFill>
        <p:spPr>
          <a:xfrm>
            <a:off x="846000" y="803160"/>
            <a:ext cx="5545440" cy="9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DreamWolf\Рабочий стол\sadovie_cveti\1-15.jpg"/>
          <p:cNvPicPr/>
          <p:nvPr/>
        </p:nvPicPr>
        <p:blipFill>
          <a:blip r:embed="rId2"/>
          <a:stretch/>
        </p:blipFill>
        <p:spPr>
          <a:xfrm>
            <a:off x="846000" y="803160"/>
            <a:ext cx="5473800" cy="907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2"/>
          <p:cNvPicPr/>
          <p:nvPr/>
        </p:nvPicPr>
        <p:blipFill>
          <a:blip r:embed="rId1"/>
          <a:stretch/>
        </p:blipFill>
        <p:spPr>
          <a:xfrm>
            <a:off x="3240" y="9360"/>
            <a:ext cx="7162560" cy="1069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DreamWolf\Рабочий стол\sadovie_cveti\1-16.jpg"/>
          <p:cNvPicPr/>
          <p:nvPr/>
        </p:nvPicPr>
        <p:blipFill>
          <a:blip r:embed="rId2"/>
          <a:stretch/>
        </p:blipFill>
        <p:spPr>
          <a:xfrm>
            <a:off x="846000" y="731880"/>
            <a:ext cx="554544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35:36Z</dcterms:created>
  <dc:creator>Paradise</dc:creator>
  <dc:description/>
  <dc:language>en-US</dc:language>
  <cp:lastModifiedBy>йцукен</cp:lastModifiedBy>
  <dcterms:modified xsi:type="dcterms:W3CDTF">2014-01-19T14:48:09Z</dcterms:modified>
  <cp:revision>9</cp:revision>
  <dc:subject/>
  <dc:title>Слайд 1</dc:title>
</cp:coreProperties>
</file>