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AC8-ED97-4D9D-8FED-951234DF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D0F-8422-4A1D-8F72-83AD00CC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17B-7D5A-4614-B5F9-D25DF2FC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6E4-8D96-40FC-A547-F7E2FB04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F02-0A62-4576-95EE-16FD0E1B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D94-E671-43BF-AA4E-F9E8B098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1CA-A68E-4CBE-AF6D-F58BFD02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285-11FD-42F2-97BD-60A030AD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29D-71CC-42EA-90E7-A821139C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BE8-FE83-4FFC-BABD-E00DA229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EEF-4871-48C3-AC2F-CFA0BAA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DAC-D3FD-4AF8-9861-549A3F5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CDCF-7FA1-451A-AE4B-41A27576D9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овогодний букет вместо ёл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тер-кла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технолог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митриева Т.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У «СОШ № 28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яснительная запис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оследние годы уделяю большое внимание вопросам экологии, вторичному использованию бытовых отходов. В настоящее время пластмасса широко распространена в быту и промышленности и поэтому доступна каждому. Хочу поделиться своим опытом изготовления сувенира «Ёлка» из пустых пластиковых бутылок различной емкости. Многообразие видов (цвет, высота) зависит от фантазии изготовителя. Этот сувенир гигиеничен и оригинален. Технология изготовления сувенира достаточно проста и в то же время включает обучение некоторым необходимым трудовым операциям и развивает конструктивное мышление у подростков. Кроме бутылок понадобиться альбомный лист формата А4 для ствола ёлки. Он сворачивается в трубочку, вставляется в отрезанное горлышко бутылки (основание ёлки) и фиксируется скотчем. Далее из бутылок нарезаем ветки различной ширины и  закрепляем их скотчем на стволе вкруговую. Ветки чередуем по величине, уменьшая ширину кверху. Верхушку ёлки оформляем звездой. С НОВЫМ ГОДОМ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териалы и инструмен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6" descr="SDC13316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готовка материал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6" descr="SDC13318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готовки для вето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6" descr="SDC13320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етки и подставка для ство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6" descr="SDC13321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DC13326"/>
          <p:cNvPicPr/>
          <p:nvPr/>
        </p:nvPicPr>
        <p:blipFill>
          <a:blip r:embed="rId1"/>
          <a:stretch/>
        </p:blipFill>
        <p:spPr>
          <a:xfrm>
            <a:off x="755640" y="6922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DC13327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отовое издел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7" descr="SDC13328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4:25:54Z</dcterms:created>
  <dc:creator>USER</dc:creator>
  <dc:description/>
  <dc:language>en-US</dc:language>
  <cp:lastModifiedBy>USER</cp:lastModifiedBy>
  <dcterms:modified xsi:type="dcterms:W3CDTF">2011-12-15T08:22:52Z</dcterms:modified>
  <cp:revision>9</cp:revision>
  <dc:subject/>
  <dc:title>Новогодний букет вместо ёлки</dc:title>
</cp:coreProperties>
</file>