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869D-7073-485C-8F46-B03F3714D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рофейные знамё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рофейные французские знамёна, клю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мпадка над могилой М.И.Кутуз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3A1-D9F7-49B1-8109-7CC1B08B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057-195C-4FA9-8AD7-FAEB174E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D026-F579-46E3-8ADC-39D24D80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688-5EC6-422F-938C-C37B72CF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5CF4-04DA-4138-A466-5F998F81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9221-C127-4623-8964-737B3F70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A543-ED2F-4B1E-943F-B1BC5FDB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017B-2BA0-4EF0-A771-928F961B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3190-8518-48BC-9A71-45DBBDBE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1F10-06CE-4E09-8F65-3FFBA2C3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2038-3C9D-4095-8AF4-89FCE30A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890-D922-4C11-BE51-227FB0A3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E369-F884-4743-805E-36BB201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D9E0-8ACF-4EC7-9399-CE3D594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D98D-BEFF-4151-B16D-4C4A3614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ACEC-5AD4-4376-BA96-2F8F8E88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93FC-2507-4AC1-808F-08370129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28B3-EF10-4FA9-B6B3-7B787EC5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C2C1-10B9-46B5-A393-AF5B2AE7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8D56-7148-4C84-B179-95DACEAB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C2A57-9F22-48EB-8607-81BDA067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555D-0922-46ED-BB69-FCA9ABB9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2AA8-2745-42E5-9236-E68DBF7A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A46C-EC86-4B08-9041-CCB9008D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6ABEA-93FC-4A97-8B84-059102E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2FA7-7FB4-457C-8542-6A8B89B6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B9A0D-79AC-4F44-8DA7-8338C36C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AD19-BADE-444C-9BC2-DE12B0FB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7147-9EC8-412D-818A-774E0213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991AD-7095-4601-862E-C2DD9F01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D9F8-B60B-4879-878C-E215C665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7534D-E8FC-4D2E-87B8-8590636C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FA39-6C76-4546-BE18-B5E62EA3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352-36EB-48F9-9894-024D7E0D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6DF90-3E0B-47D0-805D-8D800FE8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144C-ECCF-480B-9E54-71097CB8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B1FE-ECAE-459C-9245-1ED56AF0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783C-3FF8-4C3D-BAAE-015B5BCF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40F6-1B7E-45CC-9AD0-BCEDFA2A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EBDB-EEA7-4925-A45C-F1C0A781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F20F-11A0-440F-AA5C-DEC5E0EA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8F0A4-785A-41F2-9ADE-7C24C7B3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53E5-9D27-4CEA-9E4E-A88A8CD4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4A9-58F6-4E98-B4E5-E7319EAD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A4B-6DE2-47D3-99A0-F7922671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5F96-FA28-46B3-ADD5-D22294F5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AAD-2D68-47EA-9917-20060FA1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6F1-8D69-456C-936E-6A6B4EEC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25BB-884E-4C4F-9E44-26B446A31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31ED-E397-4813-8863-77D61F29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03CD-BDD7-4A83-9DD0-C32C7303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ED4D-4461-479D-8102-2EB0C57A3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476360" y="1052640"/>
            <a:ext cx="640872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ПЕТЕРБУР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В НАЧАЛЕ 19 ВЕК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5083200" cy="3674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24000" y="534960"/>
            <a:ext cx="8820000" cy="6323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196000" y="0"/>
            <a:ext cx="38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АВНЫЙ   ШТА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0524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682160" y="1989000"/>
            <a:ext cx="446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ЕКСАНДРОВ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О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10560" y="189000"/>
            <a:ext cx="52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ТЕРБУРГСКИ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122200" y="115920"/>
            <a:ext cx="514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РЦОВАЯ ПЛОЩ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2384280"/>
            <a:ext cx="5940360" cy="4473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925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9840" y="476280"/>
            <a:ext cx="35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ААКИЕВ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08920" y="45720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3287880"/>
            <a:ext cx="5364000" cy="3570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4192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2579760"/>
            <a:ext cx="5940360" cy="4278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5867280" cy="3792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19480" y="61128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ОЩ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50720" y="458136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КАБР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132000" y="2536920"/>
            <a:ext cx="6012000" cy="4321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508720" cy="3773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2884320"/>
            <a:ext cx="5292720" cy="3973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3780000" y="0"/>
            <a:ext cx="5364000" cy="3387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24720" y="73512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39440" y="4292640"/>
            <a:ext cx="390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АСИЛЬ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08720" cy="3672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427640" y="3336840"/>
            <a:ext cx="4716360" cy="352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13800" y="476280"/>
            <a:ext cx="28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МЕРАТ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РА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7080" y="3998880"/>
            <a:ext cx="296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ПОЛЕ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ОНАП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12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1701720"/>
            <a:ext cx="6875640" cy="5156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4164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116000" y="333360"/>
            <a:ext cx="241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2040" y="2492280"/>
            <a:ext cx="8013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1 Стиль ампир, что это т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  Назовите сооружения, постро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в стиле ампир в честь побе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русской армии над войскам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Наполе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rcRect l="0" t="0" r="0" b="6157"/>
          <a:stretch/>
        </p:blipFill>
        <p:spPr>
          <a:xfrm>
            <a:off x="0" y="0"/>
            <a:ext cx="2508120" cy="2459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http://www.spbtravel.ru/pic/photo/attbig_51_18.jpg"/>
          <p:cNvPicPr/>
          <p:nvPr/>
        </p:nvPicPr>
        <p:blipFill>
          <a:blip r:embed="rId4"/>
          <a:srcRect l="0" t="25038" r="43477" b="0"/>
          <a:stretch/>
        </p:blipFill>
        <p:spPr>
          <a:xfrm>
            <a:off x="6659640" y="4387680"/>
            <a:ext cx="248436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70960" cy="18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0" y="2924280"/>
            <a:ext cx="5238720" cy="3933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563640" y="1628640"/>
            <a:ext cx="632628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чебн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. 3-5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5076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710400" y="0"/>
            <a:ext cx="2433600" cy="335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http://www.spbtravel.ru/pic/photo/attbig_51_18.jpg"/>
          <p:cNvPicPr/>
          <p:nvPr/>
        </p:nvPicPr>
        <p:blipFill>
          <a:blip r:embed="rId4"/>
          <a:srcRect l="0" t="25038" r="43477" b="0"/>
          <a:stretch/>
        </p:blipFill>
        <p:spPr>
          <a:xfrm>
            <a:off x="5913360" y="3645000"/>
            <a:ext cx="3230640" cy="321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www.hellopiter.ru/images/IMG_25248676788.jpg"/>
          <p:cNvPicPr/>
          <p:nvPr/>
        </p:nvPicPr>
        <p:blipFill>
          <a:blip r:embed="rId5"/>
          <a:stretch/>
        </p:blipFill>
        <p:spPr>
          <a:xfrm>
            <a:off x="-4680" y="3716280"/>
            <a:ext cx="3027240" cy="3141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3132000" y="3186000"/>
            <a:ext cx="2598840" cy="3672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772720" y="189000"/>
            <a:ext cx="369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ИЛЬ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 АМПИ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МПЕ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1127160"/>
            <a:ext cx="9144000" cy="57308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39640" y="870120"/>
            <a:ext cx="7561440" cy="5976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43840" y="201600"/>
            <a:ext cx="49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ЗАНСКИЙ 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0" y="2008080"/>
            <a:ext cx="9144000" cy="3538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54560" y="0"/>
            <a:ext cx="2989440" cy="414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32000" cy="4176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987640" y="1962000"/>
            <a:ext cx="335916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087800" cy="5589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284720" y="765000"/>
            <a:ext cx="4859280" cy="609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Казанский собор. Могила М. И. Кутузова."/>
          <p:cNvPicPr/>
          <p:nvPr/>
        </p:nvPicPr>
        <p:blipFill>
          <a:blip r:embed="rId4"/>
          <a:stretch/>
        </p:blipFill>
        <p:spPr>
          <a:xfrm>
            <a:off x="0" y="765000"/>
            <a:ext cx="4068720" cy="609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занский собор. Поминальная лампада над могилой М. И. Кутузова."/>
          <p:cNvPicPr/>
          <p:nvPr/>
        </p:nvPicPr>
        <p:blipFill>
          <a:blip r:embed="rId5"/>
          <a:stretch/>
        </p:blipFill>
        <p:spPr>
          <a:xfrm>
            <a:off x="4576680" y="765000"/>
            <a:ext cx="4567320" cy="6093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77800" y="11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ГИЛА   М.И.КУТУЗ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59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4000" y="692280"/>
            <a:ext cx="24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МЯ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Памятник М. И. Кутузову у Казанского собора."/>
          <p:cNvPicPr/>
          <p:nvPr/>
        </p:nvPicPr>
        <p:blipFill>
          <a:blip r:embed="rId3"/>
          <a:stretch/>
        </p:blipFill>
        <p:spPr>
          <a:xfrm>
            <a:off x="0" y="1989000"/>
            <a:ext cx="3043080" cy="4869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636000" y="4437000"/>
            <a:ext cx="454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ИХАИЛ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ЛАРИОНОВИЧ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УТУЗО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http://img-fotki.yandex.ru/get/5401/paolaner.13/0_52860_8082f571_XL"/>
          <p:cNvPicPr/>
          <p:nvPr/>
        </p:nvPicPr>
        <p:blipFill>
          <a:blip r:embed="rId2"/>
          <a:stretch/>
        </p:blipFill>
        <p:spPr>
          <a:xfrm>
            <a:off x="611280" y="91764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909440" y="115920"/>
            <a:ext cx="49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РВСКИЕ  ВОР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890640"/>
            <a:ext cx="9144000" cy="5967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332000" y="876240"/>
            <a:ext cx="6372000" cy="59817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55640" y="878040"/>
            <a:ext cx="7956720" cy="5979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405440" y="260280"/>
            <a:ext cx="56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СКОВСКИЕ  ВОР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0_2201e_8662ca18_XL"/>
          <p:cNvPicPr/>
          <p:nvPr/>
        </p:nvPicPr>
        <p:blipFill>
          <a:blip r:embed="rId5"/>
          <a:stretch/>
        </p:blipFill>
        <p:spPr>
          <a:xfrm>
            <a:off x="971640" y="879480"/>
            <a:ext cx="7489800" cy="5978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0T05:19:48Z</dcterms:created>
  <dc:creator>1</dc:creator>
  <dc:description/>
  <dc:language>en-US</dc:language>
  <cp:lastModifiedBy>1</cp:lastModifiedBy>
  <dcterms:modified xsi:type="dcterms:W3CDTF">2013-12-12T21:07:31Z</dcterms:modified>
  <cp:revision>11</cp:revision>
  <dc:subject/>
  <dc:title>Слайд 1</dc:title>
</cp:coreProperties>
</file>