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080E-3E00-449B-A883-9CD79F591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174B-97F6-4EB6-ADEC-5C9565F016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492C-4143-40A5-BB25-A1FAC38957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9F33-4B80-425E-B8BC-207EF552CB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61AB-DD48-4FCB-B8E3-6274525302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5CCD-C119-44DA-8D99-11355DC839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2FFF-E62E-45B6-BE98-E1707A53CB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CEAD-30F4-468A-9113-89FD3786B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E1B8-7A3A-4CED-8CF0-92508C691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47EE-22D2-4615-86D4-26593A2FC1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4BC8-EBD3-4DF8-9382-15C72DFF1B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3EB6-5A8D-40B3-9801-7B9E5CCC5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A321-937E-49E1-9D3D-68ED8B82FC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C05-D31B-4500-94EA-674925EB8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241-345E-42FB-929A-29527B23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087-C165-45BA-A134-F92C1AC2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444-712B-411D-B675-EA6D82DD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092-4953-4B12-92AF-5A9C4365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3D1-9378-4C5B-A0A8-F1C23C95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DD6-C95A-45E3-8AFB-D0C58216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8F01-6B93-4F3B-BAF7-AE9669DA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E39C-9D89-420D-811B-8C289585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275-B2ED-461D-95F1-C90DFC48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988A-6FD4-4ABE-AEA0-182550A2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E5E-E0E5-48EA-ADD2-337673B9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4B00-C4B5-4779-B462-6397A062F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428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760" y="9399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«ШКОЛА СВЕТОФОРНЫХ НАУ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3071880" y="4214880"/>
            <a:ext cx="3286080" cy="12016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дзаголовок 2"/>
          <p:cNvSpPr/>
          <p:nvPr/>
        </p:nvSpPr>
        <p:spPr>
          <a:xfrm>
            <a:off x="250920" y="6453360"/>
            <a:ext cx="85723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214200" y="5786280"/>
            <a:ext cx="8572680" cy="52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Составитель: Тимофеева Татьяна Владимировна, учител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МОУ «Начальная общеобразовательная школа № 98» г. Кемер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C:\Users\Татьяна\Documents\Downloads\светофор.gif"/>
          <p:cNvPicPr/>
          <p:nvPr/>
        </p:nvPicPr>
        <p:blipFill>
          <a:blip r:embed="rId1"/>
          <a:stretch/>
        </p:blipFill>
        <p:spPr>
          <a:xfrm>
            <a:off x="7643880" y="611280"/>
            <a:ext cx="642960" cy="16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0" y="-360"/>
            <a:ext cx="91440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  <a:ea typeface="Arial"/>
              </a:rPr>
              <a:t>Как должен поступить пешеход, который не успел перейти дорогу  на регулируемом пешеходном переходе на разрешённый сигнал светофор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4714920" y="4143240"/>
            <a:ext cx="4143240" cy="2143440"/>
          </a:xfrm>
          <a:prstGeom prst="roundRect">
            <a:avLst>
              <a:gd name="adj" fmla="val 2047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ждаться разрешающего сигнала светофора на островке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285840" y="4143240"/>
            <a:ext cx="4071960" cy="2143440"/>
          </a:xfrm>
          <a:prstGeom prst="roundRect">
            <a:avLst>
              <a:gd name="adj" fmla="val 29278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ернуться наз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2286000" y="1928880"/>
            <a:ext cx="4357800" cy="2000160"/>
          </a:xfrm>
          <a:prstGeom prst="roundRect">
            <a:avLst>
              <a:gd name="adj" fmla="val 28912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Закончить дви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C:\Users\Татьяна\Documents\Downloads\светофор.gif"/>
          <p:cNvPicPr/>
          <p:nvPr/>
        </p:nvPicPr>
        <p:blipFill>
          <a:blip r:embed="rId1"/>
          <a:stretch/>
        </p:blipFill>
        <p:spPr>
          <a:xfrm>
            <a:off x="8143920" y="1785960"/>
            <a:ext cx="638280" cy="166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0" y="-360"/>
            <a:ext cx="91440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Загорелся зелёный сигнал светофора для пешеходов. Можно ли сразу переходить через проезжую час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3"/>
          <p:cNvSpPr/>
          <p:nvPr/>
        </p:nvSpPr>
        <p:spPr>
          <a:xfrm>
            <a:off x="2500200" y="2214720"/>
            <a:ext cx="4429080" cy="1785960"/>
          </a:xfrm>
          <a:prstGeom prst="roundRect">
            <a:avLst>
              <a:gd name="adj" fmla="val 285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обходимо убедиться, что весь транспорт останови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4"/>
          <p:cNvSpPr/>
          <p:nvPr/>
        </p:nvSpPr>
        <p:spPr>
          <a:xfrm>
            <a:off x="357120" y="4500720"/>
            <a:ext cx="3786120" cy="1785960"/>
          </a:xfrm>
          <a:prstGeom prst="roundRect">
            <a:avLst>
              <a:gd name="adj" fmla="val 2581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ж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5"/>
          <p:cNvSpPr/>
          <p:nvPr/>
        </p:nvSpPr>
        <p:spPr>
          <a:xfrm>
            <a:off x="5143680" y="4429080"/>
            <a:ext cx="3500280" cy="1785960"/>
          </a:xfrm>
          <a:prstGeom prst="roundRect">
            <a:avLst>
              <a:gd name="adj" fmla="val 24894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йду как в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2" descr="C:\Users\Татьяна\Documents\Downloads\светофор.gif"/>
          <p:cNvPicPr/>
          <p:nvPr/>
        </p:nvPicPr>
        <p:blipFill>
          <a:blip r:embed="rId1"/>
          <a:stretch/>
        </p:blipFill>
        <p:spPr>
          <a:xfrm>
            <a:off x="8072280" y="1785960"/>
            <a:ext cx="720720" cy="187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214200"/>
            <a:ext cx="91440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  <a:ea typeface="Arial"/>
              </a:rPr>
              <a:t>Как поступить, если при переходе проезжей части ты уронил какую-либо вещ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3"/>
          <p:cNvSpPr/>
          <p:nvPr/>
        </p:nvSpPr>
        <p:spPr>
          <a:xfrm>
            <a:off x="4714920" y="4500720"/>
            <a:ext cx="4071960" cy="1785960"/>
          </a:xfrm>
          <a:prstGeom prst="roundRect">
            <a:avLst>
              <a:gd name="adj" fmla="val 13009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кончить переход и попросить взрослого пешехода достать эту вещ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/>
          <p:cNvSpPr/>
          <p:nvPr/>
        </p:nvSpPr>
        <p:spPr>
          <a:xfrm>
            <a:off x="214200" y="4500720"/>
            <a:ext cx="4143600" cy="1785960"/>
          </a:xfrm>
          <a:prstGeom prst="roundRect">
            <a:avLst>
              <a:gd name="adj" fmla="val 25810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лакать, чтобы водители уви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5"/>
          <p:cNvSpPr/>
          <p:nvPr/>
        </p:nvSpPr>
        <p:spPr>
          <a:xfrm>
            <a:off x="2357280" y="2214720"/>
            <a:ext cx="4357800" cy="1785960"/>
          </a:xfrm>
          <a:prstGeom prst="roundRect">
            <a:avLst>
              <a:gd name="adj" fmla="val 2581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Вернуться и поднять е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C:\Users\Татьяна\Documents\Downloads\светофор.gif"/>
          <p:cNvPicPr/>
          <p:nvPr/>
        </p:nvPicPr>
        <p:blipFill>
          <a:blip r:embed="rId1"/>
          <a:stretch/>
        </p:blipFill>
        <p:spPr>
          <a:xfrm>
            <a:off x="8001000" y="1857240"/>
            <a:ext cx="693720" cy="18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Время: 0 мин. 9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C:\Users\Татьяна\Documents\Downloads\светофор.gif"/>
          <p:cNvPicPr/>
          <p:nvPr/>
        </p:nvPicPr>
        <p:blipFill>
          <a:blip r:embed="rId2"/>
          <a:stretch/>
        </p:blipFill>
        <p:spPr>
          <a:xfrm>
            <a:off x="7929720" y="1285920"/>
            <a:ext cx="780840" cy="2033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10"/>
          <p:cNvSpPr/>
          <p:nvPr/>
        </p:nvSpPr>
        <p:spPr>
          <a:xfrm>
            <a:off x="785880" y="6286680"/>
            <a:ext cx="5643360" cy="3373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выхода нажмит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28760" y="4284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В каком году появился светоф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4929120" y="4500720"/>
            <a:ext cx="3643560" cy="1785960"/>
          </a:xfrm>
          <a:prstGeom prst="roundRect">
            <a:avLst>
              <a:gd name="adj" fmla="val 36782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868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57120" y="4500720"/>
            <a:ext cx="3786120" cy="1785960"/>
          </a:xfrm>
          <a:prstGeom prst="roundRect">
            <a:avLst>
              <a:gd name="adj" fmla="val 37694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914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2357280" y="2214720"/>
            <a:ext cx="4357800" cy="1785960"/>
          </a:xfrm>
          <a:prstGeom prst="roundRect">
            <a:avLst>
              <a:gd name="adj" fmla="val 33125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1800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C:\Users\Татьяна\Documents\Downloads\светофор.gif"/>
          <p:cNvPicPr/>
          <p:nvPr/>
        </p:nvPicPr>
        <p:blipFill>
          <a:blip r:embed="rId1"/>
          <a:stretch/>
        </p:blipFill>
        <p:spPr>
          <a:xfrm>
            <a:off x="8072280" y="1155600"/>
            <a:ext cx="85752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28400" y="214200"/>
            <a:ext cx="871524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Какая страна явилась первооткрывательницей светофо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71680" y="4357800"/>
            <a:ext cx="4000320" cy="1785960"/>
          </a:xfrm>
          <a:prstGeom prst="roundRect">
            <a:avLst>
              <a:gd name="adj" fmla="val 3220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нг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4929120" y="4429080"/>
            <a:ext cx="3786120" cy="1785960"/>
          </a:xfrm>
          <a:prstGeom prst="roundRect">
            <a:avLst>
              <a:gd name="adj" fmla="val 29468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Ита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2357280" y="2214720"/>
            <a:ext cx="4357800" cy="1785960"/>
          </a:xfrm>
          <a:prstGeom prst="roundRect">
            <a:avLst>
              <a:gd name="adj" fmla="val 32208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Гер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C:\Users\Татьяна\Documents\Downloads\светофор.gif"/>
          <p:cNvPicPr/>
          <p:nvPr/>
        </p:nvPicPr>
        <p:blipFill>
          <a:blip r:embed="rId1"/>
          <a:stretch/>
        </p:blipFill>
        <p:spPr>
          <a:xfrm>
            <a:off x="8072280" y="1785960"/>
            <a:ext cx="615960" cy="16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14200" y="214200"/>
            <a:ext cx="8715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Каким было первое правильное название этой чудо – машин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357280" y="2286000"/>
            <a:ext cx="3786480" cy="178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емаф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214200" y="4500720"/>
            <a:ext cx="4143600" cy="178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ветосемаф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4714920" y="4500720"/>
            <a:ext cx="4143240" cy="178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емасветоф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2" descr="C:\Users\Татьяна\Documents\Downloads\светофор.gif"/>
          <p:cNvPicPr/>
          <p:nvPr/>
        </p:nvPicPr>
        <p:blipFill>
          <a:blip r:embed="rId1"/>
          <a:stretch/>
        </p:blipFill>
        <p:spPr>
          <a:xfrm>
            <a:off x="8215200" y="1928880"/>
            <a:ext cx="693720" cy="180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-360" y="214200"/>
            <a:ext cx="89298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  <a:ea typeface="Arial"/>
              </a:rPr>
              <a:t>Почему возникла необходимость создать светофо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642960" y="4500720"/>
            <a:ext cx="3786120" cy="178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Люди  стали часто попадать под колёса автомоби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5000760" y="4500720"/>
            <a:ext cx="3786120" cy="178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ля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2357280" y="2214720"/>
            <a:ext cx="4357800" cy="178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тому что наука не стоит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C:\Users\Татьяна\Documents\Downloads\светофор.gif"/>
          <p:cNvPicPr/>
          <p:nvPr/>
        </p:nvPicPr>
        <p:blipFill>
          <a:blip r:embed="rId1"/>
          <a:stretch/>
        </p:blipFill>
        <p:spPr>
          <a:xfrm>
            <a:off x="8143920" y="1714680"/>
            <a:ext cx="714240" cy="18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214200"/>
            <a:ext cx="91440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  <a:ea typeface="Arial"/>
              </a:rPr>
              <a:t>В какой стране впервые появился светофор, который работал при помощи электроэнерг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4786200" y="4500720"/>
            <a:ext cx="3786480" cy="178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оединённые Штаты  Аме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57120" y="4500720"/>
            <a:ext cx="3786120" cy="178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Анг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2357280" y="2214720"/>
            <a:ext cx="4357800" cy="178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Гер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C:\Users\Татьяна\Documents\Downloads\светофор.gif"/>
          <p:cNvPicPr/>
          <p:nvPr/>
        </p:nvPicPr>
        <p:blipFill>
          <a:blip r:embed="rId1"/>
          <a:stretch/>
        </p:blipFill>
        <p:spPr>
          <a:xfrm>
            <a:off x="8215200" y="2071800"/>
            <a:ext cx="666720" cy="17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28760" y="2142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Arial"/>
              </a:rPr>
              <a:t>На какой сигнал светофора переходят проезжую часть все граждане мир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4786200" y="4500720"/>
            <a:ext cx="3786480" cy="1785960"/>
          </a:xfrm>
          <a:prstGeom prst="roundRect">
            <a:avLst>
              <a:gd name="adj" fmla="val 24894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ЕЛЁ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357120" y="4500720"/>
            <a:ext cx="3786120" cy="1785960"/>
          </a:xfrm>
          <a:prstGeom prst="roundRect">
            <a:avLst>
              <a:gd name="adj" fmla="val 27639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ЁЛ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2357280" y="2214720"/>
            <a:ext cx="4357800" cy="1785960"/>
          </a:xfrm>
          <a:prstGeom prst="roundRect">
            <a:avLst>
              <a:gd name="adj" fmla="val 27639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РА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C:\Users\Татьяна\Documents\Downloads\светофор.gif"/>
          <p:cNvPicPr/>
          <p:nvPr/>
        </p:nvPicPr>
        <p:blipFill>
          <a:blip r:embed="rId1"/>
          <a:stretch/>
        </p:blipFill>
        <p:spPr>
          <a:xfrm>
            <a:off x="8215200" y="2214720"/>
            <a:ext cx="571680" cy="148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-360"/>
            <a:ext cx="91440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  <a:ea typeface="Arial"/>
              </a:rPr>
              <a:t>Можно ли начать переход проезжей части на зелёный мигающий сигнал светофор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2571840" y="2143080"/>
            <a:ext cx="3786120" cy="1785960"/>
          </a:xfrm>
          <a:prstGeom prst="roundRect">
            <a:avLst>
              <a:gd name="adj" fmla="val 26722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357120" y="4500720"/>
            <a:ext cx="3786120" cy="1785960"/>
          </a:xfrm>
          <a:prstGeom prst="roundRect">
            <a:avLst>
              <a:gd name="adj" fmla="val 33125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072040" y="4500720"/>
            <a:ext cx="3714840" cy="1785960"/>
          </a:xfrm>
          <a:prstGeom prst="roundRect">
            <a:avLst>
              <a:gd name="adj" fmla="val 27639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Можно, если бег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C:\Users\Татьяна\Documents\Downloads\светофор.gif"/>
          <p:cNvPicPr/>
          <p:nvPr/>
        </p:nvPicPr>
        <p:blipFill>
          <a:blip r:embed="rId1"/>
          <a:stretch/>
        </p:blipFill>
        <p:spPr>
          <a:xfrm>
            <a:off x="8143920" y="2071800"/>
            <a:ext cx="666720" cy="1735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Татьяна</cp:lastModifiedBy>
  <dcterms:modified xsi:type="dcterms:W3CDTF">2010-04-24T14:37:39Z</dcterms:modified>
  <cp:revision>733</cp:revision>
  <dc:subject/>
  <dc:title>Слайд 1</dc:title>
</cp:coreProperties>
</file>