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png" ContentType="image/png"/>
  <Override PartName="/ppt/media/image6.gif" ContentType="image/gif"/>
  <Override PartName="/ppt/media/image13.png" ContentType="image/png"/>
  <Override PartName="/ppt/media/image12.wmf" ContentType="image/x-wmf"/>
  <Override PartName="/ppt/media/image8.png" ContentType="image/png"/>
  <Override PartName="/ppt/media/applause.wav" ContentType="audio/x-wav"/>
  <Override PartName="/ppt/media/image20.gif" ContentType="image/gif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919C-B409-4B94-878F-6353B035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BDD5-EDDA-4676-BDAB-FD927F73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B4C6-7719-4E71-A70B-AD9ABC2B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4EB7-FA83-4CF4-A947-0DCD0373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192B-2878-4338-933A-5824CF1E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9926-3E6F-4F0A-B447-D3DE774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BAB6-C1CE-4518-87D5-BB10AE02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ACAF-F3AA-44D0-9927-307F3CA1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8C5E-0A21-4483-BB81-45DB8393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9DE3-2069-474F-9F32-DF78E16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8BE4-E7CE-4D48-A36F-596975B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4727-5A47-4207-AD92-B2AB60EC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C999-A64D-4889-A2DB-191ACB1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AA7F-7499-4AE9-89A1-21180BB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A15D-038C-4CA9-A58B-B14E75F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F18E-315B-4803-9092-329900B4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B11E-EBCB-48F4-B5E4-89518EC4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5425-17C9-4328-917C-B80764D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6930-2835-443E-83CC-6993E79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42F6-2BE7-48CF-8F8F-51E80639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8FCA-18A6-4578-A91A-9CCCA26F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6248-33B1-4899-A41E-8352C04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77A4-FC48-4C58-B448-A47A4D9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1BE7-24E3-4C42-8DE1-8E01F37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313-E246-49FA-AA9D-3CB3D59C61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5200" cy="4571280"/>
            <a:chOff x="914760" y="1219320"/>
            <a:chExt cx="731520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085760" y="1219320"/>
              <a:ext cx="863640" cy="4548600"/>
              <a:chOff x="1085760" y="1219320"/>
              <a:chExt cx="86364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0857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654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614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494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5680"/>
              <a:ext cx="7315200" cy="4094640"/>
              <a:chOff x="914760" y="1435680"/>
              <a:chExt cx="731520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5680"/>
                <a:ext cx="7298640" cy="820440"/>
                <a:chOff x="914760" y="1435680"/>
                <a:chExt cx="72986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5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082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216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8800" y="22561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15320"/>
                <a:ext cx="7297560" cy="822600"/>
                <a:chOff x="932400" y="2515320"/>
                <a:chExt cx="7297560" cy="82260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15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8928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28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379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7720"/>
                <a:ext cx="7298640" cy="822600"/>
                <a:chOff x="914760" y="3627720"/>
                <a:chExt cx="7298640" cy="82260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7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528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8800" y="4450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0960"/>
                <a:ext cx="7297560" cy="819360"/>
                <a:chOff x="932400" y="4710960"/>
                <a:chExt cx="7297560" cy="8193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0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348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57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0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53960" y="1243080"/>
              <a:ext cx="863640" cy="4547520"/>
              <a:chOff x="2253960" y="1243080"/>
              <a:chExt cx="86364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539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336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29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176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39080" y="1243080"/>
              <a:ext cx="863640" cy="4547520"/>
              <a:chOff x="3439080" y="1243080"/>
              <a:chExt cx="86364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39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170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14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02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23840" y="1243080"/>
              <a:ext cx="863640" cy="4547520"/>
              <a:chOff x="4623840" y="1243080"/>
              <a:chExt cx="86364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2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017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1969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4874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59640" y="1243080"/>
              <a:ext cx="862200" cy="4547520"/>
              <a:chOff x="5759640" y="1243080"/>
              <a:chExt cx="86220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59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36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324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21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18480" y="1243080"/>
              <a:ext cx="863640" cy="4547520"/>
              <a:chOff x="6918480" y="1243080"/>
              <a:chExt cx="86364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184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1964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491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7821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012B-75B9-42CD-AEEA-0551350DFD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5"/>
          <p:cNvSpPr txBox="1"/>
          <p:nvPr/>
        </p:nvSpPr>
        <p:spPr>
          <a:xfrm>
            <a:off x="1905120" y="1371600"/>
            <a:ext cx="538308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Times New Roman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cc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539640" y="5157720"/>
            <a:ext cx="799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2743200" y="228600"/>
            <a:ext cx="354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Рисунок 30" descr="1but"/>
          <p:cNvPicPr/>
          <p:nvPr/>
        </p:nvPicPr>
        <p:blipFill>
          <a:blip r:embed="rId1"/>
          <a:stretch/>
        </p:blipFill>
        <p:spPr>
          <a:xfrm>
            <a:off x="457200" y="3200400"/>
            <a:ext cx="984240" cy="1700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8" descr="5but"/>
          <p:cNvPicPr/>
          <p:nvPr/>
        </p:nvPicPr>
        <p:blipFill>
          <a:blip r:embed="rId2"/>
          <a:stretch/>
        </p:blipFill>
        <p:spPr>
          <a:xfrm>
            <a:off x="7391520" y="0"/>
            <a:ext cx="482400" cy="97308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8" descr=""/>
          <p:cNvPicPr/>
          <p:nvPr/>
        </p:nvPicPr>
        <p:blipFill>
          <a:blip r:embed="rId3"/>
          <a:stretch/>
        </p:blipFill>
        <p:spPr>
          <a:xfrm>
            <a:off x="835200" y="2084400"/>
            <a:ext cx="7534080" cy="11890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9" descr=""/>
          <p:cNvPicPr/>
          <p:nvPr/>
        </p:nvPicPr>
        <p:blipFill>
          <a:blip r:embed="rId4"/>
          <a:stretch/>
        </p:blipFill>
        <p:spPr>
          <a:xfrm>
            <a:off x="1901880" y="2962440"/>
            <a:ext cx="53402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  чис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1981080"/>
          <a:ext cx="3657600" cy="3353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dec98"/>
                        </a:gs>
                        <a:gs pos="100000">
                          <a:srgbClr val="fffcd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990"/>
                        </a:gs>
                        <a:gs pos="100000">
                          <a:srgbClr val="fffcd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dec98"/>
                        </a:gs>
                        <a:gs pos="100000">
                          <a:srgbClr val="fffcde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d3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5" descr="2e1fb996251761703e4d9600d60253f0.gif"/>
          <p:cNvPicPr/>
          <p:nvPr/>
        </p:nvPicPr>
        <p:blipFill>
          <a:blip r:embed="rId1"/>
          <a:stretch/>
        </p:blipFill>
        <p:spPr>
          <a:xfrm>
            <a:off x="1627200" y="1905120"/>
            <a:ext cx="52308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4143240" cy="68580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ение                                                       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рифметическо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ессии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ула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-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член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рифметическо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есси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ойство каждого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лена арифметическо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ессии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первых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членов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рифметической                                                   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ессии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ула   раз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рифметической                                                     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есс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857840" y="142560"/>
            <a:ext cx="4000320" cy="67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571680" y="428760"/>
            <a:ext cx="342900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571680" y="1714680"/>
            <a:ext cx="3429000" cy="12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500040" y="3143160"/>
            <a:ext cx="3500640" cy="1214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0"/>
          <p:cNvSpPr/>
          <p:nvPr/>
        </p:nvSpPr>
        <p:spPr>
          <a:xfrm>
            <a:off x="500040" y="4500720"/>
            <a:ext cx="3500640" cy="107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500040" y="5786280"/>
            <a:ext cx="3429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>
                <a:off x="5562720" y="228600"/>
                <a:ext cx="28778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00800" y="4714920"/>
                <a:ext cx="28288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1"/>
              <p:cNvSpPr txBox="1"/>
              <p:nvPr/>
            </p:nvSpPr>
            <p:spPr>
              <a:xfrm>
                <a:off x="5000760" y="2714760"/>
                <a:ext cx="37274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5429160" y="3714840"/>
                <a:ext cx="27846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3"/>
              <p:cNvSpPr txBox="1"/>
              <p:nvPr/>
            </p:nvSpPr>
            <p:spPr>
              <a:xfrm>
                <a:off x="5486400" y="1447920"/>
                <a:ext cx="28814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∘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4"/>
              <p:cNvSpPr txBox="1"/>
              <p:nvPr/>
            </p:nvSpPr>
            <p:spPr>
              <a:xfrm>
                <a:off x="5076720" y="5661000"/>
                <a:ext cx="3670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∘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3" name="Прямая со стрелкой 15"/>
          <p:cNvCxnSpPr/>
          <p:nvPr/>
        </p:nvCxnSpPr>
        <p:spPr>
          <a:xfrm flipV="1">
            <a:off x="3851280" y="4076280"/>
            <a:ext cx="1572480" cy="2215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14" name="Прямая со стрелкой 17"/>
          <p:cNvCxnSpPr/>
          <p:nvPr/>
        </p:nvCxnSpPr>
        <p:spPr>
          <a:xfrm>
            <a:off x="3780000" y="5013360"/>
            <a:ext cx="1357920" cy="10008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215" name="Прямая со стрелкой 19"/>
          <p:cNvCxnSpPr/>
          <p:nvPr/>
        </p:nvCxnSpPr>
        <p:spPr>
          <a:xfrm flipV="1">
            <a:off x="3785040" y="1928160"/>
            <a:ext cx="1786680" cy="307260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216" name="Прямая со стрелкой 21"/>
          <p:cNvCxnSpPr/>
          <p:nvPr/>
        </p:nvCxnSpPr>
        <p:spPr>
          <a:xfrm>
            <a:off x="3786120" y="2214360"/>
            <a:ext cx="1215360" cy="5720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7" name="Прямая со стрелкой 23"/>
          <p:cNvCxnSpPr>
            <a:stCxn id="204" idx="3"/>
          </p:cNvCxnSpPr>
          <p:nvPr/>
        </p:nvCxnSpPr>
        <p:spPr>
          <a:xfrm flipV="1">
            <a:off x="4000320" y="785160"/>
            <a:ext cx="1500840" cy="29660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18" name="Прямая со стрелкой 25"/>
          <p:cNvCxnSpPr/>
          <p:nvPr/>
        </p:nvCxnSpPr>
        <p:spPr>
          <a:xfrm>
            <a:off x="3994560" y="1125000"/>
            <a:ext cx="1500840" cy="400140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  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4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гадайте    слов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аль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 арифметической прогрессии (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: 15; 11; 7;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    раз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.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= - 4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=  -5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=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- 4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3. Найдите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61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20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= -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61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- 3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7. Найди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.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= 126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= 1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-126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-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ев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 21;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29. Найди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4; 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-3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4; 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-4; 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-3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- 4; а</a:t>
            </a:r>
            <a:r>
              <a:rPr b="0" lang="ru-RU" sz="18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= 3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йдите сумму всех двузначных  натураль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492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4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491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Ы.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5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АШНЕЕ  ЗАДАНИЕ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РИГОТОВИТЬ   СООБЩЕНИЕ    О   ЧАРЛЬЗЕ    БЕББИДЖ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ОСТАВИТЬ ТЕСТ ИЗ СБОРНИКА ГИ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ЕНЕ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 ВОПРОС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О ДАННОЙ ТЕМЕ С РЕШЕНИЯМИ  НА ЛИСТЕ ФОРМАТА А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арльз Б е б б и д 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6"/>
          <p:cNvPicPr/>
          <p:nvPr/>
        </p:nvPicPr>
        <p:blipFill>
          <a:blip r:embed="rId1"/>
          <a:stretch/>
        </p:blipFill>
        <p:spPr>
          <a:xfrm>
            <a:off x="914400" y="1676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286000" y="16765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доволен собой, у меня все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7"/>
          <p:cNvPicPr/>
          <p:nvPr/>
        </p:nvPicPr>
        <p:blipFill>
          <a:blip r:embed="rId2"/>
          <a:stretch/>
        </p:blipFill>
        <p:spPr>
          <a:xfrm>
            <a:off x="838080" y="3284640"/>
            <a:ext cx="1219320" cy="11271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286000" y="31050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меня не все получилось, нужно повт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11"/>
          <p:cNvPicPr/>
          <p:nvPr/>
        </p:nvPicPr>
        <p:blipFill>
          <a:blip r:embed="rId3"/>
          <a:stretch/>
        </p:blipFill>
        <p:spPr>
          <a:xfrm>
            <a:off x="762120" y="4870440"/>
            <a:ext cx="1218960" cy="11048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2209680" y="4572000"/>
            <a:ext cx="4648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2286000" y="46483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е не получилось, нужно повт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Напутств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d0d"/>
                </a:solidFill>
                <a:latin typeface="Arial"/>
              </a:rPr>
              <a:t>Урок сегодня завершё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d0d"/>
                </a:solidFill>
                <a:latin typeface="Arial"/>
              </a:rPr>
              <a:t>И каждый должен 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d0d"/>
                </a:solidFill>
                <a:latin typeface="Arial"/>
              </a:rPr>
              <a:t>Познание, упорство, 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d0d"/>
                </a:solidFill>
                <a:latin typeface="Arial"/>
              </a:rPr>
              <a:t>К прогрессу в жизни приведу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5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AG00373_"/>
          <p:cNvPicPr/>
          <p:nvPr/>
        </p:nvPicPr>
        <p:blipFill>
          <a:blip r:embed="rId1"/>
          <a:stretch/>
        </p:blipFill>
        <p:spPr>
          <a:xfrm flipH="1">
            <a:off x="6552720" y="4800600"/>
            <a:ext cx="12970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ГРЕССИО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дви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                            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вперёд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CRTN054"/>
          <p:cNvPicPr/>
          <p:nvPr/>
        </p:nvPicPr>
        <p:blipFill>
          <a:blip r:embed="rId1"/>
          <a:stretch/>
        </p:blipFill>
        <p:spPr>
          <a:xfrm>
            <a:off x="914400" y="3276720"/>
            <a:ext cx="345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바탕"/>
                <a:ea typeface="바탕"/>
              </a:rPr>
              <a:t>ЦЕЛИ УРОКА</a:t>
            </a:r>
            <a:r>
              <a:rPr b="0" i="1" lang="ru-RU" sz="44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213920"/>
            <a:ext cx="807732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Обобщить теоретические знания по тем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овершенствовать навыки нахождения п-го члена и суммы п-первых членов арифметической прогрессии с помощью форму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Развивать познавательный интерес учащихся, учиться видеть связь между математикой и окружающей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развивать грамотную математическую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спитывать волю и настойчивость для достижения конечн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Воспитывать уважительное отношение к однокласс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19280" y="189000"/>
            <a:ext cx="561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В последова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Bookman Old Style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(х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Bookman Old Style"/>
              </a:rPr>
              <a:t>n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):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3; 0; -3; -6; -9; -12;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назовите первый, третий и шестой </a:t>
            </a: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ч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219320" y="380880"/>
            <a:ext cx="67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Устная  раб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76" name="Picture 8" descr="Рисунок17"/>
          <p:cNvPicPr/>
          <p:nvPr/>
        </p:nvPicPr>
        <p:blipFill>
          <a:blip r:embed="rId3"/>
          <a:stretch/>
        </p:blipFill>
        <p:spPr>
          <a:xfrm>
            <a:off x="6632640" y="3213000"/>
            <a:ext cx="2511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1371600" y="137160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2.</a:t>
            </a:r>
            <a:r>
              <a:rPr b="1" lang="ru-RU" sz="3600" spc="-1" strike="noStrike">
                <a:solidFill>
                  <a:srgbClr val="ff9966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Является ли данная последовательность арифметической прогресс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Продолжите данную   последовательнос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1; 5; 9; 13; 17;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34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80880" y="1447560"/>
            <a:ext cx="83059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. Последовательность (а</a:t>
            </a:r>
            <a:r>
              <a:rPr b="1" i="1" lang="en-US" sz="3200" spc="-1" strike="noStrike" baseline="-25000">
                <a:solidFill>
                  <a:srgbClr val="002060"/>
                </a:solidFill>
                <a:latin typeface="Bookman Old Style"/>
              </a:rPr>
              <a:t>n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) задана формул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Bookman Old Style"/>
              </a:rPr>
              <a:t>а</a:t>
            </a:r>
            <a:r>
              <a:rPr b="1" i="1" lang="en-US" sz="3200" spc="-1" strike="noStrike" baseline="-25000">
                <a:solidFill>
                  <a:srgbClr val="c00000"/>
                </a:solidFill>
                <a:latin typeface="Bookman Old Style"/>
              </a:rPr>
              <a:t>n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=</a:t>
            </a:r>
            <a:r>
              <a:rPr b="1" lang="en-US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6</a:t>
            </a:r>
            <a:r>
              <a:rPr b="1" i="1" lang="en-US" sz="3200" spc="-1" strike="noStrike">
                <a:solidFill>
                  <a:srgbClr val="c00000"/>
                </a:solidFill>
                <a:latin typeface="Bookman Old Style"/>
              </a:rPr>
              <a:t>n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Найдите: </a:t>
            </a:r>
            <a:r>
              <a:rPr b="1" i="1" lang="en-US" sz="3200" spc="-1" strike="noStrike">
                <a:solidFill>
                  <a:srgbClr val="002060"/>
                </a:solidFill>
                <a:latin typeface="Bookman Old Style"/>
              </a:rPr>
              <a:t>a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, </a:t>
            </a: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а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, </a:t>
            </a: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a</a:t>
            </a:r>
            <a:r>
              <a:rPr b="1" lang="en-US" sz="3200" spc="-1" strike="noStrike" baseline="-25000">
                <a:solidFill>
                  <a:srgbClr val="002060"/>
                </a:solidFill>
                <a:latin typeface="Bookman Old Style"/>
              </a:rPr>
              <a:t>3 </a:t>
            </a:r>
            <a:r>
              <a:rPr b="1" lang="en-US" sz="3200" spc="-1" strike="noStrike">
                <a:solidFill>
                  <a:srgbClr val="002060"/>
                </a:solidFill>
                <a:latin typeface="Bookman Old Style"/>
              </a:rPr>
              <a:t>; </a:t>
            </a: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а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Bookman Old Style"/>
              </a:rPr>
              <a:t>20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042920" y="4437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1979640" y="4437000"/>
            <a:ext cx="34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3132000" y="4437000"/>
            <a:ext cx="35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4140360" y="4437000"/>
            <a:ext cx="59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1187280" y="333360"/>
            <a:ext cx="676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Устная  раб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468360" y="2852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1187280" y="0"/>
            <a:ext cx="676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Устная  раб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9" name="WordArt 7"/>
          <p:cNvSpPr txBox="1"/>
          <p:nvPr/>
        </p:nvSpPr>
        <p:spPr>
          <a:xfrm>
            <a:off x="990720" y="1413000"/>
            <a:ext cx="7467480" cy="414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685800" y="1447920"/>
            <a:ext cx="6934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а арифметическая прогрессия:</a:t>
            </a:r>
            <a:r>
              <a:rPr b="0" lang="ru-RU" sz="3600" spc="-1" strike="noStrike">
                <a:solidFill>
                  <a:srgbClr val="b33c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 baseline="-25000">
                <a:solidFill>
                  <a:srgbClr val="b33c00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b33c00"/>
                </a:solidFill>
                <a:latin typeface="Times New Roman"/>
                <a:ea typeface="Times New Roman"/>
              </a:rPr>
              <a:t>; 4; а</a:t>
            </a:r>
            <a:r>
              <a:rPr b="0" lang="ru-RU" sz="3600" spc="-1" strike="noStrike" baseline="-25000">
                <a:solidFill>
                  <a:srgbClr val="b33c0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b33c00"/>
                </a:solidFill>
                <a:latin typeface="Times New Roman"/>
                <a:ea typeface="Times New Roman"/>
              </a:rPr>
              <a:t>;12; а</a:t>
            </a:r>
            <a:r>
              <a:rPr b="0" lang="ru-RU" sz="3600" spc="-1" strike="noStrike" baseline="-25000">
                <a:solidFill>
                  <a:srgbClr val="b33c00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>
                <a:solidFill>
                  <a:srgbClr val="b33c00"/>
                </a:solidFill>
                <a:latin typeface="Times New Roman"/>
                <a:ea typeface="Times New Roman"/>
              </a:rPr>
              <a:t>;…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Чему равны члены прогрессии, обозначенные бук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5. арифметическая прогрессия задана формул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Arial"/>
              </a:rPr>
              <a:t>n 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=15-3n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Является ли членом данной прогрессии число 0? Каким чле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рисуйте на черновике квадрат 3*3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Еланцева Светлана Викторовна</cp:lastModifiedBy>
  <dcterms:modified xsi:type="dcterms:W3CDTF">2013-02-26T17:18:38Z</dcterms:modified>
  <cp:revision>35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