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376-EAA9-4851-9A4D-C6D2D512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F61-B467-4C8F-9319-08ED155A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5D3-F66A-43A8-981D-C4778915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16C-FB36-4452-A61F-84B69300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4AA-AA17-4B56-A8B6-8488D909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DF3-3629-4C3E-BBA7-E51C344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09C-4D11-45B2-A611-95E9B26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602-F8B4-42EE-82BC-55CDBFC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331-E02A-4A96-A8F7-16C9249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E6C-9FBA-48E2-B4D7-ECD89E3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615-F557-4A22-9E5E-6F08230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461-F32F-4A11-8A7A-AE538635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34D3-20AE-4E0D-BCE7-86F0665F3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3.jpeg"/><Relationship Id="rId9" Type="http://schemas.openxmlformats.org/officeDocument/2006/relationships/slide" Target="slide7.xml"/><Relationship Id="rId10" Type="http://schemas.openxmlformats.org/officeDocument/2006/relationships/image" Target="../media/image3.jpeg"/><Relationship Id="rId11" Type="http://schemas.openxmlformats.org/officeDocument/2006/relationships/slide" Target="slide8.xml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4.jpeg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3.jpeg"/><Relationship Id="rId9" Type="http://schemas.openxmlformats.org/officeDocument/2006/relationships/slide" Target="slide7.xml"/><Relationship Id="rId10" Type="http://schemas.openxmlformats.org/officeDocument/2006/relationships/image" Target="../media/image3.jpeg"/><Relationship Id="rId11" Type="http://schemas.openxmlformats.org/officeDocument/2006/relationships/slide" Target="slide8.xml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3.jpeg"/><Relationship Id="rId9" Type="http://schemas.openxmlformats.org/officeDocument/2006/relationships/slide" Target="slide7.xml"/><Relationship Id="rId10" Type="http://schemas.openxmlformats.org/officeDocument/2006/relationships/image" Target="../media/image3.jpeg"/><Relationship Id="rId11" Type="http://schemas.openxmlformats.org/officeDocument/2006/relationships/slide" Target="slide8.xml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7.png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3.jpeg"/><Relationship Id="rId9" Type="http://schemas.openxmlformats.org/officeDocument/2006/relationships/slide" Target="slide7.xml"/><Relationship Id="rId10" Type="http://schemas.openxmlformats.org/officeDocument/2006/relationships/image" Target="../media/image3.jpeg"/><Relationship Id="rId11" Type="http://schemas.openxmlformats.org/officeDocument/2006/relationships/slide" Target="slide8.xml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8.png"/><Relationship Id="rId4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9.png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10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2708280"/>
            <a:ext cx="6480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Азбука </a:t>
            </a:r>
            <a:endParaRPr b="1" i="1" lang="en-US" sz="1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животного мира </a:t>
            </a:r>
            <a:endParaRPr b="1" i="1" lang="en-US" sz="1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Югры</a:t>
            </a:r>
            <a:endParaRPr b="1" i="1" lang="en-US" sz="1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2637000"/>
            <a:ext cx="864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та Азбука поможет вам узнать о том, каки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животные живут в нашем крае,  об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словиях их жизни, чем они занимаются 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роде, чем питаю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000"/>
                <a:gridCol w="522360"/>
                <a:gridCol w="52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" name="Text Box 4"/>
          <p:cNvSpPr/>
          <p:nvPr/>
        </p:nvSpPr>
        <p:spPr>
          <a:xfrm>
            <a:off x="730800" y="260280"/>
            <a:ext cx="811800" cy="11912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104" descr="аист чёрный"/>
          <p:cNvPicPr/>
          <p:nvPr/>
        </p:nvPicPr>
        <p:blipFill>
          <a:blip r:embed="rId40"/>
          <a:stretch/>
        </p:blipFill>
        <p:spPr>
          <a:xfrm>
            <a:off x="6227640" y="260280"/>
            <a:ext cx="2700360" cy="4346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5"/>
          <p:cNvSpPr/>
          <p:nvPr/>
        </p:nvSpPr>
        <p:spPr>
          <a:xfrm>
            <a:off x="205092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А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ИСТ ЧЁРНЫЙ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106"/>
          <p:cNvSpPr/>
          <p:nvPr/>
        </p:nvSpPr>
        <p:spPr>
          <a:xfrm>
            <a:off x="2484360" y="1125360"/>
            <a:ext cx="36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Гнездящаяся перелетная птица. Прилетает в начале мая, гнезда строит на вершинах крупных сухих деревьев.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Черный аист предпочитает гнездиться в старых лесных массивах поблизости от воды (болот, озер и рек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Питаются черные аисты животной пищей: рыбой, лягушками, водными беспозвоночными. Добычу ловят на болотистых лугах, которые могут находиться достаточно далеко от гнезда. Птенцов кормят подобно другим аистам отрыжкой, 4–5 раз в сутки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107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Внесен в Красную книгу РФ</a:t>
            </a:r>
            <a:r>
              <a:rPr b="0" lang="ru-RU" sz="1800" spc="-1" strike="noStrike">
                <a:solidFill>
                  <a:srgbClr val="000000"/>
                </a:solidFill>
                <a:latin typeface="Mang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50" name="Text Box 4"/>
          <p:cNvSpPr/>
          <p:nvPr/>
        </p:nvSpPr>
        <p:spPr>
          <a:xfrm>
            <a:off x="726840" y="333360"/>
            <a:ext cx="764280" cy="11912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Text Box 50"/>
          <p:cNvSpPr/>
          <p:nvPr/>
        </p:nvSpPr>
        <p:spPr>
          <a:xfrm>
            <a:off x="2268360" y="692280"/>
            <a:ext cx="3672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Самый крупный грызун фауны ХМАО. Средний вес взрослого бобра составляет около 19 кг. Живут бобры семьями. Поселяются по берегам медленно текущих лесных рек и озер. Прекрасно плавают. Для жилья животные устраивают норы или хатки. Вход в нору всегда располагается под поверхностью вод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Бобры — чистые вегетарианцы. Летом питаются водными и прибрежными травами, а ближе к осени начинают переходить на ветви и кору деревьев, так как в спячку не впадают. Осенью они заготавливают запасы на зиму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Text Box 51"/>
          <p:cNvSpPr/>
          <p:nvPr/>
        </p:nvSpPr>
        <p:spPr>
          <a:xfrm>
            <a:off x="2411280" y="189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Б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ОБР РЕЧНОЙ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2" descr="b_034"/>
          <p:cNvPicPr/>
          <p:nvPr/>
        </p:nvPicPr>
        <p:blipFill>
          <a:blip r:embed="rId40"/>
          <a:stretch/>
        </p:blipFill>
        <p:spPr>
          <a:xfrm>
            <a:off x="6443640" y="189000"/>
            <a:ext cx="2273400" cy="259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5"/>
          <p:cNvSpPr/>
          <p:nvPr/>
        </p:nvSpPr>
        <p:spPr>
          <a:xfrm>
            <a:off x="5940360" y="5229360"/>
            <a:ext cx="3024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В настоящее время они охраняются в заказнике «Верхне-Кондинский» и заповеднике «Малая Сосьва»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Text Box 56"/>
          <p:cNvSpPr/>
          <p:nvPr/>
        </p:nvSpPr>
        <p:spPr>
          <a:xfrm>
            <a:off x="7020000" y="2781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Mangal"/>
              </a:rPr>
              <a:t>  </a:t>
            </a:r>
            <a:r>
              <a:rPr b="1" lang="ru-RU" sz="1200" spc="-1" strike="noStrike">
                <a:solidFill>
                  <a:srgbClr val="009900"/>
                </a:solidFill>
                <a:latin typeface="Mangal"/>
              </a:rPr>
              <a:t>смотреть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bobr.avi" descr=""/>
          <p:cNvPicPr/>
          <p:nvPr/>
        </p:nvPicPr>
        <p:blipFill>
          <a:blip r:embed="rId41"/>
          <a:stretch/>
        </p:blipFill>
        <p:spPr>
          <a:xfrm>
            <a:off x="6156360" y="299736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5092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000"/>
                <a:gridCol w="522360"/>
                <a:gridCol w="52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58" name="Text Box 4"/>
          <p:cNvSpPr/>
          <p:nvPr/>
        </p:nvSpPr>
        <p:spPr>
          <a:xfrm>
            <a:off x="785160" y="260280"/>
            <a:ext cx="794880" cy="11912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0" descr="v_554"/>
          <p:cNvPicPr/>
          <p:nvPr/>
        </p:nvPicPr>
        <p:blipFill>
          <a:blip r:embed="rId40"/>
          <a:stretch/>
        </p:blipFill>
        <p:spPr>
          <a:xfrm>
            <a:off x="6173640" y="1282680"/>
            <a:ext cx="2667240" cy="39718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1"/>
          <p:cNvSpPr/>
          <p:nvPr/>
        </p:nvSpPr>
        <p:spPr>
          <a:xfrm>
            <a:off x="2411280" y="765000"/>
            <a:ext cx="374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Волк активен ночью, питается любыми животными, обитающими в его ареале. В зимнее время основу рациона составляют копытные, летом — более мелкие позвоночные (зайцы, мышевидные), пресмыкающиеся, кладки яиц, насекомые и ягоды. Голодный волк, способен съесть до 10 кг мяса, но обычная суточная норма 2-6 кг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Кроме периода размножения, волки, как правило, живут в стаях, состоящих из 6-10 особе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52"/>
          <p:cNvSpPr/>
          <p:nvPr/>
        </p:nvSpPr>
        <p:spPr>
          <a:xfrm>
            <a:off x="2411280" y="189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В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ОЛК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5092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000"/>
                <a:gridCol w="522360"/>
                <a:gridCol w="52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3" name="Text Box 4"/>
          <p:cNvSpPr/>
          <p:nvPr/>
        </p:nvSpPr>
        <p:spPr>
          <a:xfrm>
            <a:off x="892440" y="333360"/>
            <a:ext cx="694440" cy="11912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2484360" y="692280"/>
            <a:ext cx="66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Это большая, ростом почти с индюка, неуклюжая и пугливая птица. Глухарь — настоящая лесная птица.</a:t>
            </a:r>
            <a:r>
              <a:rPr b="0" lang="ru-RU" sz="1800" spc="-1" strike="noStrike">
                <a:solidFill>
                  <a:srgbClr val="000000"/>
                </a:solidFill>
                <a:latin typeface="Mang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Питание глухаря состоит из хвои сосны или сибирского кедра, поедаются также кедровые орех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В середине марта у самцов наступает весеннее оживление. Они начинают расхаживать в особой токовой позе — с поднятой вертикально шеей и  раскрытым хвостом, с отставленными и приспущенными крыльями. Сначала самцы, а потом и самки все чаще наведываются на токовище — специальные места, где регулярно происходит токование.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3348000" y="18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Г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ЛУХАР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2" descr="g_039"/>
          <p:cNvPicPr/>
          <p:nvPr/>
        </p:nvPicPr>
        <p:blipFill>
          <a:blip r:embed="rId40"/>
          <a:stretch/>
        </p:blipFill>
        <p:spPr>
          <a:xfrm>
            <a:off x="4356000" y="3805200"/>
            <a:ext cx="34038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000"/>
                <a:gridCol w="522360"/>
                <a:gridCol w="52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8" name="Text Box 4"/>
          <p:cNvSpPr/>
          <p:nvPr/>
        </p:nvSpPr>
        <p:spPr>
          <a:xfrm>
            <a:off x="824400" y="260280"/>
            <a:ext cx="878760" cy="11912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2268360" y="333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Д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ЯТЕ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51" descr="дятел"/>
          <p:cNvPicPr/>
          <p:nvPr/>
        </p:nvPicPr>
        <p:blipFill>
          <a:blip r:embed="rId36"/>
          <a:srcRect l="15652" t="14407" r="13750" b="11824"/>
          <a:stretch/>
        </p:blipFill>
        <p:spPr>
          <a:xfrm>
            <a:off x="6227640" y="1844640"/>
            <a:ext cx="2806920" cy="3195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2"/>
          <p:cNvSpPr/>
          <p:nvPr/>
        </p:nvSpPr>
        <p:spPr>
          <a:xfrm>
            <a:off x="2411280" y="765000"/>
            <a:ext cx="38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Питаются дятлы почти исключительно насекомыми и их личинками, отчасти семенами. Виды дятлов, обитающие в умеренном поясе, большую часть года питаются семенами и лишь в летний период потребляют беспозвоночных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Большинство дятлов гнездится в дуплах деревьев. Их чаще выдалбливают сами птицы, реже занимают уже имеющиеся пустоты в древесине. Подстилка в дупле не делается. Кладка бывает обычно раз в году и состоит из 2–13 белых яиц, Птенцы вылупляются слепыми и голыми.</a:t>
            </a:r>
            <a:r>
              <a:rPr b="0" lang="ru-RU" sz="1800" spc="-1" strike="noStrike">
                <a:solidFill>
                  <a:srgbClr val="000000"/>
                </a:solidFill>
                <a:latin typeface="Mang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000"/>
                <a:gridCol w="522360"/>
                <a:gridCol w="52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Text Box 4"/>
          <p:cNvSpPr/>
          <p:nvPr/>
        </p:nvSpPr>
        <p:spPr>
          <a:xfrm>
            <a:off x="907560" y="260280"/>
            <a:ext cx="692640" cy="11912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2627280" y="836640"/>
            <a:ext cx="60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Сибирский елец (чебак или мегдым) достигает в длину 33 см, массы более 400 г. Питается донными животными. В Оби чебак совершает регулярные миграции. На зимовку он массами заходит в незаморные речки, а весной еще подо льдом начинает спускаться в Обь. В сибирских реках имеет промысловое значение. У всех видов образ жизни схож. Промыслового значения елец не имеет. Но лов его на удочку представляет спортивный интерес, так как поймать его не просто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4211640" y="189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Е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ЛЕЦ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52" descr="елец"/>
          <p:cNvPicPr/>
          <p:nvPr/>
        </p:nvPicPr>
        <p:blipFill>
          <a:blip r:embed="rId34"/>
          <a:stretch/>
        </p:blipFill>
        <p:spPr>
          <a:xfrm>
            <a:off x="3492360" y="3789360"/>
            <a:ext cx="4392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39:55Z</dcterms:created>
  <dc:creator>01</dc:creator>
  <dc:description/>
  <dc:language>en-US</dc:language>
  <cp:lastModifiedBy>Фидан Сайфуллин</cp:lastModifiedBy>
  <dcterms:modified xsi:type="dcterms:W3CDTF">2015-05-30T17:31:21Z</dcterms:modified>
  <cp:revision>17</cp:revision>
  <dc:subject/>
  <dc:title>Слайд 1</dc:title>
</cp:coreProperties>
</file>