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0350F-C538-4ED6-9E4D-7370E3CA4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16B2-41BA-4AA5-804A-E0B11206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48911-84AC-4CB6-B133-BD3B73E8D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561D4-E23A-42C3-B083-14DBD03F9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B04D3-CA4C-4549-BF26-DB9C5709A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FC586-EF9E-4CCA-9596-310D1C33E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C154-8011-4ED8-A6C0-F73B512E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7A23F-3FDB-4D24-9CCA-03F316298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450F3-2B74-46D7-8455-700096D9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65C81-8C90-4575-A944-9B52910DB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56490-6390-4B0D-9CBF-258CC6AEB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8A47-D416-4444-8E64-3F518335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4F836-3887-46E7-BBC4-CF51D5471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7904A-4F55-41E0-AF88-ED7BAE3B2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1C708-8AFE-4E2B-A837-D2978F478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B9A4D-47C5-4730-92FB-0A2284D5A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2E3D9-88BA-4DA5-820E-EA9CD5289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F200-A816-4E3B-999B-9B4E23EC3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2E4CB-4986-4193-8DCE-851862AC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EFC3-24F3-48CD-A473-943752FA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698B-8B07-4B76-B02E-463EDDE2F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5195-46A3-42F7-BACF-8B6C1255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ECCD-1DBD-48CB-B7AC-8938DA6A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4974-703A-4814-8CE5-05D27793C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27B5-ECD8-458F-8A3D-DC47DCF037FF}"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440" cy="474840"/>
              <a:chOff x="417600" y="2968560"/>
              <a:chExt cx="73944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8400" y="2968560"/>
                <a:ext cx="3686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88DD-1226-469C-B2AD-3F688A953CE6}" type="slidenum">
              <a:rPr b="0" lang="ru-RU"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терх </a:t>
            </a:r>
            <a:endParaRPr b="0" lang="en-US" sz="4400" spc="-1" strike="noStrike">
              <a:solidFill>
                <a:srgbClr val="333399"/>
              </a:solidFill>
              <a:latin typeface="Tahoma"/>
            </a:endParaRPr>
          </a:p>
        </p:txBody>
      </p:sp>
      <p:sp>
        <p:nvSpPr>
          <p:cNvPr id="100" name="PlaceHolder 2"/>
          <p:cNvSpPr>
            <a:spLocks noGrp="1"/>
          </p:cNvSpPr>
          <p:nvPr>
            <p:ph/>
          </p:nvPr>
        </p:nvSpPr>
        <p:spPr>
          <a:xfrm>
            <a:off x="762120" y="1828800"/>
            <a:ext cx="8192880" cy="502920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Крупная птица: высота около 140 см, размах крыльев 210—230 см, вес 5-8.6 кг. Перья в передней части головы вокруг глаз и клюва отсутствуют, кожа в этом месте у взрослых птиц окрашена в ярко-красный цвет. Роговица глаз красноватая или бледно-жёлтая. Клюв длинный (самый длинный среди всех журавлей), красный, на конце пилообразно зазубренный. Оперение большей части тела белое, за исключнием чёрных маховых перьев первого порядка на крыльях. Ноги длинные, красновато-розовые. У молодых стерхов передняя часть головы бледно-жёлтая; оперение коричневато-рыжее, с бледными пятнами на шее и подбородке. Изредка встречаются белые молодые стерхи с рыжими пятнами на спине, шее и по бокам. Глаза у птенцов первые полгода голубые, затем желтеют.</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С</a:t>
            </a:r>
            <a:r>
              <a:rPr b="0" lang="ru-RU" sz="1700" spc="-1" strike="noStrike">
                <a:solidFill>
                  <a:srgbClr val="000000"/>
                </a:solidFill>
                <a:latin typeface="Tahoma"/>
              </a:rPr>
              <a:t>терх гнездится в безлюдных труднодоступных районах тундры, на сильно увлажнённых равнинных территориях; в Приобье посреди топких болот, окружённых угнетённым лесом.</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терхи всеядны и питаются как растительной, так и животной пищей. Весной и летом рацион включает в себя мелких грызунов, яйца и птенцов птиц, рыбу, насекомых и других беспозвоночных животных, клюкву, подводные части осоки и пушицы. Во время зимней миграции птицы употребляют в основном растительную пищу: богатые питательными веществами корневища и клубни водных растений. В отличие от других журавлей, стерхи никогда не ищут пропитание на сельскохозяйственных посевах.</a:t>
            </a:r>
            <a:endParaRPr b="0" lang="en-US" sz="1700" spc="-1" strike="noStrike">
              <a:solidFill>
                <a:srgbClr val="000000"/>
              </a:solidFill>
              <a:latin typeface="Tahoma"/>
            </a:endParaRPr>
          </a:p>
        </p:txBody>
      </p:sp>
      <p:pic>
        <p:nvPicPr>
          <p:cNvPr id="101" name="Picture 4" descr=""/>
          <p:cNvPicPr/>
          <p:nvPr/>
        </p:nvPicPr>
        <p:blipFill>
          <a:blip r:embed="rId1"/>
          <a:stretch/>
        </p:blipFill>
        <p:spPr>
          <a:xfrm>
            <a:off x="6781680" y="0"/>
            <a:ext cx="175284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искулька </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незда с пуховой выстилкой, в кладке обычно 4-5 яиц. Насиживание продолжается 25-28 дней, и выводки держатся на небольших реках и ручьях в районах гнездования. Основа питания в тундровой, лесотундровой и таежной зонах хвощи, пушицы, осоки и пойменные злаки.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ой причиной снижения численности является уничтожение во время охоты на пролете и зимовках. Пискулька менее осторожна, чем другие виды гусей, и чаще попадает под выстрел. Многие охотники не отличают ее от белолобого гуся или не знают, что она относится к числу видов, внесенных в Красную книгу РФ. К числу негативных факторов также относятся применение пестицидов в сельском хозяйстве районов пролета и зимовок, сокращение площади зимних кормовых местообитаний и хозяйственное освоение лесотундровых и тундровых районов. </a:t>
            </a:r>
            <a:endParaRPr b="0" lang="en-US" sz="2000" spc="-1" strike="noStrike">
              <a:solidFill>
                <a:srgbClr val="000000"/>
              </a:solidFill>
              <a:latin typeface="Tahoma"/>
            </a:endParaRPr>
          </a:p>
        </p:txBody>
      </p:sp>
      <p:pic>
        <p:nvPicPr>
          <p:cNvPr id="132" name="Picture 4" descr=""/>
          <p:cNvPicPr/>
          <p:nvPr/>
        </p:nvPicPr>
        <p:blipFill>
          <a:blip r:embed="rId1"/>
          <a:stretch/>
        </p:blipFill>
        <p:spPr>
          <a:xfrm>
            <a:off x="0" y="5486400"/>
            <a:ext cx="1600200" cy="1371600"/>
          </a:xfrm>
          <a:prstGeom prst="rect">
            <a:avLst/>
          </a:prstGeom>
          <a:ln w="0">
            <a:noFill/>
          </a:ln>
        </p:spPr>
      </p:pic>
      <p:pic>
        <p:nvPicPr>
          <p:cNvPr id="133" name="Picture 5" descr=""/>
          <p:cNvPicPr/>
          <p:nvPr/>
        </p:nvPicPr>
        <p:blipFill>
          <a:blip r:embed="rId2"/>
          <a:stretch/>
        </p:blipFill>
        <p:spPr>
          <a:xfrm>
            <a:off x="6172200" y="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ahoma"/>
              </a:rPr>
              <a:t>Берегите природу родного края!</a:t>
            </a:r>
            <a:endParaRPr b="0" lang="en-US" sz="3600" spc="-1" strike="noStrike">
              <a:solidFill>
                <a:srgbClr val="333399"/>
              </a:solidFill>
              <a:latin typeface="Tahoma"/>
            </a:endParaRPr>
          </a:p>
        </p:txBody>
      </p:sp>
      <p:pic>
        <p:nvPicPr>
          <p:cNvPr id="135" name="Picture 4" descr="Безымянный"/>
          <p:cNvPicPr/>
          <p:nvPr/>
        </p:nvPicPr>
        <p:blipFill>
          <a:blip r:embed="rId1"/>
          <a:stretch/>
        </p:blipFill>
        <p:spPr>
          <a:xfrm>
            <a:off x="1600200" y="2590920"/>
            <a:ext cx="6934320" cy="3389040"/>
          </a:xfrm>
          <a:prstGeom prst="rect">
            <a:avLst/>
          </a:prstGeom>
          <a:ln w="0">
            <a:noFill/>
          </a:ln>
        </p:spPr>
      </p:pic>
      <p:pic>
        <p:nvPicPr>
          <p:cNvPr id="136" name="Picture 5" descr="WP_0469"/>
          <p:cNvPicPr/>
          <p:nvPr/>
        </p:nvPicPr>
        <p:blipFill>
          <a:blip r:embed="rId2"/>
          <a:stretch/>
        </p:blipFill>
        <p:spPr>
          <a:xfrm>
            <a:off x="6705720" y="1523880"/>
            <a:ext cx="2209680" cy="2133720"/>
          </a:xfrm>
          <a:prstGeom prst="rect">
            <a:avLst/>
          </a:prstGeom>
          <a:ln w="0">
            <a:noFill/>
          </a:ln>
        </p:spPr>
      </p:pic>
      <p:pic>
        <p:nvPicPr>
          <p:cNvPr id="137" name="Picture 5" descr="109"/>
          <p:cNvPicPr/>
          <p:nvPr/>
        </p:nvPicPr>
        <p:blipFill>
          <a:blip r:embed="rId3"/>
          <a:stretch/>
        </p:blipFill>
        <p:spPr>
          <a:xfrm>
            <a:off x="152280" y="5105520"/>
            <a:ext cx="2362320" cy="163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терх </a:t>
            </a:r>
            <a:endParaRPr b="0" lang="en-US" sz="4400" spc="-1" strike="noStrike">
              <a:solidFill>
                <a:srgbClr val="333399"/>
              </a:solidFill>
              <a:latin typeface="Tahoma"/>
            </a:endParaRPr>
          </a:p>
        </p:txBody>
      </p:sp>
      <p:sp>
        <p:nvSpPr>
          <p:cNvPr id="103" name="PlaceHolder 2"/>
          <p:cNvSpPr>
            <a:spLocks noGrp="1"/>
          </p:cNvSpPr>
          <p:nvPr>
            <p:ph/>
          </p:nvPr>
        </p:nvSpPr>
        <p:spPr>
          <a:xfrm>
            <a:off x="685800" y="1828440"/>
            <a:ext cx="8269200" cy="4303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Гнездо устраивается в болотистой либо сильно увлажнённой местности тундры или тайги, при этом предпочтение отдаётся труднодоступной, хорошо просматриваемой большой территории с изобилием пресной воды. Строится гнездо прямо в воде с глубиной 30-40 см и возвышается над ней на высоте 12-15 см. В качестве строительного материала для гнезда используется осока или другая трава, которая складывается кучей, хорошо утрамбовывается, а сверху делается небольшое углубление. Строят гнездо вместе самец и самка.</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амка обычно откладывает 2 серых с тёмными пятнышками яйца массой около 215 г с промежутком в 2 дня, хотя в неблагоприятный год кладка может состоять только из одного яйца. Кладка происходит в конце мая — середине июня, инкубационный период длится около 29 дней. Насиживают оба родителя, однако самка проводит в гнезде большую часть времени. Основная работа по охране гнезда ложится на самца.</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ыживает, как правило, только один птенец, так как между двумя птенцами возникает конкуренция за выживание, которая обычно заканчивается гибелью одного из них. Полное оперение птенцов наступает через примерно 70-75 дней.</a:t>
            </a:r>
            <a:endParaRPr b="0" lang="en-US" sz="1600" spc="-1" strike="noStrike">
              <a:solidFill>
                <a:srgbClr val="000000"/>
              </a:solidFill>
              <a:latin typeface="Tahoma"/>
            </a:endParaRPr>
          </a:p>
        </p:txBody>
      </p:sp>
      <p:pic>
        <p:nvPicPr>
          <p:cNvPr id="104" name="Picture 5" descr="a83_04"/>
          <p:cNvPicPr/>
          <p:nvPr/>
        </p:nvPicPr>
        <p:blipFill>
          <a:blip r:embed="rId1"/>
          <a:stretch/>
        </p:blipFill>
        <p:spPr>
          <a:xfrm>
            <a:off x="7086600" y="0"/>
            <a:ext cx="2057400" cy="1828800"/>
          </a:xfrm>
          <a:prstGeom prst="rect">
            <a:avLst/>
          </a:prstGeom>
          <a:ln w="0">
            <a:noFill/>
          </a:ln>
        </p:spPr>
      </p:pic>
      <p:pic>
        <p:nvPicPr>
          <p:cNvPr id="105" name="Picture 32" descr=""/>
          <p:cNvPicPr/>
          <p:nvPr/>
        </p:nvPicPr>
        <p:blipFill>
          <a:blip r:embed="rId2"/>
          <a:stretch/>
        </p:blipFill>
        <p:spPr>
          <a:xfrm>
            <a:off x="990720" y="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х популяция постепенно сокращается, что ставит их на грань опасности полного исчезновения. Птицы крайне требовательны к определённой среде обитания и считаются самым наиболее приспособленным к жизни в воде видом. Хотя во время зимней миграции их среда обитания может быть более разнообразна, питаются и устраиваются на ночлег птицы исключительно на мелководье.</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местах гнездовий факторами снижения популяции служат нефтедобыча и осушение болот. Западной популяции в России, а также в Пакистане, Афганистане и других странах угрожает охота на этих птиц.</a:t>
            </a:r>
            <a:endParaRPr b="0" lang="en-US" sz="2000" spc="-1" strike="noStrike">
              <a:solidFill>
                <a:srgbClr val="000000"/>
              </a:solidFill>
              <a:latin typeface="Tahoma"/>
            </a:endParaRPr>
          </a:p>
        </p:txBody>
      </p:sp>
      <p:pic>
        <p:nvPicPr>
          <p:cNvPr id="107" name="Picture 4" descr="a83_01"/>
          <p:cNvPicPr/>
          <p:nvPr/>
        </p:nvPicPr>
        <p:blipFill>
          <a:blip r:embed="rId1"/>
          <a:stretch/>
        </p:blipFill>
        <p:spPr>
          <a:xfrm>
            <a:off x="6858000" y="0"/>
            <a:ext cx="2286000" cy="1905120"/>
          </a:xfrm>
          <a:prstGeom prst="rect">
            <a:avLst/>
          </a:prstGeom>
          <a:ln w="0">
            <a:noFill/>
          </a:ln>
        </p:spPr>
      </p:pic>
      <p:pic>
        <p:nvPicPr>
          <p:cNvPr id="108" name="Picture 5" descr=""/>
          <p:cNvPicPr/>
          <p:nvPr/>
        </p:nvPicPr>
        <p:blipFill>
          <a:blip r:embed="rId2"/>
          <a:stretch/>
        </p:blipFill>
        <p:spPr>
          <a:xfrm>
            <a:off x="0" y="449568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Филин </a:t>
            </a:r>
            <a:endParaRPr b="0" lang="en-US" sz="4400" spc="-1" strike="noStrike">
              <a:solidFill>
                <a:srgbClr val="333399"/>
              </a:solidFill>
              <a:latin typeface="Tahoma"/>
            </a:endParaRPr>
          </a:p>
        </p:txBody>
      </p:sp>
      <p:sp>
        <p:nvSpPr>
          <p:cNvPr id="110" name="PlaceHolder 2"/>
          <p:cNvSpPr>
            <a:spLocks noGrp="1"/>
          </p:cNvSpPr>
          <p:nvPr>
            <p:ph/>
          </p:nvPr>
        </p:nvSpPr>
        <p:spPr>
          <a:xfrm>
            <a:off x="685800" y="1980720"/>
            <a:ext cx="8269200" cy="487692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дна из крупных сов, уступающая в размерах лишь рыбному филину. Окраска взрослых птиц насыщенная, ржавчато-желтая. Темные пестрины почти черные. На голове, спине, плечах они преобладают. Размеры средние: длина крыла самцов 430—470 мм (в среднем 453), самок 475—520 (в среднем 485). Размах крыльев филина более 1,5 м, масса 3—4 кг, а яйца его весит почти столько же, сколько взрослые уссурийская совка или сплюшка.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огти филина имеют два режущих края, поскольку филину в момент овладения жертвой необходимо нанести ей как можно более существенные ранения.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ля филина характерны размеренные, глубокие взмахи крыльев. Птица как бы неторопливо летает невысоко над землей, совершая так называемый поисковый дрейф, при котором машущий полет чередуется с непродолжительным планированием. Филины, обитающие в горах и ущельях, по свидетельству К. А. Юдина (1953), нередко используют восходящие потоки воздуха и подолгу парят, описывая круги в высоте. Однако такие действия вряд ли являются для этой птицы характерными.</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сли филин присаживается для отдыха на дерево или землю, то тело держит вертикально.</a:t>
            </a:r>
            <a:endParaRPr b="0" lang="en-US" sz="1800" spc="-1" strike="noStrike">
              <a:solidFill>
                <a:srgbClr val="000000"/>
              </a:solidFill>
              <a:latin typeface="Tahoma"/>
            </a:endParaRPr>
          </a:p>
        </p:txBody>
      </p:sp>
      <p:pic>
        <p:nvPicPr>
          <p:cNvPr id="111" name="Picture 4" descr="filin04"/>
          <p:cNvPicPr/>
          <p:nvPr/>
        </p:nvPicPr>
        <p:blipFill>
          <a:blip r:embed="rId1"/>
          <a:stretch/>
        </p:blipFill>
        <p:spPr>
          <a:xfrm>
            <a:off x="1371600" y="0"/>
            <a:ext cx="160020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Филин </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 силе голоса и производимому впечатлению филина также трудно спутать с какой-либо другой ночной птицей. Мощь его криков такова, что на них откликаются даже волки</a:t>
            </a:r>
            <a:r>
              <a:rPr b="0" lang="en-US" sz="2000" spc="-1" strike="noStrike">
                <a:solidFill>
                  <a:srgbClr val="000000"/>
                </a:solidFill>
                <a:latin typeface="Tahoma"/>
              </a:rPr>
              <a:t>.</a:t>
            </a:r>
            <a:endParaRPr b="0" lang="en-US" sz="2000" spc="-1" strike="noStrike">
              <a:solidFill>
                <a:srgbClr val="000000"/>
              </a:solidFill>
              <a:latin typeface="Tahoma"/>
            </a:endParaRPr>
          </a:p>
          <a:p>
            <a:pPr marL="332640" indent="-3326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ам, где живут филины, нередко слышатся их призывные крики. Чаще всего подает голос самец. Европейские орнитологи (Маrа, 1953; Konig, Haensel, 1968; Blondel, Badan, 1976; Mikkola, 1983) отмечают у филина более 10—12 различных голосовых реакций. Из них понятен смысл пока лишь некоторых. Так, вылетая на охоту, филин часто оглашает окрестности мощным гудением. Это несколько растянутый обычный крик филина. Можно предположить, что в данном случае один из членов пары информирует другого о направлении полета за кормом. Но практически этот же сигнал предупреждает птенцов об опасности и, услышав его, филинята на какое-то время замирают. </a:t>
            </a:r>
            <a:endParaRPr b="0" lang="en-US" sz="2000" spc="-1" strike="noStrike">
              <a:solidFill>
                <a:srgbClr val="000000"/>
              </a:solidFill>
              <a:latin typeface="Tahoma"/>
            </a:endParaRPr>
          </a:p>
        </p:txBody>
      </p:sp>
      <p:pic>
        <p:nvPicPr>
          <p:cNvPr id="114" name="Picture 4" descr="филин"/>
          <p:cNvPicPr/>
          <p:nvPr/>
        </p:nvPicPr>
        <p:blipFill>
          <a:blip r:embed="rId1"/>
          <a:stretch/>
        </p:blipFill>
        <p:spPr>
          <a:xfrm>
            <a:off x="7229520" y="0"/>
            <a:ext cx="1914480" cy="2076480"/>
          </a:xfrm>
          <a:prstGeom prst="rect">
            <a:avLst/>
          </a:prstGeom>
          <a:ln w="0">
            <a:noFill/>
          </a:ln>
        </p:spPr>
      </p:pic>
      <p:pic>
        <p:nvPicPr>
          <p:cNvPr id="115" name="Picture 5" descr="фил"/>
          <p:cNvPicPr/>
          <p:nvPr/>
        </p:nvPicPr>
        <p:blipFill>
          <a:blip r:embed="rId2"/>
          <a:stretch/>
        </p:blipFill>
        <p:spPr>
          <a:xfrm>
            <a:off x="1143000" y="15228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Филин </a:t>
            </a:r>
            <a:endParaRPr b="0" lang="en-US" sz="4400" spc="-1" strike="noStrike">
              <a:solidFill>
                <a:srgbClr val="333399"/>
              </a:solidFill>
              <a:latin typeface="Tahoma"/>
            </a:endParaRPr>
          </a:p>
        </p:txBody>
      </p:sp>
      <p:sp>
        <p:nvSpPr>
          <p:cNvPr id="117" name="PlaceHolder 2"/>
          <p:cNvSpPr>
            <a:spLocks noGrp="1"/>
          </p:cNvSpPr>
          <p:nvPr>
            <p:ph/>
          </p:nvPr>
        </p:nvSpPr>
        <p:spPr>
          <a:xfrm>
            <a:off x="609480" y="1828800"/>
            <a:ext cx="834552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илин </a:t>
            </a:r>
            <a:r>
              <a:rPr b="0" lang="ru-RU" sz="2000" spc="-1" strike="noStrike">
                <a:solidFill>
                  <a:srgbClr val="000000"/>
                </a:solidFill>
                <a:latin typeface="Tahoma"/>
              </a:rPr>
              <a:t>стремится поселиться прежде всего там, где в гнездовой период изобилует корм. В лесной полосе это могут быть побережья зарастающих водоемов с колониями чайковых, привлекающие на гнездовье уток и куликов. Хорошим тому примером может служить повышение концентрации гнездящихся филинов в окрестностях больших озер, богатых водоплавающими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Филины не строят настоящего гнезда, разве что вырывают небольшую ямку. В гнезде роль выстилки могут выполнять растоптанные погадки. Перед откладкой яиц если имеется снеговой покров, то самка частично его разгребает, частично “просушивает”, проводя в намеченном месте по многу часов и дней здесь еще за неделю до начала кладки. Полная кладка содержит чаще всего 3—4 яйца, нередко 2, иногда 5 и редко б яиц. Насиживание одного яйца длится 32—35 дней</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итается филин мелкими животными, птицами, рыбой.</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Гибнут </a:t>
            </a:r>
            <a:r>
              <a:rPr b="0" lang="ru-RU" sz="2000" spc="-1" strike="noStrike">
                <a:solidFill>
                  <a:srgbClr val="000000"/>
                </a:solidFill>
                <a:latin typeface="Tahoma"/>
              </a:rPr>
              <a:t>крупны</a:t>
            </a:r>
            <a:r>
              <a:rPr b="0" lang="en-US" sz="2000" spc="-1" strike="noStrike">
                <a:solidFill>
                  <a:srgbClr val="000000"/>
                </a:solidFill>
                <a:latin typeface="Tahoma"/>
              </a:rPr>
              <a:t>е</a:t>
            </a:r>
            <a:r>
              <a:rPr b="0" lang="ru-RU" sz="2000" spc="-1" strike="noStrike">
                <a:solidFill>
                  <a:srgbClr val="000000"/>
                </a:solidFill>
                <a:latin typeface="Tahoma"/>
              </a:rPr>
              <a:t> птиц</a:t>
            </a:r>
            <a:r>
              <a:rPr b="0" lang="en-US" sz="2000" spc="-1" strike="noStrike">
                <a:solidFill>
                  <a:srgbClr val="000000"/>
                </a:solidFill>
                <a:latin typeface="Tahoma"/>
              </a:rPr>
              <a:t>ы</a:t>
            </a:r>
            <a:r>
              <a:rPr b="0" lang="ru-RU" sz="2000" spc="-1" strike="noStrike">
                <a:solidFill>
                  <a:srgbClr val="000000"/>
                </a:solidFill>
                <a:latin typeface="Tahoma"/>
              </a:rPr>
              <a:t> от проводов высокого напряжения</a:t>
            </a:r>
            <a:r>
              <a:rPr b="0" lang="en-US" sz="2000" spc="-1" strike="noStrike">
                <a:solidFill>
                  <a:srgbClr val="000000"/>
                </a:solidFill>
                <a:latin typeface="Tahoma"/>
              </a:rPr>
              <a:t>. </a:t>
            </a:r>
            <a:r>
              <a:rPr b="0" lang="ru-RU" sz="2000" spc="-1" strike="noStrike">
                <a:solidFill>
                  <a:srgbClr val="000000"/>
                </a:solidFill>
                <a:latin typeface="Tahoma"/>
              </a:rPr>
              <a:t>Отстреливается эта птица и браконьерами.  </a:t>
            </a:r>
            <a:endParaRPr b="0" lang="en-US" sz="2000" spc="-1" strike="noStrike">
              <a:solidFill>
                <a:srgbClr val="000000"/>
              </a:solidFill>
              <a:latin typeface="Tahoma"/>
            </a:endParaRPr>
          </a:p>
        </p:txBody>
      </p:sp>
      <p:pic>
        <p:nvPicPr>
          <p:cNvPr id="118" name="Picture 4" descr="филин2"/>
          <p:cNvPicPr/>
          <p:nvPr/>
        </p:nvPicPr>
        <p:blipFill>
          <a:blip r:embed="rId1"/>
          <a:stretch/>
        </p:blipFill>
        <p:spPr>
          <a:xfrm>
            <a:off x="1295280" y="0"/>
            <a:ext cx="175284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раснозобая казарка </a:t>
            </a:r>
            <a:endParaRPr b="0" lang="en-US" sz="4400" spc="-1" strike="noStrike">
              <a:solidFill>
                <a:srgbClr val="333399"/>
              </a:solidFill>
              <a:latin typeface="Tahoma"/>
            </a:endParaRPr>
          </a:p>
        </p:txBody>
      </p:sp>
      <p:sp>
        <p:nvSpPr>
          <p:cNvPr id="120" name="PlaceHolder 2"/>
          <p:cNvSpPr>
            <a:spLocks noGrp="1"/>
          </p:cNvSpPr>
          <p:nvPr>
            <p:ph/>
          </p:nvPr>
        </p:nvSpPr>
        <p:spPr>
          <a:xfrm>
            <a:off x="380880" y="2017800"/>
            <a:ext cx="7848720" cy="461160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пределах края краснозобая казарка населяет подзону мохово-лишайниковых тундр.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Гнездовые биотопы - наиболее сухие и возвышенные участки тундры с хорошо развитой речной сетью или озерами и островами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а гнездовьях краснозобые казарки появляются в конце первой – во второй декаде июня и почти сразу приступают к гнездованию. Селятся небольшими колониями по 4-8 пар (иногда до 24). Важная отличительная особенность размещения поселений - приуроченность их к гнездовьям хищных птиц (сапсана, полярной совы, зимняка, чаек). Такое сожительство способствует сохранности колонии от разорения их песцами, которых соколы и чайки всегда отгоняют от своих гнезд . Кладка состоит из 2-8 (в среднем 5,5) беловатых с зеленым оттенком яиц. Насиживает самка, срок инкубации – 25 дней. Вылупление птенцов начинается с середины июля. Средний размер выводка – 4,6 птенца, </a:t>
            </a:r>
            <a:endParaRPr b="0" lang="en-US" sz="2000" spc="-1" strike="noStrike">
              <a:solidFill>
                <a:srgbClr val="000000"/>
              </a:solidFill>
              <a:latin typeface="Tahoma"/>
            </a:endParaRPr>
          </a:p>
        </p:txBody>
      </p:sp>
      <p:pic>
        <p:nvPicPr>
          <p:cNvPr id="121" name="Рисунок 1" descr=""/>
          <p:cNvPicPr/>
          <p:nvPr/>
        </p:nvPicPr>
        <p:blipFill>
          <a:blip r:embed="rId1"/>
          <a:stretch/>
        </p:blipFill>
        <p:spPr>
          <a:xfrm>
            <a:off x="6981840" y="0"/>
            <a:ext cx="216216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Краснозобая казарка</a:t>
            </a:r>
            <a:endParaRPr b="0" lang="en-US" sz="4400" spc="-1" strike="noStrike">
              <a:solidFill>
                <a:srgbClr val="333399"/>
              </a:solidFill>
              <a:latin typeface="Tahoma"/>
            </a:endParaRPr>
          </a:p>
        </p:txBody>
      </p:sp>
      <p:sp>
        <p:nvSpPr>
          <p:cNvPr id="123" name="PlaceHolder 2"/>
          <p:cNvSpPr>
            <a:spLocks noGrp="1"/>
          </p:cNvSpPr>
          <p:nvPr>
            <p:ph/>
          </p:nvPr>
        </p:nvSpPr>
        <p:spPr>
          <a:xfrm>
            <a:off x="1676160" y="1752120"/>
            <a:ext cx="7467480" cy="4038840"/>
          </a:xfrm>
          <a:prstGeom prst="rect">
            <a:avLst/>
          </a:prstGeom>
          <a:noFill/>
          <a:ln w="0">
            <a:noFill/>
          </a:ln>
        </p:spPr>
        <p:txBody>
          <a:bodyPr anchor="t">
            <a:normAutofit fontScale="96000"/>
          </a:bodyPr>
          <a:p>
            <a:pPr marL="329040" indent="-32904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На состояние популяций вида оказывает воздействие целый ряд факторов как естественного, природного, так и антропогенного характера. Из первой группы наиболее существенна негативная роль хищничества песцов в годы депрессии леммингов. Весьма значительный урон популяции наносится в годы с поздним холодным или жарким, но засушливым летом, когда доля размножающейся части птиц не превышает 4%. Косвенно на падении численности отразилось также уменьшение числа гнездящихся соколов-сапсанов и полярных сов</a:t>
            </a:r>
            <a:r>
              <a:rPr b="0" lang="en-US" sz="1700" spc="-1" strike="noStrike">
                <a:solidFill>
                  <a:srgbClr val="000000"/>
                </a:solidFill>
                <a:latin typeface="Tahoma"/>
              </a:rPr>
              <a:t>.</a:t>
            </a:r>
            <a:endParaRPr b="0" lang="en-US" sz="1700" spc="-1" strike="noStrike">
              <a:solidFill>
                <a:srgbClr val="000000"/>
              </a:solidFill>
              <a:latin typeface="Tahoma"/>
            </a:endParaRPr>
          </a:p>
          <a:p>
            <a:pPr marL="329040" indent="-32904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Из антропогенных факторов помимо браконьерской охоты и беспокойства в местах гнездования, на пролете и зимовках определенный вред наносится собаками охотников, рыбаков, работников экспедиций, которые уничтожают яйца и выводки казарок. Одной из существенных причин сокращения численности до недавних пор был отлов казарок для зоопарков . Отрицательно сказалась на численности смена традиционных зимовок и глубокие антропогенные преобразования на местах остановок мигрирующих птиц, особенно в степной и лесостепной зонах. </a:t>
            </a:r>
            <a:endParaRPr b="0" lang="en-US" sz="1700" spc="-1" strike="noStrike">
              <a:solidFill>
                <a:srgbClr val="000000"/>
              </a:solidFill>
              <a:latin typeface="Tahoma"/>
            </a:endParaRPr>
          </a:p>
        </p:txBody>
      </p:sp>
      <p:pic>
        <p:nvPicPr>
          <p:cNvPr id="124" name="Picture 4" descr=""/>
          <p:cNvPicPr/>
          <p:nvPr/>
        </p:nvPicPr>
        <p:blipFill>
          <a:blip r:embed="rId1"/>
          <a:stretch/>
        </p:blipFill>
        <p:spPr>
          <a:xfrm>
            <a:off x="0" y="5257800"/>
            <a:ext cx="2057400" cy="1600200"/>
          </a:xfrm>
          <a:prstGeom prst="rect">
            <a:avLst/>
          </a:prstGeom>
          <a:ln w="0">
            <a:noFill/>
          </a:ln>
        </p:spPr>
      </p:pic>
      <p:pic>
        <p:nvPicPr>
          <p:cNvPr id="125" name="Picture 5" descr=""/>
          <p:cNvPicPr/>
          <p:nvPr/>
        </p:nvPicPr>
        <p:blipFill>
          <a:blip r:embed="rId2"/>
          <a:stretch/>
        </p:blipFill>
        <p:spPr>
          <a:xfrm>
            <a:off x="6934320" y="0"/>
            <a:ext cx="22096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искулька </a:t>
            </a:r>
            <a:endParaRPr b="0" lang="en-US" sz="4400" spc="-1" strike="noStrike">
              <a:solidFill>
                <a:srgbClr val="333399"/>
              </a:solidFill>
              <a:latin typeface="Tahoma"/>
            </a:endParaRPr>
          </a:p>
        </p:txBody>
      </p:sp>
      <p:sp>
        <p:nvSpPr>
          <p:cNvPr id="127" name="PlaceHolder 2"/>
          <p:cNvSpPr>
            <a:spLocks noGrp="1"/>
          </p:cNvSpPr>
          <p:nvPr>
            <p:ph/>
          </p:nvPr>
        </p:nvSpPr>
        <p:spPr>
          <a:xfrm>
            <a:off x="1600200" y="1904760"/>
            <a:ext cx="7354800" cy="4227480"/>
          </a:xfrm>
          <a:prstGeom prst="rect">
            <a:avLst/>
          </a:prstGeom>
          <a:noFill/>
          <a:ln w="0">
            <a:noFill/>
          </a:ln>
        </p:spPr>
        <p:txBody>
          <a:bodyPr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чень похожа на белолобого гуся, но меньше его, вес 1,2-2,5 кг, длина крыла 290-388мм. Надежные отличительные признаки заметны только с близкого расстояния, вокруг глаза узкое желтое кожистое кольцо. Белое лобное пятно появляется к первой весне. Оно больше, чем у белолобого гуся, и у взрослых птиц, как правило, заходит на темя. Длина клюва менее 38 мм. </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ХМАО обычно появляется во время весеннего пролета в середине мая и осеннего  в середине сентября. Наиболее важный район отдыха и кормежки во время миграций долина нижней Оби</a:t>
            </a:r>
            <a:r>
              <a:rPr b="0" lang="en-US" sz="2000" spc="-1" strike="noStrike">
                <a:solidFill>
                  <a:srgbClr val="000000"/>
                </a:solidFill>
                <a:latin typeface="Tahoma"/>
              </a:rPr>
              <a:t>.</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Гнездится по крутым и открытым берегам рек и ручьев в равнинных и горных лесотундровых и тундровых ландшафтах, в основном близ границы лесной растительности. Нередко образует поселения из нескольких пар. </a:t>
            </a:r>
            <a:endParaRPr b="0" lang="en-US" sz="2000" spc="-1" strike="noStrike">
              <a:solidFill>
                <a:srgbClr val="000000"/>
              </a:solidFill>
              <a:latin typeface="Tahoma"/>
            </a:endParaRPr>
          </a:p>
        </p:txBody>
      </p:sp>
      <p:pic>
        <p:nvPicPr>
          <p:cNvPr id="128" name="Рисунок 1" descr=""/>
          <p:cNvPicPr/>
          <p:nvPr/>
        </p:nvPicPr>
        <p:blipFill>
          <a:blip r:embed="rId1"/>
          <a:stretch/>
        </p:blipFill>
        <p:spPr>
          <a:xfrm>
            <a:off x="7162920" y="0"/>
            <a:ext cx="1981080" cy="1981080"/>
          </a:xfrm>
          <a:prstGeom prst="rect">
            <a:avLst/>
          </a:prstGeom>
          <a:ln w="0">
            <a:noFill/>
          </a:ln>
        </p:spPr>
      </p:pic>
      <p:pic>
        <p:nvPicPr>
          <p:cNvPr id="129" name="Picture 5" descr=""/>
          <p:cNvPicPr/>
          <p:nvPr/>
        </p:nvPicPr>
        <p:blipFill>
          <a:blip r:embed="rId2"/>
          <a:stretch/>
        </p:blipFill>
        <p:spPr>
          <a:xfrm>
            <a:off x="0" y="5334120"/>
            <a:ext cx="198108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Фидан Сайфуллин</cp:lastModifiedBy>
  <dcterms:modified xsi:type="dcterms:W3CDTF">2015-05-30T10:27:4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