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D63-9E7B-4C44-9373-EB42ACBF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B0A-7261-480E-A30E-6B4A5ADC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65B-F4DA-483D-8D8A-A8F39093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616-CF81-40DA-B154-F539568C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82F3-DC96-43D0-9F66-6DF58780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646D-B13E-4898-904F-193C5C4B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6BDF-33C6-46C3-9C62-6E49E71A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5C2D-CE99-4E70-9574-0CB313D5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0383-4C89-43DC-956D-4F2FA20B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BF1A-8166-4F03-8175-744A8FDC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647E-24ED-4F39-81BC-EEAA208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8D4-FACF-42DF-8A39-13C5CDE9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DCB0-1808-40A6-A934-B998C713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D263-8728-4284-AA4E-EAFDFF6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0330-5B7C-4FC8-973E-DEA41BB8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6E27-1B86-453B-9F7E-DBE9BA92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F8D7-8F06-4455-B614-18D68A61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99A-3D49-4D61-A023-8B22FB3B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30B5-AEDD-41A8-9549-85AF289C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CCD-1D04-4CB9-8DA1-5D331B19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628-4DC7-4D2B-B666-63F5692F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120-847A-47F3-97E3-3CC37F70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62E-5DBD-4D31-A85D-51326BBB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22D-A8C1-4BA4-8E0A-BA3223F4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5725-86A8-4BDF-9EA3-C3EC3F21A0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6884-125A-4B98-94EC-55CE3E26BC6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2400"/>
            <a:ext cx="7772400" cy="28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тицы из Красной книги Югры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685800" y="3990960"/>
            <a:ext cx="2108160" cy="16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6553080" y="2184480"/>
            <a:ext cx="22687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ебедь - клику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69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пная птица, весящая от 7 до 10 кг, иногда больше. Тело вытянутое, длина шеи примерно равна длине туловища. Ноги короткие, отнесены назад. В оперении большое количество пуха. Клюв лимонно-жёлтый с чёрным кончиком. Оперение белое. Молодые птицы имеют дымчато-серое оперение с более тёмной головой. Чисто белый цвет оперения кликун приобретает лишь на третий год жизни. Самец и самка внешне практически не отличаются друг от друга. Шею кликун держит прямо, не сгибая её в форме буквы 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, как лебедь-шипу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ебедь-кликун получил своё название за громкие, трубные крики, особенно часто издаваемые в полёте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земле ходить не любит и делает это крайне неохотно и редко. Кликун осторожная птица, которая держится на широких водных пространствах, подальше от берегов. Удар крыла кликуна настолько силён, что может сломать руку ребён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ебеди-кликуны питаются в основном растительной пищей, водными растениями, а также поедают мелких беспозвоночных животны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590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52280" y="1558440"/>
            <a:ext cx="883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беди-кликуны — моногамные птицы, образующие пары на всю жизнь, причём птицы держатся вместе даже на зимовке. Смена партнёра возможна только в случае гибели одного из лебедей. Гнездятся кликуны на берегах водоёмов: по возможности крупных озёр, покрытых густыми зарослями. Как правило, это глухие лесные озёра, далёкие от людей. Гнездом служат огромные кучи пожухлой растительности, которую собирает в основном самка. Диаметр гнезда в основании около 1 м, иногда до 2-3 м. Высота около 0,5-0,8 м. Диаметр лотка около 40-50 см. Гнездо устраивается в зарослях тростника, камыша или рогоза, реже на мелководье, где гнездо опирается на дно водоёма. Дно лотка выстилается травой, мхом и выщипанными из живота и груди самки перьями. В кладке 3-7 яиц, которые насиживает самка. Яйца белого или желтоватого цвета. При гибели кладки откладывается вторая, но всегда с меньшим количество яиц. Пока самка насиживает яйца, самец находится поблизости и охраняет гнездо. Через 5 недель вылупляются птенцы, о которых заботятся оба родителя. Птенцы могут самостоятельно добывать себе пищу. Часто птенцы держатся возле родителей уже после того, как научатся лет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172200" y="0"/>
            <a:ext cx="2467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рлан - белохвосты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6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пная хищная птица с коротким, слегка клиновидным хвостом. Общая длина 77—100 см, длина крыла 57,5—69 см, вес 3—6,5 кг. Общая окраска бурая. Голова, а часто шея и грудь, светлее остального оперения. Хвост взрослых птиц чисто белый. Клюв желтоватый, ноги желтые, цевка оперена до половины. Самец и самка имеют сходную окраску и приобретают окончательный наряд в возрасте 4-5 лет. Молодые птицы темно-бурые, перья спины и верхних кроющих крыльев имеют охристо-бурые пятна и каемки, хвост темный со светлыми пестринами, клюв черноватый. С возрастом хвост приобретает более светлую окраску и у 4-5-летних птиц становится белым. Голос - лающее или каркающее "кра-кра-кра" или реже "кии-кии-кии". От орлов хорошо отличается в полете коротким и слегка клиновидным хвостом и более широкими крылья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е распространение. Евразия от тундры до Черного моря, Ирана, долины р. Или, Северной Монголии, Корейского полуострова и Сахалина. Номинативный подвид занимает весь ареал вида в пределах Росс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пространение в области. Гнездится в основном в северной лесостепи, подтаежных лесах, на верховых болотах и в пойме р. Об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371600" y="0"/>
            <a:ext cx="2506680" cy="19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ространение в области. Гнездится в основном в северной лесостепи, подтаежных лесах, на верховых болотах и в пойме р. Об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астоящее время основной урон популяции наносит разорение гнезд и отстрел птиц. Хозяйственное освоение территорий и беспокойство птиц у гнезда также являются главными факторами, ограничивающими распространение и численность орлан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ры по восстановлению вида: инвентаризация гнезд и организация в местах размножения сезонных заказников или памятников прир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Беркут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чень крупный и сильный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ерку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длина тела 76—93 см, размах крыльев 180—240 см. Самки значительно крупнее самцов, их вес варьирует в пределах от 3,8 до 6,7 кг, в то время как у самцов от 2,8 до 4,6 кг. Клюв — типично орлиный: высокий и сжатый с боков, крючкообразно загнут вниз. Перья на зашейке несколько удлинённы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рылья длинные и широкие, несколько сужены в основании и на заднем пальце, так что при парении задний край крыла выглядит изогнутым в виде латинской буквы S; эта характерная особенность наиболее ярко выражена у молодых птиц. Хвост слегка закруглённый и более длинный, чем у других типичных орлов. При парении птица пальцеобразно расставляет передние маховые перь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рас оперения взрослой птицы колеблется от тёмно-бурого до чёрно-бурого с золотистыми перьями на затылке и шее, из-за чего по-английски его название звучит как «золотой орёл» (англ. Golden Eagle). По окончании линьки в пере иногда присутствует фиолетовый отлив, который впоследствии исчезает. Оба пола окрашены одинаково. Молодые птицы в целом похожи на взрослых, но выделяются более тёмным (в первый год почти чёрным) оперением и имеют белые «сигнальные» пятна на верхней и нижней стороне крыла, а также светлый хвост с тёмной полосой по краю. Окончательный гнездовой наряд приобретается к 4—6 годам, постепенно после каждой линьки принимая всё более взрослый вид. Глаза тёмно-коричневые, клюв тёмный, восковица и ноги жёлтые. Птенцы при вылуплении покрыты белым с сероватым налётом пухом, который впоследствии заменяется чисто белым. Лапы мощные, с очень сильными когтями, как и у других орлов оперены до пальцев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553080" y="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1143000" y="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Беркут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ркут обладает чрезвычайно острым зрение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Так, например, зайц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ерку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идит на расстоянии до двух километров. Подвижная шея способна поворачиваться до 270 градусов, как у сов, что существенно увеличивает сектор обзора. Надбровная складка, придающая хищникам грозный «нахмуренный» вид, защищает глаза от яркого солнечного света, а вторая мигательная перепонка в нижней части века предохраняет их от попадания частиц пыли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Беркут ,как человек, различает цве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хотится на разнообразную дичь, в том числе и крупную, легко приспосабливаясь к условиям в данной местности и в определённое время года. Нередко в рационе доминируют сурки, суслики, зайцы, хорьки, скунсы, черепах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огда нападает на животных, значительно превосходящих его по весу и размерам, особенно больных или детёнышей — благородных оленей, косуль,  овец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7315200" y="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0" y="5638680"/>
            <a:ext cx="16002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6762600" y="52578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Беркут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812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страивает гнездо в горах или на крупных хвойных деревьях. 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деревьях гнездо, как правило, устраивается в нижней или средней части кроны на высоте от 10 до 18 м, где ветви достаточно толстые и прочные, чтобы выдержать вес постройки и птиц. Гнёзда, сделанные из толстых сучьев, в этом случае имеют очень большие размеры — диаметр 1—2 м и высоту 0,5—1,9 м. В отличие от других близких видов беркуты всегда выстилают лоток прошлогодней травой, корой и кусочками мха, а по краю гнезда зелёными ветками хвойных или реже лиственных пород деревьев и кустарников. В гнезде также могут присутствовать перья и мех убитых животных, которые служат своего рода подстилкой. Гнездо содержится в чистоте — свежая выстилка не только предшествует кладке яиц, но и продолжается в течение всего периода размножения вплоть до вылета птенцов. Каждый год гнездо подправляется и достраивается, постепенно увеличиваясь в размерах. Между толстыми сучьями гнезда могут жить воробьи, на которых беркуты не обращают вним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настоящее время беркут, как и большинство других европейских пернатых хищников, находится под охраной государ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а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частности, беркут имеет статус редкого вида в Красной книге Росс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1066680" y="0"/>
            <a:ext cx="2210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ктуальность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ошлом году мы работали над проектом «Зимующие птицы Югры». Мы узнали много интересного о птицах: как они готовятся к зиме, как приспособились к суровой сибирской зиме. Ещё мы узнали, что некоторые птицы занесены в красную книгу Югры. Мы решили узнать, что такое Красная книга, почему некоторые птицы занесены в эту книг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Предположения: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Убивают браконье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е хватает пит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Захват территории человеком (развитие городов, посёлков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ительство буровых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1609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33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ь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узнать, что такое Красная книга, когда она появилась в ХМА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узнать какие птизы занесены в Красную книгу Югр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почему птицы “попали” в эту книгу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делает человек, для сохранения численности пти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477120" y="533520"/>
            <a:ext cx="2361960" cy="125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152280" y="5257800"/>
            <a:ext cx="198144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лан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ходить в библиотеку за необходимой литератур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помощью взрослых найти необходимую информацию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нигах и в сети Интер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анализировать и выбрать необходимую информацию по тем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формить книгу и проек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5529240"/>
            <a:ext cx="2133720" cy="1328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6934320" y="304920"/>
            <a:ext cx="1904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асная книга - эт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3276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игнал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». Это книга сигналов тревоги и надежды. Красная книга – это призыв к действ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6095880" y="152280"/>
            <a:ext cx="2133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гда появилась Красная книга в ХМА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21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целях  сохранения  редких и находящихся под угрозой исчезновения видов животных и растений  на территории  Ханты-Мансийского автономного, на основании   Постановления  Губернатора Ханты-Мансийского автономного округа от 28 октября 1999 года № 439  была учреждена Красная книга  Ханты- Мансийского автономного окру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сная книга автономного округа является  официальным  документом на основании которого  осуществляется долгосрочное  прогнозирование и разработка практических  мер по сохранению , воспроизводству и рациональному использованию редких и находящихся  под угрозой исчезновения  видов ( подвидов, популяций) животных, растений и  гриб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расную книгу автономного округа заносятся  объекты  животного и растительного  мира ,занесенные в Красную книгу Российской Федерации, обитающие, произрастающие  на территории Ханты-Мансийского автономного округа , а так же те объекты  животного и растительного  мира ,которые не занесены в Красную книгу Российской Федерации, но в Ханты-Мансийском  автономном округе  являются  редкими или находятся  под угрозой исчезновения и нуждаются  в охра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раницы Красной книг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 черных страницах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списки тех, кого мы уже никогда не увидим, кого уже нет, кто уже вымер (Странствующие голуби, морская корова и т.д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 красных страницах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записаны особо редкие и исчезающие животные (зубры, бобры, леопард и т.д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 желтых страницах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те, животные количество которых быстро снижается (белые медведи, розовая чайк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 белых страницах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е животные, численность которых всегда была невел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 серых страницах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те животные, которые мало изучены, места их обитания труднодоступ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 зеленых страницах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е животные, которых удалось сохранить, спасти от вымирания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тицы, включённые в Красную книгу Автономного округа – Югры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л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ый журав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рку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ер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аснозобая казар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лан – белохвосты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бедь – клику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133344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1962000" cy="133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7315200" y="4495680"/>
            <a:ext cx="17240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идан Сайфуллин</cp:lastModifiedBy>
  <dcterms:modified xsi:type="dcterms:W3CDTF">2015-05-30T10:25:4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