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3.gif" ContentType="image/gif"/>
  <Override PartName="/ppt/media/image4.gif" ContentType="image/gif"/>
  <Override PartName="/ppt/media/image1.jpeg" ContentType="image/jpeg"/>
  <Override PartName="/ppt/media/applause.wav" ContentType="audio/x-wav"/>
  <Override PartName="/ppt/media/image24.gif" ContentType="image/gif"/>
  <Override PartName="/ppt/media/image23.wmf" ContentType="image/x-wm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6.gif" ContentType="image/gif"/>
  <Override PartName="/ppt/media/image15.png" ContentType="image/png"/>
  <Override PartName="/ppt/media/image14.gif" ContentType="image/gif"/>
  <Override PartName="/ppt/media/chimes.wav" ContentType="audio/x-wav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101-5B68-4C37-A5DB-9B7A1F73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E61-2CA2-4B53-BB71-EBA89AD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DCF-43B8-4F28-B23A-910770C7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372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04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372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04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942-7291-495E-983B-80E25823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400" y="502920"/>
            <a:ext cx="7785360" cy="51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610-1325-48CA-A6C6-A7E3539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372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04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40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372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3604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AB5-46C7-41A4-A9A6-0DE657E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1400" y="502920"/>
            <a:ext cx="7785360" cy="51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0372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040" y="19062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7140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0372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36040" y="4150800"/>
            <a:ext cx="25066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2EA-0391-4C04-86CB-089AF7E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4EF-1821-458F-8828-29C71C6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02920"/>
            <a:ext cx="7785360" cy="51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346-E4C8-4D89-861B-3E822BE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5E8-E922-432C-8C5E-EB79E44B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41508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BB9-9D18-4B00-A74B-066506CE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906200"/>
            <a:ext cx="379908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50800"/>
            <a:ext cx="778536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97E-D4BE-4703-8936-FCEA475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91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18028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802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084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465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0844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87729-6121-469B-A6C7-A1DC218A2A4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7644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592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78536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7853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65520" y="57913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2240" y="5040360"/>
            <a:ext cx="78170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КООУ  РО санаторная школа-интерн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8 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ель: Ольховская Н.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2782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60360" y="3314880"/>
            <a:ext cx="52196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b80047"/>
                </a:solidFill>
                <a:latin typeface="Arial"/>
              </a:rPr>
              <a:t>3  клас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9280" y="360360"/>
            <a:ext cx="4500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Русский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язы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19640" y="896760"/>
            <a:ext cx="2514600" cy="234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644920" y="1279440"/>
            <a:ext cx="1135080" cy="142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160720" y="179280"/>
            <a:ext cx="5219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 число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20720" y="4500720"/>
            <a:ext cx="161928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60720" y="5040360"/>
            <a:ext cx="1608120" cy="1284120"/>
            <a:chOff x="3060720" y="5040360"/>
            <a:chExt cx="1608120" cy="128412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3646440" y="5040360"/>
              <a:ext cx="102240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902040" y="5749920"/>
              <a:ext cx="75420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3060720" y="5572080"/>
              <a:ext cx="919080" cy="70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539640" y="3060720"/>
            <a:ext cx="821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8080"/>
                </a:solidFill>
                <a:latin typeface="Arial"/>
              </a:rPr>
              <a:t>Наш  Шарик  поймал  воздушные  ша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19280"/>
            <a:ext cx="2160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за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0720" y="3780000"/>
            <a:ext cx="28796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зада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2879640" y="39592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400720" y="3736800"/>
            <a:ext cx="1619280" cy="13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6840360" y="5040360"/>
            <a:ext cx="180036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33520" y="1676520"/>
            <a:ext cx="817704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Unicode MS"/>
              </a:rPr>
              <a:t>Спасибо 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35640" y="4500720"/>
            <a:ext cx="1944720" cy="1712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079640" y="539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079640" y="4500720"/>
            <a:ext cx="1260360" cy="16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0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2300dc"/>
                </a:solidFill>
                <a:uFillTx/>
                <a:latin typeface="Arial"/>
              </a:rPr>
              <a:t>ТЕМА  УРОКА: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979280"/>
            <a:ext cx="88200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«Число имен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ff"/>
                </a:solidFill>
                <a:latin typeface="Times New Roman"/>
              </a:rPr>
              <a:t>СУЩЕСТВИТЕЛЬНЫХ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179280"/>
            <a:ext cx="71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Times New Roman"/>
              </a:rPr>
              <a:t>Цель: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 знаний учащихся о числе имён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260360"/>
            <a:ext cx="845964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omic Sans MS"/>
              </a:rPr>
              <a:t>Задачи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- познакомить учащихся с существительными, которые употребляются  в форме единственного и множественного числ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- совершенствовать умение изменять имена существительные по числа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- формировать универсальные учебные действия: интерес к предмету, к  учебному материал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- учить определять задачу, самостоятельно строить и действовать согласно выработанному алгоритму ре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201080" y="179280"/>
            <a:ext cx="1618920" cy="12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34800" y="650880"/>
            <a:ext cx="83059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mic Sans MS"/>
              </a:rPr>
              <a:t>Имя существительное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– это часть речи, которая обозначает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предмет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и отвечает на вопросы 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кто?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00000" y="4500720"/>
            <a:ext cx="1963800" cy="1784160"/>
            <a:chOff x="900000" y="4500720"/>
            <a:chExt cx="1963800" cy="178416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808280" y="4890960"/>
              <a:ext cx="105552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900000" y="5308560"/>
              <a:ext cx="105588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1033560" y="4500720"/>
              <a:ext cx="1015920" cy="93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0360" y="4889520"/>
            <a:ext cx="1619280" cy="15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179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Единственное и множественное число имен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ЩЕСТВИТЕЛЬНЫХ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0720" y="1743120"/>
            <a:ext cx="48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Имена существительные, обозначающ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предмет, находя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единственном числ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, обозначающи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есколь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едметов, находятся во множественном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числ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3240000"/>
            <a:ext cx="356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5e11a6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5e11a6"/>
                </a:solidFill>
                <a:latin typeface="Arial"/>
              </a:rPr>
              <a:t>Рыб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666666"/>
                </a:solidFill>
                <a:latin typeface="Arial"/>
              </a:rPr>
              <a:t>Рыб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3240000"/>
            <a:ext cx="1979280" cy="360360"/>
          </a:xfrm>
          <a:prstGeom prst="line">
            <a:avLst/>
          </a:prstGeom>
          <a:ln w="468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5580000"/>
            <a:ext cx="1800360" cy="360360"/>
          </a:xfrm>
          <a:prstGeom prst="line">
            <a:avLst/>
          </a:prstGeom>
          <a:ln w="468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80000" y="1800360"/>
            <a:ext cx="19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40360" y="4680000"/>
            <a:ext cx="161928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40720" y="3780000"/>
            <a:ext cx="539640" cy="1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20000" y="6300720"/>
            <a:ext cx="53964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ИМЕНА  СУЩЕСТВИТЕЛЬНЫЕ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079280"/>
            <a:ext cx="377964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ет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76560" y="15937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376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33"/>
                </a:solidFill>
                <a:latin typeface="Arial"/>
                <a:ea typeface="Arial Unicode MS"/>
              </a:rPr>
              <a:t>город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376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33"/>
                </a:solidFill>
                <a:latin typeface="Arial"/>
                <a:ea typeface="Arial Unicode MS"/>
              </a:rPr>
              <a:t>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376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33"/>
                </a:solidFill>
                <a:latin typeface="Arial"/>
                <a:ea typeface="Arial Unicode MS"/>
              </a:rPr>
              <a:t>пла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3760"/>
                <a:tab algn="l" pos="398520"/>
                <a:tab algn="l" pos="847800"/>
                <a:tab algn="l" pos="1297080"/>
                <a:tab algn="l" pos="1746360"/>
                <a:tab algn="l" pos="2195640"/>
                <a:tab algn="l" pos="2644920"/>
                <a:tab algn="l" pos="3094200"/>
                <a:tab algn="l" pos="3543480"/>
                <a:tab algn="l" pos="3992400"/>
                <a:tab algn="l" pos="4441680"/>
                <a:tab algn="l" pos="4890960"/>
                <a:tab algn="l" pos="5340240"/>
                <a:tab algn="l" pos="5789520"/>
                <a:tab algn="l" pos="6238800"/>
                <a:tab algn="l" pos="6688080"/>
                <a:tab algn="l" pos="7137360"/>
                <a:tab algn="l" pos="7586640"/>
                <a:tab algn="l" pos="8035920"/>
                <a:tab algn="l" pos="8485200"/>
                <a:tab algn="l" pos="893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6633"/>
                </a:solidFill>
                <a:latin typeface="Arial"/>
                <a:ea typeface="Arial Unicode MS"/>
              </a:rPr>
              <a:t>ма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5000" y="4859280"/>
            <a:ext cx="35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Единств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исло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д.ч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01880" y="502920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ножеств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исло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н.ч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500720"/>
            <a:ext cx="1800" cy="5396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4500720"/>
            <a:ext cx="1440" cy="5396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32120" y="1200240"/>
            <a:ext cx="1127160" cy="1500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657840" y="180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216072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180036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180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2519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0000" y="251928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06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0360" y="3240000"/>
            <a:ext cx="1800" cy="5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0360" y="3240000"/>
            <a:ext cx="5400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324000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0360" y="3780000"/>
            <a:ext cx="540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99280" y="3959280"/>
            <a:ext cx="1800" cy="5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9280" y="3959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99280" y="450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9640" y="3959280"/>
            <a:ext cx="1800" cy="5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519280"/>
            <a:ext cx="1440" cy="54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9640" y="180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79640" y="1800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180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79640" y="216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7964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79640" y="2519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9640" y="28796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0" y="324000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00360" y="324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360036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00360" y="3959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9280" y="395928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431964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00360" y="395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5800" y="1544400"/>
            <a:ext cx="85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те в тексте имена существите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динствен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9200" y="2138400"/>
            <a:ext cx="36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кучать некогда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720" y="58831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4160" y="26654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61120" y="5778360"/>
            <a:ext cx="434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0360" y="179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МЕНА СУЩЕСТ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динствен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800" y="2700360"/>
            <a:ext cx="52005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ла пчелка на цв...ток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устила х...бот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л...тает к ней кома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Что ты ищешь т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ектар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А тебене надоел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наскучило иска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ет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му, кто занят дело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то некогда скуч...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940360" y="3240000"/>
            <a:ext cx="22543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9640" y="236520"/>
            <a:ext cx="83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мена существительные</a:t>
            </a: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ножествен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360" y="3960720"/>
            <a:ext cx="246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0400" y="1879560"/>
            <a:ext cx="39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1674720"/>
            <a:ext cx="5365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йдите  ошиб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0360" y="2700360"/>
            <a:ext cx="771372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 облачному  небу  плывёт  облак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ебята  строит из снега снежную креп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сенью деревья  сбрасывает осен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тицы прощались с родным дом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Скворец сели на ве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20720" y="179280"/>
            <a:ext cx="8099280" cy="94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Имена существительны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20720" y="1916280"/>
            <a:ext cx="30607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собственны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80000" y="1989000"/>
            <a:ext cx="306072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нарицательные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40000" y="3213000"/>
            <a:ext cx="12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Роз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68360" y="3814920"/>
            <a:ext cx="432000" cy="14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20720" y="5589720"/>
            <a:ext cx="594036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дарили Розе - розы.</a:t>
            </a:r>
            <a:endParaRPr b="0" i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 rot="16200000">
            <a:off x="3886920" y="6039000"/>
            <a:ext cx="142920" cy="37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651040" y="1197000"/>
            <a:ext cx="6019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00720" y="1125360"/>
            <a:ext cx="5032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1333800" cy="2190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65920" y="3394080"/>
            <a:ext cx="1204920" cy="1508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65920" y="3394080"/>
            <a:ext cx="1204920" cy="1508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865920" y="3394080"/>
            <a:ext cx="1204920" cy="15080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327720" y="3740040"/>
            <a:ext cx="1204920" cy="1508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994440" y="3978360"/>
            <a:ext cx="1554120" cy="1946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020000" y="2700360"/>
            <a:ext cx="143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28840" y="1260360"/>
            <a:ext cx="1462320" cy="1979640"/>
          </a:xfrm>
          <a:prstGeom prst="line">
            <a:avLst/>
          </a:prstGeom>
          <a:ln w="36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0000" y="1260360"/>
            <a:ext cx="1800000" cy="2519640"/>
          </a:xfrm>
          <a:prstGeom prst="line">
            <a:avLst/>
          </a:prstGeom>
          <a:ln w="3600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0720" y="395928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99280" y="5759280"/>
            <a:ext cx="1800" cy="5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9280" y="4552920"/>
            <a:ext cx="1440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ед.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02560" y="6203880"/>
            <a:ext cx="93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12-11-16T17:24:5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