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8BBF-9794-45DA-BB85-8AC0381C82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41AE-61F5-40C8-972A-21D0467DDF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5C8C-B2F8-4FD8-919F-5BE3ABDDC3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64B-F289-4483-8DD7-AFA00763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B2F-1233-4259-BC21-7E025D84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701-B6FE-4EB8-B2D0-49F201E8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DBE-A37B-4A7B-A06A-54DBC113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BC6E-9349-479B-B377-BBB2E680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D5F7-72C6-4522-9592-5C34E5A0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50B9-58BD-41D1-BC60-BD8D79A6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461B-DFF3-4FBC-94A7-B70B0228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BA55-90AC-4B83-A16A-3EC3F101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0A32-C8DE-487C-81E7-312071BD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F8BE-2659-46A5-A789-D612F4B8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F9A-8354-4C3D-9E94-C8D2D137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55E4-6AF6-497C-B2A4-5AD5C8EB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8408-50AB-42A4-A055-1CC7AEF1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A13D-6539-4E90-BEAA-BA280E03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A98E-D10C-4D64-8402-58EC996F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7AF2-1951-4C91-BD15-04CDEF22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EE01E-C339-4521-B84C-D440B684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9A38-9C65-4E97-979F-A9AC3DD1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C1898-1E0F-4940-BB77-884FA2E9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8E828-9B51-4EFE-BF6A-FC8C0C8D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7B3C2-B1CC-4BD2-84A0-FBDF1FEB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130-7295-424A-AB1F-CAFB7702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4CAF4-E345-4D33-A199-952E1D4B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22A1B-8DA2-4D11-8616-5FDD8E74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09390-B380-417B-85A9-7A230E15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C39F-BF8A-4A5E-8F70-432C6B9B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29E04-1FC2-43B4-91CC-D27595A4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A59F-A87C-482A-B907-D9B4DCA8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D99B0-228E-46C8-9844-E8BA35D8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0EAE0-C569-43AA-8642-19B74577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C728A-84CE-4E4E-9364-B87F882F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37305-2045-4298-BA6A-C7042868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1C2-A893-4999-8BDC-7B538324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8E512-0B28-4689-BF8F-908F28B8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2ED93-F22C-4BD4-940B-37658B52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BA179-3BD0-4A5D-A524-5992F89A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8930C-F5D8-4B58-95FB-EAC98E4E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26BCA-FD46-4D31-95F5-AE230CF4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A3ACC-CA86-42BC-A7B1-CE42C7FC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38E37-AEB3-4276-9729-F0EC1F00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542F6-67D0-43E6-9E68-91BE6235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9461B-5673-4730-99B3-B544BF37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B46E4-5BE6-45D2-A5F5-B8775F23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FBF-96AE-43E3-B543-D6E25662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D94C1-8B4E-4BAB-A9B6-385CF70F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C1478-7252-49C5-B6F3-249E1D6B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24AD9-7722-4054-B690-01CC52CF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83EFC-A019-4880-9611-9C780C29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C5FB1-31BB-473E-BFE0-CFC84C91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D510D-090E-4C5F-8CDB-45DF626E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B2A25-C84E-4CB9-A937-1C1659F5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C606B-EC21-4CC1-8F0B-ED9871CA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3C9C2-D2F4-4061-A602-E76016D9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3A045-E3EA-4D9B-88C4-F8C1D36C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1F6-4916-46AE-AE42-FF7604DA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75674-BEB7-48A1-8885-3DA5F34E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BFD59E-649F-4E52-9BEB-CFB615D7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BA0B4C-7559-475C-886B-32EB273E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EDF5B8-38AB-4266-8C39-B2524D7D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52C2F4-88F1-4682-A4F7-4F4170D2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4C132A-60A6-4B24-A696-0ACF1D66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066251-BEAF-4E86-AC13-46E79496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44EADD-7986-4CF2-983D-41C8859D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06081E-BE92-4E5B-8D6B-64968BDE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9A3A5C-4A56-4946-A25A-B8E836D6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E11-274C-40AF-A367-DB84EBDB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12E9BA-AAC4-4F3B-B0A6-F5D589BB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A4055F-8B59-4A2B-9655-7CC47366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7A5123-D7C3-438C-859D-CE7461D9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B72B3-941B-4B1F-BC3C-E3516D87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048A2-1A1D-4DCB-A008-C12AFD7D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03C27-802E-4D62-AEF7-37BF36BC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1332D-0657-489B-BA82-18073E7F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64187-7110-4622-A5AC-B5BEE635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EC7B3-55DF-4BC2-8C8B-57CFA020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B201F-0D35-4096-B29A-8B4BFC55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154-5C08-4BA6-A57E-50A5AE02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59700-6695-4C49-8FB2-4696595B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0B0AF-B7BD-4833-94E8-B46613A4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F30A0-DEF0-40FE-858C-BAEA94F6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2ECD8-F214-43F0-883B-632758DA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02A44-BB39-45E3-A703-11B92E3C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A31-9B10-406B-AFE8-7D20084D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6D9C-5DD2-459D-B9FF-9A9F3727C46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0493-ECAB-481F-95DC-C63CBF0FD7E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9046-4511-4451-A05E-40030BBACBB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2E54-E5AA-418D-A9E0-584FFFAEF22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246F-A350-4FD9-86BD-20851578539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16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B303-370D-412A-9EE3-D69240DDA21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dt" idx="17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18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3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3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6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74D3-47AF-4780-82F2-2587AF3B368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4"/>
          <p:cNvSpPr/>
          <p:nvPr/>
        </p:nvSpPr>
        <p:spPr>
          <a:xfrm>
            <a:off x="1357200" y="5373720"/>
            <a:ext cx="66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Мухаметзянова Ф.Н., учитель высшей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57160" y="360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Муниципальное бюджет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«Средняя общеобразовательная школа № 1г. Буинска РТ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10760" y="2486160"/>
            <a:ext cx="666756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ема урок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Сложное предложение с различными видами  союзной и бессоюзной связи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4"/>
          <p:cNvSpPr/>
          <p:nvPr/>
        </p:nvSpPr>
        <p:spPr>
          <a:xfrm>
            <a:off x="4311000" y="32007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398880"/>
            <a:ext cx="11268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новых знаний и способов действия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сследование учебного материа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бота в парах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 - задание для исслед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тельно рассмотрите два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у них обще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они отлич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оставить знаки препин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йте  вывод: как ставятся знаки препинания в предложении с однородным подчинением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свои выводы с материалом учебника на стр. 1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ьте сооб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к, что нужно знать, чтобы правильно поставить знаки препинания в СПП с    несколькими придаточ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Прямоугольник 1"/>
          <p:cNvSpPr/>
          <p:nvPr/>
        </p:nvSpPr>
        <p:spPr>
          <a:xfrm>
            <a:off x="1042920" y="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2"/>
          <p:cNvSpPr/>
          <p:nvPr/>
        </p:nvSpPr>
        <p:spPr>
          <a:xfrm>
            <a:off x="395280" y="336600"/>
            <a:ext cx="856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214200" y="2009880"/>
            <a:ext cx="875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видно было что Савельич передо мною был прав что я напрасно оскорбил его упре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видно было что Савельич передо мною был прав и что я напрасно оскорбил его упре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. Составление схем предложений как вертикальной, так и горизонта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1"/>
          <p:cNvSpPr/>
          <p:nvPr/>
        </p:nvSpPr>
        <p:spPr>
          <a:xfrm>
            <a:off x="1042920" y="0"/>
            <a:ext cx="741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3. Анализ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анализируйте предложение, докажите, что знаки вы поставили верно. Составьте схемы пред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был твердо убежден что моих друзей чрезвычайно занимал вопрос о том умению ли дружить и способен ли я видеть недостатки друг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2"/>
          <p:cNvSpPr/>
          <p:nvPr/>
        </p:nvSpPr>
        <p:spPr>
          <a:xfrm>
            <a:off x="395280" y="336600"/>
            <a:ext cx="856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7120" y="1499760"/>
            <a:ext cx="5500800" cy="431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033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4.Работа с деформированным текстом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Вы работаете в редакции детского журнала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Клава Ошибкина прислала расказ. Внимательно прочитайте его. Используйте знания, полученные на уроке, и помогите Клаве  исправить ошибки   в тексте.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Какой совет вы бы дали Клаве Ошибкиной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42" name="Picture 6" descr="Рисунок9жэ"/>
          <p:cNvPicPr/>
          <p:nvPr/>
        </p:nvPicPr>
        <p:blipFill>
          <a:blip r:embed="rId1"/>
          <a:stretch/>
        </p:blipFill>
        <p:spPr>
          <a:xfrm>
            <a:off x="5715000" y="428760"/>
            <a:ext cx="3214800" cy="4389480"/>
          </a:xfrm>
          <a:prstGeom prst="rect">
            <a:avLst/>
          </a:prstGeom>
          <a:ln w="0">
            <a:noFill/>
          </a:ln>
        </p:spPr>
      </p:pic>
      <p:sp>
        <p:nvSpPr>
          <p:cNvPr id="443" name="Прямоугольник 1"/>
          <p:cNvSpPr/>
          <p:nvPr/>
        </p:nvSpPr>
        <p:spPr>
          <a:xfrm>
            <a:off x="2286000" y="30751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деформированным текс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Рассказ Клавы Ошибкино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1527120"/>
            <a:ext cx="8748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смотря на большие трудности, которые встретились нам в туристическом походе, который состоялся во второй половине июня, когда закончились все экзамены, мы провели его с успехом, так как все участники было хорошо подготовлены к тому, чтобы не смущаться лишениями, которые неизбежны в каждом поход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357120" y="1886040"/>
            <a:ext cx="8572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ccff"/>
                </a:solidFill>
                <a:latin typeface="Arial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узнал (а)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научился (ась)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AG00319_"/>
          <p:cNvPicPr/>
          <p:nvPr/>
        </p:nvPicPr>
        <p:blipFill>
          <a:blip r:embed="rId1"/>
          <a:stretch/>
        </p:blipFill>
        <p:spPr>
          <a:xfrm>
            <a:off x="6762600" y="214200"/>
            <a:ext cx="2381400" cy="1285920"/>
          </a:xfrm>
          <a:prstGeom prst="rect">
            <a:avLst/>
          </a:prstGeom>
          <a:ln w="0">
            <a:noFill/>
          </a:ln>
        </p:spPr>
      </p:pic>
      <p:sp>
        <p:nvSpPr>
          <p:cNvPr id="448" name="Прямоугольник 3"/>
          <p:cNvSpPr/>
          <p:nvPr/>
        </p:nvSpPr>
        <p:spPr>
          <a:xfrm>
            <a:off x="4429440" y="333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"/>
          <p:cNvSpPr/>
          <p:nvPr/>
        </p:nvSpPr>
        <p:spPr>
          <a:xfrm>
            <a:off x="285840" y="-429480"/>
            <a:ext cx="853416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машнее за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тори   орфограмму  (п. 2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Закончи  один из предложенных текстов, используя как можно больше сложных пред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Уходит зима. Доживает последние дни, но-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 Мнение – это лишь отношение к чему-либо, а знание представляет собой понимание закономерностей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5" descr="Рисунок6"/>
          <p:cNvPicPr/>
          <p:nvPr/>
        </p:nvPicPr>
        <p:blipFill>
          <a:blip r:embed="rId1"/>
          <a:stretch/>
        </p:blipFill>
        <p:spPr>
          <a:xfrm>
            <a:off x="5786280" y="4653000"/>
            <a:ext cx="3357720" cy="27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2"/>
          <p:cNvSpPr/>
          <p:nvPr/>
        </p:nvSpPr>
        <p:spPr>
          <a:xfrm>
            <a:off x="539640" y="333360"/>
            <a:ext cx="617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ЦЕЛИ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2"/>
          <p:cNvSpPr/>
          <p:nvPr/>
        </p:nvSpPr>
        <p:spPr>
          <a:xfrm>
            <a:off x="395280" y="981000"/>
            <a:ext cx="835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учающие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навыки синтаксического разбора сложных предложений и конструирования сложных предложений по заданным схемам; тренировать учащихся в постановке знаков препинания в сложных предложен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ющие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умения составлять схемы сложных предложений с различными видами союзной и бессоюзной связ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умения выполнять мыслительные операции: анализ, сопоставление, классификация, а также внимание, память, логическое мышление; развивать познавательные и творческие способности через разнообразные виды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тельные: вызвать интерес к урокам русского языка; воспитывать коммуникативн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оугольник 1"/>
          <p:cNvSpPr/>
          <p:nvPr/>
        </p:nvSpPr>
        <p:spPr>
          <a:xfrm>
            <a:off x="971640" y="620640"/>
            <a:ext cx="80010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ТИП УРО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обобщения и систематизации изуч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ИСПОЛЬЗУЕМЫЕ МЕТ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ично-поисковый, эвристическая бес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ecff"/>
                </a:solidFill>
                <a:latin typeface="Times New Roman"/>
              </a:rPr>
              <a:t>СТРУКТУРА УР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1. Создание эмоционального фона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2. Постановка целей и задач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3. Актуализация знаний 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4. Формирование новых понятий и способов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5. Формирование умений и нав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6. Рефлек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7. Подведение итогов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3"/>
          <p:cNvSpPr/>
          <p:nvPr/>
        </p:nvSpPr>
        <p:spPr>
          <a:xfrm>
            <a:off x="285840" y="357120"/>
            <a:ext cx="88581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абота с эпиграфом к  уро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Знание выше информации, поскольку может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оверить ее достоверность, а мудрость больше, чем знания, это высшее, чего может достичь челове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Как вы понимаете данную фразу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елаю быть мудрыми или стремиться стать мудрыми. А что для этого необходимо дела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овместное  целеполаг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3. Объявление формы урока, сообщение правил урока-аукциона, определение стоимости жетон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2"/>
          <p:cNvSpPr/>
          <p:nvPr/>
        </p:nvSpPr>
        <p:spPr>
          <a:xfrm>
            <a:off x="357120" y="179280"/>
            <a:ext cx="846144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4. </a:t>
            </a:r>
            <a:r>
              <a:rPr b="0" i="1" lang="ru-RU" sz="2400" spc="-1" strike="noStrike">
                <a:solidFill>
                  <a:srgbClr val="66ccff"/>
                </a:solidFill>
                <a:latin typeface="Arial"/>
              </a:rPr>
              <a:t>Актуализация знаний по орфографии и орфоэп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1.)Лингвистическая 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расставьте верно ударения – баловать, кашлянуть, облегчить, ободрить, чер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В КАКОМ РЯДУ ВСЕ СЛОВА С ЧЕРЕДУЮЩЕЙСЯ ГЛАСНОЙ В КОР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ПОР…СЛЬ, К…МПАНЬОН, Г…РЯ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Р…СТЕНИЕ, КР..ПИВА, ПРИК…С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ПРОТ…РЕТЬ, НАТ…РАТЬ, К..СНУ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4)</a:t>
            </a: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Р…СТЕРЯТЬСЯ, К…СНОЯЗЫЧНЫЙ, Г…Р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-в КАКОМ (-ИХ) СЛОВАХ ПРОПУЩЕННАЯ БУКВА-ПРОВЕРЯЕМАЯ УДАРЕНИЕМ БЕЗУДАРНАЯ ГЛАСНАЯ КОР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А. Ср..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Б. Ур…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В. Д…вл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С. Д…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1) 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2)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3) 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4)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285840" y="1052640"/>
            <a:ext cx="885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) Актуализация знаний по пунк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«Мозговой штур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зывается сложным предложением? Чем оно отличается от простого?  Приведите прим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разница между ССП и СПП? Приведите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кие существуют виды связи нескольких придаточных предложений с главным? Приведите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2"/>
          <p:cNvSpPr/>
          <p:nvPr/>
        </p:nvSpPr>
        <p:spPr>
          <a:xfrm>
            <a:off x="324000" y="285840"/>
            <a:ext cx="88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акрепление знаний по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пред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 скольких простых предложений состоит данное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ридор выходило несколько  дверей и пока мы сбивали снег с валенок я услышал как кто-то говорил вполгол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) Укажите вид сложного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исхудал за одну ночь так что остались кожа да 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3"/>
          <p:cNvSpPr/>
          <p:nvPr/>
        </p:nvSpPr>
        <p:spPr>
          <a:xfrm>
            <a:off x="0" y="1052640"/>
            <a:ext cx="882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) Укажите вид связи придаточных в предложении Начертите схему пред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гда Вронский смотрел на часы на балконе у Карениных он был так растревожен что видел стрелки на циферблате но не мог понять который ч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4572000" y="27082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2286000" y="476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142920" y="150012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7"/>
          <p:cNvSpPr/>
          <p:nvPr/>
        </p:nvSpPr>
        <p:spPr>
          <a:xfrm>
            <a:off x="2340000" y="1052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3"/>
          <p:cNvSpPr/>
          <p:nvPr/>
        </p:nvSpPr>
        <p:spPr>
          <a:xfrm>
            <a:off x="4143240" y="2714760"/>
            <a:ext cx="48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4"/>
          <p:cNvSpPr/>
          <p:nvPr/>
        </p:nvSpPr>
        <p:spPr>
          <a:xfrm>
            <a:off x="-4179960" y="353880"/>
            <a:ext cx="17503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здание проблем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думаете, всегда ли придаточные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всегда ли придаточные предложения отделяются запят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причина затрудн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рмулирование учеб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 о вариантах постановки знаков препинания в С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ботать приемы постановки знаков препинания в С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Рисунок10"/>
          <p:cNvPicPr/>
          <p:nvPr/>
        </p:nvPicPr>
        <p:blipFill>
          <a:blip r:embed="rId1"/>
          <a:stretch/>
        </p:blipFill>
        <p:spPr>
          <a:xfrm>
            <a:off x="7236000" y="2276640"/>
            <a:ext cx="1000080" cy="733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06:09:48Z</dcterms:created>
  <dc:creator>АЛЕКСАНДР</dc:creator>
  <dc:description/>
  <dc:language>en-US</dc:language>
  <cp:lastModifiedBy>Учитель</cp:lastModifiedBy>
  <dcterms:modified xsi:type="dcterms:W3CDTF">2013-02-27T11:52:16Z</dcterms:modified>
  <cp:revision>64</cp:revision>
  <dc:subject/>
  <dc:title>Слайд 1</dc:title>
</cp:coreProperties>
</file>