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7609-2FCA-4AFF-BC32-3B63021F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58D6-74CE-4363-80E2-37E56ADA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8CD1-93BB-4BEA-98A6-F10F137E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EFA0-58FA-498A-B942-07EF8AB4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3E5F-36B6-4280-AC95-80CE0002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BB1-AD41-4B7B-92D5-F10D980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5804-8FD6-4696-B057-8EC1C889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B190-8081-4921-A970-D0B2D481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48EF-8D66-41C6-BCD4-DFCF94B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086F-9200-448F-AAC1-6FAE532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726A-05E6-4B8C-A43E-7D12C422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97F2-D815-4366-8122-04A4931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074-0A49-4C6E-91ED-2B4E4CA2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B545-E44C-43F9-A831-AD6B4C3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98B-871F-4EFE-91F8-1F5B5D7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DCC-1343-464B-B4B2-8328A670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B6F9-245B-4B69-82DC-459A2CBA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CC71-1DC8-419B-A63A-ABC855A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BD63-911C-4466-B608-A37D6E53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3539-0EBE-4191-9E76-238C5B9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20C6-BB83-4F28-B99F-7B3AFFF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056D-070D-47EF-BE72-541C4F7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7514-7073-4BD3-9187-54982C7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9947-7C16-4019-9BD0-E3AEB4F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755-A4B0-40B7-ABF4-548AC95ACB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412-AE32-4093-AA20-FD6F1E084A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ерафимовичская средняя общеобразовательная школа № 2. Волгоградская обла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мыкова Лариса Юрьевн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2971440"/>
            <a:ext cx="4038480" cy="1143000"/>
          </a:xfrm>
          <a:prstGeom prst="rect">
            <a:avLst/>
          </a:prstGeom>
          <a:solidFill>
            <a:srgbClr val="dddcc5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Урок литературного чт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2360" y="1600200"/>
            <a:ext cx="3908520" cy="453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1768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ahoma"/>
              </a:rPr>
              <a:t>Сказочные примет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чин(с.92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ачин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сутствуе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81480" y="112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0" y="3457440"/>
            <a:ext cx="45720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Сказочные приметы</a:t>
            </a: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Троекратное повторение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24760" y="0"/>
            <a:ext cx="291924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909960" cy="4267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419112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казочные приметы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лшебные события, герои, предме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4097160"/>
            <a:ext cx="3681360" cy="2760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207040" y="394164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391000" y="1244520"/>
            <a:ext cx="3448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66"/>
                </a:solidFill>
                <a:latin typeface="Tahoma"/>
              </a:rPr>
              <a:t>Какие устойчивые эпитеты и выражения встречаются в сказке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определение, прибавляемое к названию предмета для большей изобрета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оянный эпитет- </a:t>
            </a:r>
            <a:r>
              <a:rPr b="0" i="1" lang="en-US" sz="3200" spc="-1" strike="noStrike">
                <a:solidFill>
                  <a:srgbClr val="0099ff"/>
                </a:solidFill>
                <a:latin typeface="Tahoma"/>
              </a:rPr>
              <a:t>синее мор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лестный эпитет-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Иванушка- дурач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Tahoma"/>
              </a:rPr>
              <a:t>Фольклорные</a:t>
            </a: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Авторские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добра кон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ff"/>
                </a:solidFill>
                <a:latin typeface="Tahoma"/>
              </a:rPr>
              <a:t>..неведомо зверушку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дуб зелёный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ff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0099ff"/>
                </a:solidFill>
                <a:latin typeface="Tahoma"/>
              </a:rPr>
              <a:t>снурок шелковый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клёв кровавый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ff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0099ff"/>
                </a:solidFill>
                <a:latin typeface="Tahoma"/>
              </a:rPr>
              <a:t>князь ты мой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99ff"/>
                </a:solidFill>
                <a:latin typeface="Tahoma"/>
              </a:rPr>
              <a:t>прекрасный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66ff66"/>
                </a:solidFill>
                <a:latin typeface="Tahoma"/>
              </a:rPr>
              <a:t>гости-господ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5562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для законного решень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не птичьим криком стонет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могучий избавител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к царству славного Салтан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и желанная стран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62520" y="914400"/>
            <a:ext cx="30456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914400"/>
            <a:ext cx="22860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531720"/>
            <a:ext cx="4343400" cy="3430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03848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220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ff"/>
                </a:solidFill>
                <a:latin typeface="Tahoma"/>
              </a:rPr>
              <a:t>Сказочная концовка-ес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Я там был; мёд-пиво пил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И усы лишь обмочи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9480" y="762120"/>
            <a:ext cx="266724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Зло наказ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-3240"/>
            <a:ext cx="5943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А у А.С.Пушкина про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ahoma"/>
              </a:rPr>
              <a:t>Замысел сказки А.С.Пушки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38160" y="0"/>
            <a:ext cx="2938680" cy="4267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4476600"/>
            <a:ext cx="5029200" cy="2381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00240" y="1142640"/>
            <a:ext cx="4343400" cy="4530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Чему нас, читателей, учит А.С.Пушкин посредством сказки о царе Салтане?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Чем был интересен урок, что нового открыли для себ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Молодцы!</a:t>
            </a:r>
            <a:br>
              <a:rPr sz="4800"/>
            </a:b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6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747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" y="0"/>
            <a:ext cx="4626000" cy="6629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629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9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Tahoma"/>
              </a:rPr>
              <a:t>Цель урока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ься анализировать поступки геро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вивать навыки выразительного чт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вивать умение находить необходимые отрывки в текс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400800" cy="1139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Речевая разминк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686800" cy="4495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ff"/>
                </a:solidFill>
                <a:latin typeface="Tahoma"/>
              </a:rPr>
              <a:t>А.С.Пушкин о своих детских впечатлениях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ff"/>
                </a:solidFill>
                <a:latin typeface="Tahoma"/>
              </a:rPr>
              <a:t>« И шёпотом рассказывать мне станет о мертвецах, о подвигах Бовы… От ужаса не шелохнусь, бывало, едва дыша, прижмусь под одеяло, не чувствуя ни ног, ни голов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581880" y="0"/>
            <a:ext cx="2562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1417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66"/>
                </a:solidFill>
                <a:latin typeface="Tahoma"/>
              </a:rPr>
              <a:t>Работа со словом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228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ЫБЕЙ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ИВ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АД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ЛЫМАГА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ВО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НЕЦ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437920" y="144792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ыбь- лёгкая вол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ю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р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льшая старинная теле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дворные, ближайшие к царю или княз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рагоценный головной убо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1417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ff"/>
                </a:solidFill>
                <a:latin typeface="Tahoma"/>
              </a:rPr>
              <a:t>Проверка домашнего задания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Tahoma"/>
              </a:rPr>
              <a:t>На сколько частей вы поделили прочитанное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479760" cy="472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43400" y="39052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224760" y="990720"/>
            <a:ext cx="291924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38680" cy="1417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Ожидал ли князь, что царевна- это Лебедь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952880" cy="487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40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3809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Характеристика героев.   План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0" y="1066320"/>
            <a:ext cx="4038480" cy="579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я героя, его место житель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йствия и поступ-ки, совершаемые героем; их характерист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ишите внешность и характер геро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ношение автора к геро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ше отношение к геро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7280" y="0"/>
            <a:ext cx="2736720" cy="3276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24760" y="4038480"/>
            <a:ext cx="291924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2903760" cy="2666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223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ahoma"/>
              </a:rPr>
              <a:t>Сказочные герои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Tahoma"/>
              </a:rPr>
              <a:t>Добрые          Злые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3276720" cy="2570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2919240" cy="2494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200400" y="1447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447920"/>
            <a:ext cx="76176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0880" y="429732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562720" y="4392720"/>
            <a:ext cx="3276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risa</cp:lastModifiedBy>
  <dcterms:modified xsi:type="dcterms:W3CDTF">2011-01-03T18:09:5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