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E7E-4F2A-4946-BA7F-2E87C5B0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759-01F1-4D7C-839D-C4A5BB59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1A28CE-1BE0-44B7-A45C-356A1D94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EEC780-13C6-4AC0-B4C1-ACAB5D48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FB144C-D336-495A-84CC-0223425C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B2A621-C538-4B35-A4E3-F999374C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D386D0-E6B4-42A5-A62C-1DC141A5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87946-2D73-4226-8D2E-29C8427F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04A3B3-3F75-4EA5-991A-F61F8042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E6CEE-5F8D-4157-BDD4-7F2B52D6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32D9B-4776-4D3A-B2F1-35576F46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0B4842-D0DB-4115-8ACA-58BB6C4B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0100-8619-403A-9B0B-AEB170E3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201C4-8FB4-407C-A58C-AEC62B9D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2B8917-3F73-414B-9DA2-B7A0E670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9C604-AFA2-4C80-9D5F-F468DB65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0C6EE-03D8-4196-97E8-1166D9D0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E9C43A-D3AC-4B7D-B160-492769F1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C43B31-9E7A-4ECB-A9AC-63E56EB3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A1AF07-3F60-4C4E-B6B2-97F91E6A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13961D-42CA-4CAA-AB1E-76E59EB0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75760-E412-49C3-81A9-4F2DFC36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CDFD68-0541-44C4-AD6B-BBA3D0E5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0C89-F3B2-4C37-9C9C-6824CCF5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57B4E1-548D-4FF4-8BFB-0F3BAD6D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D05B4-8973-4F40-AC41-1CD199F1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E4954-B142-4744-B040-5D411E9D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52B71-3863-4AB4-A0BA-C3BAE70A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7E77C-C85E-41D7-9FB9-747286FF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113C9-F2B6-4B6A-88C1-9082EC07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54FDB-1869-4D5A-BBB3-1BAED85A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ED5E1-9647-4A00-9564-C740A97D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CF5D7-6BB3-4050-B178-0E8F6D17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D7E63-6A80-4D57-8EE4-122E798B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C270-4B19-45B8-8848-6E804597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33739-4CE3-4F2F-A34F-C0A87256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1E8D6-C18C-46D8-8580-BA67A8DE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94107-781D-4891-BE68-CAB8E1F6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74A63-1E72-40A8-98B7-837D3C32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7AFA7-E427-49B5-BEC0-8D729432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E94C9D-1763-4106-8CA6-FF30DC7F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163026-CA5E-4026-8B12-C42725DD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9B0B64-1395-4F2C-91BD-2CA9E407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71BA32-8BD5-4EBC-AB4C-8C82220F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2FD682-E0A7-4862-BFAF-386C2DCD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26F3-B214-4881-A97A-BA225E8B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DEAB2C-6B79-41E7-B03E-F9DDA41D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6B112A-5CBB-42C7-B207-2B9A627B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8045A1-5ED3-4322-89EB-06D30DB9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AC8D96-915A-403E-B8B4-8F582108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58630-07C7-48AD-ADEE-92615F73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64E9-3A18-487E-996D-6FB64C10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55C0-FCE3-4B4E-A391-E838D1CB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7B35-CDC4-4294-BD8A-CA468094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07D3-8754-4B1D-8DD1-58E56C38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604E-B284-49C9-9AAB-58ED76EA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783-5307-4E33-8A4F-CD4A3B43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E8B3-2337-4343-BCE9-34C19E04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F0C3-1B44-49C2-A4A2-E25BF1E3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CABC-C488-4C28-AB8B-D5313CBE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5F9C-DF76-41FF-9ACE-B1D11BE1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4A9A-8AFF-4D01-8237-52DE851D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9C2E1-E1F1-4C3B-B72F-9ABFC133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3FFCE-26E6-4E96-9027-A5C0A82B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12ABD-0BC7-4578-9F1C-FBD06AC7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E2C79-1097-400B-AEC6-8E20D79A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7E1DC-08C8-4F93-84A4-203F0B32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E41-8B86-43DC-A635-A1C58297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4A3C3-EBC7-4809-BE9D-849EA796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F1785-BE99-4A46-B9DE-1E456885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5F73E-20FD-42EF-98FB-945578AE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086C7-0233-42BD-A728-67E62D5E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AB119-D19B-4429-8499-4128CFCE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FF853-5145-4034-A629-B369E665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34EAD-31C5-43B6-AFD7-B6EF0F09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5C65C-4554-43E4-97FC-467530A7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46AED-8DE7-48A3-8078-A13BF7E9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FA71C-9E94-4436-ADB5-6629416B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29C-9EC1-4196-8041-9564B520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B8B21-478B-4871-A9D3-6D04889B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42C53-C9FE-4347-8800-9D1C3B52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A3FB2-B380-419F-9487-B8D69813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95666-1C9F-4DF1-9F1C-5BD7D6BD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E5ABC-AE3F-431F-B2CB-3BE32E79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B1D17-92E4-4EB9-8E9C-1164CE51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0685B-411B-4A4D-9E2A-48196A00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7A888-D851-46C7-A4EE-3D0EE233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13D0E-D064-4F5F-BE93-31DB88F3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ED3A4-B595-465E-93CD-CD5E8BE2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E3E-9572-4F44-98A0-CF39DE2A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A49B6-C033-4C26-9ED1-81649F7B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110FE-98A9-41F8-BF8C-94F3E3EB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2C9BB-F329-401A-9DEF-785A9F23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45CF1-F13F-4AD3-BFA2-C7096A49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203CD-F318-4ECD-9670-44169E14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7AE88-2589-4E99-AA71-7B860F0F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9678C-4A06-472A-BC0F-06919C26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479D5-AD20-4578-B567-E72CD2E3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E715E-7C6D-4F7C-AA95-93C1DA1A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7E7DD-31A8-465F-B37F-2B5931E6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F370-3678-4635-9117-964D7631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D037D-1AF5-4938-A8B9-4ADD9BEB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F6CF0-4E5F-484B-AC3E-76A5A396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B5E53-4B92-4C03-8F06-55B08FA1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3792B-5794-49D0-9A6C-AA45A4EF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9A509-1915-4085-8567-B9F75E2A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E9FF0-7C55-4787-8240-42E9EF5D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040E9-3090-418D-BCDD-E77FA1A4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5F51B-A864-41E9-BF6F-EAA9D7B1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96668-485A-46D7-8F9E-BD9DC565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7CBF6-4B35-4D6B-9528-2773FF44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D00-8F1F-482E-941B-ED045B22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72126-DBE3-4E95-BD58-F9A8ACCE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0BE3E-7E70-4EDB-8301-109A37E1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B321D-F892-46D9-9715-C543FD24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7CB8D-D396-4607-B999-AE7BC670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2E30F-AF59-4FDB-B6DC-B43F235F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E5132-9D78-4881-BDB7-9E75AAC4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F2502-B95F-483C-9733-3D23742B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1528C-AF16-4D7A-B5D4-B6CA75AB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BF328-B350-463F-A87C-1F9C17B6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E6267-AAED-4B2E-BB61-77226625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2BA6-AD31-4065-90EF-13443C66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AFCC7-7D6B-453E-8F8B-569D1D7C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E2B2D-348A-45B7-9899-386F1E00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9580F-6E79-47C6-9E76-A4FB64BC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FAD9C-297D-4230-A548-74E31D44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15C28-838E-4FE3-AC5A-EA873FC0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8A1D4-E975-4945-BAAC-993E5221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99342-27E7-44D4-B1C8-BEFEA804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E2065-9B8A-4E6D-ADE2-277BF933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E03B8-780C-4645-9F6B-1DA860C2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1A211-8EBB-4207-9D95-0D851BB5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C54-5C45-403F-BF30-F80228BF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BEB60-E447-45A5-8B04-F7D5D8A3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FD75D-FD08-4BF5-A7AA-1D00CA6A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6EE75-F94C-4B31-8D4A-62FEE330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5ABCC-15EA-4497-8714-5960FFA3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B4CAE-0E2A-4900-B310-4495E9B4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1D383-64BB-45C6-9D89-2766266A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D090F-B067-4821-A86C-0C6F0768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2A9FC-6517-423D-9B81-D5354777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39BE5-2CAD-457F-870B-EF0BE54C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A9263-13FA-469A-ABBF-0DB2B1B9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5AF6-BD49-4D4A-B8DC-F6045C5052A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83A8-3D99-4C4E-A5B8-1E5613F3CE3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69C2-4691-4657-B70B-4F4724F66F6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305E-6DD6-49E3-96A6-3EED05AE7C2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99E4-5670-4913-8D10-08481B74097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7DD4-9FC9-40DB-B29C-9FAB92FFBE8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4731-E43E-47F4-9CF4-DE497194221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BE4E-0920-46E2-9ADF-EB6EFC93732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1EAF-2B5F-4988-9007-7E9385B601C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053A-C105-4945-9203-B4694B74433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EC71-7B73-499A-B06C-2C835B8775D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75DD-9268-43D0-9CB0-B908B0D67F7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1" i="1" lang="ru-RU" sz="5000" spc="-1" strike="noStrike">
                <a:solidFill>
                  <a:srgbClr val="646b86"/>
                </a:solidFill>
                <a:latin typeface="Georgia"/>
              </a:rPr>
              <a:t>«СИСТЕМА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646b86"/>
                </a:solidFill>
                <a:latin typeface="Georgia"/>
              </a:rPr>
              <a:t>ПОДГОТОВКИ УЧАЩИХСЯ 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1" i="1" lang="ru-RU" sz="5000" spc="-1" strike="noStrike">
                <a:solidFill>
                  <a:srgbClr val="646b86"/>
                </a:solidFill>
                <a:latin typeface="Georgia"/>
              </a:rPr>
              <a:t>К ОГЭ ПО ФИЗИКЕ»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262626"/>
                </a:solidFill>
                <a:latin typeface="Arial Black"/>
              </a:rPr>
              <a:t> </a:t>
            </a:r>
            <a:r>
              <a:rPr b="1" lang="ru-RU" sz="1300" spc="-1" strike="noStrike">
                <a:solidFill>
                  <a:srgbClr val="262626"/>
                </a:solidFill>
                <a:latin typeface="Arial Black"/>
              </a:rPr>
              <a:t>КОШЕЛЕВА ЛИДИЯ АНАТОЛЬЕВНА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262626"/>
                </a:solidFill>
                <a:latin typeface="Arial Black"/>
              </a:rPr>
              <a:t>     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262626"/>
                </a:solidFill>
                <a:latin typeface="Arial Black"/>
              </a:rPr>
              <a:t>УЧИТЕЛЬ ФИЗИКИ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262626"/>
                </a:solidFill>
                <a:latin typeface="Arial Black"/>
              </a:rPr>
              <a:t>    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262626"/>
                </a:solidFill>
                <a:latin typeface="Arial Black"/>
              </a:rPr>
              <a:t>МКОУ – ООШ С.ЛЬВОВКА АРКАДАКСКОГО РАЙОНА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46b86"/>
                </a:solidFill>
                <a:latin typeface="Arial Black"/>
              </a:rPr>
              <a:t>                                                                          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9432b"/>
                </a:solidFill>
                <a:latin typeface="Georgia"/>
              </a:rPr>
              <a:t>КПК учителей физики </a:t>
            </a:r>
            <a:br>
              <a:rPr sz="1400"/>
            </a:br>
            <a:r>
              <a:rPr b="1" lang="ru-RU" sz="1400" spc="-1" strike="noStrike">
                <a:solidFill>
                  <a:srgbClr val="a9432b"/>
                </a:solidFill>
                <a:latin typeface="Georgia"/>
              </a:rPr>
              <a:t> </a:t>
            </a:r>
            <a:br>
              <a:rPr sz="1400"/>
            </a:br>
            <a:r>
              <a:rPr b="1" lang="ru-RU" sz="1400" spc="-1" strike="noStrike">
                <a:solidFill>
                  <a:srgbClr val="a9432b"/>
                </a:solidFill>
                <a:latin typeface="Georgia"/>
              </a:rPr>
              <a:t>«Обучение физике в условиях введения ФГОС общего образования </a:t>
            </a:r>
            <a:br>
              <a:rPr sz="1400"/>
            </a:br>
            <a:r>
              <a:rPr b="1" lang="ru-RU" sz="1400" spc="-1" strike="noStrike">
                <a:solidFill>
                  <a:srgbClr val="a9432b"/>
                </a:solidFill>
                <a:latin typeface="Georgia"/>
              </a:rPr>
              <a:t>(с использованием ДОТ)»</a:t>
            </a:r>
            <a:endParaRPr b="0" lang="en-US" sz="1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281ef6"/>
                </a:solidFill>
                <a:latin typeface="Georgia"/>
              </a:rPr>
              <a:t>Комплекс подготовк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информационная готовность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предметная (содержательная) готовность,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психологическая готовност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22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Georgia"/>
              </a:rPr>
              <a:t>Организация информационной работы по подготовки учащихся к ОГЭ (ГИА)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с учащимися;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с педагогами;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с родителями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81ef6"/>
                </a:solidFill>
                <a:latin typeface="Georgia"/>
              </a:rPr>
              <a:t>Главное условие успеха на экзамене по физике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Овладение основными физическими понятиями, понимание физических законов и умение применять их на практике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Мониторинг качества образования</a:t>
            </a: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нтроль текущих оценок по физике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нтрольные работы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амостоятельные работы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нтрольные срезы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зноуровневые задани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н-лайн тесты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зультаты пробных  ОГЭ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Выполнение тестовых заданий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Успешная сдача экзамена невозможна без опыта выполнения тестов.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сихологическая подготовка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к ГИА по физике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Georgia"/>
              </a:rPr>
              <a:t>Навыки самоконтроля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Georgia"/>
              </a:rPr>
              <a:t>Повышение уверенности в себе, в своих силах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Georgia"/>
              </a:rPr>
              <a:t>Рациональное распределение времени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281ef6"/>
                </a:solidFill>
                <a:latin typeface="Georgia"/>
              </a:rPr>
              <a:t>Виды физических задач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Экспериментальные ,          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Теоретические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Расчетные,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Качественные,                 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Графические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Комбинированны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Система подготовки к ГИА  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. Анализ ГИА  предыдущего  года 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. Планирование занятий по подготовке к ГИА во внеурочной деятельност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3. Сбор промежуточных  диагностических материалов по разделам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4. Организация закрепления пройденного материал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5. Самообразование учител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6.  Внедрение элективных курс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7. Систематическое использование ИКТ при подготовке к государственной (итоговой) аттестации по физик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8. Просвещение родителе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9.  Формирование  банка  дополнительной литератур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20:54:10Z</dcterms:created>
  <dc:creator>Директор</dc:creator>
  <dc:description/>
  <dc:language>en-US</dc:language>
  <cp:lastModifiedBy>user</cp:lastModifiedBy>
  <dcterms:modified xsi:type="dcterms:W3CDTF">2015-04-21T08:22:54Z</dcterms:modified>
  <cp:revision>7</cp:revision>
  <dc:subject/>
  <dc:title>ПРОЕКТНАЯ РАБОТА</dc:title>
</cp:coreProperties>
</file>