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241C-6DA5-4161-9740-3582068342E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4BFD-9138-4852-A06B-9F7BF16FA9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2D5E-00E2-49B3-B659-854897A41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AEAE-8D2C-47C4-9ABB-DB10E8B6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4D56-476C-42FD-8816-FC74C0F15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9D23-82C3-4C63-A878-A9397EB42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5D15-0875-4211-BDD5-A925EB621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50F8-23EC-44F8-905B-556A988E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665A-97E7-4EF5-92B6-26FCB7D4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9AEE-D632-4698-9C65-9C04C879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9564-E175-4A3C-9FE1-7086DB89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43A2F-DA2D-4BEF-8439-910D186A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2455-A3CB-45A1-BBCA-E1B83CAA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0F58-4BB2-40F7-B468-56FDBE48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CCD6-490F-4DEF-B91D-6422102C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2178-8D12-41F1-884B-9D15E0E3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6BAB-DAC2-4C83-BE80-B2EC45F9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E7E9-10A5-4E9F-A44D-2AB0F364D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9488-1953-40EB-AD3F-4CB873D2E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D503-AAAE-4F1B-921C-8BE2CAD5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BE81-9EEA-483A-98B3-C78F97D0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2A43-3711-48C0-B0C8-77633AA4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F6E2-373A-4A25-9E42-4A1DD14B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E029-C21E-4BAB-8214-F60F21D1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6080-E226-4115-99EC-798D75C2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100C-0CD5-4F82-A8D6-AC41C38F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1192-6A1B-42EB-B61B-540BF3010C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strtegic1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83CD-339B-4FC4-80AA-22283D98BAAF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022.help-rus-student.ru/text/010.htm" TargetMode="External"/><Relationship Id="rId3" Type="http://schemas.openxmlformats.org/officeDocument/2006/relationships/hyperlink" Target="http://034.help-rus-student.ru/text/002.htm" TargetMode="External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2286000" y="1219320"/>
            <a:ext cx="6248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втор: учитель истории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    МОУ Бобровская  средняя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    общеобразовательная школа № 2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Титаренко Людмила Алексеевн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277920"/>
            <a:ext cx="7010280" cy="200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96600"/>
                </a:solidFill>
                <a:latin typeface="Times New Roman"/>
              </a:rPr>
              <a:t>Венский конгресс</a:t>
            </a:r>
            <a:endParaRPr b="0" lang="en-US" sz="6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5280" y="3124080"/>
            <a:ext cx="7391520" cy="30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1814- 1815 гг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6964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Русско- турецкая война в годы правления Александра </a:t>
            </a: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52480" y="3809520"/>
            <a:ext cx="6934320" cy="23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1806- 1812 </a:t>
            </a: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гг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920" y="6854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6600"/>
                </a:solidFill>
                <a:latin typeface="Times New Roman"/>
              </a:rPr>
              <a:t>Восстание  декабристов</a:t>
            </a:r>
            <a:endParaRPr b="0" lang="en-US" sz="5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520" y="3581280"/>
            <a:ext cx="716292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14 декабря 1825 г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3152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6600"/>
                </a:solidFill>
                <a:latin typeface="Times New Roman"/>
              </a:rPr>
              <a:t>Правление Николая </a:t>
            </a:r>
            <a:r>
              <a:rPr b="0" lang="en-US" sz="5400" spc="-1" strike="noStrike">
                <a:solidFill>
                  <a:srgbClr val="996600"/>
                </a:solidFill>
                <a:latin typeface="Times New Roman"/>
              </a:rPr>
              <a:t>I</a:t>
            </a:r>
            <a:endParaRPr b="0" lang="en-US" sz="5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581280"/>
            <a:ext cx="73152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1825-1855 гг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277560"/>
            <a:ext cx="7467480" cy="216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Реформа управления государственными крестьянами П.Д. Киселева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3520" y="3581280"/>
            <a:ext cx="716292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1837- 1841 гг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277560"/>
            <a:ext cx="7391520" cy="23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6600"/>
                </a:solidFill>
                <a:latin typeface="Times New Roman"/>
              </a:rPr>
              <a:t>Русско- турецкая война в годы правления Николая </a:t>
            </a:r>
            <a:r>
              <a:rPr b="0" lang="en-US" sz="4800" spc="-1" strike="noStrike">
                <a:solidFill>
                  <a:srgbClr val="9966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4038480"/>
            <a:ext cx="7315200" cy="209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1828-1829 гг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380520"/>
            <a:ext cx="701028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6600"/>
                </a:solidFill>
                <a:latin typeface="Times New Roman"/>
              </a:rPr>
              <a:t>Финансовая реформа Е.Ф. Канкрина</a:t>
            </a:r>
            <a:endParaRPr b="0" lang="en-US" sz="5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99840" y="3428640"/>
            <a:ext cx="7086600" cy="27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1839-1843 гг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6600"/>
                </a:solidFill>
                <a:latin typeface="Times New Roman"/>
              </a:rPr>
              <a:t>Начало промышленного переворота в России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371240" y="2971800"/>
            <a:ext cx="76201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30-40-е годы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XIX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век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6600"/>
                </a:solidFill>
                <a:latin typeface="Times New Roman"/>
              </a:rPr>
              <a:t>Учреждение Государственного совета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371240" y="289548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1810 г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6600"/>
                </a:solidFill>
                <a:latin typeface="Times New Roman"/>
              </a:rPr>
              <a:t>Указ  об </a:t>
            </a:r>
            <a:br>
              <a:rPr sz="5400"/>
            </a:br>
            <a:r>
              <a:rPr b="0" lang="ru-RU" sz="5400" spc="-1" strike="noStrike">
                <a:solidFill>
                  <a:srgbClr val="996600"/>
                </a:solidFill>
                <a:latin typeface="Times New Roman"/>
              </a:rPr>
              <a:t>«обязанных крестьянах»</a:t>
            </a:r>
            <a:endParaRPr b="0" lang="en-US" sz="5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371240" y="2590920"/>
            <a:ext cx="76201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1842 г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371240" y="685800"/>
            <a:ext cx="7620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4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30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63986"/>
                </a:solidFill>
                <a:latin typeface="바탕"/>
              </a:rPr>
              <a:t>Крымская война </a:t>
            </a:r>
            <a:br>
              <a:rPr sz="4400"/>
            </a:br>
            <a:r>
              <a:rPr b="1" i="1" lang="ru-RU" sz="4400" spc="-1" strike="noStrike">
                <a:solidFill>
                  <a:srgbClr val="163986"/>
                </a:solidFill>
                <a:latin typeface="바탕"/>
              </a:rPr>
              <a:t>1853-1856  гг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9142560" y="2964600"/>
            <a:ext cx="458640" cy="38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3200" spc="-1" strike="noStrike">
                <a:solidFill>
                  <a:srgbClr val="d54f41"/>
                </a:solidFill>
                <a:latin typeface="Times New Roman"/>
              </a:rPr>
              <a:t>Основная причина войны:</a:t>
            </a:r>
            <a:br>
              <a:rPr sz="2800"/>
            </a:br>
            <a:r>
              <a:rPr b="0" lang="ru-RU" sz="2800" spc="-1" strike="noStrike">
                <a:solidFill>
                  <a:srgbClr val="996600"/>
                </a:solidFill>
                <a:latin typeface="Times New Roman"/>
              </a:rPr>
              <a:t>обострение соперничества держав на </a:t>
            </a:r>
            <a:br>
              <a:rPr sz="2800"/>
            </a:br>
            <a:r>
              <a:rPr b="0" lang="ru-RU" sz="2800" spc="-1" strike="noStrike">
                <a:solidFill>
                  <a:srgbClr val="996600"/>
                </a:solidFill>
                <a:latin typeface="Times New Roman"/>
              </a:rPr>
              <a:t>Ближнем Востоке и Балканах, вызванное ослаблением Турции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3200" spc="-1" strike="noStrike">
                <a:solidFill>
                  <a:srgbClr val="d54f41"/>
                </a:solidFill>
                <a:latin typeface="Times New Roman"/>
              </a:rPr>
              <a:t>Повод к войне: </a:t>
            </a:r>
            <a:br>
              <a:rPr sz="2800"/>
            </a:br>
            <a:r>
              <a:rPr b="0" lang="ru-RU" sz="2800" spc="-1" strike="noStrike">
                <a:solidFill>
                  <a:srgbClr val="996600"/>
                </a:solidFill>
                <a:latin typeface="Times New Roman"/>
              </a:rPr>
              <a:t>вопрос о «святых местах» в Палестине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996600"/>
                </a:solidFill>
                <a:latin typeface="Times New Roman"/>
              </a:rPr>
              <a:t>Россия потребовала признать русского царя покровителем всех православных в Турции.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Object 2"/>
          <p:cNvGraphicFramePr/>
          <p:nvPr/>
        </p:nvGraphicFramePr>
        <p:xfrm>
          <a:off x="1219320" y="0"/>
          <a:ext cx="79246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0"/>
                    <a:ext cx="7924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Unicode MS"/>
              <a:ea typeface="Arial Unicode MS"/>
            </a:endParaRPr>
          </a:p>
        </p:txBody>
      </p:sp>
    </p:spTree>
  </p:cSld>
  <p:transition>
    <p:checker dir="ver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861048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바탕"/>
              </a:rPr>
              <a:t>Нахимов Павел Степанович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038480" y="990360"/>
            <a:ext cx="5105520" cy="69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имов Павел Степанович, флотоводец, адмирал (1855 год)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02-1855)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Павел Степанович Нахимов родился в семье офицер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аствовал в Наваринском сражении 1827 год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1845 году Нахимов был произведен в контр-адмиралы и назначен командиром бригады кораблей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Во время Крымской войны 1853-1856 годов, командуя эскадрой кораблей Черноморского флота, Нахимов обнаружил и заблокировал в Синопе главные силы турецкого флота, 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ноября 1853 года разгромил их. Официально занимая должность командующего эскадрой, а с февраля 1855 года – командующего Севастопольского порта и военного губернатора, Нахимов фактически с самого начала обороны Севастополя возглавлял гарнизон защитников крепости, проявив выдающиеся способности в организации обороны базы флота с моря и суши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28 июня 1855 года, во время объезда передовых укреплений на Малаховом кургане, он был смертельно ранен и вскоре скончался. Нахимов похоронен в Севастополе во Владимирском собор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 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0" y="-527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Group 18"/>
          <p:cNvGrpSpPr/>
          <p:nvPr/>
        </p:nvGrpSpPr>
        <p:grpSpPr>
          <a:xfrm>
            <a:off x="1330200" y="-5276880"/>
            <a:ext cx="6483240" cy="7589880"/>
            <a:chOff x="1330200" y="-5276880"/>
            <a:chExt cx="6483240" cy="7589880"/>
          </a:xfrm>
        </p:grpSpPr>
        <p:sp>
          <p:nvSpPr>
            <p:cNvPr id="137" name="Rectangle 6"/>
            <p:cNvSpPr/>
            <p:nvPr/>
          </p:nvSpPr>
          <p:spPr>
            <a:xfrm>
              <a:off x="1330200" y="-5276880"/>
              <a:ext cx="6483240" cy="758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7"/>
            <p:cNvSpPr/>
            <p:nvPr/>
          </p:nvSpPr>
          <p:spPr>
            <a:xfrm>
              <a:off x="1330200" y="-5276880"/>
              <a:ext cx="6483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Group 17"/>
          <p:cNvGrpSpPr/>
          <p:nvPr/>
        </p:nvGrpSpPr>
        <p:grpSpPr>
          <a:xfrm>
            <a:off x="1330200" y="2313000"/>
            <a:ext cx="6483240" cy="9823320"/>
            <a:chOff x="1330200" y="2313000"/>
            <a:chExt cx="6483240" cy="9823320"/>
          </a:xfrm>
        </p:grpSpPr>
        <p:sp>
          <p:nvSpPr>
            <p:cNvPr id="140" name="Rectangle 8"/>
            <p:cNvSpPr/>
            <p:nvPr/>
          </p:nvSpPr>
          <p:spPr>
            <a:xfrm>
              <a:off x="1330200" y="2313000"/>
              <a:ext cx="6483240" cy="9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Group 16"/>
            <p:cNvGrpSpPr/>
            <p:nvPr/>
          </p:nvGrpSpPr>
          <p:grpSpPr>
            <a:xfrm>
              <a:off x="1330200" y="2313000"/>
              <a:ext cx="5465880" cy="9823320"/>
              <a:chOff x="1330200" y="2313000"/>
              <a:chExt cx="5465880" cy="9823320"/>
            </a:xfrm>
          </p:grpSpPr>
          <p:sp>
            <p:nvSpPr>
              <p:cNvPr id="142" name="Rectangle 9"/>
              <p:cNvSpPr/>
              <p:nvPr/>
            </p:nvSpPr>
            <p:spPr>
              <a:xfrm>
                <a:off x="1330200" y="2313000"/>
                <a:ext cx="5465880" cy="982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" name="Group 15"/>
              <p:cNvGrpSpPr/>
              <p:nvPr/>
            </p:nvGrpSpPr>
            <p:grpSpPr>
              <a:xfrm>
                <a:off x="1330200" y="2313000"/>
                <a:ext cx="5465880" cy="9555120"/>
                <a:chOff x="1330200" y="2313000"/>
                <a:chExt cx="5465880" cy="9555120"/>
              </a:xfrm>
            </p:grpSpPr>
            <p:sp>
              <p:nvSpPr>
                <p:cNvPr id="144" name="Rectangle 10"/>
                <p:cNvSpPr/>
                <p:nvPr/>
              </p:nvSpPr>
              <p:spPr>
                <a:xfrm>
                  <a:off x="1330200" y="2313000"/>
                  <a:ext cx="5465880" cy="955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5" name="Group 14"/>
                <p:cNvGrpSpPr/>
                <p:nvPr/>
              </p:nvGrpSpPr>
              <p:grpSpPr>
                <a:xfrm>
                  <a:off x="1330200" y="2313000"/>
                  <a:ext cx="5465880" cy="1920600"/>
                  <a:chOff x="1330200" y="2313000"/>
                  <a:chExt cx="5465880" cy="1920600"/>
                </a:xfrm>
              </p:grpSpPr>
              <p:sp>
                <p:nvSpPr>
                  <p:cNvPr id="146" name="Rectangle 11"/>
                  <p:cNvSpPr/>
                  <p:nvPr/>
                </p:nvSpPr>
                <p:spPr>
                  <a:xfrm>
                    <a:off x="1330200" y="2313000"/>
                    <a:ext cx="5465880" cy="713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Rectangle 12"/>
                  <p:cNvSpPr/>
                  <p:nvPr/>
                </p:nvSpPr>
                <p:spPr>
                  <a:xfrm>
                    <a:off x="1330200" y="2313000"/>
                    <a:ext cx="5465880" cy="192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600" spc="-1" strike="noStrike">
                        <a:solidFill>
                          <a:srgbClr val="330099"/>
                        </a:solidFill>
                        <a:latin typeface="Arial"/>
                      </a:rPr>
                      <a:t>  </a:t>
                    </a:r>
                    <a:r>
                      <a:rPr b="0" lang="ru-RU" sz="12000" spc="-1" strike="noStrike">
                        <a:solidFill>
                          <a:srgbClr val="330099"/>
                        </a:solidFill>
                        <a:latin typeface="Arial"/>
                      </a:rPr>
                      <a:t> </a:t>
                    </a:r>
                    <a:r>
                      <a:rPr b="0" lang="ru-RU" sz="600" spc="-1" strike="noStrike">
                        <a:solidFill>
                          <a:srgbClr val="330099"/>
                        </a:solidFill>
                        <a:latin typeface="Arial"/>
                      </a:rPr>
                      <a:t>                                                                                     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aphicFrame>
        <p:nvGraphicFramePr>
          <p:cNvPr id="148" name="Object 20"/>
          <p:cNvGraphicFramePr/>
          <p:nvPr/>
        </p:nvGraphicFramePr>
        <p:xfrm>
          <a:off x="1371600" y="1600200"/>
          <a:ext cx="27892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00200"/>
                    <a:ext cx="2789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7560" y="-152280"/>
            <a:ext cx="746748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Синопское сражение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18 ноября 1853 год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51" name="Рисунок 2" descr="Синопское сражение 18 ноября 1853 года. В течение нескольких часов турецкий флот был превращен в груду обломков. Картина Алексея Боголюбова"/>
          <p:cNvPicPr/>
          <p:nvPr/>
        </p:nvPicPr>
        <p:blipFill>
          <a:blip r:embed="rId1"/>
          <a:stretch/>
        </p:blipFill>
        <p:spPr>
          <a:xfrm>
            <a:off x="2666880" y="1600200"/>
            <a:ext cx="4800600" cy="297180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3" descr="План сражения"/>
          <p:cNvPicPr/>
          <p:nvPr/>
        </p:nvPicPr>
        <p:blipFill>
          <a:blip r:embed="rId2"/>
          <a:stretch/>
        </p:blipFill>
        <p:spPr>
          <a:xfrm>
            <a:off x="2819520" y="4648320"/>
            <a:ext cx="4572000" cy="20574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Object 2"/>
          <p:cNvGraphicFramePr/>
          <p:nvPr/>
        </p:nvGraphicFramePr>
        <p:xfrm>
          <a:off x="1219320" y="0"/>
          <a:ext cx="79246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0"/>
                    <a:ext cx="7924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Unicode MS"/>
              <a:ea typeface="Arial Unicode MS"/>
            </a:endParaRPr>
          </a:p>
        </p:txBody>
      </p:sp>
    </p:spTree>
  </p:cSld>
  <p:transition>
    <p:checker dir="vert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6600"/>
                </a:solidFill>
                <a:latin typeface="Times New Roman"/>
              </a:rPr>
              <a:t>А.С. Меншиков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57" name="Содержимое 7" descr="http://media1.picsearch.com/is?wY_E4Mvmy80pOnJkNV7aNPCp6fsQu-F4fJRxTVKTJcI"/>
          <p:cNvPicPr/>
          <p:nvPr/>
        </p:nvPicPr>
        <p:blipFill>
          <a:blip r:embed="rId1"/>
          <a:stretch/>
        </p:blipFill>
        <p:spPr>
          <a:xfrm>
            <a:off x="3429000" y="2057400"/>
            <a:ext cx="3352680" cy="4419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54f41"/>
                </a:solidFill>
                <a:latin typeface="Times New Roman"/>
              </a:rPr>
              <a:t>Оборона Севастополя</a:t>
            </a:r>
            <a:br>
              <a:rPr sz="4400"/>
            </a:br>
            <a:r>
              <a:rPr b="0" lang="ru-RU" sz="4400" spc="-1" strike="noStrike">
                <a:solidFill>
                  <a:srgbClr val="d54f41"/>
                </a:solidFill>
                <a:latin typeface="Times New Roman"/>
              </a:rPr>
              <a:t>1854 - 1855 года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59" name="Содержимое 3" descr="Дейнека Оборона Севастополя"/>
          <p:cNvPicPr/>
          <p:nvPr/>
        </p:nvPicPr>
        <p:blipFill>
          <a:blip r:embed="rId1"/>
          <a:stretch/>
        </p:blipFill>
        <p:spPr>
          <a:xfrm>
            <a:off x="1828800" y="2057400"/>
            <a:ext cx="6629400" cy="42670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00"/>
                </a:solidFill>
                <a:latin typeface="Times New Roman"/>
              </a:rPr>
              <a:t>Из «Воспоминаний о Севастополе» </a:t>
            </a:r>
            <a:br>
              <a:rPr sz="3200"/>
            </a:br>
            <a:r>
              <a:rPr b="1" lang="ru-RU" sz="3200" spc="-1" strike="noStrike">
                <a:solidFill>
                  <a:srgbClr val="996600"/>
                </a:solidFill>
                <a:latin typeface="Times New Roman"/>
              </a:rPr>
              <a:t>В. Зарубаева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371240" y="1523880"/>
            <a:ext cx="76201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ужья у нас были гладкоствольные ; французские пули Минье , введенные у нас во время осады, после двух или трех выстрелов не входили в дуло. Солдаты загоняли пулю, ударяя камнем по шомполу; шомпол гнется в дугу, а пуля не поддается. Колотили как в кузнице. Солдаты приносили сальные огарки, смазывали пулю , но все не помогало. Ружья, переделанные на нарезные, раздирались по нарезам. Немудрено, что в таком положении офицеры приходили в отчаяние, а солдаты бредили измен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00"/>
                </a:solidFill>
                <a:latin typeface="Times New Roman"/>
              </a:rPr>
              <a:t>Из письма Л.Н. Толстого – участника обороны Севастополя. 20 ноября 1854 г.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66320" y="121932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ух в войсках выше всякого описан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 времена древней Греции  не было столько геройства. Корнилов, объезжая войска, вместо: «Здорово, ребята», говорил: «Нужно умирать, ребята, умрете?» и войска отвечали: «Умрем, ваше превосходительство, ура!» И это был не эффект, а на лице каждого видно было, что не шутя, а взаправду, и уже 22 тысячи исполнили это обеща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76520" y="6858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96600"/>
                </a:solidFill>
                <a:latin typeface="Baskerville Old Face"/>
              </a:rPr>
              <a:t>Правление</a:t>
            </a:r>
            <a:r>
              <a:rPr b="0" lang="ru-RU" sz="60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0" lang="ru-RU" sz="6000" spc="-1" strike="noStrike">
                <a:solidFill>
                  <a:srgbClr val="996600"/>
                </a:solidFill>
                <a:latin typeface="comic"/>
              </a:rPr>
              <a:t>Александра</a:t>
            </a:r>
            <a:r>
              <a:rPr b="0" lang="ru-RU" sz="60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996600"/>
                </a:solidFill>
                <a:latin typeface="Times New Roman"/>
              </a:rPr>
              <a:t>I</a:t>
            </a:r>
            <a:endParaRPr b="0" lang="en-US" sz="6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9840" y="2327040"/>
            <a:ext cx="754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800" spc="-1" strike="noStrike">
                <a:solidFill>
                  <a:srgbClr val="000000"/>
                </a:solidFill>
                <a:latin typeface="Times New Roman"/>
              </a:rPr>
              <a:t>1801-1825 гг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838188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바탕"/>
              </a:rPr>
              <a:t>Корнилов Владимир Алексеевич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495680" y="1371240"/>
            <a:ext cx="4648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нилов Владимир Алексеевич, военно-морской деятель, вице-адмирал (1852 год), герой Севастопольской обороны (1854-1855 годы)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06-1854)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Владимир Алексеевич Корнилов родился в семье офицера.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ч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твовал в Наваринском сражении 1827 года и русско-турецкой войне 1828-1829 годов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кануне Крымской войны 1853-1856 годов Корнилов организовал быструю переброску морем на Кавказ пехотной дивизии, которая сыграла решающую роль в отражении турецкого наступления, а также крейсерские рейды русских судов на коммуникации противника. Во главе отряда пароходо-фрегатов  Корнилов участвовал в первом в истории бою паровых кораблей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 время первой бомбардировки Севастополя 5 октября 1854 года Корнилов был смертельно ранен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 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Object 7"/>
          <p:cNvGraphicFramePr/>
          <p:nvPr/>
        </p:nvGraphicFramePr>
        <p:xfrm>
          <a:off x="1295280" y="1600200"/>
          <a:ext cx="318132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600200"/>
                    <a:ext cx="318132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hecker dir="vert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0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861048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바탕"/>
              </a:rPr>
              <a:t>Нахимов Павел Степанович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038480" y="990360"/>
            <a:ext cx="5105520" cy="69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имов Павел Степанович, флотоводец, адмирал (1855 год)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02-1855)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Павел Степанович Нахимов родился в семье офицер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аствовал в Наваринском сражении 1827 год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1845 году Нахимов был произведен в контр-адмиралы и назначен командиром бригады кораблей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Во время Крымской войны 1853-1856 годов, командуя эскадрой кораблей Черноморского флота, Нахимов обнаружил и заблокировал в Синопе главные силы турецкого флота, 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ноября 1853 года разгромил их. Официально занимая должность командующего эскадрой, а с февраля 1855 года – командующего Севастопольского порта и военного губернатора, Нахимов фактически с самого начала обороны Севастополя возглавлял гарнизон защитников крепости, проявив выдающиеся способности в организации обороны базы флота с моря и суши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28 июня 1855 года, во время объезда передовых укреплений на Малаховом кургане, он был смертельно ранен и вскоре скончался. Нахимов похоронен в Севастополе во Владимирском собор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 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0" y="-527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Group 18"/>
          <p:cNvGrpSpPr/>
          <p:nvPr/>
        </p:nvGrpSpPr>
        <p:grpSpPr>
          <a:xfrm>
            <a:off x="1330200" y="-5276880"/>
            <a:ext cx="6483240" cy="7589880"/>
            <a:chOff x="1330200" y="-5276880"/>
            <a:chExt cx="6483240" cy="7589880"/>
          </a:xfrm>
        </p:grpSpPr>
        <p:sp>
          <p:nvSpPr>
            <p:cNvPr id="172" name="Rectangle 6"/>
            <p:cNvSpPr/>
            <p:nvPr/>
          </p:nvSpPr>
          <p:spPr>
            <a:xfrm>
              <a:off x="1330200" y="-5276880"/>
              <a:ext cx="6483240" cy="758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7"/>
            <p:cNvSpPr/>
            <p:nvPr/>
          </p:nvSpPr>
          <p:spPr>
            <a:xfrm>
              <a:off x="1330200" y="-5276880"/>
              <a:ext cx="6483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Group 17"/>
          <p:cNvGrpSpPr/>
          <p:nvPr/>
        </p:nvGrpSpPr>
        <p:grpSpPr>
          <a:xfrm>
            <a:off x="1330200" y="2313000"/>
            <a:ext cx="6483240" cy="9823320"/>
            <a:chOff x="1330200" y="2313000"/>
            <a:chExt cx="6483240" cy="9823320"/>
          </a:xfrm>
        </p:grpSpPr>
        <p:sp>
          <p:nvSpPr>
            <p:cNvPr id="175" name="Rectangle 8"/>
            <p:cNvSpPr/>
            <p:nvPr/>
          </p:nvSpPr>
          <p:spPr>
            <a:xfrm>
              <a:off x="1330200" y="2313000"/>
              <a:ext cx="6483240" cy="9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Group 16"/>
            <p:cNvGrpSpPr/>
            <p:nvPr/>
          </p:nvGrpSpPr>
          <p:grpSpPr>
            <a:xfrm>
              <a:off x="1330200" y="2313000"/>
              <a:ext cx="5465880" cy="9823320"/>
              <a:chOff x="1330200" y="2313000"/>
              <a:chExt cx="5465880" cy="9823320"/>
            </a:xfrm>
          </p:grpSpPr>
          <p:sp>
            <p:nvSpPr>
              <p:cNvPr id="177" name="Rectangle 9"/>
              <p:cNvSpPr/>
              <p:nvPr/>
            </p:nvSpPr>
            <p:spPr>
              <a:xfrm>
                <a:off x="1330200" y="2313000"/>
                <a:ext cx="5465880" cy="982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" name="Group 15"/>
              <p:cNvGrpSpPr/>
              <p:nvPr/>
            </p:nvGrpSpPr>
            <p:grpSpPr>
              <a:xfrm>
                <a:off x="1330200" y="2313000"/>
                <a:ext cx="5465880" cy="9555120"/>
                <a:chOff x="1330200" y="2313000"/>
                <a:chExt cx="5465880" cy="9555120"/>
              </a:xfrm>
            </p:grpSpPr>
            <p:sp>
              <p:nvSpPr>
                <p:cNvPr id="179" name="Rectangle 10"/>
                <p:cNvSpPr/>
                <p:nvPr/>
              </p:nvSpPr>
              <p:spPr>
                <a:xfrm>
                  <a:off x="1330200" y="2313000"/>
                  <a:ext cx="5465880" cy="955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" name="Group 14"/>
                <p:cNvGrpSpPr/>
                <p:nvPr/>
              </p:nvGrpSpPr>
              <p:grpSpPr>
                <a:xfrm>
                  <a:off x="1330200" y="2313000"/>
                  <a:ext cx="5465880" cy="1920600"/>
                  <a:chOff x="1330200" y="2313000"/>
                  <a:chExt cx="5465880" cy="1920600"/>
                </a:xfrm>
              </p:grpSpPr>
              <p:sp>
                <p:nvSpPr>
                  <p:cNvPr id="181" name="Rectangle 11"/>
                  <p:cNvSpPr/>
                  <p:nvPr/>
                </p:nvSpPr>
                <p:spPr>
                  <a:xfrm>
                    <a:off x="1330200" y="2313000"/>
                    <a:ext cx="5465880" cy="713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Rectangle 12"/>
                  <p:cNvSpPr/>
                  <p:nvPr/>
                </p:nvSpPr>
                <p:spPr>
                  <a:xfrm>
                    <a:off x="1330200" y="2313000"/>
                    <a:ext cx="5465880" cy="192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600" spc="-1" strike="noStrike">
                        <a:solidFill>
                          <a:srgbClr val="330099"/>
                        </a:solidFill>
                        <a:latin typeface="Arial"/>
                      </a:rPr>
                      <a:t>  </a:t>
                    </a:r>
                    <a:r>
                      <a:rPr b="0" lang="ru-RU" sz="12000" spc="-1" strike="noStrike">
                        <a:solidFill>
                          <a:srgbClr val="330099"/>
                        </a:solidFill>
                        <a:latin typeface="Arial"/>
                      </a:rPr>
                      <a:t> </a:t>
                    </a:r>
                    <a:r>
                      <a:rPr b="0" lang="ru-RU" sz="600" spc="-1" strike="noStrike">
                        <a:solidFill>
                          <a:srgbClr val="330099"/>
                        </a:solidFill>
                        <a:latin typeface="Arial"/>
                      </a:rPr>
                      <a:t>                                                                                     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aphicFrame>
        <p:nvGraphicFramePr>
          <p:cNvPr id="183" name="Object 20"/>
          <p:cNvGraphicFramePr/>
          <p:nvPr/>
        </p:nvGraphicFramePr>
        <p:xfrm>
          <a:off x="1371600" y="1600200"/>
          <a:ext cx="27892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00200"/>
                    <a:ext cx="2789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-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바탕"/>
              </a:rPr>
              <a:t>Тотлебен Эдуард Иванович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62160" y="533160"/>
            <a:ext cx="5181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тлебен Эдуард Иванович, военный инженер-фортификатор, генерал-адъютант.</a:t>
            </a:r>
            <a:r>
              <a:rPr b="1" lang="ru-RU" sz="1600" spc="-1" strike="noStrike">
                <a:solidFill>
                  <a:srgbClr val="000000"/>
                </a:solidFill>
                <a:latin typeface=" 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18-1884)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Во время Крымской войны (1853-1856 годы) Тотлебен возглавлял инженерные работы в Севастополе. Под его  руководством были сделаны укрепления из земляных  валов, траншей, мешков с песком, корзин с землей, которые были хорошо приспособлены к местности и вполне отвечали современным условиям боя. Позднее англичане и французы были вынуждены признать, что эти «самодельные» укрепления эффективнее многих крепостей. В 70-е годы XIX века под его руководством была возведена новая оборонительная система на западной границе России: крепости Новогеоргиевск, Ивангород, Варшава, Брест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В 1876 году Тотлебен был назначен главным распорядителем по обороне черноморского побережья, где руководил укреплением Керчи, Одессы, Севастополя и Очакова. В 1877 году он возглавлял инженерные работы при осаде Плевны. После заключения мира с Турцией он был назначен одесским генерал-губернатором, позже возглавлял Виленскую, Ковенскую и гродненскую губернии. Тотлебен – автор ряда работ по военно-инженерному дел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 "/>
                <a:ea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Object 6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2971800" cy="4114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8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바탕"/>
              </a:rPr>
              <a:t>Истомин Владимир Иванович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733560" y="990720"/>
            <a:ext cx="5257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стомин Владимир Иванович– герой Крымской войны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 время рус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ско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турецкой войны 1827-1829 служил в Кронштадте под командой М.П. Лазарева участвовал в Наваринском сражении (8окт. 1827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1850 Истомин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уже капитану первого ранга, поручили командовать новейшим 120-пушечным линейным кораблем "Париж", на к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отором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он отличился в Синопском сражении (1853). Истомин, по рапорту Нахимова, "проявил примерную неустрашимость и твердость духа, благоразумные, искусные и быстрые распоряжения во время боя" и был произведен в контр-адмиралы. Высадка союзнической армии и осада Севастополя заставили Истоми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а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раться на суше. Командовал обороной Малахова кургана. "Дистанция велика, стоит 105 пушек, - писал Истомин брату, - и мне пришлось быть и артиллеристом, и инженером, и начальником войск". С первой бомбардировки Севастопол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 ок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ября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854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г.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до дня смерти Истоми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и на день не покинул бастион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 марта  1855 г.был убит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350532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350532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Object 12"/>
          <p:cNvGraphicFramePr/>
          <p:nvPr/>
        </p:nvGraphicFramePr>
        <p:xfrm>
          <a:off x="1295280" y="1447920"/>
          <a:ext cx="259092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447920"/>
                    <a:ext cx="259092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915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바탕"/>
              </a:rPr>
              <a:t>Пирогов Николай Иванович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85840" y="1218960"/>
            <a:ext cx="5257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Пирогов Николай Иванович (1810-1881) - великий русский хирург и анатом,основоположник военно-полевой хирургии. Исследования Пирогова выдвинули русскую хирургию на одно из первых мест в Европе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Пирогов разработал четкую систему организации хирургической помощи раненым на войне. Впервые в полевых условиях применил эфир для наркоза, предложил и ввел в практику неподвижную гипсовую повязку, привлек помощь медсестер. Благодаря его умелым рукам  в осажденном Севастополе были спасены тысячи раненых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Кроме попечительской деятельности, Николай Иванович Пирогов был хирургом Одесской городской больницы. Велика его заслуга в основании Новороссийского (ныне Одесского) университета. Имя Н.И.Пирогова носит Одесский медицинский университет, окружной военный госпиталь, улица и переулок в Приморском районе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6" descr="103-1"/>
          <p:cNvPicPr/>
          <p:nvPr/>
        </p:nvPicPr>
        <p:blipFill>
          <a:blip r:embed="rId1"/>
          <a:stretch/>
        </p:blipFill>
        <p:spPr>
          <a:xfrm>
            <a:off x="1295280" y="1523880"/>
            <a:ext cx="281952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바탕"/>
              </a:rPr>
              <a:t>Кошка Пётр Маркович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graphicFrame>
        <p:nvGraphicFramePr>
          <p:cNvPr id="198" name="Object 3"/>
          <p:cNvGraphicFramePr/>
          <p:nvPr/>
        </p:nvGraphicFramePr>
        <p:xfrm>
          <a:off x="1295280" y="1447920"/>
          <a:ext cx="329112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447920"/>
                    <a:ext cx="329112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62520" y="1142640"/>
            <a:ext cx="49528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25 февраля 1882 года – родился Петр Маркович Кошка, матрос 1-й статьи, герой Крымской войны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К сожалению о жизни Петра Марковича мы знаем немного.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о время севастопольской обороны 1854-1855 гг. Петр Маркович находился в числе команды так называемых«Охотников», разрушавших ночами неприятельские траншеи и захватывавший пленных. Выдающейся храбростью, военной сметкой он отличился на вылазках, при разведке во вражеском тылу, захвате языков, разрушении неприятельских траншей. В исторической литературе имя Кошки олицетворяет подвиги тысяч безвестных героев — русских солдат и матросов, участников обороны Севастополя.   На памятнике адмиралу В.А. Корнилову в Севастополе Кошка  изображен выбрасывающим из окопа попавшую туда бомбу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54f41"/>
                </a:solidFill>
                <a:latin typeface="Times New Roman"/>
              </a:rPr>
              <a:t>Малахов курган</a:t>
            </a:r>
            <a:r>
              <a:rPr b="0" lang="ru-RU" sz="3200" spc="-1" strike="noStrike">
                <a:solidFill>
                  <a:srgbClr val="996600"/>
                </a:solidFill>
                <a:latin typeface="Times New Roman"/>
              </a:rPr>
              <a:t>,</a:t>
            </a:r>
            <a:br>
              <a:rPr sz="3200"/>
            </a:br>
            <a:r>
              <a:rPr b="0" lang="ru-RU" sz="32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996600"/>
                </a:solidFill>
                <a:latin typeface="Times New Roman"/>
              </a:rPr>
              <a:t>господствующая высота юго-восточнее Севастополя .</a:t>
            </a:r>
            <a:endParaRPr b="0" lang="en-US" sz="2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202" name="Содержимое 6" descr="Панорама"/>
          <p:cNvPicPr/>
          <p:nvPr/>
        </p:nvPicPr>
        <p:blipFill>
          <a:blip r:embed="rId1"/>
          <a:stretch/>
        </p:blipFill>
        <p:spPr>
          <a:xfrm>
            <a:off x="1371600" y="1752480"/>
            <a:ext cx="4191120" cy="41148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5257800" y="1523880"/>
            <a:ext cx="3733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54f41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54f41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d54f41"/>
                </a:solidFill>
                <a:latin typeface="Times New Roman"/>
              </a:rPr>
              <a:t>27 августа 1855 г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восходящие силы </a:t>
            </a:r>
            <a:r>
              <a:rPr b="0" lang="ru-RU" sz="2400" spc="-1" strike="noStrike" u="sng">
                <a:solidFill>
                  <a:srgbClr val="003300"/>
                </a:solidFill>
                <a:uFillTx/>
                <a:latin typeface="Times New Roman"/>
                <a:hlinkClick r:id="rId2"/>
              </a:rPr>
              <a:t>француз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владели  Малаховым кургано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ле чего </a:t>
            </a:r>
            <a:r>
              <a:rPr b="0" lang="ru-RU" sz="2400" spc="-1" strike="noStrike" u="sng">
                <a:solidFill>
                  <a:srgbClr val="003300"/>
                </a:solidFill>
                <a:uFillTx/>
                <a:latin typeface="Times New Roman"/>
                <a:hlinkClick r:id="rId3"/>
              </a:rPr>
              <a:t>русск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ойска оставили южную сторону Севастопол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Object 2"/>
          <p:cNvGraphicFramePr/>
          <p:nvPr/>
        </p:nvGraphicFramePr>
        <p:xfrm>
          <a:off x="1219320" y="0"/>
          <a:ext cx="79246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0"/>
                    <a:ext cx="7924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Unicode MS"/>
              <a:ea typeface="Arial Unicode MS"/>
            </a:endParaRPr>
          </a:p>
        </p:txBody>
      </p:sp>
    </p:spTree>
  </p:cSld>
  <p:transition>
    <p:checker dir="vert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54f41"/>
                </a:solidFill>
                <a:latin typeface="Times New Roman"/>
              </a:rPr>
              <a:t>Парижский мир 1856 год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371240" y="1219320"/>
            <a:ext cx="7620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Потери Росси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00"/>
                </a:solidFill>
                <a:latin typeface="Times New Roman"/>
              </a:rPr>
              <a:t>Южная Бессарабия отходила к Молдав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00"/>
                </a:solidFill>
                <a:latin typeface="Times New Roman"/>
              </a:rPr>
              <a:t>Устье Ду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00"/>
                </a:solidFill>
                <a:latin typeface="Times New Roman"/>
              </a:rPr>
              <a:t>Право иметь крепости и военный флот на Черном мо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00"/>
                </a:solidFill>
                <a:latin typeface="Times New Roman"/>
              </a:rPr>
              <a:t>Право покровительствовать балканским народ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00"/>
                </a:solidFill>
                <a:latin typeface="Times New Roman"/>
              </a:rPr>
              <a:t>г. Карс был возвращен Турции в обмен на Крым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996600"/>
                </a:solidFill>
                <a:latin typeface="Times New Roman"/>
              </a:rPr>
              <a:t>г. Севастоп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Черное море объявлялось открытым для судов всех стра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5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0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5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0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5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0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5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0" dur="500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ричины поражения России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371240" y="160020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кономическая отсталость Росс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енно-техническая отстал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таревшее оруж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сутствие железнодорожного транспор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сутствие паровых суд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охое снабжение арм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крутская система набора в арми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2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7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2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7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2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7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2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6600"/>
                </a:solidFill>
                <a:latin typeface="Times New Roman"/>
              </a:rPr>
              <a:t>Создание министерств</a:t>
            </a:r>
            <a:endParaRPr b="0" lang="en-US" sz="5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057040" y="2936880"/>
            <a:ext cx="66294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1802 г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Значение войны</a:t>
            </a:r>
            <a:endParaRPr b="0" lang="en-US" sz="5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орван международный авторитет Росс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ражение в войне ускорило политические преобразования в стран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чалась освободительная борьба на Балкана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4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9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4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Object 2"/>
          <p:cNvGraphicFramePr/>
          <p:nvPr/>
        </p:nvGraphicFramePr>
        <p:xfrm>
          <a:off x="1219320" y="0"/>
          <a:ext cx="79246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0"/>
                    <a:ext cx="7924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Unicode MS"/>
              <a:ea typeface="Arial Unicode MS"/>
            </a:endParaRPr>
          </a:p>
        </p:txBody>
      </p:sp>
    </p:spTree>
  </p:cSld>
  <p:transition>
    <p:checker dir="vert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1"/>
          <p:cNvSpPr/>
          <p:nvPr/>
        </p:nvSpPr>
        <p:spPr>
          <a:xfrm>
            <a:off x="1371600" y="1536840"/>
            <a:ext cx="746748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 материал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Электронное средство учебного назначени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Энциклопедия истории России 862-1917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Электронное средство учебного назначени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Династия Романовых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746748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ru-RU" sz="6000" spc="-1" strike="noStrike">
                <a:solidFill>
                  <a:srgbClr val="996600"/>
                </a:solidFill>
                <a:latin typeface="Times New Roman"/>
              </a:rPr>
              <a:t>Указ о «вольных хлебопашцах»</a:t>
            </a:r>
            <a:endParaRPr b="0" lang="en-US" sz="6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76160" y="3088800"/>
            <a:ext cx="70866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1803 г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920" y="6854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6600"/>
                </a:solidFill>
                <a:latin typeface="Times New Roman"/>
              </a:rPr>
              <a:t>Русско- шведская война</a:t>
            </a:r>
            <a:endParaRPr b="0" lang="en-US" sz="5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3047760"/>
            <a:ext cx="7467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800" spc="-1" strike="noStrike">
                <a:solidFill>
                  <a:srgbClr val="000000"/>
                </a:solidFill>
                <a:latin typeface="Times New Roman"/>
              </a:rPr>
              <a:t>1808-1809 г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7617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6600"/>
                </a:solidFill>
                <a:latin typeface="Times New Roman"/>
              </a:rPr>
              <a:t>Отечественная война</a:t>
            </a:r>
            <a:endParaRPr b="0" lang="en-US" sz="5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28800" y="3124080"/>
            <a:ext cx="6858000" cy="30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1812 г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68580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6600"/>
                </a:solidFill>
                <a:latin typeface="Times New Roman"/>
              </a:rPr>
              <a:t>Бородинское сражение</a:t>
            </a:r>
            <a:endParaRPr b="0" lang="en-US" sz="5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47920" y="3124080"/>
            <a:ext cx="7238880" cy="30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26 августа 1812 г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480" y="609480"/>
            <a:ext cx="693432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6600"/>
                </a:solidFill>
                <a:latin typeface="Times New Roman"/>
              </a:rPr>
              <a:t>Заграничный поход русской армии</a:t>
            </a:r>
            <a:endParaRPr b="0" lang="en-US" sz="5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520" y="3428640"/>
            <a:ext cx="7162920" cy="27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1813-1814 гг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10:14:09Z</dcterms:created>
  <dc:creator>1</dc:creator>
  <dc:description/>
  <dc:language>en-US</dc:language>
  <cp:lastModifiedBy>User</cp:lastModifiedBy>
  <dcterms:modified xsi:type="dcterms:W3CDTF">2010-09-21T14:16:26Z</dcterms:modified>
  <cp:revision>46</cp:revision>
  <dc:subject/>
  <dc:title>Нахимов Павел Степанович</dc:title>
</cp:coreProperties>
</file>