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A4E-01F4-4477-B163-9A1EF806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DAD-22F9-4702-9CB3-40E8A76D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748-AFFC-49B4-91DA-AA381775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0FB-BB01-41A3-A7FC-31457EFB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6A2-5E70-45E1-AD78-7FC56014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CCD-D2A6-490D-971D-5CAA1A9F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212-BD1E-4061-ACE3-D3019286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6AD-26B2-49CD-83E8-F69952FA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B5AF-4909-47F5-A5A9-475CD44F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441-50F4-4499-9328-2D39C36D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B50-2700-4EF2-B694-A6A61C5C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070-0E00-46B9-92AD-B493155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2AB9-1F79-4365-888E-C0CF3817F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razymama.ru/zagadki.php?a=2&amp;id_zagadki=227&amp;id_cat1=32" TargetMode="External"/><Relationship Id="rId2" Type="http://schemas.openxmlformats.org/officeDocument/2006/relationships/hyperlink" Target="http://detkam.biz/zagadki/pro-professii/" TargetMode="External"/><Relationship Id="rId3" Type="http://schemas.openxmlformats.org/officeDocument/2006/relationships/hyperlink" Target="http://www.prozagadki.ru/542-zagadki-o-professijakh-v-sele.html" TargetMode="External"/><Relationship Id="rId4" Type="http://schemas.openxmlformats.org/officeDocument/2006/relationships/hyperlink" Target="http://www.prozagadki.ru/531-detskie-zagadki-o-professii.-parikmakher.html" TargetMode="External"/><Relationship Id="rId5" Type="http://schemas.openxmlformats.org/officeDocument/2006/relationships/hyperlink" Target="http://www.prozagadki.ru/544-zagadki-pro-professii.-taksist-i-shofer.html" TargetMode="External"/><Relationship Id="rId6" Type="http://schemas.openxmlformats.org/officeDocument/2006/relationships/hyperlink" Target="http://www.prozagadki.ru/545-zagadki-o-profesiijakh.-letchik-kosmonavt.html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87280" y="1484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Кроссв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Такие разные проф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колаева Светлана Ива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МОУ «Гимназия №7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5625000" y="3339360"/>
            <a:ext cx="6858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-3339360" y="3339360"/>
            <a:ext cx="6858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309564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47280" y="16002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Мы в профессии игр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По душе их выбира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И мечтаем поскоре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Мамы с папой, стать взросле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Чтоб не просто так меч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А кем быть решить и с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625000" y="3339360"/>
            <a:ext cx="6858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-3339360" y="3339360"/>
            <a:ext cx="6858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4983" t="7111" r="49532" b="54270"/>
          <a:stretch/>
        </p:blipFill>
        <p:spPr>
          <a:xfrm>
            <a:off x="7451640" y="404640"/>
            <a:ext cx="1343160" cy="222912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000" y="4016160"/>
            <a:ext cx="48243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Скажите, кто так вку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Готовит щи капустны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Пахучие котле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Салаты, винегре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Все завтраки, обед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5625000" y="3339360"/>
            <a:ext cx="6858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3339360" y="3339360"/>
            <a:ext cx="6858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27280" y="54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87640" y="54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46200" y="54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6560" y="54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66920" y="54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66920" y="90792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27280" y="90792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87640" y="90792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6200" y="90792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66920" y="126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27280" y="126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87640" y="126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48000" y="126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126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66920" y="126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7280" y="126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7640" y="126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48000" y="126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27280" y="162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87640" y="162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6200" y="162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640" y="198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08000" y="198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68360" y="198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27280" y="198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87640" y="198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48000" y="198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08360" y="198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68720" y="198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7280" y="234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87640" y="234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46200" y="234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06560" y="234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06560" y="27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6920" y="27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27280" y="27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87640" y="27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46200" y="27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06560" y="27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6920" y="27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27280" y="27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7640" y="27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30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08000" y="30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68360" y="30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28720" y="30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7640" y="30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48000" y="30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08360" y="30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34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34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34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03280" y="34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34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34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34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4720" y="34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620640"/>
            <a:ext cx="323640" cy="173160"/>
          </a:xfrm>
          <a:prstGeom prst="rightArrow">
            <a:avLst>
              <a:gd name="adj1" fmla="val 50000"/>
              <a:gd name="adj2" fmla="val 46726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981000"/>
            <a:ext cx="323640" cy="173160"/>
          </a:xfrm>
          <a:prstGeom prst="rightArrow">
            <a:avLst>
              <a:gd name="adj1" fmla="val 50000"/>
              <a:gd name="adj2" fmla="val 46726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341360"/>
            <a:ext cx="323640" cy="173160"/>
          </a:xfrm>
          <a:prstGeom prst="rightArrow">
            <a:avLst>
              <a:gd name="adj1" fmla="val 50000"/>
              <a:gd name="adj2" fmla="val 46726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1700280"/>
            <a:ext cx="323640" cy="172800"/>
          </a:xfrm>
          <a:prstGeom prst="rightArrow">
            <a:avLst>
              <a:gd name="adj1" fmla="val 50000"/>
              <a:gd name="adj2" fmla="val 46823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23640" cy="172800"/>
          </a:xfrm>
          <a:prstGeom prst="rightArrow">
            <a:avLst>
              <a:gd name="adj1" fmla="val 50000"/>
              <a:gd name="adj2" fmla="val 46823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32000" y="2421000"/>
            <a:ext cx="323640" cy="172800"/>
          </a:xfrm>
          <a:prstGeom prst="rightArrow">
            <a:avLst>
              <a:gd name="adj1" fmla="val 50000"/>
              <a:gd name="adj2" fmla="val 46823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2781360"/>
            <a:ext cx="323640" cy="172800"/>
          </a:xfrm>
          <a:prstGeom prst="rightArrow">
            <a:avLst>
              <a:gd name="adj1" fmla="val 50000"/>
              <a:gd name="adj2" fmla="val 46823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280" y="3141720"/>
            <a:ext cx="324000" cy="173160"/>
          </a:xfrm>
          <a:prstGeom prst="rightArrow">
            <a:avLst>
              <a:gd name="adj1" fmla="val 50000"/>
              <a:gd name="adj2" fmla="val 46778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3500280"/>
            <a:ext cx="323640" cy="173160"/>
          </a:xfrm>
          <a:prstGeom prst="rightArrow">
            <a:avLst>
              <a:gd name="adj1" fmla="val 50000"/>
              <a:gd name="adj2" fmla="val 46726"/>
            </a:avLst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06560" y="162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65480" y="162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25840" y="162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68720" y="234792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27280" y="234792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7640" y="234792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48000" y="234792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06920" y="234792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66920" y="30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25840" y="30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30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34195" t="6127" r="49159" b="53364"/>
          <a:stretch/>
        </p:blipFill>
        <p:spPr>
          <a:xfrm>
            <a:off x="5851440" y="260280"/>
            <a:ext cx="2320920" cy="381168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84360" y="4005360"/>
            <a:ext cx="770400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Кто у постели больного сид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И как лечиться он всем гов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Кто болен – он капли предложит прин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Тому, кто здоров, разрешит погуля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rcRect l="1907" t="56016" r="81613" b="3368"/>
          <a:stretch/>
        </p:blipFill>
        <p:spPr>
          <a:xfrm>
            <a:off x="5867280" y="260280"/>
            <a:ext cx="2335320" cy="382608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684360" y="4005360"/>
            <a:ext cx="525600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По квартирам и дом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Много писем, теле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Он приносит адреса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Как зовут его, ребя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580" t="55692" r="82940" b="4044"/>
          <a:stretch/>
        </p:blipFill>
        <p:spPr>
          <a:xfrm>
            <a:off x="5867280" y="260280"/>
            <a:ext cx="2324160" cy="383688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684360" y="4005360"/>
            <a:ext cx="55432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Его работы ждёт зем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Едва рассвет лучи зажж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Весной расчешет он по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Наступит осень – постриж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rcRect l="622" t="6127" r="82940" b="53364"/>
          <a:stretch/>
        </p:blipFill>
        <p:spPr>
          <a:xfrm>
            <a:off x="5867280" y="260280"/>
            <a:ext cx="2292480" cy="382608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684360" y="4005360"/>
            <a:ext cx="669600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Ткань, иголки, нитки, ножниц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Позавидуйте, художниц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Ведь любой картинки кра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Платья новенькие наш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rcRect l="34776" t="56079" r="48744" b="3680"/>
          <a:stretch/>
        </p:blipFill>
        <p:spPr>
          <a:xfrm>
            <a:off x="5867280" y="260280"/>
            <a:ext cx="2349720" cy="381168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684360" y="3975120"/>
            <a:ext cx="71276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Кто гантели подним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Дальше всех ядро брос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Быстро бегает, метко стреля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Как одним словом их всех назыв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rcRect l="67521" t="6550" r="16289" b="52523"/>
          <a:stretch/>
        </p:blipFill>
        <p:spPr>
          <a:xfrm>
            <a:off x="5886360" y="260280"/>
            <a:ext cx="2286000" cy="383220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684360" y="3975120"/>
            <a:ext cx="741672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Сначала его в центрифуге крути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А после в тяжёлый скафандр наряди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Отправился он полетать среди звёз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Я тоже хочу! Говорят, не до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rcRect l="66954" t="6885" r="16327" b="52336"/>
          <a:stretch/>
        </p:blipFill>
        <p:spPr>
          <a:xfrm>
            <a:off x="5894280" y="260280"/>
            <a:ext cx="2278080" cy="366552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82560" y="4005360"/>
            <a:ext cx="77058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У этой волшебницы, этой художниц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Не кисти и краски, а гребень и нож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Она обладает таинственной сил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К кому прикоснётся, тот станет краси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rcRect l="0" t="6885" r="83281" b="53165"/>
          <a:stretch/>
        </p:blipFill>
        <p:spPr>
          <a:xfrm>
            <a:off x="5867280" y="260280"/>
            <a:ext cx="2332080" cy="366552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67280" y="260280"/>
            <a:ext cx="2378160" cy="382608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84360" y="4005360"/>
            <a:ext cx="47527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Ежедневно спозара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В руки он берёт бара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Крутит, вертит так и ся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Но не съест её ника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8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0"/>
                            </p:stCondLst>
                            <p:childTnLst>
                              <p:par>
                                <p:cTn id="43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80"/>
                            </p:stCondLst>
                            <p:childTnLst>
                              <p:par>
                                <p:cTn id="5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80"/>
                            </p:stCondLst>
                            <p:childTnLst>
                              <p:par>
                                <p:cTn id="56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906200" y="1600200"/>
            <a:ext cx="547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Труд строителя всем нуж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Нужен всем и вкусный уж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Доктор, чтобы всех леч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И учитель, чтоб уч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Лётчик нужен, чтоб летат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Ну а ты кем хочешь ст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5625000" y="3339360"/>
            <a:ext cx="6858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-3339360" y="3339360"/>
            <a:ext cx="6858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1285" t="6550" r="82359" b="53147"/>
          <a:stretch/>
        </p:blipFill>
        <p:spPr>
          <a:xfrm>
            <a:off x="7308720" y="333360"/>
            <a:ext cx="1436760" cy="2327400"/>
          </a:xfrm>
          <a:prstGeom prst="rect">
            <a:avLst/>
          </a:prstGeom>
          <a:ln w="3240">
            <a:solidFill>
              <a:srgbClr val="00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26920" y="47592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razymama.ru/zagadki.php?a=2&amp;id_zagadki=227&amp;id_cat1=3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пов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etkam.biz/zagadki/pro-professii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вр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rozagadki.ru/542-zagadki-o-professijakh-v-sele.htm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ер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rozagadki.ru/531-detskie-zagadki-o-professii.-parikmakher.htm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парикмах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prozagadki.ru/544-zagadki-pro-professii.-taksist-i-shofer.htm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prozagadki.ru/545-zagadki-o-profesiijakh.-letchik-kosmonavt.htm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космонав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nicemama.com/?p=638 - почталь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ruskid.ru/88-88.html - спортс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их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solnet.ee/sol/002/z_103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рт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adikal.ru/F/s57.radikal.ru/i156/0911/84/05689891ff1f.jpg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5625000" y="3339360"/>
            <a:ext cx="6858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-3339360" y="3339360"/>
            <a:ext cx="6858000" cy="17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7:06:17Z</dcterms:created>
  <dc:creator>Admin</dc:creator>
  <dc:description/>
  <dc:language>en-US</dc:language>
  <cp:lastModifiedBy>uzer</cp:lastModifiedBy>
  <dcterms:modified xsi:type="dcterms:W3CDTF">2010-08-31T17:10:54Z</dcterms:modified>
  <cp:revision>41</cp:revision>
  <dc:subject/>
  <dc:title>Слайд 1</dc:title>
</cp:coreProperties>
</file>