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C795-94B2-4E30-9E36-D966DD2E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EB9-5A93-4897-B721-F6847748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918-2638-4D49-AA52-FEEE3B40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42C-3D47-4FC3-8939-383ECB2F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818-19B4-47F4-BE72-EEA17CC6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AD2-F30D-4F3B-ACD6-09CBE629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AEE-3C4D-4F04-9B1F-0E75BE98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AEB-C490-4BC0-AE40-CFD45B05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C14-FD35-4944-9047-662DC1B2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F8A-B293-4C70-A302-4948B438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B4B-C2FF-4A99-955C-9895A7A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0EF-F414-422A-A09A-9B671017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EDAC-92B7-4D55-951F-A12AA293B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Даны буквы: Р, З, И, О, А, П, Т, М.</a:t>
            </a:r>
            <a:br>
              <a:rPr sz="1800"/>
            </a:b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 этих буквах спрятано название элемента, про который известно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воздух на 78% состоит из простого вещества, образованного этим химическим элементом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- водородное соединение этого элемента помогает вывести человека из обморока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- в атмосфере этого газа хранят старинные рукописи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- кислота, образованная этим элементом, растворяет серебро, но не растворяет железо и алюминий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- эта кислота образует соли, которые полезны растениям, но вредны людям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- если русские названия химических элементов расположить в алфавитном порядке, то первым будет …</a:t>
            </a:r>
            <a:r>
              <a:rPr b="0" lang="en-US" sz="31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Номи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95280" y="2852640"/>
            <a:ext cx="8353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«Самый научны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«Самый интересны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«Самый оригинальны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«Самый иллюстрированны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84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4360" y="2924280"/>
            <a:ext cx="748800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§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24,упр.3,4, 5* стр.14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41708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990099"/>
                </a:solidFill>
                <a:latin typeface="Arial"/>
              </a:rPr>
              <a:t>Азот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Бесцветный газ без запаха и вкуса</a:t>
            </a:r>
            <a:br>
              <a:rPr sz="3000"/>
            </a:b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Людьми широко применён</a:t>
            </a:r>
            <a:br>
              <a:rPr sz="3000"/>
            </a:b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Для разных дел, различных целей,</a:t>
            </a:r>
            <a:br>
              <a:rPr sz="3000"/>
            </a:b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В войне и мире нужен он.</a:t>
            </a:r>
            <a:br>
              <a:rPr sz="3000"/>
            </a:b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Он не поддерживает жизнь,</a:t>
            </a:r>
            <a:br>
              <a:rPr sz="3000"/>
            </a:b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Так говорит о нём наука,</a:t>
            </a:r>
            <a:br>
              <a:rPr sz="3000"/>
            </a:b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А без него любая жизнь</a:t>
            </a:r>
            <a:br>
              <a:rPr sz="3000"/>
            </a:br>
            <a:r>
              <a:rPr b="0" lang="en-US" sz="3000" spc="-1" strike="noStrike">
                <a:solidFill>
                  <a:srgbClr val="9933ff"/>
                </a:solidFill>
                <a:latin typeface="Arial"/>
              </a:rPr>
              <a:t>Ведь невозможна – вот так штук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773000"/>
            <a:ext cx="6870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Спасибо за работ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67294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50560" y="2276640"/>
            <a:ext cx="8497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Валединская О.Р. «Экологическая химия азота», М., Чистые пруды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Габриелян О.С. «Химия 9», М., Дрофа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Газета «Химия-1сентября», №9-2005, №5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Кузнецова Н.Е. и др. «Химия 9», М., Вентана-Граф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Русских Г.А.Технология проектного обучения, «Биология в школе»,№3-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6312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9"/>
                </a:solidFill>
                <a:latin typeface="Arial"/>
              </a:rPr>
              <a:t>Азот – это вечный источник танталовых мук человечества, это вечные терзания голода среди океана изоби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427640" y="3500280"/>
            <a:ext cx="4248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М.Ка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(американский биохим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025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Источник танталовых мук человечества.</a:t>
            </a:r>
            <a:br>
              <a:rPr sz="4400"/>
            </a:b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(Общая характеристика азо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84360" y="3789360"/>
            <a:ext cx="2374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Arial"/>
              </a:rPr>
              <a:t>Микеладзе Ирина Пет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Arial"/>
              </a:rPr>
              <a:t>учитель химии и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Arial"/>
              </a:rPr>
              <a:t>МОУ СОШ п.Ре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Arial"/>
              </a:rPr>
              <a:t>Кумёнского р-на Киров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353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По данным ООН, одна треть населения планеты голодает, каждую минуту несколько человек умирают по этой прич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280" y="2781360"/>
            <a:ext cx="777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Какое значение имеет азот для существования жизни на Зем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Почему именно азот связывают с проблемами нехватки пищи, гол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Каким образом азот может решить эту пробл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Под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424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История открытия аз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Докажите высокую реакционную способность элемента аз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Какие физические свойств характерны для простого веществ азо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В какие реакции вступает молекулярный азот и какие свойства  в них проявля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На каких свойствах азота основаны области его приме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Дать определения по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7848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Атмосф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Ковалентная химическая связ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Молекулярная кристаллическая решё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Окислительно – восстановительная реа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Окислитель, восстанов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Проектные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Когда, кем и как был открыт элемент азо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Как распространён элемент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Чем объясняется несовпадение его названия с символ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Какое значение имеет азот для существования жизни на зем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Почему дословный перевод «безжизненный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5480" y="1267920"/>
            <a:ext cx="3776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Что вы знаете об элементе азоте? Дайте его общую характерис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Составьте электронную формулу и электронную схему строения атома аз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Определите характерные степени ок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Почему химический элемент азот имеет высокую реакционную способ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98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98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98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98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98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98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Проектные задан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980640"/>
            <a:ext cx="37767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Какие физические свойства характерны для простого вещества азо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Составьте схему строения молекулы аз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Каков механизм образования и характер химической связи в молекуле азо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Почему молекула азота инерт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5480" y="907920"/>
            <a:ext cx="37764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В какие реакции вступает молекулярный азот и какие свойства в них проявл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Приведите примеры реакций, характеризующие химические свойства аз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Почему , не смотря на большое содержание азота в воздухе, жизнь на нашей планете не прекращ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Arial"/>
              </a:rPr>
              <a:t>Проектные зад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Как получают азот в промышлен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На каких свойствах азота основаны области его приме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В чём суть круговорота элемента азот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Почему азот в одних случаях называют элементом войны, а в других – элементом жизни и ми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7T05:38:16Z</dcterms:created>
  <dc:creator>Nabster</dc:creator>
  <dc:description/>
  <dc:language>en-US</dc:language>
  <cp:lastModifiedBy>Nabster</cp:lastModifiedBy>
  <dcterms:modified xsi:type="dcterms:W3CDTF">2010-09-08T14:27:26Z</dcterms:modified>
  <cp:revision>12</cp:revision>
  <dc:subject/>
  <dc:title>«Источник танталовых мук человечества». (Общая характеристика азота.)</dc:title>
</cp:coreProperties>
</file>