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B19-711A-415A-8ACE-DCD7DCA8F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DDA2-3815-4F51-9706-437198C3F3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A7D-62D5-430E-B005-B3E43F07DE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D9D-4239-4399-8FAB-0AC36DCD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A11-8C37-485C-A74F-62E2A71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9FD-5671-4C79-8B02-33442DC2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8EA-DF83-4821-90BD-9A45A0F5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A68-815F-470C-9483-DFA7BB1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F3A-B522-410A-9BB0-68530253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763-13A9-4026-82DB-D5FC74C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358-0B50-40D0-B001-98D116A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00D-A03C-413A-9076-46FF928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EEC-6939-4065-ABFB-D6186E0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407-A85E-4C8B-A7BF-A4DEA23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416-44AF-482E-A583-9941503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000-DB5E-49CC-B2B2-0987D15C00C2}" type="slidenum">
              <a:rPr b="0" lang="ru-RU" sz="1200" spc="-1" strike="noStrike">
                <a:solidFill>
                  <a:srgbClr val="dcd4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219320" y="838080"/>
            <a:ext cx="69339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Эпох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дворцов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переворо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971800" y="55627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всянникова Марина Валерьев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Гимназия №1 г.Нерюнгри», РС(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895480" y="17524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Пётр  </a:t>
            </a:r>
            <a:r>
              <a:rPr b="1" lang="en-US" sz="5000" spc="-1" strike="noStrike">
                <a:solidFill>
                  <a:srgbClr val="ff3300"/>
                </a:solidFill>
                <a:latin typeface="Bodoni MT Condensed"/>
              </a:rPr>
              <a:t>III</a:t>
            </a: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Фёдорович 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1761 - 176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Пётр 3"/>
          <p:cNvPicPr/>
          <p:nvPr/>
        </p:nvPicPr>
        <p:blipFill>
          <a:blip r:embed="rId1"/>
          <a:stretch/>
        </p:blipFill>
        <p:spPr>
          <a:xfrm>
            <a:off x="457200" y="228600"/>
            <a:ext cx="3103560" cy="4038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505320" y="2895480"/>
            <a:ext cx="56386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нифест «О вольности дворянства» (1762) – освобождение дворян от обязательной  военной служб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куляризация церковных земель – передача земель в руки государств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квидация тайной канцеляр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2743200"/>
            <a:ext cx="891540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усско-польская война (1733-1735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усско-турецкая война (1735-1739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усско-шведская война (1741-1742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Участие в Семилетней войне (1756-1763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00"/>
                </a:solidFill>
                <a:latin typeface="Bodoni MT Poster Compressed"/>
              </a:rPr>
              <a:t>Внешняя политика в эпоху дворцовых переворотов</a:t>
            </a:r>
            <a:endParaRPr b="0" lang="en-US" sz="4600" spc="-1" strike="noStrike">
              <a:solidFill>
                <a:srgbClr val="e7dec9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Задания к уроку: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30920" indent="-430920">
              <a:spcBef>
                <a:spcPts val="1100"/>
              </a:spcBef>
              <a:buClr>
                <a:srgbClr val="c32d2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ыявить причины частой смены власти после смерти Петра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I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30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30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4400" spc="-1" strike="noStrike">
                <a:solidFill>
                  <a:srgbClr val="00ff00"/>
                </a:solidFill>
                <a:latin typeface="Constantia"/>
              </a:rPr>
              <a:t>Случайность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30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1" i="1" lang="ru-RU" sz="4400" spc="-1" strike="noStrike">
                <a:solidFill>
                  <a:srgbClr val="00ff00"/>
                </a:solidFill>
                <a:latin typeface="Constantia"/>
              </a:rPr>
              <a:t>Закономерность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Line 4"/>
          <p:cNvSpPr/>
          <p:nvPr/>
        </p:nvSpPr>
        <p:spPr>
          <a:xfrm flipH="1">
            <a:off x="2362320" y="3809880"/>
            <a:ext cx="1676160" cy="1143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572000" y="3809880"/>
            <a:ext cx="182880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Задания к уроку: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nstantia"/>
              </a:rPr>
              <a:t>2.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Найти проявления общих черт дворцовых переворотов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6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6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Constantia"/>
              </a:rPr>
              <a:t>Опора на гвардейские полки, фаворитизм, общие тенденции в политике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6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Закончить заполнение таблиц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оставьте кроссворд, используя имена и исторические термины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$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14-15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Домашнее задание: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819520"/>
            <a:ext cx="784872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.П.Деревянко, Н.А.Шабельниковой "История России с древнейших времён до конца ХХ века", Владивосток, 1999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CD "Энциклопедия по истории России. 8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 - 1917 гг."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Источники материал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Задания к уроку: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1100"/>
              </a:spcBef>
              <a:buClr>
                <a:srgbClr val="c32d2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ыявить причины частой смены власти после смерти Петра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I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spcBef>
                <a:spcPts val="1100"/>
              </a:spcBef>
              <a:buClr>
                <a:srgbClr val="c32d2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Найти проявления общих черт дворцовых переворотов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Poster Compressed"/>
              </a:rPr>
              <a:t>Дворцовые    перевороты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2362320"/>
          <a:ext cx="8229600" cy="402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752480"/>
                <a:gridCol w="23623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ы прав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итель, на кого опирал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пособ прихода к вла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арактеристика периода прав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«птенцы гнезда Петрова»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pic>
        <p:nvPicPr>
          <p:cNvPr id="64" name="Picture 4" descr="SV54_1"/>
          <p:cNvPicPr/>
          <p:nvPr/>
        </p:nvPicPr>
        <p:blipFill>
          <a:blip r:embed="rId1"/>
          <a:stretch/>
        </p:blipFill>
        <p:spPr>
          <a:xfrm>
            <a:off x="228600" y="1676520"/>
            <a:ext cx="2057400" cy="26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V55_0"/>
          <p:cNvPicPr/>
          <p:nvPr/>
        </p:nvPicPr>
        <p:blipFill>
          <a:blip r:embed="rId2"/>
          <a:stretch/>
        </p:blipFill>
        <p:spPr>
          <a:xfrm>
            <a:off x="6705720" y="1905120"/>
            <a:ext cx="20667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V55_3"/>
          <p:cNvPicPr/>
          <p:nvPr/>
        </p:nvPicPr>
        <p:blipFill>
          <a:blip r:embed="rId3"/>
          <a:stretch/>
        </p:blipFill>
        <p:spPr>
          <a:xfrm>
            <a:off x="1523880" y="3886200"/>
            <a:ext cx="2121120" cy="280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V55_2"/>
          <p:cNvPicPr/>
          <p:nvPr/>
        </p:nvPicPr>
        <p:blipFill>
          <a:blip r:embed="rId4"/>
          <a:stretch/>
        </p:blipFill>
        <p:spPr>
          <a:xfrm>
            <a:off x="5410080" y="4038480"/>
            <a:ext cx="2087640" cy="265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V52_18"/>
          <p:cNvPicPr/>
          <p:nvPr/>
        </p:nvPicPr>
        <p:blipFill>
          <a:blip r:embed="rId5"/>
          <a:stretch/>
        </p:blipFill>
        <p:spPr>
          <a:xfrm>
            <a:off x="3505320" y="1828800"/>
            <a:ext cx="1952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666880" y="16002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Екатерина  </a:t>
            </a:r>
            <a:r>
              <a:rPr b="1" lang="en-US" sz="5000" spc="-1" strike="noStrike">
                <a:solidFill>
                  <a:srgbClr val="ff3300"/>
                </a:solidFill>
                <a:latin typeface="Bodoni MT Condensed"/>
              </a:rPr>
              <a:t>I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1725-172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Eкатерина 1"/>
          <p:cNvPicPr/>
          <p:nvPr/>
        </p:nvPicPr>
        <p:blipFill>
          <a:blip r:embed="rId1"/>
          <a:stretch/>
        </p:blipFill>
        <p:spPr>
          <a:xfrm>
            <a:off x="228600" y="22860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52680" y="3276720"/>
            <a:ext cx="5562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рховный тайный совет («верховники»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должение политики Петра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рытие Академии нау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спедиция В.Беринг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590920" y="22096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Пётр  </a:t>
            </a:r>
            <a:r>
              <a:rPr b="1" lang="en-US" sz="5000" spc="-1" strike="noStrike">
                <a:solidFill>
                  <a:srgbClr val="ff3300"/>
                </a:solidFill>
                <a:latin typeface="Bodoni MT Condensed"/>
              </a:rPr>
              <a:t>II</a:t>
            </a: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Алексеевич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1727 - 173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Пётр 2"/>
          <p:cNvPicPr/>
          <p:nvPr/>
        </p:nvPicPr>
        <p:blipFill>
          <a:blip r:embed="rId1"/>
          <a:stretch/>
        </p:blipFill>
        <p:spPr>
          <a:xfrm>
            <a:off x="304920" y="228600"/>
            <a:ext cx="28288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048120" y="4038480"/>
            <a:ext cx="6095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дение А.Меншик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ступление от  политики Петра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кращение кораблестро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сква – столица Росс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438280" y="8380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Анна Иоановна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1730 - 174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Анна Иоановна"/>
          <p:cNvPicPr/>
          <p:nvPr/>
        </p:nvPicPr>
        <p:blipFill>
          <a:blip r:embed="rId1"/>
          <a:stretch/>
        </p:blipFill>
        <p:spPr>
          <a:xfrm>
            <a:off x="0" y="0"/>
            <a:ext cx="25639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514600" y="1905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Кондиции» - условия приглашения на прест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зднение Верховного тайного сов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Бироновщина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кабинета министро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мена указа о единонаслед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кращение срока службы до 25 ле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ст производства продукции металлург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йны с Польшей и Турци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Иван 6"/>
          <p:cNvPicPr/>
          <p:nvPr/>
        </p:nvPicPr>
        <p:blipFill>
          <a:blip r:embed="rId1"/>
          <a:stretch/>
        </p:blipFill>
        <p:spPr>
          <a:xfrm>
            <a:off x="304920" y="1143000"/>
            <a:ext cx="2889000" cy="3749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429000" y="838080"/>
            <a:ext cx="51814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Иван  </a:t>
            </a:r>
            <a:r>
              <a:rPr b="1" lang="en-US" sz="4000" spc="-1" strike="noStrike">
                <a:solidFill>
                  <a:srgbClr val="ff3300"/>
                </a:solidFill>
                <a:latin typeface="Bodoni MT Condensed"/>
              </a:rPr>
              <a:t>VI</a:t>
            </a: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  Антоно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и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Анна Леопольдовна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 1740 -  17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doni MT Condensed"/>
              </a:rPr>
              <a:t>(Брауншвейгская династи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819520" y="5335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Елизавета Петровна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Bodoni MT Condensed"/>
              </a:rPr>
              <a:t>1741 - 176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Елизавета Петровна"/>
          <p:cNvPicPr/>
          <p:nvPr/>
        </p:nvPicPr>
        <p:blipFill>
          <a:blip r:embed="rId1"/>
          <a:stretch/>
        </p:blipFill>
        <p:spPr>
          <a:xfrm>
            <a:off x="0" y="0"/>
            <a:ext cx="2685960" cy="3657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514600" y="16765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сстановление роли Сената, ликвидация кабинета минист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орядочение системы налогообложения (перепись населе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рыт государственный Дворянский банк (175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мена внутренних таможенных пошл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иление крепостнического гнё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рытие МГУ (17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илетняя вой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енок</cp:lastModifiedBy>
  <dcterms:modified xsi:type="dcterms:W3CDTF">2010-09-08T21:09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