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625-28ED-4E64-854E-3B883CF6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D8D-10C6-48FD-9708-C496001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98D-D1DB-4500-A003-6DA705ED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935-A2B4-47D4-AE7E-308BDFA6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9C2-ECBD-4737-8880-4CD1298D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B794-E2CA-4331-93BF-82915269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C7C8-3205-4A73-B5E9-F0D3DA8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2646-8672-442A-BA41-B25765E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F8E2-D368-4B01-AA52-6D448F7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996-D099-43DA-9772-40A0AA6B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225-159F-4F21-A9B0-CE3ADD34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B93-D39B-4743-92C4-747B36AD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8B3-8DD5-4613-BE9F-DF2DFFD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4AEE-742D-44CF-BB78-023B9AD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C771-2CEE-4F92-8DDA-20AF77E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6620-BCA4-4156-A7AE-BE30C2FC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24AB-D2A7-4472-AAEE-1CC8AE4F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5A6-F83F-4401-A19B-23DAAA6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4D5-0C27-4D2F-B20A-7C137F5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556-0CD4-4A15-8628-00D0B58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2AD-1880-4A42-AB5A-130BAAA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0A1-8F69-4786-AF3E-F0CB45A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9D8-97FF-4C29-B142-D320D0B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928-D4F3-433E-A6A8-DAB8A04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639-BC3F-496A-B192-500AA9C76E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E08-38C0-43CD-B981-1E2766446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990720"/>
            <a:ext cx="6168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Урок русского языка по теме </a:t>
            </a:r>
            <a:br>
              <a:rPr sz="3200"/>
            </a:b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«Роль языка в жизни человека» для 5 класса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61960" y="4800240"/>
            <a:ext cx="647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улина Татьяна Геннад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высшей категор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арская государственная областная академия (Наяно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0" y="60948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ы хочешь судьбу переспори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ы ищешь отрады цветник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уждаешься в твердой опоре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учи русский язык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твой наставник великий, могучи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ереводчик, он проводник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штурмуешь познания кручи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учи русский язы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Абдулла (узбекский по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шите миниатюру (3-5 предложений) на 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Значение слова в жизни человека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62320" y="-360"/>
            <a:ext cx="67816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Ав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днажды богатый грек Ксанф приказал своему рабу знаменитому баснописцуЭзопу купить самую лучшую вещь в мире. Эзоп пошёл на базар и принёс…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Ксан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чему ты принёс язык? Неужели ты считаешь, что это самая лучшая вещь в м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Эз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онечно. Разве может быть в мире что-нибудь лучше, чем яз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Ксан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Хорошо. Иди опять на базар и принеси самую худшую в мире ве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Ав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Эзоп ушёл и принёс…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057040" y="45684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чему Эзоп считает, что язык – самая лучшая и самая худшая вещь в мир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О каком языке идёт реч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Сегодня на нашем уроке мы поговорим о том, какую роль в нашей жизни играет язы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82267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ва.</a:t>
            </a:r>
            <a:br>
              <a:rPr sz="32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5640" y="685440"/>
            <a:ext cx="3197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слов на земле. Есть дневные слов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их весеннего неба сквозит синева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ть слова словно раны, слова словно суд,-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ими в плен не сдаются и в плен не берут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ом можно продать, и предать, и куп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62720" y="761760"/>
            <a:ext cx="3195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о можно в разящий свинец перели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слова всем словам в языке у нас есть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а «Родина, верность, свобода и честь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зменной монетой не служат они,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ым эталоном их в сердце хран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 делай их слугами в мелком быту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ги изначальную их чистот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Шефн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743200" y="8377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чему слова могут бы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нами, суд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87c1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можн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пасти, убить, продать, предать, куп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вом? Приведите пример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Найдите слово, которое повторяется в начале строки стихотворения. Почему автор повторил его несколько раз? Этот приём называется АНАФОРА. Запишите определение в слов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Анафора (единоначатие) –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овторение первых слов в предложениях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вом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можно уб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во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но спасти, 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вом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можно по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 собой повести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Глупые слова жить мешают, а разумные во всём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Не давши слова – крепись, а давши -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Будь слову своему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Слово не воробей, вылетит -… 5) Словам болтуна не велика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Больше дела, меньше….</a:t>
            </a:r>
            <a:br>
              <a:rPr sz="2800"/>
            </a:b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74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а для справ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цена,  сл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оймаешь, помогают, держись, хозя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43200" y="1342080"/>
            <a:ext cx="61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роль играет язык в наш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, на ваш взгляд,  должна быть наша реч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какой не должна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 февра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ждународный день родного язык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зеръ</cp:lastModifiedBy>
  <dcterms:modified xsi:type="dcterms:W3CDTF">2010-08-24T06:16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