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E404-4D22-4387-91BF-4092BD4F8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C57C-A6A2-493A-8AE9-1F3288E3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4304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8273-57C5-42BC-8A89-EAF2058AE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1248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9332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1248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9332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6D89-5ABE-4D6B-9392-B968A3B46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6C8A-3850-4093-8B90-D8625C7A6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64FC-FAD9-485C-9B27-D99F794B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7935-0324-4C13-ACD9-5FE722EA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6942-96FC-4AB3-A9C4-E113D648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4053-E965-43C0-B2D0-5DC17C71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63640" y="274320"/>
            <a:ext cx="71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C2A2-E0AB-47E5-B2FC-DC2F005F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73F6-3C50-48B3-B32B-6B9BDEAB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E700-F6EE-408F-B6A4-528F43B8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4304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56EB-E51E-4C82-8740-B8BE6995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5483-83C9-44D9-B330-ACA5425F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D9B9-D634-4AF8-971B-3D14CA8A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4304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57BD-0175-41D9-8AC6-2CCC27081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1248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9332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1248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9332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E8C7-C5B8-4D7C-B59E-226069A45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C212-5D4B-4FD8-A282-8633572D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0FAC-A609-4C66-A021-43F787C3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51A3-5173-4C5B-8ABE-5A3EAFB1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63640" y="274320"/>
            <a:ext cx="71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0E34-3D1C-4C45-8CCA-3E21E142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F35F-0FAD-49B5-BFE0-AF26E153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4304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C8DE-08BF-4E9F-AE8B-DBBBF1BA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09FC-75D4-43A5-82F1-7D17829D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-36360" y="0"/>
            <a:ext cx="14871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1547280" y="6237000"/>
            <a:ext cx="242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4140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7380000" y="6244920"/>
            <a:ext cx="130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6B50-4B61-418B-8EEC-C87965C0A848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-230040"/>
            <a:ext cx="1008000" cy="7316640"/>
          </a:xfrm>
          <a:custGeom>
            <a:avLst/>
            <a:gdLst/>
            <a:ahLst/>
            <a:rect l="l" t="t" r="r" b="b"/>
            <a:pathLst>
              <a:path w="635" h="4672">
                <a:moveTo>
                  <a:pt x="317" y="159"/>
                </a:moveTo>
                <a:cubicBezTo>
                  <a:pt x="211" y="318"/>
                  <a:pt x="0" y="1928"/>
                  <a:pt x="0" y="2654"/>
                </a:cubicBezTo>
                <a:cubicBezTo>
                  <a:pt x="0" y="3380"/>
                  <a:pt x="211" y="4672"/>
                  <a:pt x="317" y="4513"/>
                </a:cubicBezTo>
                <a:cubicBezTo>
                  <a:pt x="423" y="4354"/>
                  <a:pt x="635" y="2427"/>
                  <a:pt x="635" y="1701"/>
                </a:cubicBezTo>
                <a:cubicBezTo>
                  <a:pt x="635" y="975"/>
                  <a:pt x="423" y="0"/>
                  <a:pt x="317" y="15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7FE6-E315-4FA5-BE8D-2648B3F0AC68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411280" y="1989000"/>
            <a:ext cx="4235760" cy="3600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Rar$DI14.218/&#1048;.%20&#1055;&#1091;&#1097;&#1080;&#1085;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Rar$DI14.218/&#1076;&#1091;&#1096;&#1072;%20&#1084;&#1086;&#1103;%20&#1087;&#1086;&#1083;&#1085;&#1072;%20&#1090;&#1086;&#1073;&#1086;&#1081;....doc" TargetMode="External"/><Relationship Id="rId3" Type="http://schemas.openxmlformats.org/officeDocument/2006/relationships/hyperlink" Target="file:///Rar$DI14.218/&#1076;&#1091;&#1096;&#1072;%20&#1084;&#1086;&#1103;%20&#1087;&#1086;&#1083;&#1085;&#1072;%20&#1090;&#1086;&#1073;&#1086;&#1081;....doc" TargetMode="External"/><Relationship Id="rId4" Type="http://schemas.openxmlformats.org/officeDocument/2006/relationships/hyperlink" Target="file:///Rar$DI14.218/&#1076;&#1091;&#1096;&#1072;%20&#1084;&#1086;&#1103;%20&#1087;&#1086;&#1083;&#1085;&#1072;%20&#1090;&#1086;&#1073;&#1086;&#1081;....doc" TargetMode="Externa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school4-perm.narod.ru/dl.htm" TargetMode="External"/><Relationship Id="rId3" Type="http://schemas.openxmlformats.org/officeDocument/2006/relationships/hyperlink" Target="http://school4-perm.narod.ru/dl.htm" TargetMode="External"/><Relationship Id="rId4" Type="http://schemas.openxmlformats.org/officeDocument/2006/relationships/hyperlink" Target="http://school4-perm.narod.ru/dl.htm" TargetMode="External"/><Relationship Id="rId5" Type="http://schemas.openxmlformats.org/officeDocument/2006/relationships/hyperlink" Target="http://fio.ifmo.ru/archive/group35/c3wu7/PAGE3.htm" TargetMode="External"/><Relationship Id="rId6" Type="http://schemas.openxmlformats.org/officeDocument/2006/relationships/hyperlink" Target="http://pushkin.niv.ru/pushkin/mesta/mihajlovskoe.htm" TargetMode="External"/><Relationship Id="rId7" Type="http://schemas.openxmlformats.org/officeDocument/2006/relationships/hyperlink" Target="http://pushkin.niv.ru/pushkin/mesta/mihajlovskoe.htm" TargetMode="External"/><Relationship Id="rId8" Type="http://schemas.openxmlformats.org/officeDocument/2006/relationships/hyperlink" Target="http://pushkin.niv.ru/pushkin/mesta/mihajlovskoe.htm" TargetMode="External"/><Relationship Id="rId9" Type="http://schemas.openxmlformats.org/officeDocument/2006/relationships/hyperlink" Target="http://pushkin.niv.ru/pushkin/mesta/mihajlovskoe.htm" TargetMode="External"/><Relationship Id="rId10" Type="http://schemas.openxmlformats.org/officeDocument/2006/relationships/hyperlink" Target="http://pushkin.niv.ru/pushkin/mesta/mihajlovskoe.htm" TargetMode="External"/><Relationship Id="rId11" Type="http://schemas.openxmlformats.org/officeDocument/2006/relationships/hyperlink" Target="http://pushkin.niv.ru/pushkin/mesta/mihajlovskoe.htm" TargetMode="External"/><Relationship Id="rId12" Type="http://schemas.openxmlformats.org/officeDocument/2006/relationships/hyperlink" Target="http://pushkin.niv.ru/pushkin/mesta/mihajlovskoe.htm" TargetMode="External"/><Relationship Id="rId13" Type="http://schemas.openxmlformats.org/officeDocument/2006/relationships/hyperlink" Target="http://pushkin.niv.ru/pushkin/mesta/mihajlovskoe.htm" TargetMode="External"/><Relationship Id="rId14" Type="http://schemas.openxmlformats.org/officeDocument/2006/relationships/hyperlink" Target="http://pushkin.niv.ru/pushkin/mesta/mihajlovskoe.htm" TargetMode="External"/><Relationship Id="rId15" Type="http://schemas.openxmlformats.org/officeDocument/2006/relationships/hyperlink" Target="http://fotki.yandex.ru/users/alenatchernova/album/91244?p=0" TargetMode="External"/><Relationship Id="rId16" Type="http://schemas.openxmlformats.org/officeDocument/2006/relationships/hyperlink" Target="http://fotki.yandex.ru/users/alenatchernova/album/91244?p=0" TargetMode="External"/><Relationship Id="rId17" Type="http://schemas.openxmlformats.org/officeDocument/2006/relationships/hyperlink" Target="http://fotki.yandex.ru/users/alenatchernova/album/91244?p=0" TargetMode="External"/><Relationship Id="rId18" Type="http://schemas.openxmlformats.org/officeDocument/2006/relationships/hyperlink" Target="http://fotki.yandex.ru/users/alenatchernova/album/91244?p=0" TargetMode="External"/><Relationship Id="rId19" Type="http://schemas.openxmlformats.org/officeDocument/2006/relationships/hyperlink" Target="http://fotki.yandex.ru/users/alenatchernova/album/91244?p=0" TargetMode="External"/><Relationship Id="rId20" Type="http://schemas.openxmlformats.org/officeDocument/2006/relationships/hyperlink" Target="http://fotki.yandex.ru/users/alenatchernova/album/91244?p=0" TargetMode="External"/><Relationship Id="rId21" Type="http://schemas.openxmlformats.org/officeDocument/2006/relationships/hyperlink" Target="http://fotki.yandex.ru/users/alenatchernova/album/91244?p=0" TargetMode="External"/><Relationship Id="rId22" Type="http://schemas.openxmlformats.org/officeDocument/2006/relationships/hyperlink" Target="http://fotki.yandex.ru/users/alenatchernova/album/91244?p=0" TargetMode="External"/><Relationship Id="rId23" Type="http://schemas.openxmlformats.org/officeDocument/2006/relationships/hyperlink" Target="http://fotki.yandex.ru/users/alenatchernova/album/91244?p=0" TargetMode="External"/><Relationship Id="rId24" Type="http://schemas.openxmlformats.org/officeDocument/2006/relationships/hyperlink" Target="http://fotki.yandex.ru/users/alenatchernova/album/91244?p=0" TargetMode="External"/><Relationship Id="rId2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aphorisme.ru/by-authors/pushkin/?q=578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alibri"/>
              </a:rPr>
              <a:t>Мой первый друг…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4508640"/>
            <a:ext cx="4319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ершнёва Елена Михай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»Каськовская ОО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ньинский район Псков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0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alibri"/>
              </a:rPr>
              <a:t>Мой первый друг…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История написания стихотвор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ЩИН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й первый друг, мой друг бесценный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я судьбу благословил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мой двор уединенны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чальным снегом занесенны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ой колокольчик огласи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ю святое провиденье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 голос мой душе твое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рует то же утешень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 озарит он заточень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ом лицейских ясных дней!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ушкин и Пущи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300720" y="4005360"/>
            <a:ext cx="22320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alibri"/>
              </a:rPr>
              <a:t>Анализ стихотворения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овы ваши первые чувства от стихотворен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вы произнесёте 1 строк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м чувством проникнуты строки, в которых он вспоминает встречу в Михайловско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alibri"/>
              </a:rPr>
              <a:t>Анализ стихотворения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соединяет вторую половину стихотворения с перво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нужно произнести вторую часть стихотворен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овите выразительные средства языка, использованные поэтом в стихотворен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alibri"/>
              </a:rPr>
              <a:t>Подумаем и обобщим…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для А.С. Пушкина была дружб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из стихотворения Пушкина станет для вас ориентиром в дружбе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Calibri"/>
              </a:rPr>
              <a:t>                 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ранее неизвестное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одностишие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 Пушк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Calibri"/>
              </a:rPr>
              <a:t>Наслаждение общением - главный признак дружб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Calibri"/>
              </a:rPr>
              <a:t>                                                                         </a:t>
            </a:r>
            <a:r>
              <a:rPr b="0" lang="ru-RU" sz="1600" spc="-1" strike="noStrike">
                <a:solidFill>
                  <a:srgbClr val="663300"/>
                </a:solidFill>
                <a:latin typeface="Calibri"/>
              </a:rPr>
              <a:t>Аристотел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alibri"/>
              </a:rPr>
              <a:t>Домашнее задание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читать стр. учебника 50-54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учить наизусть стихотворение «И. Пущин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alibri"/>
              </a:rPr>
              <a:t>Используемая литература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812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итература. 6 класс: учеб. для общеобраз. Учреждений. В 2ч. Ч.1/авт.-сост. В.П. Полухина и др.; под ред. В.Я. Коровиной. – М.: просвещение, 200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ушкин А.С. Избранное. – М.: Профиздат, 1993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http://www.rus-shake.ru/menu/news/6579.html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://school4-perm.narod.ru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dl.htm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fio.ifmo.ru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www.kostyor.ru.ht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pushkin.niv.ru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pushkin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mesta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mihajlovskoe.ht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fotki.yandex.ru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users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Calibri"/>
                <a:hlinkClick r:id="rId20"/>
              </a:rPr>
              <a:t>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Calibri"/>
                <a:hlinkClick r:id="rId21"/>
              </a:rPr>
              <a:t>alenatchernova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Calibri"/>
                <a:hlinkClick r:id="rId22"/>
              </a:rPr>
              <a:t>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Calibri"/>
                <a:hlinkClick r:id="rId23"/>
              </a:rPr>
              <a:t>album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Calibri"/>
                <a:hlinkClick r:id="rId24"/>
              </a:rPr>
              <a:t>/91244?p=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fotki.yandex.r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ricolor.or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http://pushkin.novgorod.ru/trip_mikh.ht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alibri"/>
              </a:rPr>
              <a:t>Цели урока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850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знакомить учащихся со стихотворением А.С. Пушкина «И.И. Пущину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ировать умение анализировать лирическое произведение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663300"/>
                </a:solidFill>
                <a:latin typeface="Calibri"/>
              </a:rPr>
              <a:t>Дидактические задачи урока</a:t>
            </a:r>
            <a:endParaRPr b="1" lang="en-US" sz="40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6920" y="160020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атко познакомить учащихся с Лицейским и Михайловским периодами жизни А.С. Пушкин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ть сведения об И.И. Пущин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яснить, какое место в жизни и творчестве Пушкина занимала дружб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учить видеть за строками стихотворения чувства, переживания, настроения, реальные события и общечеловеческий смыс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663300"/>
                </a:solidFill>
                <a:latin typeface="Calibri"/>
              </a:rPr>
              <a:t>Хранитель милых чувств и прошлых наслаждений…</a:t>
            </a:r>
            <a:br>
              <a:rPr sz="4000"/>
            </a:br>
            <a:endParaRPr b="1" lang="en-US" sz="40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476360" y="1916280"/>
            <a:ext cx="1944720" cy="2592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492360" y="1989000"/>
            <a:ext cx="5327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августа 1811года Саша Пушкин выдержал экзамен и был принят в Лиц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1817году 9 июня состоялся 1 выпуск Лицея. Среди выпускников был А.С. Пушк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alibri"/>
              </a:rPr>
              <a:t>Царскосельский Лицей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403280" y="1268280"/>
            <a:ext cx="3529080" cy="2517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651640" y="1268280"/>
            <a:ext cx="2881080" cy="2517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403280" y="3938760"/>
            <a:ext cx="3529080" cy="2369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5635800" y="3938760"/>
            <a:ext cx="2916000" cy="236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124000" y="34909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цей зи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96000" y="35002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цей осен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59389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сменская колон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59640" y="5445000"/>
            <a:ext cx="18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раморный, или Палладиев мос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alibri"/>
              </a:rPr>
              <a:t>Дружба – это…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 музы, ни труды, ни радости досуга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что не заменит единственного дру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Пушкин Александр Сергееви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835280" y="2781360"/>
            <a:ext cx="32414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alibri"/>
              </a:rPr>
              <a:t>Дружба – это…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31640" y="2491920"/>
            <a:ext cx="73436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вы поняли высказывание А.С. Пушкина о дружб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такое, по-вашему, дружб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alibri"/>
              </a:rPr>
              <a:t>Культ дружбы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Лицее царил культ дружбы, и Пушкин пронёс его через всю свою жиз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любимыми друзьями ста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. Пущ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 Дельви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Кухельбек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. Вязем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084720" y="3068640"/>
            <a:ext cx="1727280" cy="2160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796000" y="5433840"/>
            <a:ext cx="244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. Пущин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fio.ifmo.r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alibri"/>
              </a:rPr>
              <a:t>Пушкин в Михайловском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32000" y="4076640"/>
            <a:ext cx="763272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 Михайловском великий поэт писал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етствую тебя, пустынный уголок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ют спокойствия, трудов и вдохновенья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де льется дней моих невидимый поток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лоне счастья и забвенья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4932360" y="299736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27640" y="2978280"/>
            <a:ext cx="208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651640" y="1628640"/>
            <a:ext cx="2233440" cy="2664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724360" y="4005360"/>
            <a:ext cx="24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51640" y="4005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кабинет Пушк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124000" y="1844640"/>
            <a:ext cx="2448000" cy="2232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700360" y="3645000"/>
            <a:ext cx="136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68360" y="3645000"/>
            <a:ext cx="22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Усадьба Михайловск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0T06:35:53Z</dcterms:created>
  <dc:creator>1</dc:creator>
  <dc:description/>
  <dc:language>en-US</dc:language>
  <cp:lastModifiedBy>Катенок</cp:lastModifiedBy>
  <dcterms:modified xsi:type="dcterms:W3CDTF">2010-08-25T18:29:30Z</dcterms:modified>
  <cp:revision>69</cp:revision>
  <dc:subject/>
  <dc:title>Мой первый друг…</dc:title>
</cp:coreProperties>
</file>