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507-0726-4C11-905F-D2B2EF4A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837-4439-4A0A-B2CB-447FFB29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475-5B60-460B-AB15-80C22503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EE0-F8E5-4004-99CC-87F158F7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1139-EB76-4167-9BF0-40265B9B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253C-0EF5-4B37-8F14-A15376B1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4C49-AE3B-4F55-A5CD-11889272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0B94-22C8-4BD3-996F-D354B479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1367-D637-4F19-ACF1-17F52885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668A-1118-405E-AC6F-DF5AED9D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892B-AC42-4312-A6DA-4017EE75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965-F444-4A4C-889C-783F5C0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D978-B7DA-48EA-B3BB-38E8266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A0A6-20D1-48CF-8972-A70067C8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40AF-D10E-43AE-92EC-7620CBD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0992-4D10-4A82-A2F2-AA32471C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CF23-0174-4CC8-9360-BBF495A0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EE0-183D-420A-BA52-8DF8F457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5B9-9620-4968-A428-484572E9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E92-EA27-44D7-8F00-B4E3625C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37A-68C4-4FBF-BCF2-133A167C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F89-4F4B-4F82-BFF9-CE9F17EB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F5F-C40F-43B7-99AD-705DCCF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ABA-5FF3-4635-9CAC-4BB01063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6F8D-2709-4892-BC45-DC0812613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FCF7-54FE-4754-B3B4-1F52253F2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dstar.com/2009/06/11/kak_kodiruetsya_zvuk.htm" TargetMode="External"/><Relationship Id="rId2" Type="http://schemas.openxmlformats.org/officeDocument/2006/relationships/hyperlink" Target="http://festival.1september.ru/articles/103548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одирование звуковой информации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учебнику Н. Угриновича: Информатика и ИКТ  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 : Куфаева П.С., учитель информатик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ой катег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fdstar.com/2009/06/11/kak_kodiruetsya_zvuk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festival.1september.ru/articles/103548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в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вук представляет собой распространяющуюся чаще всего в воздухе, воде или другой среде волну с непрерывно изменяющейся интенсивностью и часто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 может воспринимать звуковые волны (колебания воздуха) с помощью слуха в форме звука различая при этом громкость и т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м больше интенсивность звуковой волны, тем громче звук, чем больше частота волны, тем выше тон зву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висимость громкости, а также высоты тона звука от интенсивности и частоты звуковой волны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599840"/>
            <a:ext cx="792504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к кодируется звук (Цифровое кодирование и обработка звука)"/>
          <p:cNvPicPr/>
          <p:nvPr/>
        </p:nvPicPr>
        <p:blipFill>
          <a:blip r:embed="rId2"/>
          <a:stretch/>
        </p:blipFill>
        <p:spPr>
          <a:xfrm>
            <a:off x="1066680" y="1676520"/>
            <a:ext cx="60962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бы измерять громкость звука применяют специальную единицу "децибел" (дБ)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600200"/>
          <a:ext cx="7467840" cy="4405320"/>
        </p:xfrm>
        <a:graphic>
          <a:graphicData uri="http://schemas.openxmlformats.org/drawingml/2006/table">
            <a:tbl>
              <a:tblPr/>
              <a:tblGrid>
                <a:gridCol w="5410440"/>
                <a:gridCol w="2057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й зву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, измеренная в децибел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образование непрерывного звукового сигнала в цифровую дискретную фор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87680" y="1676520"/>
            <a:ext cx="407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чество оцифрованного зв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ота дискретизации звука, гц - это количество измерений громкости звука за одну секунд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ц (обозначается Гц или Hz) — единица измерения частоты периодических процессов (например колебаний)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Гц означает одно исполнение такого процесса за одну секунду: 1 Гц= 1/с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убина кодирования звука - это количество информации, которое необходимо для кодирования дискретных уровней громкости цифрового звук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известна глубина кодирования, то количество уровней громкости цифрового звука можно рассчитывать по общей формуле N = 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чество оцифрованного зву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больше частота дискретизации и глубина кодирования звука, тем более качественным будет звучание оцифрованного звука и тем лучше можно приблизить оцифрованный звук к оригинальному звуч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е низкое качество оцифрованного звука, соответствующее качеству телефонной связи, получается при частоте дискретизации 8000 раз в секунду, глубине дискретизации 8 битов и записи одной звуковой дорожки (режим "моно"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е высокое качество оцифрованного звука, соответствующее качеству аудио-CD, достигается при частоте дискретизации 48 000 раз в секунду, глубине дискретизации 16 битов и записи двух звуковых дорожек (режим "стерео"). </a:t>
            </a:r>
            <a:br>
              <a:rPr sz="2000"/>
            </a:br>
            <a:r>
              <a:rPr b="1" lang="ru-RU" sz="2000" spc="-1" strike="noStrike" u="sng">
                <a:solidFill>
                  <a:srgbClr val="6666cc"/>
                </a:solidFill>
                <a:uFillTx/>
                <a:latin typeface="Arial"/>
              </a:rPr>
              <a:t>Необходимо помнить, что чем выше качество цифрового звука, тем больше информационный объем звукового файла.</a:t>
            </a:r>
            <a:r>
              <a:rPr b="1" lang="ru-RU" sz="2000" spc="-1" strike="noStrike">
                <a:solidFill>
                  <a:srgbClr val="6666cc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66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горитм вычисления информационного объема звукового фай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выяснить, сколько всего значений считывается в память за время звучания фай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выяснить разрядность кода (сколько бит в памяти занимает каждое измеренное знач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перемножить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перевести результат в бай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перевести результат в К бай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перевести результат в М бай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11025 Гц и разрядностью кода 4 бита на 1 измерен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Ответ = 3,154277 Мбайт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горитм вычисления времени звучания фай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Информационный объем файла перевести в К бай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Информационный объем файла перевести в бай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Информационный объем файла перевести в б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Выяснить, сколько значений всего измерялось (Информационный объем в битах поделить на разрядность к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Вычислить количество секунд звучания. (Предыдущий результат поделить на частоту дискретизации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твет= 20,805 сек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33:31Z</dcterms:created>
  <dc:creator>атто</dc:creator>
  <dc:description/>
  <dc:language>en-US</dc:language>
  <cp:lastModifiedBy>атто</cp:lastModifiedBy>
  <dcterms:modified xsi:type="dcterms:W3CDTF">2009-12-21T12:03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