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068-C681-47A6-9E37-2EC869C7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976-3857-4567-9E9D-0E30004F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3CB-4FBA-4C7E-98CE-FD578E14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2E9-9BFE-45FC-9C8A-93A19FEA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A0E-DF22-4DFD-B21C-F650DF21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7CD-1767-441D-A78B-07B95F9D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A3F-4871-4DB3-BFB2-1F6E5973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CE7-5EF3-4DEF-BD77-9A319C98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C2C-369C-44AB-8521-28BA96F6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3AA-E8E5-4F91-B315-E27A339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26A-271D-4F33-A2F0-6355479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F2E-B059-42FA-A0A5-2F76B5CA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B9C4-3EAC-4B99-9CE3-4CABEFF23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ms.24open.ru/images/acc41188eed759d46a2a93e391f7b69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theworldthroughwoodeneyes.co.uk/assets/images/Petrushka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anvas.com.ua/?page=masters&amp;painter=238&amp;letter=9&amp;list=p7r12" TargetMode="External"/><Relationship Id="rId2" Type="http://schemas.openxmlformats.org/officeDocument/2006/relationships/hyperlink" Target="http://www.canvas.com.ua/?page=masters&amp;painter=238&amp;letter=9&amp;list=p7r12" TargetMode="External"/><Relationship Id="rId3" Type="http://schemas.openxmlformats.org/officeDocument/2006/relationships/hyperlink" Target="http://demo.sinergi-school.ru/cms/index.php/projects/sdelvross/28933-petrushka_samaja_znamenitaja_russkaja_kukla_meduzov_maksim_shkola_581_klass" TargetMode="External"/><Relationship Id="rId4" Type="http://schemas.openxmlformats.org/officeDocument/2006/relationships/hyperlink" Target="http://demo.sinergi-school.ru/cms/index.php/projects/sdelvross/28933-petrushka_samaja_znamenitaja_russkaja_kukla_meduzov_maksim_shkola_581_klass" TargetMode="External"/><Relationship Id="rId5" Type="http://schemas.openxmlformats.org/officeDocument/2006/relationships/hyperlink" Target="http://religion.ng.ru/style/2009-02-18/" TargetMode="External"/><Relationship Id="rId6" Type="http://schemas.openxmlformats.org/officeDocument/2006/relationships/hyperlink" Target="http://www.booth.ru/petrushka/petr_home.htm" TargetMode="External"/><Relationship Id="rId7" Type="http://schemas.openxmlformats.org/officeDocument/2006/relationships/hyperlink" Target="http://justsite.wordpress.com/2009/11/12/&#1080;&#1089;&#1090;&#1086;&#1088;&#1080;&#1103;-&#1096;&#1072;&#1088;&#1084;&#1072;&#1085;&#1082;&#1080;/" TargetMode="External"/><Relationship Id="rId8" Type="http://schemas.openxmlformats.org/officeDocument/2006/relationships/hyperlink" Target="http://justsite.wordpress.com/2009/11/12/&#1080;&#1089;&#1090;&#1086;&#1088;&#1080;&#1103;-&#1096;&#1072;&#1088;&#1084;&#1072;&#1085;&#1082;&#1080;/" TargetMode="External"/><Relationship Id="rId9" Type="http://schemas.openxmlformats.org/officeDocument/2006/relationships/hyperlink" Target="http://justsite.wordpress.com/2009/11/12/&#1080;&#1089;&#1090;&#1086;&#1088;&#1080;&#1103;-&#1096;&#1072;&#1088;&#1084;&#1072;&#1085;&#1082;&#1080;/" TargetMode="External"/><Relationship Id="rId10" Type="http://schemas.openxmlformats.org/officeDocument/2006/relationships/hyperlink" Target="http://justsite.wordpress.com/2009/11/12/&#1080;&#1089;&#1090;&#1086;&#1088;&#1080;&#1103;-&#1096;&#1072;&#1088;&#1084;&#1072;&#1085;&#1082;&#1080;/" TargetMode="External"/><Relationship Id="rId11" Type="http://schemas.openxmlformats.org/officeDocument/2006/relationships/hyperlink" Target="http://justsite.wordpress.com/2009/11/12/&#1080;&#1089;&#1090;&#1086;&#1088;&#1080;&#1103;-&#1096;&#1072;&#1088;&#1084;&#1072;&#1085;&#1082;&#1080;/" TargetMode="External"/><Relationship Id="rId12" Type="http://schemas.openxmlformats.org/officeDocument/2006/relationships/hyperlink" Target="http://justsite.wordpress.com/2009/11/12/&#1080;&#1089;&#1090;&#1086;&#1088;&#1080;&#1103;-&#1096;&#1072;&#1088;&#1084;&#1072;&#1085;&#1082;&#1080;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kola2009.ucoz.ru/60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8dc"/>
            </a:gs>
            <a:gs pos="50000">
              <a:srgbClr val="ffffff"/>
            </a:gs>
            <a:gs pos="100000">
              <a:srgbClr val="ffc8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9 из 456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421000"/>
            <a:ext cx="5077080" cy="38098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763640" y="260280"/>
            <a:ext cx="5257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гостях </a:t>
            </a:r>
            <a:endParaRPr b="1" i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 Озорника - Петрушки</a:t>
            </a:r>
            <a:endParaRPr b="1" i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e9"/>
            </a:gs>
            <a:gs pos="50000">
              <a:srgbClr val="ffffff"/>
            </a:gs>
            <a:gs pos="100000">
              <a:srgbClr val="ffdd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етрушка говорит особым голосом при помощи специального инструмента - пищика или «говорка»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328000" cy="39416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904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47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955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de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80000" y="2781360"/>
            <a:ext cx="5113080" cy="38354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61" name="" descr="Картинка 75 из 456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781360"/>
            <a:ext cx="2305080" cy="38098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692360" y="26028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етрушку любили,                    на Руси называли Петром Ивановичем Уксусовым,    Ванькой Ратату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охожие на Петрушку герои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других ст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Панч"/>
          <p:cNvPicPr/>
          <p:nvPr/>
        </p:nvPicPr>
        <p:blipFill>
          <a:blip r:embed="rId1"/>
          <a:stretch/>
        </p:blipFill>
        <p:spPr>
          <a:xfrm>
            <a:off x="250920" y="1700280"/>
            <a:ext cx="3281400" cy="45370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65" name=""/>
          <p:cNvSpPr txBox="1"/>
          <p:nvPr/>
        </p:nvSpPr>
        <p:spPr>
          <a:xfrm>
            <a:off x="3995640" y="3716280"/>
            <a:ext cx="4753080" cy="23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нч –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мвол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икобритан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5" descr="полишинель.jpg"/>
          <p:cNvPicPr/>
          <p:nvPr/>
        </p:nvPicPr>
        <p:blipFill>
          <a:blip r:embed="rId1"/>
          <a:stretch/>
        </p:blipFill>
        <p:spPr>
          <a:xfrm>
            <a:off x="3132000" y="981000"/>
            <a:ext cx="2757600" cy="57326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1116000" y="333360"/>
            <a:ext cx="720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ишинель - символ Франц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гансв..jpg"/>
          <p:cNvPicPr/>
          <p:nvPr/>
        </p:nvPicPr>
        <p:blipFill>
          <a:blip r:embed="rId1"/>
          <a:stretch/>
        </p:blipFill>
        <p:spPr>
          <a:xfrm>
            <a:off x="2627280" y="1628640"/>
            <a:ext cx="3673440" cy="48960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69" name=""/>
          <p:cNvSpPr txBox="1"/>
          <p:nvPr/>
        </p:nvSpPr>
        <p:spPr>
          <a:xfrm>
            <a:off x="1042920" y="549360"/>
            <a:ext cx="712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нсвурст - символ Германи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5" descr="34553.gif"/>
          <p:cNvPicPr/>
          <p:nvPr/>
        </p:nvPicPr>
        <p:blipFill>
          <a:blip r:embed="rId1"/>
          <a:stretch/>
        </p:blipFill>
        <p:spPr>
          <a:xfrm>
            <a:off x="1042920" y="1773360"/>
            <a:ext cx="6840720" cy="45608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684360" y="549360"/>
            <a:ext cx="7686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краина - Ванька Ру-тю-тю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e9"/>
            </a:gs>
            <a:gs pos="50000">
              <a:srgbClr val="ffffff"/>
            </a:gs>
            <a:gs pos="100000">
              <a:srgbClr val="ffdd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 кукольников был целый набор сцен с Петрушкой: в одних он встречался с невестой, в других покупал лошадь, лечился у лекаря, обучался солдатскому делу, сражался с Чёртом или Смер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598.jpg"/>
          <p:cNvPicPr/>
          <p:nvPr/>
        </p:nvPicPr>
        <p:blipFill>
          <a:blip r:embed="rId1"/>
          <a:stretch/>
        </p:blipFill>
        <p:spPr>
          <a:xfrm>
            <a:off x="0" y="3071880"/>
            <a:ext cx="2735280" cy="3786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petrushka_1.jpg"/>
          <p:cNvPicPr/>
          <p:nvPr/>
        </p:nvPicPr>
        <p:blipFill>
          <a:blip r:embed="rId2"/>
          <a:stretch/>
        </p:blipFill>
        <p:spPr>
          <a:xfrm>
            <a:off x="3059280" y="3645000"/>
            <a:ext cx="3286080" cy="2500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i1.png"/>
          <p:cNvPicPr/>
          <p:nvPr/>
        </p:nvPicPr>
        <p:blipFill>
          <a:blip r:embed="rId3"/>
          <a:stretch/>
        </p:blipFill>
        <p:spPr>
          <a:xfrm>
            <a:off x="6429240" y="3102120"/>
            <a:ext cx="2714760" cy="37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e9"/>
            </a:gs>
            <a:gs pos="50000">
              <a:srgbClr val="ffffff"/>
            </a:gs>
            <a:gs pos="100000">
              <a:srgbClr val="ffdd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бычно представление начиналось со следующего сюжета: Петрушка решил купить лошадь, музыкант зовет цыгана-барыш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616360" cy="39495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429120" y="-1080"/>
            <a:ext cx="10129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Петрушка долго осматривал лошадь и дол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торговался с цыганом. Потом Петруш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надоедал торг, и вместо денег он долго бил цыг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по спине, после чего тот убегал. Петруш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пытался сесть на лошадь, та сбрасывала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под хохот зр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sdelvross-med14-581" descr=""/>
          <p:cNvPicPr/>
          <p:nvPr/>
        </p:nvPicPr>
        <p:blipFill>
          <a:blip r:embed="rId1"/>
          <a:stretch/>
        </p:blipFill>
        <p:spPr>
          <a:xfrm>
            <a:off x="2050920" y="3141720"/>
            <a:ext cx="4970520" cy="35780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337440" cy="42260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95280" y="18900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Это могло продолжаться до тех пор, пока народ не отсмеется. Наконец лошадь убегала, оставляя Петрушку лежащим замертво. Приходил док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 расспрашивал Петрушку о его болезн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91000" y="1282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sdelvross-med16-581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543640" cy="36957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-2859120" y="498348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89000"/>
            <a:ext cx="90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ыяснялось, что у того все болит. Между Доктором и Петрушкой происходила драка, в конце которой Петрушка сильно бил врага дубинкой по голове. «Какой же ты доктор, - кричал Петрушка,  - коли спрашиваешь, где болит? Зачем ты учился? Сам должен знать, где болит!" Появлялся квартальный. - "Ты зачем избил доктора? Он отвечал: "Затем, что плохо свою науку знает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7cb"/>
            </a:gs>
            <a:gs pos="50000">
              <a:srgbClr val="ffffff"/>
            </a:gs>
            <a:gs pos="100000">
              <a:srgbClr val="ffa7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delvross-med17-581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4164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1619280" y="333360"/>
            <a:ext cx="55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ценка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етрушкина свадьба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Театр им. Образцова - Образцов Сергей Владимирович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308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684360" y="476280"/>
            <a:ext cx="75816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гей Владимирович Образцов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553440" cy="43686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617040" y="404640"/>
            <a:ext cx="789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еатр «Бродячий Вертеп Александра Греф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тавит спектакли, главным героем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является Петрушка, для детей и взросл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729240" cy="56880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3995280" y="979920"/>
            <a:ext cx="495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Он все время радуе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Призывает к чему-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необыкновенн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и как бы объедин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всех вокруг себя 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мешной челове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 нечеловече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силой слова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59280" y="333360"/>
            <a:ext cx="273672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Ь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1341360"/>
            <a:ext cx="7488000" cy="453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удожественное произвед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торое предназначе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исполнения на сце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84280"/>
            <a:ext cx="5256360" cy="1152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СОБЕННОСТИ ПЬ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2592360" cy="201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ИАЛО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МОНО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4365720"/>
            <a:ext cx="2808360" cy="2376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ПИС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ЙСТВУ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Ц (АФИ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4365720"/>
            <a:ext cx="2808360" cy="2303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АСТИ ПЬЕ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ЦЕНЫ, АК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0" y="2781360"/>
            <a:ext cx="2556000" cy="1944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ЕМ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7cb"/>
            </a:gs>
            <a:gs pos="50000">
              <a:srgbClr val="ffffff"/>
            </a:gs>
            <a:gs pos="100000">
              <a:srgbClr val="ffa7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47640" y="26028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" descr=" Фарфоровые куклы. Коллекционные куклы. Авторские куклы. Авторские куклы Ольги Пауэлл. Ольга Пауэлл"/>
          <p:cNvPicPr/>
          <p:nvPr/>
        </p:nvPicPr>
        <p:blipFill>
          <a:blip r:embed="rId1"/>
          <a:stretch/>
        </p:blipFill>
        <p:spPr>
          <a:xfrm>
            <a:off x="2268360" y="3213000"/>
            <a:ext cx="4319640" cy="32403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476360" y="1052640"/>
            <a:ext cx="6120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ить на вопрос: «Чем вы объясняете популярность театра Петрушки на протяжении многих десятилет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чтению в л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Ресурсы Интер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ooksite.ru/trade/main/russian.htm - слайд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canvas.com.ua/?page=masters&amp;painter=238&amp;letter=9&amp;list=p7r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он слайда №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demo.sinergi-school.ru/cms/index.php/projects/sdelvross/28933-petrushka_samaja_znamenitaja_russkaja_kukla_meduzov_maksim_shkola_581_klas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фото Петр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eligion.ng.ru/style/2009-02-18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лайд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ooth.ru/petrushka/petr_home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вуковые файлы слайд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ustsite.wordpress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2009/11/12/%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0%b8%d1%81%d1%82%d0%be%d1%80%d0%b8%d1%8f-%d1%88%d0%b0%d1%80%d0%bc%d0%b0%d0%bd%d0%ba%d0%b8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лайд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rum.rudtp.ru/showthread.php?t=34931&amp;goto=nextoldes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№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ll-pages.com/city_photo/1/11/19/391/ - слайд №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rtlavka.eto-ya.com/2010/01/18/petrushka/ - слайд №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2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Работа выполнена учителем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МОУ СОШ №1 г. Гуко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Ермиловой Мариной  Владимир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август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e9"/>
            </a:gs>
            <a:gs pos="50000">
              <a:srgbClr val="ffffff"/>
            </a:gs>
            <a:gs pos="100000">
              <a:srgbClr val="ffdd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о время ярмарок, народных праздников на площадях городов  и сел, в театрах, балаганах  разыгрывались кукольные представле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kustod_27"/>
          <p:cNvPicPr/>
          <p:nvPr/>
        </p:nvPicPr>
        <p:blipFill>
          <a:blip r:embed="rId1"/>
          <a:stretch/>
        </p:blipFill>
        <p:spPr>
          <a:xfrm>
            <a:off x="1258920" y="1773360"/>
            <a:ext cx="6551640" cy="48704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e9"/>
            </a:gs>
            <a:gs pos="50000">
              <a:srgbClr val="ffffff"/>
            </a:gs>
            <a:gs pos="100000">
              <a:srgbClr val="ffdd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35280" y="333360"/>
            <a:ext cx="525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82b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трушка - </a:t>
            </a:r>
            <a:endParaRPr b="1" i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82b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82b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лавный потешник</a:t>
            </a:r>
            <a:endParaRPr b="1" i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82b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82b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Руси</a:t>
            </a:r>
            <a:endParaRPr b="1" i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82b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" descr="Картинка 41 из 456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076720" cy="38098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</p:spTree>
  </p:cSld>
  <p:transition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7f0"/>
            </a:gs>
            <a:gs pos="50000">
              <a:srgbClr val="ffffff"/>
            </a:gs>
            <a:gs pos="100000">
              <a:srgbClr val="ffe7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430360" cy="40320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005280" y="551880"/>
            <a:ext cx="6136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"ПЕТРУШК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кличка куклы балаганн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русского шута, потешник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остряка в красном кафта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и в красном колпак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зовут Петруш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акже весь шутовск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кукольный вертеп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(В.Даль)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e9"/>
            </a:gs>
            <a:gs pos="50000">
              <a:srgbClr val="ffffff"/>
            </a:gs>
            <a:gs pos="100000">
              <a:srgbClr val="ffdd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0_1c3e4_8eaa9f00_XL.jpeg"/>
          <p:cNvPicPr/>
          <p:nvPr/>
        </p:nvPicPr>
        <p:blipFill>
          <a:blip r:embed="rId1"/>
          <a:stretch/>
        </p:blipFill>
        <p:spPr>
          <a:xfrm>
            <a:off x="5796000" y="2852640"/>
            <a:ext cx="2801880" cy="37353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22440" y="189360"/>
            <a:ext cx="835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ервое упоминание о кукольном теат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России относится к 1609 году. И одной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ервых кукол был Петрушка. Впервые Петруш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видел в России немецкий писат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утешественник и дипломат Адам Олеар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о было почти 400 лет назад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450px-Swanage_Punch_&amp;_Judy.JPG"/>
          <p:cNvPicPr/>
          <p:nvPr/>
        </p:nvPicPr>
        <p:blipFill>
          <a:blip r:embed="rId2"/>
          <a:stretch/>
        </p:blipFill>
        <p:spPr>
          <a:xfrm>
            <a:off x="539640" y="2997360"/>
            <a:ext cx="3643560" cy="32623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350360" y="189000"/>
            <a:ext cx="10067040" cy="25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 утра до позднего вечера ходили куколь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 шарманщики с места на место, повторяя за д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многу раз историю похождений  Петрушки - она бы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евелика, и все представление длилось 20-30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ктер таскал на плече складную ширму и узел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ундучок с куклами, а музыкант - тяжелую, до тридц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илограммов, шарм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2870280" cy="36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1845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0:35:11Z</dcterms:created>
  <dc:creator>Сергей</dc:creator>
  <dc:description/>
  <dc:language>en-US</dc:language>
  <cp:lastModifiedBy>Катенок</cp:lastModifiedBy>
  <dcterms:modified xsi:type="dcterms:W3CDTF">2010-08-11T08:32:47Z</dcterms:modified>
  <cp:revision>16</cp:revision>
  <dc:subject/>
  <dc:title>Слайд 1</dc:title>
</cp:coreProperties>
</file>