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54.gif" ContentType="image/gif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9.gif" ContentType="image/gif"/>
  <Override PartName="/ppt/media/image42.png" ContentType="image/png"/>
  <Override PartName="/ppt/media/image43.png" ContentType="image/png"/>
  <Override PartName="/ppt/media/image50.gif" ContentType="image/gif"/>
  <Override PartName="/ppt/media/image48.gif" ContentType="image/gif"/>
  <Override PartName="/ppt/media/image46.png" ContentType="image/png"/>
  <Override PartName="/ppt/media/image53.gif" ContentType="image/gif"/>
  <Override PartName="/ppt/media/image56.png" ContentType="image/png"/>
  <Override PartName="/ppt/media/image58.jpeg" ContentType="image/jpeg"/>
  <Override PartName="/ppt/media/image47.gif" ContentType="image/gif"/>
  <Override PartName="/ppt/media/image52.png" ContentType="image/png"/>
  <Override PartName="/ppt/media/image41.jpeg" ContentType="image/jpeg"/>
  <Override PartName="/ppt/media/image51.gif" ContentType="image/gif"/>
  <Override PartName="/ppt/media/image44.png" ContentType="image/png"/>
  <Override PartName="/ppt/media/image40.jpeg" ContentType="image/jpeg"/>
  <Override PartName="/ppt/media/image9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39.jpeg" ContentType="image/jpeg"/>
  <Override PartName="/ppt/media/image45.gif" ContentType="image/gif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5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3E22-1928-4E0E-8FBD-0771E9812F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лка в правом нижнем углу перенесёт вас на слайд с картой моря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248E-9E3A-4D1E-96B7-5C7CA5B126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учащихся индивидуальные наборы «Тангра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0441-B5CD-4961-945E-FF85AAECA6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опасть на остров, нажмите на картинку этого остр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D2C0-F35B-4604-AD2E-FE56925F0D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в вариант ответа, нажмите на него. Если вариант неверный – он пропадёт, если вариант верный – он встанет на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683C-C542-4D19-BDEC-6BE7A83B76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очтения правильного варианта пословицы, следует нажать на заголо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EA73-24C0-4FC1-9432-1A4E5C2F36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рочитать загадку к вопросу № 1, следует нажать на кружок 1. Нажав на облачко с вопросом – появится ответ. Для появления вопроса № 2 – нажать на кружок 2. Появляется вопрос 2 и пропадает вопрос 1. И так дал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3DD4-5E70-4249-BC80-3BC66A9778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жав на прямоугольник с ребусом, вы прочитаете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3A3F-390B-4168-88E8-C8B70C7713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жать на вариант фрагмента. Если вариант неверный – он пропадает, верный вариант встаёт на своё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F950-04C6-4EB0-8AB9-07B59C35F1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8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втоматически сменяют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DB7A-0931-4517-A9C0-07728B784F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4083-7396-46BB-928A-A3CCEAAC52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CD7-9CCD-4ED0-8753-1F76F42D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A02C-2393-4970-8DD7-CD10B82C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291B-11E9-4778-A0E1-B7A7F05B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2CF6-5CF2-4A95-B8C7-9A472E85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5BC0-AE2D-48CF-950B-1E1C9810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DCA5-E74B-4D22-87A3-98808504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F3E0-3FA8-4465-BD6E-18ADA172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187D-5297-4F03-B48D-18E147E7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CD92-9FCB-4B33-B04B-6BBFB0AF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AB04-74DD-4043-8F3D-96B3E883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CCCD-0BCC-42C5-BB9A-E1E1C06C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295B-E3DC-4E5D-96EC-90D07671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C45F-DB9A-4D37-ACF1-EDB2E2943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xpress.irkutsk.ru/1000/sea/shiptyp/k/kara_sh.jpg" TargetMode="External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gif"/><Relationship Id="rId3" Type="http://schemas.openxmlformats.org/officeDocument/2006/relationships/image" Target="../media/image48.gif"/><Relationship Id="rId4" Type="http://schemas.openxmlformats.org/officeDocument/2006/relationships/image" Target="../media/image48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image" Target="../media/image49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gif"/><Relationship Id="rId3" Type="http://schemas.openxmlformats.org/officeDocument/2006/relationships/image" Target="../media/image50.gif"/><Relationship Id="rId4" Type="http://schemas.openxmlformats.org/officeDocument/2006/relationships/image" Target="../media/image50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3.gif"/><Relationship Id="rId4" Type="http://schemas.openxmlformats.org/officeDocument/2006/relationships/image" Target="../media/image53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4.gif"/><Relationship Id="rId4" Type="http://schemas.openxmlformats.org/officeDocument/2006/relationships/image" Target="../media/image54.gif"/><Relationship Id="rId5" Type="http://schemas.openxmlformats.org/officeDocument/2006/relationships/image" Target="../media/image54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gi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p=5&amp;ed=1&amp;text=&#1095;&#1072;&#1081;&#1082;&#1072;%20&#1087;&#1090;&#1080;&#1094;&#1072;&amp;spsite=club.foto.ru&amp;img_url=club.foto.ru/gallery/images/photo/2007/10/24/971369.jpg&amp;rpt=simage&amp;nl=1" TargetMode="External"/><Relationship Id="rId3" Type="http://schemas.openxmlformats.org/officeDocument/2006/relationships/image" Target="../media/image56.png"/><Relationship Id="rId4" Type="http://schemas.openxmlformats.org/officeDocument/2006/relationships/hyperlink" Target="http://mathforum.org/varnelle/images/bird.gif" TargetMode="External"/><Relationship Id="rId5" Type="http://schemas.openxmlformats.org/officeDocument/2006/relationships/image" Target="../media/image57.png"/><Relationship Id="rId6" Type="http://schemas.openxmlformats.org/officeDocument/2006/relationships/hyperlink" Target="http://images.yandex.ru/yandsearch?p=5&amp;ed=1&amp;text=&#1095;&#1072;&#1081;&#1082;&#1072;%20&#1087;&#1090;&#1080;&#1094;&#1072;&amp;spsite=club.foto.ru&amp;img_url=club.foto.ru/gallery/images/photo/2007/10/24/971369.jpg&amp;rpt=simage&amp;nl=1" TargetMode="External"/><Relationship Id="rId7" Type="http://schemas.openxmlformats.org/officeDocument/2006/relationships/image" Target="../media/image56.png"/><Relationship Id="rId8" Type="http://schemas.openxmlformats.org/officeDocument/2006/relationships/hyperlink" Target="http://images.yandex.ru/yandsearch?p=5&amp;ed=1&amp;text=&#1095;&#1072;&#1081;&#1082;&#1072;%20&#1087;&#1090;&#1080;&#1094;&#1072;&amp;spsite=club.foto.ru&amp;img_url=club.foto.ru/gallery/images/photo/2007/10/24/971369.jpg&amp;rpt=simage&amp;nl=1" TargetMode="External"/><Relationship Id="rId9" Type="http://schemas.openxmlformats.org/officeDocument/2006/relationships/image" Target="../media/image56.png"/><Relationship Id="rId10" Type="http://schemas.openxmlformats.org/officeDocument/2006/relationships/slide" Target="slide19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image" Target="../media/image5.png"/><Relationship Id="rId9" Type="http://schemas.openxmlformats.org/officeDocument/2006/relationships/hyperlink" Target="http://in-yaz-book.ru/in-yaz-book2.jpg" TargetMode="External"/><Relationship Id="rId10" Type="http://schemas.openxmlformats.org/officeDocument/2006/relationships/image" Target="../media/image6.png"/><Relationship Id="rId11" Type="http://schemas.openxmlformats.org/officeDocument/2006/relationships/slide" Target="slide3.xml"/><Relationship Id="rId12" Type="http://schemas.openxmlformats.org/officeDocument/2006/relationships/image" Target="../media/image7.png"/><Relationship Id="rId13" Type="http://schemas.openxmlformats.org/officeDocument/2006/relationships/slide" Target="slide3.xml"/><Relationship Id="rId14" Type="http://schemas.openxmlformats.org/officeDocument/2006/relationships/image" Target="../media/image8.png"/><Relationship Id="rId15" Type="http://schemas.openxmlformats.org/officeDocument/2006/relationships/slide" Target="slide18.xml"/><Relationship Id="rId16" Type="http://schemas.openxmlformats.org/officeDocument/2006/relationships/image" Target="../media/image9.png"/><Relationship Id="rId17" Type="http://schemas.openxmlformats.org/officeDocument/2006/relationships/slide" Target="slide18.xml"/><Relationship Id="rId18" Type="http://schemas.openxmlformats.org/officeDocument/2006/relationships/image" Target="../media/image10.png"/><Relationship Id="rId19" Type="http://schemas.openxmlformats.org/officeDocument/2006/relationships/slide" Target="slide5.xml"/><Relationship Id="rId20" Type="http://schemas.openxmlformats.org/officeDocument/2006/relationships/image" Target="../media/image9.png"/><Relationship Id="rId21" Type="http://schemas.openxmlformats.org/officeDocument/2006/relationships/slide" Target="slide5.xml"/><Relationship Id="rId22" Type="http://schemas.openxmlformats.org/officeDocument/2006/relationships/image" Target="../media/image11.png"/><Relationship Id="rId23" Type="http://schemas.openxmlformats.org/officeDocument/2006/relationships/slide" Target="slide6.xml"/><Relationship Id="rId24" Type="http://schemas.openxmlformats.org/officeDocument/2006/relationships/image" Target="../media/image12.png"/><Relationship Id="rId25" Type="http://schemas.openxmlformats.org/officeDocument/2006/relationships/slide" Target="slide6.xml"/><Relationship Id="rId26" Type="http://schemas.openxmlformats.org/officeDocument/2006/relationships/image" Target="../media/image13.png"/><Relationship Id="rId27" Type="http://schemas.openxmlformats.org/officeDocument/2006/relationships/slide" Target="slide8.xml"/><Relationship Id="rId28" Type="http://schemas.openxmlformats.org/officeDocument/2006/relationships/image" Target="../media/image14.png"/><Relationship Id="rId29" Type="http://schemas.openxmlformats.org/officeDocument/2006/relationships/slide" Target="slide8.xml"/><Relationship Id="rId30" Type="http://schemas.openxmlformats.org/officeDocument/2006/relationships/image" Target="../media/image15.png"/><Relationship Id="rId31" Type="http://schemas.openxmlformats.org/officeDocument/2006/relationships/hyperlink" Target="http://fotki.yandex.ru/users/f-glasting/view/123001" TargetMode="External"/><Relationship Id="rId32" Type="http://schemas.openxmlformats.org/officeDocument/2006/relationships/image" Target="../media/image16.pn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hotwalls.ru/view/isolated_pine_tree-1152x864.html" TargetMode="External"/><Relationship Id="rId2" Type="http://schemas.openxmlformats.org/officeDocument/2006/relationships/hyperlink" Target="http://hotwalls.ru/view/isolated_pine_tree-1152x864.html" TargetMode="External"/><Relationship Id="rId3" Type="http://schemas.openxmlformats.org/officeDocument/2006/relationships/hyperlink" Target="http://hotwalls.ru/view/isolated_pine_tree-1152x864.html" TargetMode="External"/><Relationship Id="rId4" Type="http://schemas.openxmlformats.org/officeDocument/2006/relationships/hyperlink" Target="http://hotwalls.ru/view/isolated_pine_tree-1152x864.html" TargetMode="External"/><Relationship Id="rId5" Type="http://schemas.openxmlformats.org/officeDocument/2006/relationships/hyperlink" Target="http://hotwalls.ru/view/isolated_pine_tree-1152x864.html" TargetMode="External"/><Relationship Id="rId6" Type="http://schemas.openxmlformats.org/officeDocument/2006/relationships/hyperlink" Target="http://hotwalls.ru/view/isolated_pine_tree-1152x864.html" TargetMode="External"/><Relationship Id="rId7" Type="http://schemas.openxmlformats.org/officeDocument/2006/relationships/hyperlink" Target="http://www.foto-present.ru/item150/3/" TargetMode="External"/><Relationship Id="rId8" Type="http://schemas.openxmlformats.org/officeDocument/2006/relationships/hyperlink" Target="http://izdat.karelia.ru/index.php?year=2010&amp;month=02&amp;day=04" TargetMode="External"/><Relationship Id="rId9" Type="http://schemas.openxmlformats.org/officeDocument/2006/relationships/hyperlink" Target="http://izdat.karelia.ru/index.php?year=2010&amp;month=02&amp;day=04" TargetMode="External"/><Relationship Id="rId10" Type="http://schemas.openxmlformats.org/officeDocument/2006/relationships/hyperlink" Target="http://izdat.karelia.ru/index.php?year=2010&amp;month=02&amp;day=04" TargetMode="External"/><Relationship Id="rId11" Type="http://schemas.openxmlformats.org/officeDocument/2006/relationships/hyperlink" Target="http://izdat.karelia.ru/index.php?year=2010&amp;month=02&amp;day=04" TargetMode="External"/><Relationship Id="rId12" Type="http://schemas.openxmlformats.org/officeDocument/2006/relationships/hyperlink" Target="http://aeterna.ru/test.php?link=s:51658" TargetMode="External"/><Relationship Id="rId13" Type="http://schemas.openxmlformats.org/officeDocument/2006/relationships/hyperlink" Target="http://aeterna.ru/test.php?link=s:51658" TargetMode="External"/><Relationship Id="rId14" Type="http://schemas.openxmlformats.org/officeDocument/2006/relationships/hyperlink" Target="http://aeterna.ru/test.php?link=s:51658" TargetMode="External"/><Relationship Id="rId15" Type="http://schemas.openxmlformats.org/officeDocument/2006/relationships/hyperlink" Target="http://aeterna.ru/test.php?link=s:51658" TargetMode="External"/><Relationship Id="rId16" Type="http://schemas.openxmlformats.org/officeDocument/2006/relationships/hyperlink" Target="http://saintpetersburg.olx.ru/iid-65651738" TargetMode="External"/><Relationship Id="rId17" Type="http://schemas.openxmlformats.org/officeDocument/2006/relationships/hyperlink" Target="http://nifiga-sebe.ru/index.php?newsid=626" TargetMode="External"/><Relationship Id="rId18" Type="http://schemas.openxmlformats.org/officeDocument/2006/relationships/hyperlink" Target="http://nifiga-sebe.ru/index.php?newsid=626" TargetMode="External"/><Relationship Id="rId19" Type="http://schemas.openxmlformats.org/officeDocument/2006/relationships/hyperlink" Target="http://www.zoo-tovar.ru/index.php?cat=2453&amp;sub=6085&amp;id=216770313&amp;diag=115&amp;prn=1" TargetMode="External"/><Relationship Id="rId20" Type="http://schemas.openxmlformats.org/officeDocument/2006/relationships/hyperlink" Target="http://www.zoo-tovar.ru/index.php?cat=2453&amp;sub=6085&amp;id=216770313&amp;diag=115&amp;prn=1" TargetMode="External"/><Relationship Id="rId21" Type="http://schemas.openxmlformats.org/officeDocument/2006/relationships/hyperlink" Target="http://www.zoo-tovar.ru/index.php?cat=2453&amp;sub=6085&amp;id=216770313&amp;diag=115&amp;prn=1" TargetMode="External"/><Relationship Id="rId22" Type="http://schemas.openxmlformats.org/officeDocument/2006/relationships/hyperlink" Target="http://www.zoo-tovar.ru/index.php?cat=2453&amp;sub=6085&amp;id=216770313&amp;diag=115&amp;prn=1" TargetMode="External"/><Relationship Id="rId23" Type="http://schemas.openxmlformats.org/officeDocument/2006/relationships/hyperlink" Target="http://www.tvoyrebenok.ru/pictures_animals.shtml" TargetMode="External"/><Relationship Id="rId24" Type="http://schemas.openxmlformats.org/officeDocument/2006/relationships/hyperlink" Target="http://www.tvoyrebenok.ru/pictures_animals.shtml" TargetMode="External"/><Relationship Id="rId25" Type="http://schemas.openxmlformats.org/officeDocument/2006/relationships/hyperlink" Target="http://www.tvoyrebenok.ru/pictures_animals.shtml" TargetMode="External"/><Relationship Id="rId26" Type="http://schemas.openxmlformats.org/officeDocument/2006/relationships/hyperlink" Target="http://www.tvoyrebenok.ru/pictures_animals.shtml" TargetMode="External"/><Relationship Id="rId27" Type="http://schemas.openxmlformats.org/officeDocument/2006/relationships/hyperlink" Target="http://www.tvoyrebenok.ru/pictures_animals.shtml" TargetMode="External"/><Relationship Id="rId28" Type="http://schemas.openxmlformats.org/officeDocument/2006/relationships/hyperlink" Target="http://sharik.ru/production/prod/detail_prmid_dta13387.html" TargetMode="External"/><Relationship Id="rId29" Type="http://schemas.openxmlformats.org/officeDocument/2006/relationships/hyperlink" Target="http://sharik.ru/production/prod/detail_prmid_dta13387.html" TargetMode="External"/><Relationship Id="rId30" Type="http://schemas.openxmlformats.org/officeDocument/2006/relationships/hyperlink" Target="http://sharik.ru/production/prod/detail_prmid_dta13387.html" TargetMode="External"/><Relationship Id="rId31" Type="http://schemas.openxmlformats.org/officeDocument/2006/relationships/hyperlink" Target="http://sharik.ru/production/prod/detail_prmid_dta13387.html" TargetMode="External"/><Relationship Id="rId32" Type="http://schemas.openxmlformats.org/officeDocument/2006/relationships/hyperlink" Target="http://sharik.ru/production/prod/detail_prmid_dta13387.html" TargetMode="External"/><Relationship Id="rId33" Type="http://schemas.openxmlformats.org/officeDocument/2006/relationships/hyperlink" Target="http://sharik.ru/production/prod/detail_prmid_dta13387.html" TargetMode="External"/><Relationship Id="rId34" Type="http://schemas.openxmlformats.org/officeDocument/2006/relationships/hyperlink" Target="http://sharik.ru/production/prod/detail_prmid_dta13387.html" TargetMode="External"/><Relationship Id="rId35" Type="http://schemas.openxmlformats.org/officeDocument/2006/relationships/hyperlink" Target="http://sharik.ru/production/prod/detail_prmid_dta13387.html" TargetMode="External"/><Relationship Id="rId36" Type="http://schemas.openxmlformats.org/officeDocument/2006/relationships/hyperlink" Target="http://zatey.ru/production/prod/detail.php?ID=71146" TargetMode="External"/><Relationship Id="rId37" Type="http://schemas.openxmlformats.org/officeDocument/2006/relationships/hyperlink" Target="http://zatey.ru/production/prod/detail.php?ID=71146" TargetMode="External"/><Relationship Id="rId38" Type="http://schemas.openxmlformats.org/officeDocument/2006/relationships/hyperlink" Target="http://zatey.ru/production/prod/detail.php?ID=71146" TargetMode="External"/><Relationship Id="rId39" Type="http://schemas.openxmlformats.org/officeDocument/2006/relationships/hyperlink" Target="http://zatey.ru/production/prod/detail.php?ID=71146" TargetMode="External"/><Relationship Id="rId40" Type="http://schemas.openxmlformats.org/officeDocument/2006/relationships/hyperlink" Target="http://zatey.ru/production/prod/detail.php?ID=71146" TargetMode="External"/><Relationship Id="rId41" Type="http://schemas.openxmlformats.org/officeDocument/2006/relationships/hyperlink" Target="http://zatey.ru/production/prod/detail.php?ID=71146" TargetMode="External"/><Relationship Id="rId42" Type="http://schemas.openxmlformats.org/officeDocument/2006/relationships/hyperlink" Target="http://zatey.ru/production/prod/detail.php?ID=71146" TargetMode="External"/><Relationship Id="rId43" Type="http://schemas.openxmlformats.org/officeDocument/2006/relationships/hyperlink" Target="http://zatey.ru/production/prod/detail.php?ID=71146" TargetMode="External"/><Relationship Id="rId44" Type="http://schemas.openxmlformats.org/officeDocument/2006/relationships/hyperlink" Target="http://www.egraphic.ru/photoshop-tutorials/photo-effects/11882-neobychnyjj-sposob-sozdanija-podvodnogo-jeffekta.html" TargetMode="External"/><Relationship Id="rId45" Type="http://schemas.openxmlformats.org/officeDocument/2006/relationships/hyperlink" Target="http://www.egraphic.ru/photoshop-tutorials/photo-effects/11882-neobychnyjj-sposob-sozdanija-podvodnogo-jeffekta.html" TargetMode="External"/><Relationship Id="rId46" Type="http://schemas.openxmlformats.org/officeDocument/2006/relationships/hyperlink" Target="http://www.egraphic.ru/photoshop-tutorials/photo-effects/11882-neobychnyjj-sposob-sozdanija-podvodnogo-jeffekta.html" TargetMode="External"/><Relationship Id="rId47" Type="http://schemas.openxmlformats.org/officeDocument/2006/relationships/hyperlink" Target="http://www.egraphic.ru/photoshop-tutorials/photo-effects/11882-neobychnyjj-sposob-sozdanija-podvodnogo-jeffekta.html" TargetMode="External"/><Relationship Id="rId48" Type="http://schemas.openxmlformats.org/officeDocument/2006/relationships/hyperlink" Target="http://www.egraphic.ru/photoshop-tutorials/photo-effects/11882-neobychnyjj-sposob-sozdanija-podvodnogo-jeffekta.html" TargetMode="External"/><Relationship Id="rId49" Type="http://schemas.openxmlformats.org/officeDocument/2006/relationships/hyperlink" Target="http://www.egraphic.ru/photoshop-tutorials/photo-effects/11882-neobychnyjj-sposob-sozdanija-podvodnogo-jeffekta.html" TargetMode="External"/><Relationship Id="rId50" Type="http://schemas.openxmlformats.org/officeDocument/2006/relationships/hyperlink" Target="http://www.egraphic.ru/photoshop-tutorials/photo-effects/11882-neobychnyjj-sposob-sozdanija-podvodnogo-jeffekta.html" TargetMode="External"/><Relationship Id="rId51" Type="http://schemas.openxmlformats.org/officeDocument/2006/relationships/hyperlink" Target="http://www.egraphic.ru/photoshop-tutorials/photo-effects/11882-neobychnyjj-sposob-sozdanija-podvodnogo-jeffekta.html" TargetMode="External"/><Relationship Id="rId52" Type="http://schemas.openxmlformats.org/officeDocument/2006/relationships/hyperlink" Target="http://www.cartoonclipartfree.com/Cliparts_Free/Urlaub_Free/Cartoon_Clipart_Free_Page_2.html" TargetMode="External"/><Relationship Id="rId53" Type="http://schemas.openxmlformats.org/officeDocument/2006/relationships/hyperlink" Target="http://www.cartoonclipartfree.com/Cliparts_Free/Urlaub_Free/Cartoon_Clipart_Free_Page_2.html" TargetMode="External"/><Relationship Id="rId54" Type="http://schemas.openxmlformats.org/officeDocument/2006/relationships/hyperlink" Target="http://www.cartoonclipartfree.com/Cliparts_Free/Urlaub_Free/Cartoon_Clipart_Free_Page_2.html" TargetMode="External"/><Relationship Id="rId55" Type="http://schemas.openxmlformats.org/officeDocument/2006/relationships/hyperlink" Target="http://www.cartoonclipartfree.com/Cliparts_Free/Urlaub_Free/Cartoon_Clipart_Free_Page_2.html" TargetMode="External"/><Relationship Id="rId56" Type="http://schemas.openxmlformats.org/officeDocument/2006/relationships/hyperlink" Target="http://www.cartoonclipartfree.com/Cliparts_Free/Urlaub_Free/Cartoon_Clipart_Free_Page_2.html" TargetMode="External"/><Relationship Id="rId57" Type="http://schemas.openxmlformats.org/officeDocument/2006/relationships/hyperlink" Target="http://www.cartoonclipartfree.com/Cliparts_Free/Urlaub_Free/Cartoon_Clipart_Free_Page_2.html" TargetMode="External"/><Relationship Id="rId58" Type="http://schemas.openxmlformats.org/officeDocument/2006/relationships/hyperlink" Target="http://www.cartoonclipartfree.com/Cliparts_Free/Urlaub_Free/Cartoon_Clipart_Free_Page_2.html" TargetMode="External"/><Relationship Id="rId59" Type="http://schemas.openxmlformats.org/officeDocument/2006/relationships/hyperlink" Target="http://www.cartoonclipartfree.com/Cliparts_Free/Urlaub_Free/Cartoon_Clipart_Free_Page_2.html" TargetMode="External"/><Relationship Id="rId60" Type="http://schemas.openxmlformats.org/officeDocument/2006/relationships/hyperlink" Target="http://www.igraza.ru/page-1-1-3.html" TargetMode="External"/><Relationship Id="rId61" Type="http://schemas.openxmlformats.org/officeDocument/2006/relationships/hyperlink" Target="http://www.igraza.ru/page-1-1-3.html" TargetMode="External"/><Relationship Id="rId62" Type="http://schemas.openxmlformats.org/officeDocument/2006/relationships/hyperlink" Target="http://www.igraza.ru/page-1-1-3.html" TargetMode="External"/><Relationship Id="rId63" Type="http://schemas.openxmlformats.org/officeDocument/2006/relationships/hyperlink" Target="http://www.igraza.ru/page-1-1-3.html" TargetMode="External"/><Relationship Id="rId64" Type="http://schemas.openxmlformats.org/officeDocument/2006/relationships/hyperlink" Target="http://festival.1september.ru/articles/538166/" TargetMode="External"/><Relationship Id="rId65" Type="http://schemas.openxmlformats.org/officeDocument/2006/relationships/hyperlink" Target="http://festival.1september.ru/articles/538166/" TargetMode="External"/><Relationship Id="rId66" Type="http://schemas.openxmlformats.org/officeDocument/2006/relationships/hyperlink" Target="http://festival.1september.ru/articles/538166/" TargetMode="External"/><Relationship Id="rId67" Type="http://schemas.openxmlformats.org/officeDocument/2006/relationships/hyperlink" Target="http://festival.1september.ru/articles/538166/" TargetMode="External"/><Relationship Id="rId68" Type="http://schemas.openxmlformats.org/officeDocument/2006/relationships/hyperlink" Target="http://www.kids-price.ru/smoby_kassovyj_apparat_hello_kitty_550474.html" TargetMode="External"/><Relationship Id="rId69" Type="http://schemas.openxmlformats.org/officeDocument/2006/relationships/hyperlink" Target="http://www.kids-price.ru/smoby_kassovyj_apparat_hello_kitty_550474.html" TargetMode="External"/><Relationship Id="rId70" Type="http://schemas.openxmlformats.org/officeDocument/2006/relationships/hyperlink" Target="http://www.kids-price.ru/smoby_kassovyj_apparat_hello_kitty_550474.html" TargetMode="External"/><Relationship Id="rId71" Type="http://schemas.openxmlformats.org/officeDocument/2006/relationships/hyperlink" Target="http://www.kids-price.ru/smoby_kassovyj_apparat_hello_kitty_550474.html" TargetMode="External"/><Relationship Id="rId72" Type="http://schemas.openxmlformats.org/officeDocument/2006/relationships/hyperlink" Target="http://vlaschenko-valentin.narod.ru/photoalbum5.html" TargetMode="External"/><Relationship Id="rId73" Type="http://schemas.openxmlformats.org/officeDocument/2006/relationships/hyperlink" Target="http://vlaschenko-valentin.narod.ru/photoalbum5.html" TargetMode="External"/><Relationship Id="rId74" Type="http://schemas.openxmlformats.org/officeDocument/2006/relationships/hyperlink" Target="http://vlaschenko-valentin.narod.ru/photoalbum5.html" TargetMode="External"/><Relationship Id="rId75" Type="http://schemas.openxmlformats.org/officeDocument/2006/relationships/hyperlink" Target="http://vlaschenko-valentin.narod.ru/photoalbum5.html" TargetMode="External"/><Relationship Id="rId76" Type="http://schemas.openxmlformats.org/officeDocument/2006/relationships/hyperlink" Target="http://www.art-apple.ru/thumbnails.php?album=35" TargetMode="External"/><Relationship Id="rId77" Type="http://schemas.openxmlformats.org/officeDocument/2006/relationships/hyperlink" Target="http://www.art-apple.ru/thumbnails.php?album=35" TargetMode="External"/><Relationship Id="rId78" Type="http://schemas.openxmlformats.org/officeDocument/2006/relationships/hyperlink" Target="http://www.art-apple.ru/thumbnails.php?album=35" TargetMode="External"/><Relationship Id="rId79" Type="http://schemas.openxmlformats.org/officeDocument/2006/relationships/hyperlink" Target="http://www.art-apple.ru/thumbnails.php?album=35" TargetMode="External"/><Relationship Id="rId80" Type="http://schemas.openxmlformats.org/officeDocument/2006/relationships/hyperlink" Target="http://www.artsides.ru/?ItemID=2364&amp;ItemName=%C5%EB%FC" TargetMode="External"/><Relationship Id="rId81" Type="http://schemas.openxmlformats.org/officeDocument/2006/relationships/hyperlink" Target="http://www.artsides.ru/?ItemID=2364&amp;ItemName=%C5%EB%FC" TargetMode="External"/><Relationship Id="rId82" Type="http://schemas.openxmlformats.org/officeDocument/2006/relationships/hyperlink" Target="http://www.artsides.ru/?ItemID=2364&amp;ItemName=%C5%EB%FC" TargetMode="External"/><Relationship Id="rId83" Type="http://schemas.openxmlformats.org/officeDocument/2006/relationships/hyperlink" Target="http://www.artsides.ru/?ItemID=2364&amp;ItemName=%C5%EB%FC" TargetMode="External"/><Relationship Id="rId8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hrlar.ru/rus/myfiles/material/foil/901559V-big,jpg" TargetMode="External"/><Relationship Id="rId2" Type="http://schemas.openxmlformats.org/officeDocument/2006/relationships/hyperlink" Target="http://www.shrlar.ru/rus/myfiles/material/foil/901559V-big,jpg" TargetMode="External"/><Relationship Id="rId3" Type="http://schemas.openxmlformats.org/officeDocument/2006/relationships/hyperlink" Target="http://www.shrlar.ru/rus/myfiles/material/foil/901559V-big,jpg" TargetMode="External"/><Relationship Id="rId4" Type="http://schemas.openxmlformats.org/officeDocument/2006/relationships/hyperlink" Target="http://juliadesing.ucoz.ru/_ph/5/2/616671756.jpg" TargetMode="External"/><Relationship Id="rId5" Type="http://schemas.openxmlformats.org/officeDocument/2006/relationships/hyperlink" Target="http://juliadesing.ucoz.ru/_ph/5/2/616671756.jpg" TargetMode="External"/><Relationship Id="rId6" Type="http://schemas.openxmlformats.org/officeDocument/2006/relationships/hyperlink" Target="http://juliadesing.ucoz.ru/_ph/5/2/616671756.jpg" TargetMode="External"/><Relationship Id="rId7" Type="http://schemas.openxmlformats.org/officeDocument/2006/relationships/hyperlink" Target="http://norbekoclub.ru/upload/blog/10f/10f4b13a485b327297c420d710415a6c.jpg" TargetMode="External"/><Relationship Id="rId8" Type="http://schemas.openxmlformats.org/officeDocument/2006/relationships/hyperlink" Target="http://norbekoclub.ru/upload/blog/10f/10f4b13a485b327297c420d710415a6c.jpg" TargetMode="External"/><Relationship Id="rId9" Type="http://schemas.openxmlformats.org/officeDocument/2006/relationships/hyperlink" Target="http://norbekoclub.ru/upload/blog/10f/10f4b13a485b327297c420d710415a6c.jpg" TargetMode="External"/><Relationship Id="rId10" Type="http://schemas.openxmlformats.org/officeDocument/2006/relationships/hyperlink" Target="http://www.prazd-pack.ru/i_prod/1207-0455.jpg" TargetMode="External"/><Relationship Id="rId11" Type="http://schemas.openxmlformats.org/officeDocument/2006/relationships/hyperlink" Target="http://www.prazd-pack.ru/i_prod/1207-0455.jpg" TargetMode="External"/><Relationship Id="rId12" Type="http://schemas.openxmlformats.org/officeDocument/2006/relationships/hyperlink" Target="http://www.prazd-pack.ru/i_prod/1207-0455.jpg" TargetMode="External"/><Relationship Id="rId13" Type="http://schemas.openxmlformats.org/officeDocument/2006/relationships/hyperlink" Target="http://images.yandex.ru/yandsearch?p=5&amp;ed=1&amp;text=club.foto.ru&amp;img_url=club.foto.ru/gallegy/images/foto/2007/10/24/971369.jpg" TargetMode="External"/><Relationship Id="rId14" Type="http://schemas.openxmlformats.org/officeDocument/2006/relationships/hyperlink" Target="http://images.yandex.ru/yandsearch?p=5&amp;ed=1&amp;text=club.foto.ru&amp;img_url=club.foto.ru/gallegy/images/foto/2007/10/24/971369.jpg" TargetMode="External"/><Relationship Id="rId15" Type="http://schemas.openxmlformats.org/officeDocument/2006/relationships/hyperlink" Target="http://images.yandex.ru/yandsearch?p=5&amp;ed=1&amp;text=club.foto.ru&amp;img_url=club.foto.ru/gallegy/images/foto/2007/10/24/971369.jpg" TargetMode="External"/><Relationship Id="rId16" Type="http://schemas.openxmlformats.org/officeDocument/2006/relationships/hyperlink" Target="http://images.yandex.ru/yandsearch?p=5&amp;ed=1&amp;text=club.foto.ru&amp;img_url=club.foto.ru/gallegy/images/foto/2007/10/24/971369.jpg" TargetMode="External"/><Relationship Id="rId17" Type="http://schemas.openxmlformats.org/officeDocument/2006/relationships/hyperlink" Target="http://images.yandex.ru/yandsearch?p=5&amp;ed=1&amp;text=club.foto.ru&amp;img_url=club.foto.ru/gallegy/images/foto/2007/10/24/971369.jpg" TargetMode="External"/><Relationship Id="rId18" Type="http://schemas.openxmlformats.org/officeDocument/2006/relationships/hyperlink" Target="http://images.yandex.ru/yandsearch?p=5&amp;ed=1&amp;text=club.foto.ru&amp;img_url=club.foto.ru/gallegy/images/foto/2007/10/24/971369.jpg" TargetMode="External"/><Relationship Id="rId19" Type="http://schemas.openxmlformats.org/officeDocument/2006/relationships/hyperlink" Target="http://images.yandex.ru/yandsearch?p=5&amp;ed=1&amp;text=club.foto.ru&amp;img_url=club.foto.ru/gallegy/images/foto/2007/10/24/971369.jpg" TargetMode="External"/><Relationship Id="rId20" Type="http://schemas.openxmlformats.org/officeDocument/2006/relationships/hyperlink" Target="http://psixi-nasvobode.clan.su/news/c_1_sentjabrja/2009-09-01-54" TargetMode="External"/><Relationship Id="rId21" Type="http://schemas.openxmlformats.org/officeDocument/2006/relationships/hyperlink" Target="http://psixi-nasvobode.clan.su/news/c_1_sentjabrja/2009-09-01-54" TargetMode="External"/><Relationship Id="rId22" Type="http://schemas.openxmlformats.org/officeDocument/2006/relationships/hyperlink" Target="http://psixi-nasvobode.clan.su/news/c_1_sentjabrja/2009-09-01-54" TargetMode="External"/><Relationship Id="rId23" Type="http://schemas.openxmlformats.org/officeDocument/2006/relationships/hyperlink" Target="http://psixi-nasvobode.clan.su/news/c_1_sentjabrja/2009-09-01-54" TargetMode="External"/><Relationship Id="rId24" Type="http://schemas.openxmlformats.org/officeDocument/2006/relationships/hyperlink" Target="http://psixi-nasvobode.clan.su/news/c_1_sentjabrja/2009-09-01-54" TargetMode="External"/><Relationship Id="rId25" Type="http://schemas.openxmlformats.org/officeDocument/2006/relationships/hyperlink" Target="http://psixi-nasvobode.clan.su/news/c_1_sentjabrja/2009-09-01-54" TargetMode="External"/><Relationship Id="rId26" Type="http://schemas.openxmlformats.org/officeDocument/2006/relationships/hyperlink" Target="http://psixi-nasvobode.clan.su/news/c_1_sentjabrja/2009-09-01-54" TargetMode="External"/><Relationship Id="rId27" Type="http://schemas.openxmlformats.org/officeDocument/2006/relationships/hyperlink" Target="http://psixi-nasvobode.clan.su/news/c_1_sentjabrja/2009-09-01-54" TargetMode="External"/><Relationship Id="rId28" Type="http://schemas.openxmlformats.org/officeDocument/2006/relationships/hyperlink" Target="http://psixi-nasvobode.clan.su/news/c_1_sentjabrja/2009-09-01-54" TargetMode="External"/><Relationship Id="rId29" Type="http://schemas.openxmlformats.org/officeDocument/2006/relationships/hyperlink" Target="http://psixi-nasvobode.clan.su/news/c_1_sentjabrja/2009-09-01-54" TargetMode="External"/><Relationship Id="rId30" Type="http://schemas.openxmlformats.org/officeDocument/2006/relationships/hyperlink" Target="http://psixi-nasvobode.clan.su/news/c_1_sentjabrja/2009-09-01-54" TargetMode="External"/><Relationship Id="rId31" Type="http://schemas.openxmlformats.org/officeDocument/2006/relationships/hyperlink" Target="http://psixi-nasvobode.clan.su/news/c_1_sentjabrja/2009-09-01-54" TargetMode="External"/><Relationship Id="rId32" Type="http://schemas.openxmlformats.org/officeDocument/2006/relationships/hyperlink" Target="http://psixi-nasvobode.clan.su/news/c_1_sentjabrja/2009-09-01-54" TargetMode="External"/><Relationship Id="rId33" Type="http://schemas.openxmlformats.org/officeDocument/2006/relationships/hyperlink" Target="http://psixi-nasvobode.clan.su/news/c_1_sentjabrja/2009-09-01-54" TargetMode="External"/><Relationship Id="rId34" Type="http://schemas.openxmlformats.org/officeDocument/2006/relationships/hyperlink" Target="http://psixi-nasvobode.clan.su/news/c_1_sentjabrja/2009-09-01-54" TargetMode="External"/><Relationship Id="rId35" Type="http://schemas.openxmlformats.org/officeDocument/2006/relationships/hyperlink" Target="http://psixi-nasvobode.clan.su/news/c_1_sentjabrja/2009-09-01-54" TargetMode="External"/><Relationship Id="rId36" Type="http://schemas.openxmlformats.org/officeDocument/2006/relationships/hyperlink" Target="http://poiskm.ru/song/190522-Detskaya-CHunga-CHangakaraoke" TargetMode="External"/><Relationship Id="rId37" Type="http://schemas.openxmlformats.org/officeDocument/2006/relationships/hyperlink" Target="http://poiskm.ru/song/190522-Detskaya-CHunga-CHangakaraoke" TargetMode="External"/><Relationship Id="rId38" Type="http://schemas.openxmlformats.org/officeDocument/2006/relationships/hyperlink" Target="http://poiskm.ru/song/190522-Detskaya-CHunga-CHangakaraoke" TargetMode="External"/><Relationship Id="rId39" Type="http://schemas.openxmlformats.org/officeDocument/2006/relationships/hyperlink" Target="http://poiskm.ru/song/190522-Detskaya-CHunga-CHangakaraoke" TargetMode="External"/><Relationship Id="rId40" Type="http://schemas.openxmlformats.org/officeDocument/2006/relationships/hyperlink" Target="http://poiskm.ru/song/190522-Detskaya-CHunga-CHangakaraoke" TargetMode="External"/><Relationship Id="rId41" Type="http://schemas.openxmlformats.org/officeDocument/2006/relationships/hyperlink" Target="http://poiskm.ru/song/190522-Detskaya-CHunga-CHangakaraoke" TargetMode="External"/><Relationship Id="rId42" Type="http://schemas.openxmlformats.org/officeDocument/2006/relationships/hyperlink" Target="http://mathforum.org/varnelle/ktan4.html" TargetMode="External"/><Relationship Id="rId43" Type="http://schemas.openxmlformats.org/officeDocument/2006/relationships/hyperlink" Target="http://mathforum.org/varnelle/ktan4.html" TargetMode="External"/><Relationship Id="rId44" Type="http://schemas.openxmlformats.org/officeDocument/2006/relationships/hyperlink" Target="http://mathforum.org/varnelle/ktan4.html" TargetMode="External"/><Relationship Id="rId45" Type="http://schemas.openxmlformats.org/officeDocument/2006/relationships/hyperlink" Target="http://mathforum.org/varnelle/ktan4.html" TargetMode="External"/><Relationship Id="rId46" Type="http://schemas.openxmlformats.org/officeDocument/2006/relationships/hyperlink" Target="http://mathforum.org/varnelle/ktan4.html" TargetMode="External"/><Relationship Id="rId47" Type="http://schemas.openxmlformats.org/officeDocument/2006/relationships/hyperlink" Target="http://mathforum.org/varnelle/ktan4.html" TargetMode="External"/><Relationship Id="rId48" Type="http://schemas.openxmlformats.org/officeDocument/2006/relationships/hyperlink" Target="http://fotki.yandex.ru/users/f-glasting/view/123001?page=3" TargetMode="External"/><Relationship Id="rId49" Type="http://schemas.openxmlformats.org/officeDocument/2006/relationships/hyperlink" Target="http://fotki.yandex.ru/users/f-glasting/view/123001?page=3" TargetMode="External"/><Relationship Id="rId50" Type="http://schemas.openxmlformats.org/officeDocument/2006/relationships/hyperlink" Target="http://fotki.yandex.ru/users/f-glasting/view/123001?page=3" TargetMode="External"/><Relationship Id="rId51" Type="http://schemas.openxmlformats.org/officeDocument/2006/relationships/hyperlink" Target="http://fotki.yandex.ru/users/f-glasting/view/123001?page=3" TargetMode="External"/><Relationship Id="rId52" Type="http://schemas.openxmlformats.org/officeDocument/2006/relationships/hyperlink" Target="http://fotki.yandex.ru/users/f-glasting/view/123001?page=3" TargetMode="External"/><Relationship Id="rId53" Type="http://schemas.openxmlformats.org/officeDocument/2006/relationships/hyperlink" Target="http://fotki.yandex.ru/users/f-glasting/view/123001?page=3" TargetMode="External"/><Relationship Id="rId54" Type="http://schemas.openxmlformats.org/officeDocument/2006/relationships/hyperlink" Target="http://fotki.yandex.ru/users/f-glasting/view/123001?page=3" TargetMode="External"/><Relationship Id="rId55" Type="http://schemas.openxmlformats.org/officeDocument/2006/relationships/hyperlink" Target="http://fotki.yandex.ru/users/f-glasting/view/123001?page=3" TargetMode="External"/><Relationship Id="rId56" Type="http://schemas.openxmlformats.org/officeDocument/2006/relationships/hyperlink" Target="http://fotki.yandex.ru/users/f-glasting/view/123001?page=3" TargetMode="External"/><Relationship Id="rId57" Type="http://schemas.openxmlformats.org/officeDocument/2006/relationships/hyperlink" Target="http://fotki.yandex.ru/users/f-glasting/view/123001?page=3" TargetMode="External"/><Relationship Id="rId58" Type="http://schemas.openxmlformats.org/officeDocument/2006/relationships/hyperlink" Target="http://www.druzya-priyateli.ru/forum/index.php?act=Print&amp;client=printer&amp;f=159&amp;t=266" TargetMode="External"/><Relationship Id="rId59" Type="http://schemas.openxmlformats.org/officeDocument/2006/relationships/hyperlink" Target="http://www.druzya-priyateli.ru/forum/index.php?act=Print&amp;client=printer&amp;f=159&amp;t=266" TargetMode="External"/><Relationship Id="rId60" Type="http://schemas.openxmlformats.org/officeDocument/2006/relationships/hyperlink" Target="http://www.druzya-priyateli.ru/forum/index.php?act=Print&amp;client=printer&amp;f=159&amp;t=266" TargetMode="External"/><Relationship Id="rId61" Type="http://schemas.openxmlformats.org/officeDocument/2006/relationships/hyperlink" Target="http://www.druzya-priyateli.ru/forum/index.php?act=Print&amp;client=printer&amp;f=159&amp;t=266" TargetMode="External"/><Relationship Id="rId62" Type="http://schemas.openxmlformats.org/officeDocument/2006/relationships/hyperlink" Target="http://www.druzya-priyateli.ru/forum/index.php?act=Print&amp;client=printer&amp;f=159&amp;t=266" TargetMode="External"/><Relationship Id="rId63" Type="http://schemas.openxmlformats.org/officeDocument/2006/relationships/hyperlink" Target="http://www.druzya-priyateli.ru/forum/index.php?act=Print&amp;client=printer&amp;f=159&amp;t=266" TargetMode="External"/><Relationship Id="rId64" Type="http://schemas.openxmlformats.org/officeDocument/2006/relationships/hyperlink" Target="http://animashky.ru/index/0-11?1-3" TargetMode="External"/><Relationship Id="rId65" Type="http://schemas.openxmlformats.org/officeDocument/2006/relationships/hyperlink" Target="http://animashky.ru/index/0-11?1-3" TargetMode="External"/><Relationship Id="rId66" Type="http://schemas.openxmlformats.org/officeDocument/2006/relationships/hyperlink" Target="http://animashky.ru/index/0-11?1-3" TargetMode="External"/><Relationship Id="rId67" Type="http://schemas.openxmlformats.org/officeDocument/2006/relationships/hyperlink" Target="http://animashky.ru/index/0-11?1-3" TargetMode="External"/><Relationship Id="rId68" Type="http://schemas.openxmlformats.org/officeDocument/2006/relationships/hyperlink" Target="http://animashky.ru/index/0-11?1-3" TargetMode="External"/><Relationship Id="rId69" Type="http://schemas.openxmlformats.org/officeDocument/2006/relationships/hyperlink" Target="http://animashky.ru/index/0-11?1-3" TargetMode="External"/><Relationship Id="rId7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norbekovclub.ru/upload/blog/10f/10f4b13a485b327297c420d710415a6c.jpg" TargetMode="External"/><Relationship Id="rId4" Type="http://schemas.openxmlformats.org/officeDocument/2006/relationships/image" Target="../media/image18.png"/><Relationship Id="rId5" Type="http://schemas.openxmlformats.org/officeDocument/2006/relationships/hyperlink" Target="http://norbekovclub.ru/upload/blog/10f/10f4b13a485b327297c420d710415a6c.jpg" TargetMode="External"/><Relationship Id="rId6" Type="http://schemas.openxmlformats.org/officeDocument/2006/relationships/image" Target="../media/image19.png"/><Relationship Id="rId7" Type="http://schemas.openxmlformats.org/officeDocument/2006/relationships/hyperlink" Target="http://norbekovclub.ru/upload/blog/10f/10f4b13a485b327297c420d710415a6c.jpg" TargetMode="External"/><Relationship Id="rId8" Type="http://schemas.openxmlformats.org/officeDocument/2006/relationships/image" Target="../media/image20.png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razd-pack.ru/i_prod/1207-0421.jpg" TargetMode="External"/><Relationship Id="rId3" Type="http://schemas.openxmlformats.org/officeDocument/2006/relationships/image" Target="../media/image21.png"/><Relationship Id="rId4" Type="http://schemas.openxmlformats.org/officeDocument/2006/relationships/hyperlink" Target="http://www.sharlar.ru/rus/myfiles/material/foil/901632-big.jpg" TargetMode="External"/><Relationship Id="rId5" Type="http://schemas.openxmlformats.org/officeDocument/2006/relationships/image" Target="../media/image22.png"/><Relationship Id="rId6" Type="http://schemas.openxmlformats.org/officeDocument/2006/relationships/hyperlink" Target="http://www.egraphic.ru/images/photoeffects/195/fish.jpg" TargetMode="External"/><Relationship Id="rId7" Type="http://schemas.openxmlformats.org/officeDocument/2006/relationships/image" Target="../media/image23.png"/><Relationship Id="rId8" Type="http://schemas.openxmlformats.org/officeDocument/2006/relationships/hyperlink" Target="http://www.egraphic.ru/images/photoeffects/195/fish.jpg" TargetMode="External"/><Relationship Id="rId9" Type="http://schemas.openxmlformats.org/officeDocument/2006/relationships/image" Target="../media/image23.png"/><Relationship Id="rId10" Type="http://schemas.openxmlformats.org/officeDocument/2006/relationships/hyperlink" Target="http://www.egraphic.ru/images/photoeffects/195/fish.jpg" TargetMode="External"/><Relationship Id="rId11" Type="http://schemas.openxmlformats.org/officeDocument/2006/relationships/image" Target="../media/image24.png"/><Relationship Id="rId12" Type="http://schemas.openxmlformats.org/officeDocument/2006/relationships/hyperlink" Target="http://www.prazd-pack.ru/i_prod/1207-0421.jpg" TargetMode="External"/><Relationship Id="rId13" Type="http://schemas.openxmlformats.org/officeDocument/2006/relationships/image" Target="../media/image25.png"/><Relationship Id="rId14" Type="http://schemas.openxmlformats.org/officeDocument/2006/relationships/hyperlink" Target="http://www.sharlar.ru/rus/myfiles/material/foil/901632-big.jpg" TargetMode="External"/><Relationship Id="rId15" Type="http://schemas.openxmlformats.org/officeDocument/2006/relationships/image" Target="../media/image26.png"/><Relationship Id="rId16" Type="http://schemas.openxmlformats.org/officeDocument/2006/relationships/slide" Target="slide2.xm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yrkin.ru/data/medium/3516.jpeg" TargetMode="External"/><Relationship Id="rId3" Type="http://schemas.openxmlformats.org/officeDocument/2006/relationships/image" Target="../media/image27.png"/><Relationship Id="rId4" Type="http://schemas.openxmlformats.org/officeDocument/2006/relationships/hyperlink" Target="http://www.myrkin.ru/data/medium/3516.jpeg" TargetMode="External"/><Relationship Id="rId5" Type="http://schemas.openxmlformats.org/officeDocument/2006/relationships/image" Target="../media/image28.png"/><Relationship Id="rId6" Type="http://schemas.openxmlformats.org/officeDocument/2006/relationships/slide" Target="slide2.xml"/><Relationship Id="rId7" Type="http://schemas.openxmlformats.org/officeDocument/2006/relationships/hyperlink" Target="http://www.myrkin.ru/data/medium/3516.jpeg" TargetMode="External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ebuses.org.ru/wp-content/uploads/2009-12-21/image027.jpg" TargetMode="External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hyperlink" Target="http://stat11.privet.ru/lr/082583723bfd6d836db1a883102bf19d" TargetMode="External"/><Relationship Id="rId6" Type="http://schemas.openxmlformats.org/officeDocument/2006/relationships/image" Target="../media/image32.png"/><Relationship Id="rId7" Type="http://schemas.openxmlformats.org/officeDocument/2006/relationships/hyperlink" Target="http://juliadesing.ucoz.ru/_ph/5/2/616671756.jpg" TargetMode="External"/><Relationship Id="rId8" Type="http://schemas.openxmlformats.org/officeDocument/2006/relationships/image" Target="../media/image33.png"/><Relationship Id="rId9" Type="http://schemas.openxmlformats.org/officeDocument/2006/relationships/hyperlink" Target="http://juliadesing.ucoz.ru/_ph/5/2/616671756.jpg" TargetMode="External"/><Relationship Id="rId10" Type="http://schemas.openxmlformats.org/officeDocument/2006/relationships/image" Target="../media/image34.png"/><Relationship Id="rId11" Type="http://schemas.openxmlformats.org/officeDocument/2006/relationships/hyperlink" Target="http://juliadesing.ucoz.ru/_ph/5/2/616671756.jpg" TargetMode="External"/><Relationship Id="rId12" Type="http://schemas.openxmlformats.org/officeDocument/2006/relationships/image" Target="../media/image35.pn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hyperlink" Target="http://www.tvoyrebenok.ru/images/drawings/24.jpg" TargetMode="External"/><Relationship Id="rId9" Type="http://schemas.openxmlformats.org/officeDocument/2006/relationships/image" Target="../media/image42.png"/><Relationship Id="rId10" Type="http://schemas.openxmlformats.org/officeDocument/2006/relationships/hyperlink" Target="http://www.tvoyrebenok.ru/images/drawings/24.jpg" TargetMode="External"/><Relationship Id="rId11" Type="http://schemas.openxmlformats.org/officeDocument/2006/relationships/image" Target="../media/image43.png"/><Relationship Id="rId12" Type="http://schemas.openxmlformats.org/officeDocument/2006/relationships/hyperlink" Target="http://www.tvoyrebenok.ru/images/drawings/24.jpg" TargetMode="External"/><Relationship Id="rId13" Type="http://schemas.openxmlformats.org/officeDocument/2006/relationships/image" Target="../media/image44.png"/><Relationship Id="rId14" Type="http://schemas.openxmlformats.org/officeDocument/2006/relationships/slide" Target="slide2.xm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gif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gif"/><Relationship Id="rId3" Type="http://schemas.openxmlformats.org/officeDocument/2006/relationships/image" Target="../media/image4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Лента лицом вниз 32"/>
          <p:cNvSpPr/>
          <p:nvPr/>
        </p:nvSpPr>
        <p:spPr>
          <a:xfrm>
            <a:off x="428760" y="285840"/>
            <a:ext cx="8143920" cy="785880"/>
          </a:xfrm>
          <a:custGeom>
            <a:avLst/>
            <a:gdLst>
              <a:gd name="textAreaLeft" fmla="*/ 2035800 w 8143920"/>
              <a:gd name="textAreaRight" fmla="*/ 6108120 w 8143920"/>
              <a:gd name="textAreaTop" fmla="*/ 131040 h 785880"/>
              <a:gd name="textAreaBottom" fmla="*/ 78624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Путеше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по морю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Группа 14"/>
          <p:cNvGrpSpPr/>
          <p:nvPr/>
        </p:nvGrpSpPr>
        <p:grpSpPr>
          <a:xfrm>
            <a:off x="714240" y="1071720"/>
            <a:ext cx="7929720" cy="5572080"/>
            <a:chOff x="714240" y="1071720"/>
            <a:chExt cx="7929720" cy="5572080"/>
          </a:xfrm>
        </p:grpSpPr>
        <p:pic>
          <p:nvPicPr>
            <p:cNvPr id="50" name="i-main-pic" descr="Картинка 20 из 11738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14240" y="1143000"/>
              <a:ext cx="792972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Блок-схема: перфолента 9"/>
            <p:cNvSpPr/>
            <p:nvPr/>
          </p:nvSpPr>
          <p:spPr>
            <a:xfrm>
              <a:off x="5678640" y="1143000"/>
              <a:ext cx="1311120" cy="1071360"/>
            </a:xfrm>
            <a:prstGeom prst="flowChartPunchedTap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nstantia"/>
                </a:rPr>
                <a:t>г. Ступин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nstantia"/>
                </a:rPr>
                <a:t>Московской обла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Блок-схема: перфолента 10"/>
            <p:cNvSpPr/>
            <p:nvPr/>
          </p:nvSpPr>
          <p:spPr>
            <a:xfrm>
              <a:off x="1955520" y="1785960"/>
              <a:ext cx="1309680" cy="1071360"/>
            </a:xfrm>
            <a:prstGeom prst="flowChartPunchedTap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Касатина Т.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Блок-схема: перфолента 11"/>
            <p:cNvSpPr/>
            <p:nvPr/>
          </p:nvSpPr>
          <p:spPr>
            <a:xfrm>
              <a:off x="3747960" y="1071720"/>
              <a:ext cx="1309680" cy="1071360"/>
            </a:xfrm>
            <a:prstGeom prst="flowChartPunchedTap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Constantia"/>
                </a:rPr>
                <a:t>МСОУ школа № 10</a:t>
              </a:r>
              <a:r>
                <a:rPr b="0" lang="en-US" sz="1600" spc="-1" strike="noStrike">
                  <a:solidFill>
                    <a:srgbClr val="ffffff"/>
                  </a:solidFill>
                  <a:latin typeface="Constantia"/>
                </a:rPr>
                <a:t> VIII </a:t>
              </a:r>
              <a:r>
                <a:rPr b="0" lang="ru-RU" sz="1600" spc="-1" strike="noStrike">
                  <a:solidFill>
                    <a:srgbClr val="ffffff"/>
                  </a:solidFill>
                  <a:latin typeface="Constantia"/>
                </a:rPr>
                <a:t>ви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Блок-схема: перфолента 13"/>
            <p:cNvSpPr/>
            <p:nvPr/>
          </p:nvSpPr>
          <p:spPr>
            <a:xfrm>
              <a:off x="1128600" y="3429000"/>
              <a:ext cx="1171440" cy="928440"/>
            </a:xfrm>
            <a:prstGeom prst="flowChartPunchedTap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nstantia"/>
                </a:rPr>
                <a:t>Учитель начальных класс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Нашивка 6">
            <a:hlinkClick r:id="rId4" action="ppaction://hlinksldjump"/>
          </p:cNvPr>
          <p:cNvSpPr/>
          <p:nvPr/>
        </p:nvSpPr>
        <p:spPr>
          <a:xfrm>
            <a:off x="8302680" y="6302520"/>
            <a:ext cx="841320" cy="555480"/>
          </a:xfrm>
          <a:custGeom>
            <a:avLst/>
            <a:gdLst>
              <a:gd name="textAreaLeft" fmla="*/ 0 w 841320"/>
              <a:gd name="textAreaRight" fmla="*/ 841680 w 84132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68" y="0"/>
                </a:lnTo>
                <a:lnTo>
                  <a:pt x="21600" y="10800"/>
                </a:lnTo>
                <a:lnTo>
                  <a:pt x="14468" y="21600"/>
                </a:lnTo>
                <a:lnTo>
                  <a:pt x="0" y="21600"/>
                </a:lnTo>
                <a:lnTo>
                  <a:pt x="7132" y="10800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4"/>
          <p:cNvSpPr/>
          <p:nvPr/>
        </p:nvSpPr>
        <p:spPr>
          <a:xfrm rot="5400000">
            <a:off x="1392840" y="-892800"/>
            <a:ext cx="6357960" cy="85723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Лента лицом вниз 2"/>
          <p:cNvSpPr/>
          <p:nvPr/>
        </p:nvSpPr>
        <p:spPr>
          <a:xfrm>
            <a:off x="428760" y="285840"/>
            <a:ext cx="8143920" cy="500040"/>
          </a:xfrm>
          <a:custGeom>
            <a:avLst/>
            <a:gdLst>
              <a:gd name="textAreaLeft" fmla="*/ 2035800 w 8143920"/>
              <a:gd name="textAreaRight" fmla="*/ 6108120 w 8143920"/>
              <a:gd name="textAreaTop" fmla="*/ 8316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Физкульт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Рисунок 1" descr="http://animashky.ru/flist/objiv/1/18.gif"/>
          <p:cNvPicPr/>
          <p:nvPr/>
        </p:nvPicPr>
        <p:blipFill>
          <a:blip r:embed="rId2"/>
          <a:stretch/>
        </p:blipFill>
        <p:spPr>
          <a:xfrm>
            <a:off x="2857680" y="1357200"/>
            <a:ext cx="3214440" cy="44895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" descr="http://animashky.ru/flist/objiv/1/18.gif"/>
          <p:cNvPicPr/>
          <p:nvPr/>
        </p:nvPicPr>
        <p:blipFill>
          <a:blip r:embed="rId3"/>
          <a:stretch/>
        </p:blipFill>
        <p:spPr>
          <a:xfrm>
            <a:off x="6143760" y="2255760"/>
            <a:ext cx="1701720" cy="237672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" descr="http://animashky.ru/flist/objiv/1/18.gif"/>
          <p:cNvPicPr/>
          <p:nvPr/>
        </p:nvPicPr>
        <p:blipFill>
          <a:blip r:embed="rId4"/>
          <a:stretch/>
        </p:blipFill>
        <p:spPr>
          <a:xfrm>
            <a:off x="785880" y="2357280"/>
            <a:ext cx="170172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4"/>
          <p:cNvSpPr/>
          <p:nvPr/>
        </p:nvSpPr>
        <p:spPr>
          <a:xfrm rot="5400000">
            <a:off x="1392840" y="-892800"/>
            <a:ext cx="6357960" cy="85723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Лента лицом вниз 2"/>
          <p:cNvSpPr/>
          <p:nvPr/>
        </p:nvSpPr>
        <p:spPr>
          <a:xfrm>
            <a:off x="428760" y="285840"/>
            <a:ext cx="8143920" cy="500040"/>
          </a:xfrm>
          <a:custGeom>
            <a:avLst/>
            <a:gdLst>
              <a:gd name="textAreaLeft" fmla="*/ 2035800 w 8143920"/>
              <a:gd name="textAreaRight" fmla="*/ 6108120 w 8143920"/>
              <a:gd name="textAreaTop" fmla="*/ 8316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Физкульт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6" descr="http://animashky.ru/flist/objiv/32/15.gif"/>
          <p:cNvPicPr/>
          <p:nvPr/>
        </p:nvPicPr>
        <p:blipFill>
          <a:blip r:embed="rId2"/>
          <a:stretch/>
        </p:blipFill>
        <p:spPr>
          <a:xfrm flipH="1">
            <a:off x="713880" y="2286000"/>
            <a:ext cx="4000680" cy="27576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6" descr="http://animashky.ru/flist/objiv/32/15.gif"/>
          <p:cNvPicPr/>
          <p:nvPr/>
        </p:nvPicPr>
        <p:blipFill>
          <a:blip r:embed="rId3"/>
          <a:stretch/>
        </p:blipFill>
        <p:spPr>
          <a:xfrm>
            <a:off x="4857840" y="2286000"/>
            <a:ext cx="3857400" cy="26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4"/>
          <p:cNvSpPr/>
          <p:nvPr/>
        </p:nvSpPr>
        <p:spPr>
          <a:xfrm rot="5400000">
            <a:off x="1392840" y="-892800"/>
            <a:ext cx="6357960" cy="85723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Лента лицом вниз 2"/>
          <p:cNvSpPr/>
          <p:nvPr/>
        </p:nvSpPr>
        <p:spPr>
          <a:xfrm>
            <a:off x="428760" y="285840"/>
            <a:ext cx="8143920" cy="500040"/>
          </a:xfrm>
          <a:custGeom>
            <a:avLst/>
            <a:gdLst>
              <a:gd name="textAreaLeft" fmla="*/ 2035800 w 8143920"/>
              <a:gd name="textAreaRight" fmla="*/ 6108120 w 8143920"/>
              <a:gd name="textAreaTop" fmla="*/ 8316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Физкульт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5" descr="http://animashky.ru/flist/objiv/32/23.gif"/>
          <p:cNvPicPr/>
          <p:nvPr/>
        </p:nvPicPr>
        <p:blipFill>
          <a:blip r:embed="rId2"/>
          <a:stretch/>
        </p:blipFill>
        <p:spPr>
          <a:xfrm>
            <a:off x="0" y="1071720"/>
            <a:ext cx="5000760" cy="44290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6" descr="http://animashky.ru/flist/objiv/32/23.gif"/>
          <p:cNvPicPr/>
          <p:nvPr/>
        </p:nvPicPr>
        <p:blipFill>
          <a:blip r:embed="rId3"/>
          <a:stretch/>
        </p:blipFill>
        <p:spPr>
          <a:xfrm>
            <a:off x="3500280" y="2143080"/>
            <a:ext cx="3857760" cy="31431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7" descr="http://animashky.ru/flist/objiv/32/23.gif"/>
          <p:cNvPicPr/>
          <p:nvPr/>
        </p:nvPicPr>
        <p:blipFill>
          <a:blip r:embed="rId4"/>
          <a:stretch/>
        </p:blipFill>
        <p:spPr>
          <a:xfrm>
            <a:off x="6072120" y="3143160"/>
            <a:ext cx="285768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4"/>
          <p:cNvSpPr/>
          <p:nvPr/>
        </p:nvSpPr>
        <p:spPr>
          <a:xfrm rot="5400000">
            <a:off x="1392840" y="-892800"/>
            <a:ext cx="6357960" cy="85723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Лента лицом вниз 2"/>
          <p:cNvSpPr/>
          <p:nvPr/>
        </p:nvSpPr>
        <p:spPr>
          <a:xfrm>
            <a:off x="428760" y="285840"/>
            <a:ext cx="8143920" cy="500040"/>
          </a:xfrm>
          <a:custGeom>
            <a:avLst/>
            <a:gdLst>
              <a:gd name="textAreaLeft" fmla="*/ 2035800 w 8143920"/>
              <a:gd name="textAreaRight" fmla="*/ 6108120 w 8143920"/>
              <a:gd name="textAreaTop" fmla="*/ 8316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Физкульт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6" descr="http://animashky.ru/flist/objiv/32/40.gif"/>
          <p:cNvPicPr/>
          <p:nvPr/>
        </p:nvPicPr>
        <p:blipFill>
          <a:blip r:embed="rId2"/>
          <a:stretch/>
        </p:blipFill>
        <p:spPr>
          <a:xfrm>
            <a:off x="2643120" y="1500120"/>
            <a:ext cx="307188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4"/>
          <p:cNvSpPr/>
          <p:nvPr/>
        </p:nvSpPr>
        <p:spPr>
          <a:xfrm rot="5400000">
            <a:off x="1392840" y="-892800"/>
            <a:ext cx="6357960" cy="85723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Лента лицом вниз 2"/>
          <p:cNvSpPr/>
          <p:nvPr/>
        </p:nvSpPr>
        <p:spPr>
          <a:xfrm>
            <a:off x="428760" y="285840"/>
            <a:ext cx="8143920" cy="500040"/>
          </a:xfrm>
          <a:custGeom>
            <a:avLst/>
            <a:gdLst>
              <a:gd name="textAreaLeft" fmla="*/ 2035800 w 8143920"/>
              <a:gd name="textAreaRight" fmla="*/ 6108120 w 8143920"/>
              <a:gd name="textAreaTop" fmla="*/ 8316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Физкульт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11" descr="http://animashky.ru/flist/objiv/32/173.gif"/>
          <p:cNvPicPr/>
          <p:nvPr/>
        </p:nvPicPr>
        <p:blipFill>
          <a:blip r:embed="rId2"/>
          <a:stretch/>
        </p:blipFill>
        <p:spPr>
          <a:xfrm>
            <a:off x="1714680" y="1143000"/>
            <a:ext cx="559116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4"/>
          <p:cNvSpPr/>
          <p:nvPr/>
        </p:nvSpPr>
        <p:spPr>
          <a:xfrm rot="5400000">
            <a:off x="1392840" y="-892800"/>
            <a:ext cx="6357960" cy="85723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Лента лицом вниз 2"/>
          <p:cNvSpPr/>
          <p:nvPr/>
        </p:nvSpPr>
        <p:spPr>
          <a:xfrm>
            <a:off x="428760" y="285840"/>
            <a:ext cx="8143920" cy="500040"/>
          </a:xfrm>
          <a:custGeom>
            <a:avLst/>
            <a:gdLst>
              <a:gd name="textAreaLeft" fmla="*/ 2035800 w 8143920"/>
              <a:gd name="textAreaRight" fmla="*/ 6108120 w 8143920"/>
              <a:gd name="textAreaTop" fmla="*/ 8316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Физкульт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Нашивка 13">
            <a:hlinkClick r:id="rId2" action="ppaction://hlinksldjump"/>
          </p:cNvPr>
          <p:cNvSpPr/>
          <p:nvPr/>
        </p:nvSpPr>
        <p:spPr>
          <a:xfrm>
            <a:off x="8302680" y="6302520"/>
            <a:ext cx="841320" cy="555480"/>
          </a:xfrm>
          <a:custGeom>
            <a:avLst/>
            <a:gdLst>
              <a:gd name="textAreaLeft" fmla="*/ 0 w 841320"/>
              <a:gd name="textAreaRight" fmla="*/ 841680 w 84132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68" y="0"/>
                </a:lnTo>
                <a:lnTo>
                  <a:pt x="21600" y="10800"/>
                </a:lnTo>
                <a:lnTo>
                  <a:pt x="14468" y="21600"/>
                </a:lnTo>
                <a:lnTo>
                  <a:pt x="0" y="21600"/>
                </a:lnTo>
                <a:lnTo>
                  <a:pt x="7132" y="10800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5" descr="http://animashky.ru/flist/objiv/32/177.gif"/>
          <p:cNvPicPr/>
          <p:nvPr/>
        </p:nvPicPr>
        <p:blipFill>
          <a:blip r:embed="rId3"/>
          <a:stretch/>
        </p:blipFill>
        <p:spPr>
          <a:xfrm>
            <a:off x="1428840" y="2357280"/>
            <a:ext cx="3286080" cy="257184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6" descr="http://animashky.ru/flist/objiv/32/177.gif"/>
          <p:cNvPicPr/>
          <p:nvPr/>
        </p:nvPicPr>
        <p:blipFill>
          <a:blip r:embed="rId4"/>
          <a:stretch/>
        </p:blipFill>
        <p:spPr>
          <a:xfrm>
            <a:off x="4714920" y="3929040"/>
            <a:ext cx="328608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4"/>
          <p:cNvSpPr/>
          <p:nvPr/>
        </p:nvSpPr>
        <p:spPr>
          <a:xfrm rot="5400000">
            <a:off x="1392840" y="-892800"/>
            <a:ext cx="6357960" cy="85723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Лента лицом вниз 2"/>
          <p:cNvSpPr/>
          <p:nvPr/>
        </p:nvSpPr>
        <p:spPr>
          <a:xfrm>
            <a:off x="428760" y="285840"/>
            <a:ext cx="8143920" cy="500040"/>
          </a:xfrm>
          <a:custGeom>
            <a:avLst/>
            <a:gdLst>
              <a:gd name="textAreaLeft" fmla="*/ 2035800 w 8143920"/>
              <a:gd name="textAreaRight" fmla="*/ 6108120 w 8143920"/>
              <a:gd name="textAreaTop" fmla="*/ 8316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Физкульт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ашивка 13">
            <a:hlinkClick r:id="rId2" action="ppaction://hlinksldjump"/>
          </p:cNvPr>
          <p:cNvSpPr/>
          <p:nvPr/>
        </p:nvSpPr>
        <p:spPr>
          <a:xfrm>
            <a:off x="8302680" y="6302520"/>
            <a:ext cx="841320" cy="555480"/>
          </a:xfrm>
          <a:custGeom>
            <a:avLst/>
            <a:gdLst>
              <a:gd name="textAreaLeft" fmla="*/ 0 w 841320"/>
              <a:gd name="textAreaRight" fmla="*/ 841680 w 84132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68" y="0"/>
                </a:lnTo>
                <a:lnTo>
                  <a:pt x="21600" y="10800"/>
                </a:lnTo>
                <a:lnTo>
                  <a:pt x="14468" y="21600"/>
                </a:lnTo>
                <a:lnTo>
                  <a:pt x="0" y="21600"/>
                </a:lnTo>
                <a:lnTo>
                  <a:pt x="7132" y="10800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Рисунок 7" descr="http://animashky.ru/flist/objiv/32/172.gif"/>
          <p:cNvPicPr/>
          <p:nvPr/>
        </p:nvPicPr>
        <p:blipFill>
          <a:blip r:embed="rId3"/>
          <a:stretch/>
        </p:blipFill>
        <p:spPr>
          <a:xfrm>
            <a:off x="642960" y="1714680"/>
            <a:ext cx="2571840" cy="400032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8" descr="http://animashky.ru/flist/objiv/32/172.gif"/>
          <p:cNvPicPr/>
          <p:nvPr/>
        </p:nvPicPr>
        <p:blipFill>
          <a:blip r:embed="rId4"/>
          <a:stretch/>
        </p:blipFill>
        <p:spPr>
          <a:xfrm>
            <a:off x="6643800" y="3786120"/>
            <a:ext cx="1214280" cy="15717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9" descr="http://animashky.ru/flist/objiv/32/172.gif"/>
          <p:cNvPicPr/>
          <p:nvPr/>
        </p:nvPicPr>
        <p:blipFill>
          <a:blip r:embed="rId5"/>
          <a:stretch/>
        </p:blipFill>
        <p:spPr>
          <a:xfrm>
            <a:off x="3929040" y="2857680"/>
            <a:ext cx="157176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4"/>
          <p:cNvSpPr/>
          <p:nvPr/>
        </p:nvSpPr>
        <p:spPr>
          <a:xfrm rot="5400000">
            <a:off x="1392840" y="-892800"/>
            <a:ext cx="6357960" cy="85723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Лента лицом вниз 2"/>
          <p:cNvSpPr/>
          <p:nvPr/>
        </p:nvSpPr>
        <p:spPr>
          <a:xfrm>
            <a:off x="428760" y="285840"/>
            <a:ext cx="8143920" cy="500040"/>
          </a:xfrm>
          <a:custGeom>
            <a:avLst/>
            <a:gdLst>
              <a:gd name="textAreaLeft" fmla="*/ 2035800 w 8143920"/>
              <a:gd name="textAreaRight" fmla="*/ 6108120 w 8143920"/>
              <a:gd name="textAreaTop" fmla="*/ 8316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Физкульт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Рисунок 7" descr="http://animashky.ru/flist/objiv/32/46.gif"/>
          <p:cNvPicPr/>
          <p:nvPr/>
        </p:nvPicPr>
        <p:blipFill>
          <a:blip r:embed="rId2"/>
          <a:stretch/>
        </p:blipFill>
        <p:spPr>
          <a:xfrm>
            <a:off x="1571760" y="1857240"/>
            <a:ext cx="5992560" cy="3454560"/>
          </a:xfrm>
          <a:prstGeom prst="rect">
            <a:avLst/>
          </a:prstGeom>
          <a:ln w="0">
            <a:noFill/>
          </a:ln>
        </p:spPr>
      </p:pic>
      <p:sp>
        <p:nvSpPr>
          <p:cNvPr id="250" name="Нашивка 13">
            <a:hlinkClick r:id="rId3" action="ppaction://hlinksldjump"/>
          </p:cNvPr>
          <p:cNvSpPr/>
          <p:nvPr/>
        </p:nvSpPr>
        <p:spPr>
          <a:xfrm>
            <a:off x="8302680" y="6302520"/>
            <a:ext cx="841320" cy="555480"/>
          </a:xfrm>
          <a:custGeom>
            <a:avLst/>
            <a:gdLst>
              <a:gd name="textAreaLeft" fmla="*/ 0 w 841320"/>
              <a:gd name="textAreaRight" fmla="*/ 841680 w 84132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68" y="0"/>
                </a:lnTo>
                <a:lnTo>
                  <a:pt x="21600" y="10800"/>
                </a:lnTo>
                <a:lnTo>
                  <a:pt x="14468" y="21600"/>
                </a:lnTo>
                <a:lnTo>
                  <a:pt x="0" y="21600"/>
                </a:lnTo>
                <a:lnTo>
                  <a:pt x="7132" y="10800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Лента лицом вниз 1"/>
          <p:cNvSpPr/>
          <p:nvPr/>
        </p:nvSpPr>
        <p:spPr>
          <a:xfrm>
            <a:off x="428760" y="285840"/>
            <a:ext cx="8143920" cy="500040"/>
          </a:xfrm>
          <a:custGeom>
            <a:avLst/>
            <a:gdLst>
              <a:gd name="textAreaLeft" fmla="*/ 2035800 w 8143920"/>
              <a:gd name="textAreaRight" fmla="*/ 6108120 w 8143920"/>
              <a:gd name="textAreaTop" fmla="*/ 8316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Сложи карти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3" descr="http://im4-tub.yandex.net/i?id=46048149-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43760" y="0"/>
            <a:ext cx="2571480" cy="1928880"/>
          </a:xfrm>
          <a:prstGeom prst="rect">
            <a:avLst/>
          </a:prstGeom>
          <a:ln w="0">
            <a:noFill/>
          </a:ln>
        </p:spPr>
      </p:pic>
      <p:grpSp>
        <p:nvGrpSpPr>
          <p:cNvPr id="253" name="Группа 9"/>
          <p:cNvGrpSpPr/>
          <p:nvPr/>
        </p:nvGrpSpPr>
        <p:grpSpPr>
          <a:xfrm>
            <a:off x="2286000" y="1071720"/>
            <a:ext cx="4786200" cy="5214960"/>
            <a:chOff x="2286000" y="1071720"/>
            <a:chExt cx="4786200" cy="5214960"/>
          </a:xfrm>
        </p:grpSpPr>
        <p:sp>
          <p:nvSpPr>
            <p:cNvPr id="254" name="Прямоугольник 3"/>
            <p:cNvSpPr/>
            <p:nvPr/>
          </p:nvSpPr>
          <p:spPr>
            <a:xfrm>
              <a:off x="2286000" y="1071720"/>
              <a:ext cx="4786200" cy="521496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i-main-pic" descr="Картинка 18 из 22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2786040" y="1571760"/>
              <a:ext cx="3714840" cy="407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6" name="Рисунок 3" descr="http://im4-tub.yandex.net/i?id=46048149-0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00840" y="185724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3" descr="http://im4-tub.yandex.net/i?id=46048149-0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1680" y="714240"/>
            <a:ext cx="2571480" cy="1928880"/>
          </a:xfrm>
          <a:prstGeom prst="rect">
            <a:avLst/>
          </a:prstGeom>
          <a:ln w="0">
            <a:noFill/>
          </a:ln>
        </p:spPr>
      </p:pic>
      <p:sp>
        <p:nvSpPr>
          <p:cNvPr id="258" name="Нашивка 8">
            <a:hlinkClick r:id="rId10" action="ppaction://hlinksldjump"/>
          </p:cNvPr>
          <p:cNvSpPr/>
          <p:nvPr/>
        </p:nvSpPr>
        <p:spPr>
          <a:xfrm>
            <a:off x="8302680" y="6302520"/>
            <a:ext cx="841320" cy="555480"/>
          </a:xfrm>
          <a:custGeom>
            <a:avLst/>
            <a:gdLst>
              <a:gd name="textAreaLeft" fmla="*/ 0 w 841320"/>
              <a:gd name="textAreaRight" fmla="*/ 841680 w 84132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68" y="0"/>
                </a:lnTo>
                <a:lnTo>
                  <a:pt x="21600" y="10800"/>
                </a:lnTo>
                <a:lnTo>
                  <a:pt x="14468" y="21600"/>
                </a:lnTo>
                <a:lnTo>
                  <a:pt x="0" y="21600"/>
                </a:lnTo>
                <a:lnTo>
                  <a:pt x="7132" y="10800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Стрелка вправо 24"/>
          <p:cNvSpPr/>
          <p:nvPr/>
        </p:nvSpPr>
        <p:spPr>
          <a:xfrm>
            <a:off x="4416480" y="5848200"/>
            <a:ext cx="790560" cy="4842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право 32"/>
          <p:cNvSpPr/>
          <p:nvPr/>
        </p:nvSpPr>
        <p:spPr>
          <a:xfrm rot="1189200">
            <a:off x="1773000" y="5762520"/>
            <a:ext cx="790560" cy="4842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право 33"/>
          <p:cNvSpPr/>
          <p:nvPr/>
        </p:nvSpPr>
        <p:spPr>
          <a:xfrm rot="10800000">
            <a:off x="3786120" y="2999880"/>
            <a:ext cx="790560" cy="4842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право 34"/>
          <p:cNvSpPr/>
          <p:nvPr/>
        </p:nvSpPr>
        <p:spPr>
          <a:xfrm rot="10647600">
            <a:off x="5840280" y="2962080"/>
            <a:ext cx="790560" cy="4842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право 35"/>
          <p:cNvSpPr/>
          <p:nvPr/>
        </p:nvSpPr>
        <p:spPr>
          <a:xfrm rot="18433200">
            <a:off x="7038000" y="4791600"/>
            <a:ext cx="790560" cy="4842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Группа 72"/>
          <p:cNvGrpSpPr/>
          <p:nvPr/>
        </p:nvGrpSpPr>
        <p:grpSpPr>
          <a:xfrm>
            <a:off x="4214880" y="1000080"/>
            <a:ext cx="2000160" cy="2500200"/>
            <a:chOff x="4214880" y="1000080"/>
            <a:chExt cx="2000160" cy="2500200"/>
          </a:xfrm>
        </p:grpSpPr>
        <p:grpSp>
          <p:nvGrpSpPr>
            <p:cNvPr id="62" name="Группа 56"/>
            <p:cNvGrpSpPr/>
            <p:nvPr/>
          </p:nvGrpSpPr>
          <p:grpSpPr>
            <a:xfrm>
              <a:off x="4214880" y="1000080"/>
              <a:ext cx="2000160" cy="2500200"/>
              <a:chOff x="4214880" y="1000080"/>
              <a:chExt cx="2000160" cy="2500200"/>
            </a:xfrm>
          </p:grpSpPr>
          <p:sp>
            <p:nvSpPr>
              <p:cNvPr id="63" name="Блок-схема: перфолента 67">
                <a:hlinkClick r:id="rId2" action="ppaction://hlinksldjump"/>
              </p:cNvPr>
              <p:cNvSpPr/>
              <p:nvPr/>
            </p:nvSpPr>
            <p:spPr>
              <a:xfrm>
                <a:off x="5143680" y="1000080"/>
                <a:ext cx="914400" cy="642960"/>
              </a:xfrm>
              <a:prstGeom prst="flowChartPunchedTape">
                <a:avLst/>
              </a:prstGeom>
              <a:solidFill>
                <a:srgbClr val="ffffff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Группа 43"/>
              <p:cNvGrpSpPr/>
              <p:nvPr/>
            </p:nvGrpSpPr>
            <p:grpSpPr>
              <a:xfrm>
                <a:off x="4214880" y="1142640"/>
                <a:ext cx="2000160" cy="2357640"/>
                <a:chOff x="4214880" y="1142640"/>
                <a:chExt cx="2000160" cy="2357640"/>
              </a:xfrm>
            </p:grpSpPr>
            <p:pic>
              <p:nvPicPr>
                <p:cNvPr id="65" name="i-main-pic" descr="Картинка 64 из 7713">
                  <a:hlinkClick r:id="rId3" action="ppaction://hlinksldjump"/>
                </p:cNvPr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214880" y="1565280"/>
                  <a:ext cx="2000160" cy="1935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" name="Прямая соединительная линия 70"/>
                <p:cNvSpPr/>
                <p:nvPr/>
              </p:nvSpPr>
              <p:spPr>
                <a:xfrm>
                  <a:off x="5144040" y="1142640"/>
                  <a:ext cx="0" cy="927000"/>
                </a:xfrm>
                <a:prstGeom prst="line">
                  <a:avLst/>
                </a:prstGeom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7" name="Рисунок 71" descr="http://static.eva.ru/eva/110000-120000/111193/photoalbum-thumb/1265110095287.jpg"/>
            <p:cNvPicPr/>
            <p:nvPr/>
          </p:nvPicPr>
          <p:blipFill>
            <a:blip r:embed="rId5"/>
            <a:stretch/>
          </p:blipFill>
          <p:spPr>
            <a:xfrm>
              <a:off x="5357880" y="1142640"/>
              <a:ext cx="482040" cy="428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Группа 98"/>
          <p:cNvGrpSpPr/>
          <p:nvPr/>
        </p:nvGrpSpPr>
        <p:grpSpPr>
          <a:xfrm>
            <a:off x="5214960" y="3929040"/>
            <a:ext cx="2000160" cy="2500200"/>
            <a:chOff x="5214960" y="3929040"/>
            <a:chExt cx="2000160" cy="2500200"/>
          </a:xfrm>
        </p:grpSpPr>
        <p:sp>
          <p:nvSpPr>
            <p:cNvPr id="69" name="Блок-схема: перфолента 61">
              <a:hlinkClick r:id="rId6" action="ppaction://hlinksldjump"/>
            </p:cNvPr>
            <p:cNvSpPr/>
            <p:nvPr/>
          </p:nvSpPr>
          <p:spPr>
            <a:xfrm>
              <a:off x="6143760" y="3929040"/>
              <a:ext cx="914400" cy="64296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Группа 97"/>
            <p:cNvGrpSpPr/>
            <p:nvPr/>
          </p:nvGrpSpPr>
          <p:grpSpPr>
            <a:xfrm>
              <a:off x="5214960" y="4071600"/>
              <a:ext cx="2000160" cy="2357640"/>
              <a:chOff x="5214960" y="4071600"/>
              <a:chExt cx="2000160" cy="2357640"/>
            </a:xfrm>
          </p:grpSpPr>
          <p:grpSp>
            <p:nvGrpSpPr>
              <p:cNvPr id="71" name="Группа 43"/>
              <p:cNvGrpSpPr/>
              <p:nvPr/>
            </p:nvGrpSpPr>
            <p:grpSpPr>
              <a:xfrm>
                <a:off x="5214960" y="4071600"/>
                <a:ext cx="2000160" cy="2357640"/>
                <a:chOff x="5214960" y="4071600"/>
                <a:chExt cx="2000160" cy="2357640"/>
              </a:xfrm>
            </p:grpSpPr>
            <p:pic>
              <p:nvPicPr>
                <p:cNvPr id="72" name="i-main-pic" descr="Картинка 64 из 7713">
                  <a:hlinkClick r:id="rId7" action="ppaction://hlinksldjump"/>
                </p:cNvPr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214960" y="4491000"/>
                  <a:ext cx="2000160" cy="19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Прямая соединительная линия 64"/>
                <p:cNvSpPr/>
                <p:nvPr/>
              </p:nvSpPr>
              <p:spPr>
                <a:xfrm>
                  <a:off x="6144480" y="4071600"/>
                  <a:ext cx="0" cy="925560"/>
                </a:xfrm>
                <a:prstGeom prst="line">
                  <a:avLst/>
                </a:prstGeom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4" name="i-main-pic" descr="Картинка 2 из 4150901">
                <a:hlinkClick r:id="rId9"/>
              </p:cNvPr>
              <p:cNvPicPr/>
              <p:nvPr/>
            </p:nvPicPr>
            <p:blipFill>
              <a:blip r:embed="rId10"/>
              <a:stretch/>
            </p:blipFill>
            <p:spPr>
              <a:xfrm>
                <a:off x="6286320" y="4071600"/>
                <a:ext cx="500040" cy="42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5" name="Стрелка вправо 99"/>
          <p:cNvSpPr/>
          <p:nvPr/>
        </p:nvSpPr>
        <p:spPr>
          <a:xfrm rot="10800000">
            <a:off x="1643040" y="2785680"/>
            <a:ext cx="790560" cy="4842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Группа 57"/>
          <p:cNvGrpSpPr/>
          <p:nvPr/>
        </p:nvGrpSpPr>
        <p:grpSpPr>
          <a:xfrm>
            <a:off x="2571840" y="3714840"/>
            <a:ext cx="2000160" cy="2643120"/>
            <a:chOff x="2571840" y="3714840"/>
            <a:chExt cx="2000160" cy="2643120"/>
          </a:xfrm>
        </p:grpSpPr>
        <p:grpSp>
          <p:nvGrpSpPr>
            <p:cNvPr id="77" name="Группа 43"/>
            <p:cNvGrpSpPr/>
            <p:nvPr/>
          </p:nvGrpSpPr>
          <p:grpSpPr>
            <a:xfrm>
              <a:off x="2571840" y="4089600"/>
              <a:ext cx="2000160" cy="2268360"/>
              <a:chOff x="2571840" y="4089600"/>
              <a:chExt cx="2000160" cy="2268360"/>
            </a:xfrm>
          </p:grpSpPr>
          <p:pic>
            <p:nvPicPr>
              <p:cNvPr id="78" name="i-main-pic" descr="Картинка 64 из 7713">
                <a:hlinkClick r:id="rId11" action="ppaction://hlinksldjump"/>
              </p:cNvPr>
              <p:cNvPicPr/>
              <p:nvPr/>
            </p:nvPicPr>
            <p:blipFill>
              <a:blip r:embed="rId12"/>
              <a:stretch/>
            </p:blipFill>
            <p:spPr>
              <a:xfrm>
                <a:off x="2571840" y="4439520"/>
                <a:ext cx="2000160" cy="191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Прямая соединительная линия 45"/>
              <p:cNvSpPr/>
              <p:nvPr/>
            </p:nvSpPr>
            <p:spPr>
              <a:xfrm>
                <a:off x="3500640" y="4089600"/>
                <a:ext cx="0" cy="91908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0" name="i-main-pic" descr="Картинка 5 из 1981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3480840" y="3714840"/>
              <a:ext cx="969120" cy="67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Группа 68"/>
          <p:cNvGrpSpPr/>
          <p:nvPr/>
        </p:nvGrpSpPr>
        <p:grpSpPr>
          <a:xfrm>
            <a:off x="0" y="928800"/>
            <a:ext cx="2000160" cy="2500200"/>
            <a:chOff x="0" y="928800"/>
            <a:chExt cx="2000160" cy="2500200"/>
          </a:xfrm>
        </p:grpSpPr>
        <p:grpSp>
          <p:nvGrpSpPr>
            <p:cNvPr id="82" name="Группа 43"/>
            <p:cNvGrpSpPr/>
            <p:nvPr/>
          </p:nvGrpSpPr>
          <p:grpSpPr>
            <a:xfrm>
              <a:off x="0" y="1090440"/>
              <a:ext cx="2000160" cy="2338560"/>
              <a:chOff x="0" y="1090440"/>
              <a:chExt cx="2000160" cy="2338560"/>
            </a:xfrm>
          </p:grpSpPr>
          <p:pic>
            <p:nvPicPr>
              <p:cNvPr id="83" name="i-main-pic" descr="Картинка 64 из 7713">
                <a:hlinkClick r:id="rId15" action="ppaction://hlinksldjump"/>
              </p:cNvPr>
              <p:cNvPicPr/>
              <p:nvPr/>
            </p:nvPicPr>
            <p:blipFill>
              <a:blip r:embed="rId16"/>
              <a:stretch/>
            </p:blipFill>
            <p:spPr>
              <a:xfrm>
                <a:off x="0" y="1507320"/>
                <a:ext cx="2000160" cy="192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Прямая соединительная линия 77"/>
              <p:cNvSpPr/>
              <p:nvPr/>
            </p:nvSpPr>
            <p:spPr>
              <a:xfrm>
                <a:off x="929520" y="1090440"/>
                <a:ext cx="0" cy="91764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5" name="i-main-pic" descr="Картинка 4 из 120213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908280" y="928800"/>
              <a:ext cx="969120" cy="67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Группа 66"/>
          <p:cNvGrpSpPr/>
          <p:nvPr/>
        </p:nvGrpSpPr>
        <p:grpSpPr>
          <a:xfrm>
            <a:off x="2214720" y="857160"/>
            <a:ext cx="2000160" cy="2500560"/>
            <a:chOff x="2214720" y="857160"/>
            <a:chExt cx="2000160" cy="2500560"/>
          </a:xfrm>
        </p:grpSpPr>
        <p:grpSp>
          <p:nvGrpSpPr>
            <p:cNvPr id="87" name="Группа 43"/>
            <p:cNvGrpSpPr/>
            <p:nvPr/>
          </p:nvGrpSpPr>
          <p:grpSpPr>
            <a:xfrm>
              <a:off x="2214720" y="1014840"/>
              <a:ext cx="2000160" cy="2342880"/>
              <a:chOff x="2214720" y="1014840"/>
              <a:chExt cx="2000160" cy="2342880"/>
            </a:xfrm>
          </p:grpSpPr>
          <p:pic>
            <p:nvPicPr>
              <p:cNvPr id="88" name="i-main-pic" descr="Картинка 64 из 7713">
                <a:hlinkClick r:id="rId19" action="ppaction://hlinksldjump"/>
              </p:cNvPr>
              <p:cNvPicPr/>
              <p:nvPr/>
            </p:nvPicPr>
            <p:blipFill>
              <a:blip r:embed="rId20"/>
              <a:stretch/>
            </p:blipFill>
            <p:spPr>
              <a:xfrm>
                <a:off x="2214720" y="1431000"/>
                <a:ext cx="2000160" cy="192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Прямая соединительная линия 84"/>
              <p:cNvSpPr/>
              <p:nvPr/>
            </p:nvSpPr>
            <p:spPr>
              <a:xfrm>
                <a:off x="3145680" y="1014840"/>
                <a:ext cx="0" cy="92016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" name="i-main-pic" descr="Картинка 21 из 355">
              <a:hlinkClick r:id="rId21" action="ppaction://hlinksldjump"/>
            </p:cNvPr>
            <p:cNvPicPr/>
            <p:nvPr/>
          </p:nvPicPr>
          <p:blipFill>
            <a:blip r:embed="rId22"/>
            <a:stretch/>
          </p:blipFill>
          <p:spPr>
            <a:xfrm>
              <a:off x="3127320" y="857160"/>
              <a:ext cx="889920" cy="59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Группа 72"/>
          <p:cNvGrpSpPr/>
          <p:nvPr/>
        </p:nvGrpSpPr>
        <p:grpSpPr>
          <a:xfrm>
            <a:off x="214200" y="3571920"/>
            <a:ext cx="2000520" cy="2571840"/>
            <a:chOff x="214200" y="3571920"/>
            <a:chExt cx="2000520" cy="2571840"/>
          </a:xfrm>
        </p:grpSpPr>
        <p:grpSp>
          <p:nvGrpSpPr>
            <p:cNvPr id="92" name="Группа 42"/>
            <p:cNvGrpSpPr/>
            <p:nvPr/>
          </p:nvGrpSpPr>
          <p:grpSpPr>
            <a:xfrm>
              <a:off x="214200" y="3873240"/>
              <a:ext cx="2000520" cy="2270520"/>
              <a:chOff x="214200" y="3873240"/>
              <a:chExt cx="2000520" cy="2270520"/>
            </a:xfrm>
          </p:grpSpPr>
          <p:pic>
            <p:nvPicPr>
              <p:cNvPr id="93" name="i-main-pic" descr="Картинка 64 из 7713">
                <a:hlinkClick r:id="rId23" action="ppaction://hlinksldjump"/>
              </p:cNvPr>
              <p:cNvPicPr/>
              <p:nvPr/>
            </p:nvPicPr>
            <p:blipFill>
              <a:blip r:embed="rId24"/>
              <a:stretch/>
            </p:blipFill>
            <p:spPr>
              <a:xfrm>
                <a:off x="214200" y="4218120"/>
                <a:ext cx="2000520" cy="192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Прямая соединительная линия 36"/>
              <p:cNvSpPr/>
              <p:nvPr/>
            </p:nvSpPr>
            <p:spPr>
              <a:xfrm>
                <a:off x="1144800" y="3873240"/>
                <a:ext cx="0" cy="91944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5" name="i-main-pic" descr="Картинка 9 из 15239">
              <a:hlinkClick r:id="rId25" action="ppaction://hlinksldjump"/>
            </p:cNvPr>
            <p:cNvPicPr/>
            <p:nvPr/>
          </p:nvPicPr>
          <p:blipFill>
            <a:blip r:embed="rId26"/>
            <a:stretch/>
          </p:blipFill>
          <p:spPr>
            <a:xfrm>
              <a:off x="1121760" y="3571920"/>
              <a:ext cx="969480" cy="6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Лента лицом вниз 60"/>
          <p:cNvSpPr/>
          <p:nvPr/>
        </p:nvSpPr>
        <p:spPr>
          <a:xfrm>
            <a:off x="428760" y="285840"/>
            <a:ext cx="8143920" cy="500040"/>
          </a:xfrm>
          <a:custGeom>
            <a:avLst/>
            <a:gdLst>
              <a:gd name="textAreaLeft" fmla="*/ 2035800 w 8143920"/>
              <a:gd name="textAreaRight" fmla="*/ 6108120 w 8143920"/>
              <a:gd name="textAreaTop" fmla="*/ 8316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Море Зн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65"/>
          <p:cNvGrpSpPr/>
          <p:nvPr/>
        </p:nvGrpSpPr>
        <p:grpSpPr>
          <a:xfrm>
            <a:off x="6643800" y="1428840"/>
            <a:ext cx="2000160" cy="2714400"/>
            <a:chOff x="6643800" y="1428840"/>
            <a:chExt cx="2000160" cy="2714400"/>
          </a:xfrm>
        </p:grpSpPr>
        <p:grpSp>
          <p:nvGrpSpPr>
            <p:cNvPr id="98" name="Группа 65"/>
            <p:cNvGrpSpPr/>
            <p:nvPr/>
          </p:nvGrpSpPr>
          <p:grpSpPr>
            <a:xfrm>
              <a:off x="6643800" y="1428840"/>
              <a:ext cx="2000160" cy="2714400"/>
              <a:chOff x="6643800" y="1428840"/>
              <a:chExt cx="2000160" cy="2714400"/>
            </a:xfrm>
          </p:grpSpPr>
          <p:grpSp>
            <p:nvGrpSpPr>
              <p:cNvPr id="99" name="Группа 43"/>
              <p:cNvGrpSpPr/>
              <p:nvPr/>
            </p:nvGrpSpPr>
            <p:grpSpPr>
              <a:xfrm>
                <a:off x="6643800" y="1803600"/>
                <a:ext cx="2000160" cy="2339640"/>
                <a:chOff x="6643800" y="1803600"/>
                <a:chExt cx="2000160" cy="2339640"/>
              </a:xfrm>
            </p:grpSpPr>
            <p:pic>
              <p:nvPicPr>
                <p:cNvPr id="100" name="i-main-pic" descr="Картинка 64 из 7713">
                  <a:hlinkClick r:id="rId27" action="ppaction://hlinksldjump"/>
                </p:cNvPr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643800" y="2219760"/>
                  <a:ext cx="2000160" cy="1923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" name="Прямая соединительная линия 92"/>
                <p:cNvSpPr/>
                <p:nvPr/>
              </p:nvSpPr>
              <p:spPr>
                <a:xfrm>
                  <a:off x="7572240" y="1803600"/>
                  <a:ext cx="0" cy="918360"/>
                </a:xfrm>
                <a:prstGeom prst="line">
                  <a:avLst/>
                </a:prstGeom>
                <a:ln w="25560">
                  <a:solidFill>
                    <a:srgbClr val="f79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02" name="i-main-pic" descr="Картинка 2 из 31790">
                <a:hlinkClick r:id="rId29" action="ppaction://hlinksldjump"/>
              </p:cNvPr>
              <p:cNvPicPr/>
              <p:nvPr/>
            </p:nvPicPr>
            <p:blipFill>
              <a:blip r:embed="rId30"/>
              <a:stretch/>
            </p:blipFill>
            <p:spPr>
              <a:xfrm>
                <a:off x="7553160" y="1428840"/>
                <a:ext cx="920520" cy="713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3" name="Рисунок 60" descr=" ">
              <a:hlinkClick r:id="rId31"/>
            </p:cNvPr>
            <p:cNvPicPr/>
            <p:nvPr/>
          </p:nvPicPr>
          <p:blipFill>
            <a:blip r:embed="rId32"/>
            <a:stretch/>
          </p:blipFill>
          <p:spPr>
            <a:xfrm>
              <a:off x="7786800" y="1500120"/>
              <a:ext cx="35712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Лента лицом вниз 1"/>
          <p:cNvSpPr/>
          <p:nvPr/>
        </p:nvSpPr>
        <p:spPr>
          <a:xfrm>
            <a:off x="428760" y="285840"/>
            <a:ext cx="8143920" cy="500040"/>
          </a:xfrm>
          <a:custGeom>
            <a:avLst/>
            <a:gdLst>
              <a:gd name="textAreaLeft" fmla="*/ 2035800 w 8143920"/>
              <a:gd name="textAreaRight" fmla="*/ 6108120 w 8143920"/>
              <a:gd name="textAreaTop" fmla="*/ 8316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Использованные 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0" y="1000080"/>
            <a:ext cx="88581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otwalls.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view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/isolated_pine_tree-1152x864.html</a:t>
            </a: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foto-present.ru/item150/3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izdat.karelia.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index.php?year=2010&amp;month=02&amp;day=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aeterna.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test.php?link=s:5165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saintpetersburg.olx.ru/iid-6565173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nifiga-sebe.ru/index.php?newsid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=62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zoo-tovar.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/index.php?cat=2453&amp;sub=6085&amp;id=216770313&amp;diag=115&amp;prn=1</a:t>
            </a: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www.tvoyrebenok.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pictures_animals.s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8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9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0"/>
              </a:rPr>
              <a:t>sharik.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1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2"/>
              </a:rPr>
              <a:t>production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3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4"/>
              </a:rPr>
              <a:t>prod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5"/>
              </a:rPr>
              <a:t>/detail_prmid_dta13387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6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7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8"/>
              </a:rPr>
              <a:t>zatey.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9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0"/>
              </a:rPr>
              <a:t>production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1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2"/>
              </a:rPr>
              <a:t>prod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3"/>
              </a:rPr>
              <a:t>/detail.php?ID=7114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4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5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6"/>
              </a:rPr>
              <a:t>www.egraphic.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7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8"/>
              </a:rPr>
              <a:t>photoshop-tutorials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9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0"/>
              </a:rPr>
              <a:t>photo-effects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1"/>
              </a:rPr>
              <a:t>/11882-neobychnyjj-sposob-sozdanija-podvodnogo-jeffekta.html</a:t>
            </a: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2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3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4"/>
              </a:rPr>
              <a:t>www.cartoonclipartfree.com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5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6"/>
              </a:rPr>
              <a:t>Cliparts_Free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7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8"/>
              </a:rPr>
              <a:t>Urlaub_Free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9"/>
              </a:rPr>
              <a:t>/Cartoon_Clipart_Free_Page_2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0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1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2"/>
              </a:rPr>
              <a:t>www.igraza.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3"/>
              </a:rPr>
              <a:t>/page-1-1-3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4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5"/>
              </a:rPr>
              <a:t>://festival.1september.ru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6"/>
              </a:rPr>
              <a:t>articles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7"/>
              </a:rPr>
              <a:t>/538166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8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9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0"/>
              </a:rPr>
              <a:t>www.kids-price.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1"/>
              </a:rPr>
              <a:t>/smoby_kassovyj_apparat_hello_kitty_550474.html</a:t>
            </a: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2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3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4"/>
              </a:rPr>
              <a:t>vlaschenko-valentin.narod.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5"/>
              </a:rPr>
              <a:t>/photoalbum5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6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7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8"/>
              </a:rPr>
              <a:t>www.art-apple.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9"/>
              </a:rPr>
              <a:t>/thumbnails.php?album=3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0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1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2"/>
              </a:rPr>
              <a:t>www.artsides.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3"/>
              </a:rPr>
              <a:t>/?ItemID=2364&amp;ItemName=Ел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Лента лицом вниз 1"/>
          <p:cNvSpPr/>
          <p:nvPr/>
        </p:nvSpPr>
        <p:spPr>
          <a:xfrm>
            <a:off x="428760" y="285840"/>
            <a:ext cx="8143920" cy="500040"/>
          </a:xfrm>
          <a:custGeom>
            <a:avLst/>
            <a:gdLst>
              <a:gd name="textAreaLeft" fmla="*/ 2035800 w 8143920"/>
              <a:gd name="textAreaRight" fmla="*/ 6108120 w 8143920"/>
              <a:gd name="textAreaTop" fmla="*/ 8316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Использованные 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0" y="1000080"/>
            <a:ext cx="88581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shrlar.ru/rus/myfiles/material/foil/901559V-big,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juliadesing.ucoz.ru/_ph/5/2/616671756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norbekoclub.ru/upload/blog/10f/10f4b13a485b327297c420d710415a6c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prazd-pack.ru/i_prod/1207-0455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images.yandex.ru/yandsearch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?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p=5&amp;ed=1&amp;text=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club.foto.ru&amp;img_url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=club.foto.ru/gallegy/images/foto/2007/10/24/971369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psixi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-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nasvobode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.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clan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.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8"/>
              </a:rPr>
              <a:t>s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9"/>
              </a:rPr>
              <a:t>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0"/>
              </a:rPr>
              <a:t>news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1"/>
              </a:rPr>
              <a:t>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2"/>
              </a:rPr>
              <a:t>c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3"/>
              </a:rPr>
              <a:t>_1_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4"/>
              </a:rPr>
              <a:t>sentjabrja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5"/>
              </a:rPr>
              <a:t>/2009-09-01-54</a:t>
            </a: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6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7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8"/>
              </a:rPr>
              <a:t>poiskm.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9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0"/>
              </a:rPr>
              <a:t>song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1"/>
              </a:rPr>
              <a:t>/190522-Detskaya-CHunga-CHangakaraoke</a:t>
            </a: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2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3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4"/>
              </a:rPr>
              <a:t>mathforum.org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5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6"/>
              </a:rPr>
              <a:t>varnelle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7"/>
              </a:rPr>
              <a:t>/ktan4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8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9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0"/>
              </a:rPr>
              <a:t>fotki.yandex.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1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2"/>
              </a:rPr>
              <a:t>users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3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4"/>
              </a:rPr>
              <a:t>f-glasting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5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6"/>
              </a:rPr>
              <a:t>view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7"/>
              </a:rPr>
              <a:t>/123001?page=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8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9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0"/>
              </a:rPr>
              <a:t>www.druzya-priyateli.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1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2"/>
              </a:rPr>
              <a:t>forum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3"/>
              </a:rPr>
              <a:t>/index.php?act=Print&amp;client=printer&amp;f=159&amp;t=26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4"/>
              </a:rPr>
              <a:t>http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5"/>
              </a:rPr>
              <a:t>:/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6"/>
              </a:rPr>
              <a:t>animashky.ru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7"/>
              </a:rPr>
              <a:t>/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8"/>
              </a:rPr>
              <a:t>index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9"/>
              </a:rPr>
              <a:t>/0-11?1-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http://animashky.ru/index/0-11?5-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http://animashky.ru/index/0-11?32-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http://animashky.ru/index/0-11?32-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http://animashky.ru/index/0-11?32-3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98989"/>
                </a:solidFill>
                <a:uFillTx/>
                <a:latin typeface="Calibri"/>
              </a:rPr>
              <a:t>http://animashky.ru/index/0-11?3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898989"/>
                </a:solidFill>
                <a:uFillTx/>
                <a:latin typeface="Calibri"/>
              </a:rPr>
              <a:t>http://animashky.ru/index/0-11?32-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ff"/>
                </a:solidFill>
                <a:uFillTx/>
                <a:latin typeface="Calibri"/>
              </a:rPr>
              <a:t>Карпенко «Сборник загадок», М:Просвещение, 198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Овал 2" descr=""/>
          <p:cNvPicPr/>
          <p:nvPr/>
        </p:nvPicPr>
        <p:blipFill>
          <a:blip r:embed="rId2"/>
          <a:stretch/>
        </p:blipFill>
        <p:spPr>
          <a:xfrm>
            <a:off x="-1195560" y="2951280"/>
            <a:ext cx="1145556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4" descr="http://norbekovclub.ru/upload/blog/10f/10f4b13a485b327297c420d710415a6c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3720" y="3214800"/>
            <a:ext cx="2415960" cy="25714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" descr="http://norbekovclub.ru/upload/blog/10f/10f4b13a485b327297c420d710415a6c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7720" y="1857240"/>
            <a:ext cx="2286000" cy="3571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6" descr="http://norbekovclub.ru/upload/blog/10f/10f4b13a485b327297c420d710415a6c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2960" y="3429000"/>
            <a:ext cx="2368440" cy="3000240"/>
          </a:xfrm>
          <a:prstGeom prst="rect">
            <a:avLst/>
          </a:prstGeom>
          <a:ln w="0">
            <a:noFill/>
          </a:ln>
        </p:spPr>
      </p:pic>
      <p:sp>
        <p:nvSpPr>
          <p:cNvPr id="108" name="Скругленный прямоугольник 5"/>
          <p:cNvSpPr/>
          <p:nvPr/>
        </p:nvSpPr>
        <p:spPr>
          <a:xfrm>
            <a:off x="500040" y="1071720"/>
            <a:ext cx="91440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6"/>
          <p:cNvSpPr/>
          <p:nvPr/>
        </p:nvSpPr>
        <p:spPr>
          <a:xfrm>
            <a:off x="1928880" y="1071720"/>
            <a:ext cx="91440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: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7"/>
          <p:cNvSpPr/>
          <p:nvPr/>
        </p:nvSpPr>
        <p:spPr>
          <a:xfrm>
            <a:off x="3429000" y="1071720"/>
            <a:ext cx="91440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X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8"/>
          <p:cNvSpPr/>
          <p:nvPr/>
        </p:nvSpPr>
        <p:spPr>
          <a:xfrm>
            <a:off x="4857840" y="1071720"/>
            <a:ext cx="91440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9"/>
          <p:cNvSpPr/>
          <p:nvPr/>
        </p:nvSpPr>
        <p:spPr>
          <a:xfrm>
            <a:off x="6286680" y="1071720"/>
            <a:ext cx="91440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X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10"/>
          <p:cNvSpPr/>
          <p:nvPr/>
        </p:nvSpPr>
        <p:spPr>
          <a:xfrm>
            <a:off x="7715160" y="1071720"/>
            <a:ext cx="91440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0-конечная звезда 11"/>
          <p:cNvSpPr/>
          <p:nvPr/>
        </p:nvSpPr>
        <p:spPr>
          <a:xfrm>
            <a:off x="3786120" y="4500720"/>
            <a:ext cx="914400" cy="91440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10-конечная звезда 12"/>
          <p:cNvSpPr/>
          <p:nvPr/>
        </p:nvSpPr>
        <p:spPr>
          <a:xfrm>
            <a:off x="7072200" y="4214880"/>
            <a:ext cx="914400" cy="91440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0-конечная звезда 14"/>
          <p:cNvSpPr/>
          <p:nvPr/>
        </p:nvSpPr>
        <p:spPr>
          <a:xfrm>
            <a:off x="642960" y="4714920"/>
            <a:ext cx="914400" cy="91440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Прямая со стрелкой 19"/>
          <p:cNvCxnSpPr/>
          <p:nvPr/>
        </p:nvCxnSpPr>
        <p:spPr>
          <a:xfrm>
            <a:off x="1428480" y="1499760"/>
            <a:ext cx="500760" cy="2520"/>
          </a:xfrm>
          <a:prstGeom prst="straightConnector1">
            <a:avLst/>
          </a:prstGeom>
          <a:ln w="38160">
            <a:solidFill>
              <a:srgbClr val="ff6699"/>
            </a:solidFill>
            <a:miter/>
            <a:tailEnd len="med" type="arrow" w="med"/>
          </a:ln>
        </p:spPr>
      </p:cxnSp>
      <p:cxnSp>
        <p:nvCxnSpPr>
          <p:cNvPr id="118" name="Прямая со стрелкой 22"/>
          <p:cNvCxnSpPr/>
          <p:nvPr/>
        </p:nvCxnSpPr>
        <p:spPr>
          <a:xfrm>
            <a:off x="7214760" y="1499760"/>
            <a:ext cx="500760" cy="2520"/>
          </a:xfrm>
          <a:prstGeom prst="straightConnector1">
            <a:avLst/>
          </a:prstGeom>
          <a:ln w="38160">
            <a:solidFill>
              <a:srgbClr val="ff6699"/>
            </a:solidFill>
            <a:miter/>
            <a:tailEnd len="med" type="arrow" w="med"/>
          </a:ln>
        </p:spPr>
      </p:cxnSp>
      <p:cxnSp>
        <p:nvCxnSpPr>
          <p:cNvPr id="119" name="Прямая со стрелкой 23"/>
          <p:cNvCxnSpPr/>
          <p:nvPr/>
        </p:nvCxnSpPr>
        <p:spPr>
          <a:xfrm>
            <a:off x="4357440" y="1428840"/>
            <a:ext cx="500760" cy="2160"/>
          </a:xfrm>
          <a:prstGeom prst="straightConnector1">
            <a:avLst/>
          </a:prstGeom>
          <a:ln w="38160">
            <a:solidFill>
              <a:srgbClr val="ff6699"/>
            </a:solidFill>
            <a:miter/>
            <a:tailEnd len="med" type="arrow" w="med"/>
          </a:ln>
        </p:spPr>
      </p:cxnSp>
      <p:cxnSp>
        <p:nvCxnSpPr>
          <p:cNvPr id="120" name="Прямая со стрелкой 24"/>
          <p:cNvCxnSpPr/>
          <p:nvPr/>
        </p:nvCxnSpPr>
        <p:spPr>
          <a:xfrm>
            <a:off x="2928600" y="1499760"/>
            <a:ext cx="500760" cy="2520"/>
          </a:xfrm>
          <a:prstGeom prst="straightConnector1">
            <a:avLst/>
          </a:prstGeom>
          <a:ln w="38160">
            <a:solidFill>
              <a:srgbClr val="ff6699"/>
            </a:solidFill>
            <a:miter/>
            <a:tailEnd len="med" type="arrow" w="med"/>
          </a:ln>
        </p:spPr>
      </p:cxnSp>
      <p:cxnSp>
        <p:nvCxnSpPr>
          <p:cNvPr id="121" name="Прямая со стрелкой 25"/>
          <p:cNvCxnSpPr/>
          <p:nvPr/>
        </p:nvCxnSpPr>
        <p:spPr>
          <a:xfrm>
            <a:off x="5786280" y="1499760"/>
            <a:ext cx="501120" cy="2520"/>
          </a:xfrm>
          <a:prstGeom prst="straightConnector1">
            <a:avLst/>
          </a:prstGeom>
          <a:ln w="38160">
            <a:solidFill>
              <a:srgbClr val="ff6699"/>
            </a:solidFill>
            <a:miter/>
            <a:tailEnd len="med" type="arrow" w="med"/>
          </a:ln>
        </p:spPr>
      </p:cxnSp>
      <p:sp>
        <p:nvSpPr>
          <p:cNvPr id="122" name="Лента лицом вниз 27"/>
          <p:cNvSpPr/>
          <p:nvPr/>
        </p:nvSpPr>
        <p:spPr>
          <a:xfrm>
            <a:off x="428760" y="285840"/>
            <a:ext cx="8143920" cy="500040"/>
          </a:xfrm>
          <a:custGeom>
            <a:avLst/>
            <a:gdLst>
              <a:gd name="textAreaLeft" fmla="*/ 2035800 w 8143920"/>
              <a:gd name="textAreaRight" fmla="*/ 6108120 w 8143920"/>
              <a:gd name="textAreaTop" fmla="*/ 8316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Найдите  отве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ашивка 20">
            <a:hlinkClick r:id="rId9" action="ppaction://hlinksldjump"/>
          </p:cNvPr>
          <p:cNvSpPr/>
          <p:nvPr/>
        </p:nvSpPr>
        <p:spPr>
          <a:xfrm>
            <a:off x="8302680" y="6302520"/>
            <a:ext cx="841320" cy="555480"/>
          </a:xfrm>
          <a:custGeom>
            <a:avLst/>
            <a:gdLst>
              <a:gd name="textAreaLeft" fmla="*/ 0 w 841320"/>
              <a:gd name="textAreaRight" fmla="*/ 841680 w 84132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68" y="0"/>
                </a:lnTo>
                <a:lnTo>
                  <a:pt x="21600" y="10800"/>
                </a:lnTo>
                <a:lnTo>
                  <a:pt x="14468" y="21600"/>
                </a:lnTo>
                <a:lnTo>
                  <a:pt x="0" y="21600"/>
                </a:lnTo>
                <a:lnTo>
                  <a:pt x="7132" y="10800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31 -0.00625 C 0.07361 -0.00694 0.07743 -0.00602 0.08021 -0.00856 C 0.08212 -0.01042 0.08107 -0.01458 0.08194 -0.01736 C 0.08281 -0.01991 0.08437 -0.02176 0.08524 -0.02407 C 0.08611 -0.02616 0.08646 -0.02847 0.08698 -0.03079 C 0.08333 -0.14676 0.0842 -0.23125 0.08194 -0.36412 C 0.08125 -0.40116 0.07031 -0.43843 0.07031 -0.47523 E">
                                      <p:cBhvr>
                                        <p:cTn id="1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i-main-pic" descr="Картинка 15 из 81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29680" y="2643120"/>
            <a:ext cx="958680" cy="1046160"/>
          </a:xfrm>
          <a:prstGeom prst="rect">
            <a:avLst/>
          </a:prstGeom>
          <a:ln w="0">
            <a:noFill/>
          </a:ln>
        </p:spPr>
      </p:pic>
      <p:pic>
        <p:nvPicPr>
          <p:cNvPr id="125" name="i-main-pic" descr="Картинка 21 из 8169">
            <a:hlinkClick r:id="rId4"/>
          </p:cNvPr>
          <p:cNvPicPr/>
          <p:nvPr/>
        </p:nvPicPr>
        <p:blipFill>
          <a:blip r:embed="rId5"/>
          <a:stretch/>
        </p:blipFill>
        <p:spPr>
          <a:xfrm rot="2169600">
            <a:off x="5847840" y="5141520"/>
            <a:ext cx="1239840" cy="857160"/>
          </a:xfrm>
          <a:prstGeom prst="rect">
            <a:avLst/>
          </a:prstGeom>
          <a:ln w="0">
            <a:noFill/>
          </a:ln>
        </p:spPr>
      </p:pic>
      <p:pic>
        <p:nvPicPr>
          <p:cNvPr id="126" name="i-main-pic" descr="Картинка 274 из 816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8760" y="3143160"/>
            <a:ext cx="1081080" cy="920880"/>
          </a:xfrm>
          <a:prstGeom prst="rect">
            <a:avLst/>
          </a:prstGeom>
          <a:ln w="0">
            <a:noFill/>
          </a:ln>
        </p:spPr>
      </p:pic>
      <p:sp>
        <p:nvSpPr>
          <p:cNvPr id="127" name="Лента лицом вниз 4"/>
          <p:cNvSpPr/>
          <p:nvPr/>
        </p:nvSpPr>
        <p:spPr>
          <a:xfrm>
            <a:off x="428760" y="285840"/>
            <a:ext cx="8143920" cy="500040"/>
          </a:xfrm>
          <a:custGeom>
            <a:avLst/>
            <a:gdLst>
              <a:gd name="textAreaLeft" fmla="*/ 2035800 w 8143920"/>
              <a:gd name="textAreaRight" fmla="*/ 6108120 w 8143920"/>
              <a:gd name="textAreaTop" fmla="*/ 8316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Прочитайте послов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-main-pic" descr="Картинка 274 из 8169">
            <a:hlinkClick r:id="rId8"/>
          </p:cNvPr>
          <p:cNvPicPr/>
          <p:nvPr/>
        </p:nvPicPr>
        <p:blipFill>
          <a:blip r:embed="rId9"/>
          <a:stretch/>
        </p:blipFill>
        <p:spPr>
          <a:xfrm flipH="1" rot="1203600">
            <a:off x="7937280" y="5443200"/>
            <a:ext cx="1081080" cy="920880"/>
          </a:xfrm>
          <a:prstGeom prst="rect">
            <a:avLst/>
          </a:prstGeom>
          <a:ln w="0">
            <a:noFill/>
          </a:ln>
        </p:spPr>
      </p:pic>
      <p:pic>
        <p:nvPicPr>
          <p:cNvPr id="129" name="i-main-pic" descr="Картинка 274 из 816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000840" y="3500280"/>
            <a:ext cx="996840" cy="849600"/>
          </a:xfrm>
          <a:prstGeom prst="rect">
            <a:avLst/>
          </a:prstGeom>
          <a:ln w="0">
            <a:noFill/>
          </a:ln>
        </p:spPr>
      </p:pic>
      <p:pic>
        <p:nvPicPr>
          <p:cNvPr id="130" name="i-main-pic" descr="Картинка 15 из 8169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857160" y="4500720"/>
            <a:ext cx="959040" cy="1046160"/>
          </a:xfrm>
          <a:prstGeom prst="rect">
            <a:avLst/>
          </a:prstGeom>
          <a:ln w="0">
            <a:noFill/>
          </a:ln>
        </p:spPr>
      </p:pic>
      <p:pic>
        <p:nvPicPr>
          <p:cNvPr id="131" name="i-main-pic" descr="Картинка 21 из 8169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857240" y="5572080"/>
            <a:ext cx="1136880" cy="785880"/>
          </a:xfrm>
          <a:prstGeom prst="rect">
            <a:avLst/>
          </a:prstGeom>
          <a:ln w="0">
            <a:noFill/>
          </a:ln>
        </p:spPr>
      </p:pic>
      <p:sp>
        <p:nvSpPr>
          <p:cNvPr id="132" name="Овальная выноска 9"/>
          <p:cNvSpPr/>
          <p:nvPr/>
        </p:nvSpPr>
        <p:spPr>
          <a:xfrm>
            <a:off x="1714680" y="2643120"/>
            <a:ext cx="1785600" cy="785880"/>
          </a:xfrm>
          <a:prstGeom prst="wedgeEllipseCallout">
            <a:avLst>
              <a:gd name="adj1" fmla="val -63763"/>
              <a:gd name="adj2" fmla="val 38722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выне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ьная выноска 10"/>
          <p:cNvSpPr/>
          <p:nvPr/>
        </p:nvSpPr>
        <p:spPr>
          <a:xfrm>
            <a:off x="2071800" y="4143240"/>
            <a:ext cx="1785960" cy="785880"/>
          </a:xfrm>
          <a:prstGeom prst="wedgeEllipseCallout">
            <a:avLst>
              <a:gd name="adj1" fmla="val -63763"/>
              <a:gd name="adj2" fmla="val 38722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б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ьная выноска 11"/>
          <p:cNvSpPr/>
          <p:nvPr/>
        </p:nvSpPr>
        <p:spPr>
          <a:xfrm>
            <a:off x="3286080" y="5286240"/>
            <a:ext cx="1776600" cy="785880"/>
          </a:xfrm>
          <a:prstGeom prst="wedgeEllipseCallout">
            <a:avLst>
              <a:gd name="adj1" fmla="val -63763"/>
              <a:gd name="adj2" fmla="val 38722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п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ьная выноска 12"/>
          <p:cNvSpPr/>
          <p:nvPr/>
        </p:nvSpPr>
        <p:spPr>
          <a:xfrm>
            <a:off x="4000680" y="3071880"/>
            <a:ext cx="1785600" cy="785880"/>
          </a:xfrm>
          <a:prstGeom prst="wedgeEllipseCallout">
            <a:avLst>
              <a:gd name="adj1" fmla="val 61671"/>
              <a:gd name="adj2" fmla="val 23203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ьная выноска 13"/>
          <p:cNvSpPr/>
          <p:nvPr/>
        </p:nvSpPr>
        <p:spPr>
          <a:xfrm>
            <a:off x="5214960" y="2286000"/>
            <a:ext cx="1785960" cy="785880"/>
          </a:xfrm>
          <a:prstGeom prst="wedgeEllipseCallout">
            <a:avLst>
              <a:gd name="adj1" fmla="val 73620"/>
              <a:gd name="adj2" fmla="val 58115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ьная выноска 14"/>
          <p:cNvSpPr/>
          <p:nvPr/>
        </p:nvSpPr>
        <p:spPr>
          <a:xfrm>
            <a:off x="4071960" y="4286160"/>
            <a:ext cx="1785960" cy="785880"/>
          </a:xfrm>
          <a:prstGeom prst="wedgeEllipseCallout">
            <a:avLst>
              <a:gd name="adj1" fmla="val 56550"/>
              <a:gd name="adj2" fmla="val 73629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рыб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ьная выноска 15"/>
          <p:cNvSpPr/>
          <p:nvPr/>
        </p:nvSpPr>
        <p:spPr>
          <a:xfrm>
            <a:off x="6715080" y="4357800"/>
            <a:ext cx="1785960" cy="785880"/>
          </a:xfrm>
          <a:prstGeom prst="wedgeEllipseCallout">
            <a:avLst>
              <a:gd name="adj1" fmla="val 25833"/>
              <a:gd name="adj2" fmla="val 98842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ьная выноска 16"/>
          <p:cNvSpPr/>
          <p:nvPr/>
        </p:nvSpPr>
        <p:spPr>
          <a:xfrm>
            <a:off x="1643040" y="1285920"/>
            <a:ext cx="5715000" cy="1285920"/>
          </a:xfrm>
          <a:prstGeom prst="wedgeEllipseCallout">
            <a:avLst>
              <a:gd name="adj1" fmla="val -50328"/>
              <a:gd name="adj2" fmla="val 105328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Без труда не вынеш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рыбку из п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ашивка 18">
            <a:hlinkClick r:id="rId16" action="ppaction://hlinksldjump"/>
          </p:cNvPr>
          <p:cNvSpPr/>
          <p:nvPr/>
        </p:nvSpPr>
        <p:spPr>
          <a:xfrm>
            <a:off x="8302680" y="6302520"/>
            <a:ext cx="841320" cy="555480"/>
          </a:xfrm>
          <a:custGeom>
            <a:avLst/>
            <a:gdLst>
              <a:gd name="textAreaLeft" fmla="*/ 0 w 841320"/>
              <a:gd name="textAreaRight" fmla="*/ 841680 w 84132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68" y="0"/>
                </a:lnTo>
                <a:lnTo>
                  <a:pt x="21600" y="10800"/>
                </a:lnTo>
                <a:lnTo>
                  <a:pt x="14468" y="21600"/>
                </a:lnTo>
                <a:lnTo>
                  <a:pt x="0" y="21600"/>
                </a:lnTo>
                <a:lnTo>
                  <a:pt x="7132" y="10800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Лента лицом вниз 4"/>
          <p:cNvSpPr/>
          <p:nvPr/>
        </p:nvSpPr>
        <p:spPr>
          <a:xfrm>
            <a:off x="428760" y="285840"/>
            <a:ext cx="8143920" cy="500040"/>
          </a:xfrm>
          <a:custGeom>
            <a:avLst/>
            <a:gdLst>
              <a:gd name="textAreaLeft" fmla="*/ 2035800 w 8143920"/>
              <a:gd name="textAreaRight" fmla="*/ 6108120 w 8143920"/>
              <a:gd name="textAreaTop" fmla="*/ 8316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Разгадай кроссвор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12" descr="http://www.myrkin.ru/data/medium/3516.jpe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8080" y="4280040"/>
            <a:ext cx="1639800" cy="1547640"/>
          </a:xfrm>
          <a:prstGeom prst="rect">
            <a:avLst/>
          </a:prstGeom>
          <a:ln w="0">
            <a:noFill/>
          </a:ln>
        </p:spPr>
      </p:pic>
      <p:sp>
        <p:nvSpPr>
          <p:cNvPr id="143" name="Скругленный прямоугольник 27"/>
          <p:cNvSpPr/>
          <p:nvPr/>
        </p:nvSpPr>
        <p:spPr>
          <a:xfrm>
            <a:off x="5130720" y="3930480"/>
            <a:ext cx="928800" cy="7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38"/>
          <p:cNvSpPr/>
          <p:nvPr/>
        </p:nvSpPr>
        <p:spPr>
          <a:xfrm>
            <a:off x="5130720" y="3216240"/>
            <a:ext cx="928800" cy="7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39"/>
          <p:cNvSpPr/>
          <p:nvPr/>
        </p:nvSpPr>
        <p:spPr>
          <a:xfrm>
            <a:off x="5130720" y="2502000"/>
            <a:ext cx="928800" cy="69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40"/>
          <p:cNvSpPr/>
          <p:nvPr/>
        </p:nvSpPr>
        <p:spPr>
          <a:xfrm>
            <a:off x="6988320" y="3930480"/>
            <a:ext cx="928440" cy="7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41"/>
          <p:cNvSpPr/>
          <p:nvPr/>
        </p:nvSpPr>
        <p:spPr>
          <a:xfrm>
            <a:off x="6988320" y="3216240"/>
            <a:ext cx="928440" cy="7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42"/>
          <p:cNvSpPr/>
          <p:nvPr/>
        </p:nvSpPr>
        <p:spPr>
          <a:xfrm>
            <a:off x="6988320" y="2502000"/>
            <a:ext cx="928440" cy="69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43"/>
          <p:cNvSpPr/>
          <p:nvPr/>
        </p:nvSpPr>
        <p:spPr>
          <a:xfrm>
            <a:off x="3273480" y="1787400"/>
            <a:ext cx="928800" cy="7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44"/>
          <p:cNvSpPr/>
          <p:nvPr/>
        </p:nvSpPr>
        <p:spPr>
          <a:xfrm>
            <a:off x="4202280" y="1787400"/>
            <a:ext cx="928440" cy="7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45"/>
          <p:cNvSpPr/>
          <p:nvPr/>
        </p:nvSpPr>
        <p:spPr>
          <a:xfrm>
            <a:off x="5130720" y="1787400"/>
            <a:ext cx="928800" cy="7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46"/>
          <p:cNvSpPr/>
          <p:nvPr/>
        </p:nvSpPr>
        <p:spPr>
          <a:xfrm>
            <a:off x="6059520" y="1787400"/>
            <a:ext cx="928800" cy="7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47"/>
          <p:cNvSpPr/>
          <p:nvPr/>
        </p:nvSpPr>
        <p:spPr>
          <a:xfrm>
            <a:off x="6988320" y="1787400"/>
            <a:ext cx="928440" cy="7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48"/>
          <p:cNvSpPr/>
          <p:nvPr/>
        </p:nvSpPr>
        <p:spPr>
          <a:xfrm>
            <a:off x="1415880" y="1787400"/>
            <a:ext cx="928800" cy="7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кругленный прямоугольник 49"/>
          <p:cNvSpPr/>
          <p:nvPr/>
        </p:nvSpPr>
        <p:spPr>
          <a:xfrm>
            <a:off x="1415880" y="2502000"/>
            <a:ext cx="928800" cy="69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кругленный прямоугольник 50"/>
          <p:cNvSpPr/>
          <p:nvPr/>
        </p:nvSpPr>
        <p:spPr>
          <a:xfrm>
            <a:off x="2344680" y="1787400"/>
            <a:ext cx="928800" cy="7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51"/>
          <p:cNvSpPr/>
          <p:nvPr/>
        </p:nvSpPr>
        <p:spPr>
          <a:xfrm>
            <a:off x="3273480" y="3930480"/>
            <a:ext cx="928800" cy="7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52"/>
          <p:cNvSpPr/>
          <p:nvPr/>
        </p:nvSpPr>
        <p:spPr>
          <a:xfrm>
            <a:off x="3273480" y="3216240"/>
            <a:ext cx="928800" cy="7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53"/>
          <p:cNvSpPr/>
          <p:nvPr/>
        </p:nvSpPr>
        <p:spPr>
          <a:xfrm>
            <a:off x="3273480" y="2502000"/>
            <a:ext cx="928800" cy="69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кругленный прямоугольник 55"/>
          <p:cNvSpPr/>
          <p:nvPr/>
        </p:nvSpPr>
        <p:spPr>
          <a:xfrm>
            <a:off x="1415880" y="3930480"/>
            <a:ext cx="928800" cy="7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кругленный прямоугольник 56"/>
          <p:cNvSpPr/>
          <p:nvPr/>
        </p:nvSpPr>
        <p:spPr>
          <a:xfrm>
            <a:off x="1415880" y="3216240"/>
            <a:ext cx="928800" cy="7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58"/>
          <p:cNvSpPr/>
          <p:nvPr/>
        </p:nvSpPr>
        <p:spPr>
          <a:xfrm rot="21435000">
            <a:off x="1560600" y="1214280"/>
            <a:ext cx="511200" cy="51444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64"/>
          <p:cNvSpPr/>
          <p:nvPr/>
        </p:nvSpPr>
        <p:spPr>
          <a:xfrm rot="21435000">
            <a:off x="857160" y="1800360"/>
            <a:ext cx="509760" cy="51264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65"/>
          <p:cNvSpPr/>
          <p:nvPr/>
        </p:nvSpPr>
        <p:spPr>
          <a:xfrm rot="21435000">
            <a:off x="3429000" y="1228680"/>
            <a:ext cx="509760" cy="51264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66"/>
          <p:cNvSpPr/>
          <p:nvPr/>
        </p:nvSpPr>
        <p:spPr>
          <a:xfrm rot="21435000">
            <a:off x="5286240" y="1228680"/>
            <a:ext cx="509760" cy="51264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67"/>
          <p:cNvSpPr/>
          <p:nvPr/>
        </p:nvSpPr>
        <p:spPr>
          <a:xfrm rot="21435000">
            <a:off x="7215120" y="1228680"/>
            <a:ext cx="509760" cy="512640"/>
          </a:xfrm>
          <a:prstGeom prst="ellipse">
            <a:avLst/>
          </a:prstGeom>
          <a:solidFill>
            <a:srgbClr val="ff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ьная выноска 68"/>
          <p:cNvSpPr/>
          <p:nvPr/>
        </p:nvSpPr>
        <p:spPr>
          <a:xfrm>
            <a:off x="1143000" y="4857840"/>
            <a:ext cx="3643200" cy="1755720"/>
          </a:xfrm>
          <a:prstGeom prst="wedgeEllipseCallout">
            <a:avLst>
              <a:gd name="adj1" fmla="val -59578"/>
              <a:gd name="adj2" fmla="val -5208"/>
            </a:avLst>
          </a:prstGeom>
          <a:solidFill>
            <a:srgbClr val="ff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линнорукий старич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В уголке сплёл гамач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Приглашает: «Мошк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Отдохните, крошки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ьная выноска 71"/>
          <p:cNvSpPr/>
          <p:nvPr/>
        </p:nvSpPr>
        <p:spPr>
          <a:xfrm>
            <a:off x="4429080" y="4857840"/>
            <a:ext cx="3643200" cy="1755720"/>
          </a:xfrm>
          <a:prstGeom prst="wedgeEllipseCallout">
            <a:avLst>
              <a:gd name="adj1" fmla="val 57125"/>
              <a:gd name="adj2" fmla="val -52083"/>
            </a:avLst>
          </a:prstGeom>
          <a:solidFill>
            <a:srgbClr val="ff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И не снег, и не лё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А  серебром деревья уберё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ьная выноска 72"/>
          <p:cNvSpPr/>
          <p:nvPr/>
        </p:nvSpPr>
        <p:spPr>
          <a:xfrm>
            <a:off x="1071720" y="4857840"/>
            <a:ext cx="3643200" cy="1755720"/>
          </a:xfrm>
          <a:prstGeom prst="wedgeEllipseCallout">
            <a:avLst>
              <a:gd name="adj1" fmla="val -58745"/>
              <a:gd name="adj2" fmla="val -29513"/>
            </a:avLst>
          </a:prstGeom>
          <a:solidFill>
            <a:srgbClr val="ff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Стоит высок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Висит далек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Кругом гладк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В середине слад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ьная выноска 74"/>
          <p:cNvSpPr/>
          <p:nvPr/>
        </p:nvSpPr>
        <p:spPr>
          <a:xfrm>
            <a:off x="1071720" y="4857840"/>
            <a:ext cx="4357440" cy="1755720"/>
          </a:xfrm>
          <a:prstGeom prst="wedgeEllipseCallout">
            <a:avLst>
              <a:gd name="adj1" fmla="val -57064"/>
              <a:gd name="adj2" fmla="val -34722"/>
            </a:avLst>
          </a:prstGeom>
          <a:solidFill>
            <a:srgbClr val="ff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Посмотрите на слова и скажите, что  мы  изучаем на этом остр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11" descr="http://www.myrkin.ru/data/medium/3516.jpeg">
            <a:hlinkClick r:id="rId4"/>
          </p:cNvPr>
          <p:cNvPicPr/>
          <p:nvPr/>
        </p:nvPicPr>
        <p:blipFill>
          <a:blip r:embed="rId5"/>
          <a:stretch/>
        </p:blipFill>
        <p:spPr>
          <a:xfrm rot="20011200">
            <a:off x="7621200" y="3987360"/>
            <a:ext cx="1170000" cy="1136880"/>
          </a:xfrm>
          <a:prstGeom prst="rect">
            <a:avLst/>
          </a:prstGeom>
          <a:ln w="0">
            <a:noFill/>
          </a:ln>
        </p:spPr>
      </p:pic>
      <p:sp>
        <p:nvSpPr>
          <p:cNvPr id="172" name="Овальная выноска 73"/>
          <p:cNvSpPr/>
          <p:nvPr/>
        </p:nvSpPr>
        <p:spPr>
          <a:xfrm>
            <a:off x="3500280" y="4857840"/>
            <a:ext cx="4357800" cy="1755720"/>
          </a:xfrm>
          <a:prstGeom prst="wedgeEllipseCallout">
            <a:avLst>
              <a:gd name="adj1" fmla="val 61143"/>
              <a:gd name="adj2" fmla="val 9550"/>
            </a:avLst>
          </a:prstGeom>
          <a:solidFill>
            <a:srgbClr val="ff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Это старый наш знакомы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Он живёт на крыше дом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Длинноногий, длиннонос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Длинношеий, безголос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ашивка 36">
            <a:hlinkClick r:id="rId6" action="ppaction://hlinksldjump"/>
          </p:cNvPr>
          <p:cNvSpPr/>
          <p:nvPr/>
        </p:nvSpPr>
        <p:spPr>
          <a:xfrm>
            <a:off x="8302680" y="6302520"/>
            <a:ext cx="841320" cy="555480"/>
          </a:xfrm>
          <a:custGeom>
            <a:avLst/>
            <a:gdLst>
              <a:gd name="textAreaLeft" fmla="*/ 0 w 841320"/>
              <a:gd name="textAreaRight" fmla="*/ 841680 w 84132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68" y="0"/>
                </a:lnTo>
                <a:lnTo>
                  <a:pt x="21600" y="10800"/>
                </a:lnTo>
                <a:lnTo>
                  <a:pt x="14468" y="21600"/>
                </a:lnTo>
                <a:lnTo>
                  <a:pt x="0" y="21600"/>
                </a:lnTo>
                <a:lnTo>
                  <a:pt x="7132" y="10800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10" descr="http://www.myrkin.ru/data/medium/3516.jpe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51560" y="4883040"/>
            <a:ext cx="198144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Лента лицом вниз 4"/>
          <p:cNvSpPr/>
          <p:nvPr/>
        </p:nvSpPr>
        <p:spPr>
          <a:xfrm>
            <a:off x="428760" y="285840"/>
            <a:ext cx="8143920" cy="500040"/>
          </a:xfrm>
          <a:custGeom>
            <a:avLst/>
            <a:gdLst>
              <a:gd name="textAreaLeft" fmla="*/ 2035800 w 8143920"/>
              <a:gd name="textAreaRight" fmla="*/ 6108120 w 8143920"/>
              <a:gd name="textAreaTop" fmla="*/ 8316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Разгадайте ребу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Группа 20"/>
          <p:cNvGrpSpPr/>
          <p:nvPr/>
        </p:nvGrpSpPr>
        <p:grpSpPr>
          <a:xfrm>
            <a:off x="2857680" y="4429080"/>
            <a:ext cx="2857320" cy="1214640"/>
            <a:chOff x="2857680" y="4429080"/>
            <a:chExt cx="2857320" cy="1214640"/>
          </a:xfrm>
        </p:grpSpPr>
        <p:sp>
          <p:nvSpPr>
            <p:cNvPr id="177" name="Прямоугольник 12"/>
            <p:cNvSpPr/>
            <p:nvPr/>
          </p:nvSpPr>
          <p:spPr>
            <a:xfrm>
              <a:off x="2857680" y="4429080"/>
              <a:ext cx="2857320" cy="121464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i-main-pic" descr="Картинка 6 из 1405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3000240" y="4572000"/>
              <a:ext cx="2500200" cy="100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Группа 19"/>
          <p:cNvGrpSpPr/>
          <p:nvPr/>
        </p:nvGrpSpPr>
        <p:grpSpPr>
          <a:xfrm>
            <a:off x="5357880" y="2000160"/>
            <a:ext cx="2857320" cy="1214640"/>
            <a:chOff x="5357880" y="2000160"/>
            <a:chExt cx="2857320" cy="1214640"/>
          </a:xfrm>
        </p:grpSpPr>
        <p:sp>
          <p:nvSpPr>
            <p:cNvPr id="180" name="Прямоугольник 11"/>
            <p:cNvSpPr/>
            <p:nvPr/>
          </p:nvSpPr>
          <p:spPr>
            <a:xfrm>
              <a:off x="5357880" y="2000160"/>
              <a:ext cx="2857320" cy="121464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Рисунок 6" descr="ребус 4"/>
            <p:cNvPicPr/>
            <p:nvPr/>
          </p:nvPicPr>
          <p:blipFill>
            <a:blip r:embed="rId4"/>
            <a:stretch/>
          </p:blipFill>
          <p:spPr>
            <a:xfrm>
              <a:off x="5572080" y="2143080"/>
              <a:ext cx="2521800" cy="9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Группа 18"/>
          <p:cNvGrpSpPr/>
          <p:nvPr/>
        </p:nvGrpSpPr>
        <p:grpSpPr>
          <a:xfrm>
            <a:off x="1643040" y="1643040"/>
            <a:ext cx="2857680" cy="1214640"/>
            <a:chOff x="1643040" y="1643040"/>
            <a:chExt cx="2857680" cy="1214640"/>
          </a:xfrm>
        </p:grpSpPr>
        <p:sp>
          <p:nvSpPr>
            <p:cNvPr id="183" name="Прямоугольник 9"/>
            <p:cNvSpPr/>
            <p:nvPr/>
          </p:nvSpPr>
          <p:spPr>
            <a:xfrm>
              <a:off x="1643040" y="1643040"/>
              <a:ext cx="2857680" cy="121464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i-main-pic" descr="Картинка 54 из 1405">
              <a:hlinkClick r:id="rId5"/>
            </p:cNvPr>
            <p:cNvPicPr/>
            <p:nvPr/>
          </p:nvPicPr>
          <p:blipFill>
            <a:blip r:embed="rId6"/>
            <a:srcRect l="0" t="0" r="0" b="8480"/>
            <a:stretch/>
          </p:blipFill>
          <p:spPr>
            <a:xfrm>
              <a:off x="1928520" y="1857240"/>
              <a:ext cx="2214720" cy="78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Прямоугольник 21"/>
          <p:cNvSpPr/>
          <p:nvPr/>
        </p:nvSpPr>
        <p:spPr>
          <a:xfrm>
            <a:off x="1643040" y="1643040"/>
            <a:ext cx="2857680" cy="1214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канику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22"/>
          <p:cNvSpPr/>
          <p:nvPr/>
        </p:nvSpPr>
        <p:spPr>
          <a:xfrm>
            <a:off x="5357880" y="2000160"/>
            <a:ext cx="2857320" cy="1214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рус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i-main-pic" descr="Картинка 6 из 62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851440" y="2419200"/>
            <a:ext cx="3030480" cy="350064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23"/>
          <p:cNvSpPr/>
          <p:nvPr/>
        </p:nvSpPr>
        <p:spPr>
          <a:xfrm>
            <a:off x="2857680" y="4429080"/>
            <a:ext cx="2857320" cy="1214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ль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i-main-pic" descr="Картинка 6 из 626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08080" y="3706920"/>
            <a:ext cx="3394080" cy="2889000"/>
          </a:xfrm>
          <a:prstGeom prst="rect">
            <a:avLst/>
          </a:prstGeom>
          <a:ln w="0">
            <a:noFill/>
          </a:ln>
        </p:spPr>
      </p:pic>
      <p:pic>
        <p:nvPicPr>
          <p:cNvPr id="190" name="i-main-pic" descr="Картинка 6 из 626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-933480" y="920880"/>
            <a:ext cx="3835440" cy="3760560"/>
          </a:xfrm>
          <a:prstGeom prst="rect">
            <a:avLst/>
          </a:prstGeom>
          <a:ln w="0">
            <a:noFill/>
          </a:ln>
        </p:spPr>
      </p:pic>
      <p:sp>
        <p:nvSpPr>
          <p:cNvPr id="191" name="Нашивка 18">
            <a:hlinkClick r:id="rId13" action="ppaction://hlinksldjump"/>
          </p:cNvPr>
          <p:cNvSpPr/>
          <p:nvPr/>
        </p:nvSpPr>
        <p:spPr>
          <a:xfrm>
            <a:off x="8302680" y="6302520"/>
            <a:ext cx="841320" cy="555480"/>
          </a:xfrm>
          <a:custGeom>
            <a:avLst/>
            <a:gdLst>
              <a:gd name="textAreaLeft" fmla="*/ 0 w 841320"/>
              <a:gd name="textAreaRight" fmla="*/ 841680 w 84132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68" y="0"/>
                </a:lnTo>
                <a:lnTo>
                  <a:pt x="21600" y="10800"/>
                </a:lnTo>
                <a:lnTo>
                  <a:pt x="14468" y="21600"/>
                </a:lnTo>
                <a:lnTo>
                  <a:pt x="0" y="21600"/>
                </a:lnTo>
                <a:lnTo>
                  <a:pt x="7132" y="10800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5"/>
          <p:cNvSpPr/>
          <p:nvPr/>
        </p:nvSpPr>
        <p:spPr>
          <a:xfrm>
            <a:off x="571680" y="3357720"/>
            <a:ext cx="4000320" cy="30715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Группа 1"/>
          <p:cNvGrpSpPr/>
          <p:nvPr/>
        </p:nvGrpSpPr>
        <p:grpSpPr>
          <a:xfrm>
            <a:off x="785880" y="3571920"/>
            <a:ext cx="3619440" cy="2786040"/>
            <a:chOff x="785880" y="3571920"/>
            <a:chExt cx="3619440" cy="2786040"/>
          </a:xfrm>
        </p:grpSpPr>
        <p:pic>
          <p:nvPicPr>
            <p:cNvPr id="194" name="Picture 2" descr="F:\море\море7.jpg"/>
            <p:cNvPicPr/>
            <p:nvPr/>
          </p:nvPicPr>
          <p:blipFill>
            <a:blip r:embed="rId2"/>
            <a:stretch/>
          </p:blipFill>
          <p:spPr>
            <a:xfrm>
              <a:off x="785880" y="3571920"/>
              <a:ext cx="1785960" cy="13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2" descr="F:\море\море7.jpg"/>
            <p:cNvPicPr/>
            <p:nvPr/>
          </p:nvPicPr>
          <p:blipFill>
            <a:blip r:embed="rId3"/>
            <a:stretch/>
          </p:blipFill>
          <p:spPr>
            <a:xfrm>
              <a:off x="785880" y="4929120"/>
              <a:ext cx="185724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2" descr="F:\море\море7.jpg"/>
            <p:cNvPicPr/>
            <p:nvPr/>
          </p:nvPicPr>
          <p:blipFill>
            <a:blip r:embed="rId4"/>
            <a:stretch/>
          </p:blipFill>
          <p:spPr>
            <a:xfrm>
              <a:off x="2571840" y="3571920"/>
              <a:ext cx="1833480" cy="14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Прямоугольник 6"/>
          <p:cNvSpPr/>
          <p:nvPr/>
        </p:nvSpPr>
        <p:spPr>
          <a:xfrm rot="5400000">
            <a:off x="5643360" y="4429080"/>
            <a:ext cx="2214720" cy="16430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08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F:\море\море7.jpg"/>
          <p:cNvPicPr/>
          <p:nvPr/>
        </p:nvPicPr>
        <p:blipFill>
          <a:blip r:embed="rId5"/>
          <a:stretch/>
        </p:blipFill>
        <p:spPr>
          <a:xfrm>
            <a:off x="6072120" y="4357800"/>
            <a:ext cx="1357560" cy="178596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8"/>
          <p:cNvSpPr/>
          <p:nvPr/>
        </p:nvSpPr>
        <p:spPr>
          <a:xfrm>
            <a:off x="5000760" y="1714680"/>
            <a:ext cx="2143080" cy="16430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9"/>
          <p:cNvSpPr/>
          <p:nvPr/>
        </p:nvSpPr>
        <p:spPr>
          <a:xfrm>
            <a:off x="714240" y="1500120"/>
            <a:ext cx="2143440" cy="16430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F:\море\море7.jpg"/>
          <p:cNvPicPr/>
          <p:nvPr/>
        </p:nvPicPr>
        <p:blipFill>
          <a:blip r:embed="rId6"/>
          <a:stretch/>
        </p:blipFill>
        <p:spPr>
          <a:xfrm>
            <a:off x="5143680" y="1857240"/>
            <a:ext cx="1833480" cy="1357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F:\море\море7.jpg"/>
          <p:cNvPicPr/>
          <p:nvPr/>
        </p:nvPicPr>
        <p:blipFill>
          <a:blip r:embed="rId7"/>
          <a:stretch/>
        </p:blipFill>
        <p:spPr>
          <a:xfrm>
            <a:off x="857160" y="1643040"/>
            <a:ext cx="1857600" cy="1357200"/>
          </a:xfrm>
          <a:prstGeom prst="rect">
            <a:avLst/>
          </a:prstGeom>
          <a:ln w="0">
            <a:noFill/>
          </a:ln>
        </p:spPr>
      </p:pic>
      <p:sp>
        <p:nvSpPr>
          <p:cNvPr id="203" name="Лента лицом вниз 15"/>
          <p:cNvSpPr/>
          <p:nvPr/>
        </p:nvSpPr>
        <p:spPr>
          <a:xfrm>
            <a:off x="428760" y="285840"/>
            <a:ext cx="8143920" cy="500040"/>
          </a:xfrm>
          <a:custGeom>
            <a:avLst/>
            <a:gdLst>
              <a:gd name="textAreaLeft" fmla="*/ 2035800 w 8143920"/>
              <a:gd name="textAreaRight" fmla="*/ 6108120 w 8143920"/>
              <a:gd name="textAreaTop" fmla="*/ 8316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Найдите нужный фраг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-main-pic" descr="Картинка 141 из 6739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351560" y="3565440"/>
            <a:ext cx="1298880" cy="2158920"/>
          </a:xfrm>
          <a:prstGeom prst="rect">
            <a:avLst/>
          </a:prstGeom>
          <a:ln w="0">
            <a:noFill/>
          </a:ln>
        </p:spPr>
      </p:pic>
      <p:pic>
        <p:nvPicPr>
          <p:cNvPr id="205" name="i-main-pic" descr="Картинка 141 из 673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639880" y="1066680"/>
            <a:ext cx="1371600" cy="2170080"/>
          </a:xfrm>
          <a:prstGeom prst="rect">
            <a:avLst/>
          </a:prstGeom>
          <a:ln w="0">
            <a:noFill/>
          </a:ln>
        </p:spPr>
      </p:pic>
      <p:pic>
        <p:nvPicPr>
          <p:cNvPr id="206" name="i-main-pic" descr="Картинка 141 из 6739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778800" y="1206360"/>
            <a:ext cx="1298520" cy="2013120"/>
          </a:xfrm>
          <a:prstGeom prst="rect">
            <a:avLst/>
          </a:prstGeom>
          <a:ln w="0">
            <a:noFill/>
          </a:ln>
        </p:spPr>
      </p:pic>
      <p:sp>
        <p:nvSpPr>
          <p:cNvPr id="207" name="Нашивка 20">
            <a:hlinkClick r:id="rId14" action="ppaction://hlinksldjump"/>
          </p:cNvPr>
          <p:cNvSpPr/>
          <p:nvPr/>
        </p:nvSpPr>
        <p:spPr>
          <a:xfrm>
            <a:off x="8302680" y="6302520"/>
            <a:ext cx="841320" cy="555480"/>
          </a:xfrm>
          <a:custGeom>
            <a:avLst/>
            <a:gdLst>
              <a:gd name="textAreaLeft" fmla="*/ 0 w 841320"/>
              <a:gd name="textAreaRight" fmla="*/ 841680 w 84132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68" y="0"/>
                </a:lnTo>
                <a:lnTo>
                  <a:pt x="21600" y="10800"/>
                </a:lnTo>
                <a:lnTo>
                  <a:pt x="14468" y="21600"/>
                </a:lnTo>
                <a:lnTo>
                  <a:pt x="0" y="21600"/>
                </a:lnTo>
                <a:lnTo>
                  <a:pt x="7132" y="10800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736 0.03588 C -0.14826 0.15092 -0.11961 0.28032 -0.12066 0.40254 C -0.12066 0.41018 -0.12361 0.41759 -0.12743 0.42245 C -0.13281 0.4456 -0.14757 0.44907 -0.16232 0.45578 C -0.19965 0.47291 -0.24132 0.45578 -0.28073 0.45578 E">
                                      <p:cBhvr>
                                        <p:cTn id="19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4"/>
          <p:cNvSpPr/>
          <p:nvPr/>
        </p:nvSpPr>
        <p:spPr>
          <a:xfrm rot="5400000">
            <a:off x="1392840" y="-892800"/>
            <a:ext cx="6357960" cy="85723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Лента лицом вниз 2"/>
          <p:cNvSpPr/>
          <p:nvPr/>
        </p:nvSpPr>
        <p:spPr>
          <a:xfrm>
            <a:off x="428760" y="285840"/>
            <a:ext cx="8143920" cy="642960"/>
          </a:xfrm>
          <a:custGeom>
            <a:avLst/>
            <a:gdLst>
              <a:gd name="textAreaLeft" fmla="*/ 2035800 w 8143920"/>
              <a:gd name="textAreaRight" fmla="*/ 6108120 w 8143920"/>
              <a:gd name="textAreaTop" fmla="*/ 10692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Спой песню и сделай физкультминут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5" descr="http://animashky.ru/flist/objiv/32/162.gif"/>
          <p:cNvPicPr/>
          <p:nvPr/>
        </p:nvPicPr>
        <p:blipFill>
          <a:blip r:embed="rId2"/>
          <a:stretch/>
        </p:blipFill>
        <p:spPr>
          <a:xfrm>
            <a:off x="2643120" y="1500120"/>
            <a:ext cx="3714840" cy="3571920"/>
          </a:xfrm>
          <a:prstGeom prst="rect">
            <a:avLst/>
          </a:prstGeom>
          <a:ln w="0">
            <a:noFill/>
          </a:ln>
        </p:spPr>
      </p:pic>
      <p:pic>
        <p:nvPicPr>
          <p:cNvPr id="211" name="005_chunga-changa.mp3" descr=""/>
          <p:cNvPicPr/>
          <p:nvPr/>
        </p:nvPicPr>
        <p:blipFill>
          <a:blip r:embed="rId3"/>
          <a:stretch/>
        </p:blipFill>
        <p:spPr>
          <a:xfrm>
            <a:off x="42876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00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4"/>
          <p:cNvSpPr/>
          <p:nvPr/>
        </p:nvSpPr>
        <p:spPr>
          <a:xfrm rot="5400000">
            <a:off x="1392840" y="-892800"/>
            <a:ext cx="6357960" cy="85723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Лента лицом вниз 2"/>
          <p:cNvSpPr/>
          <p:nvPr/>
        </p:nvSpPr>
        <p:spPr>
          <a:xfrm>
            <a:off x="428760" y="285840"/>
            <a:ext cx="8143920" cy="500040"/>
          </a:xfrm>
          <a:custGeom>
            <a:avLst/>
            <a:gdLst>
              <a:gd name="textAreaLeft" fmla="*/ 2035800 w 8143920"/>
              <a:gd name="textAreaRight" fmla="*/ 6108120 w 8143920"/>
              <a:gd name="textAreaTop" fmla="*/ 8316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 Black"/>
              </a:rPr>
              <a:t>Физкульт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4" descr="http://animashky.ru/flist/objiv/5/54.gif"/>
          <p:cNvPicPr/>
          <p:nvPr/>
        </p:nvPicPr>
        <p:blipFill>
          <a:blip r:embed="rId2"/>
          <a:stretch/>
        </p:blipFill>
        <p:spPr>
          <a:xfrm>
            <a:off x="3929040" y="714240"/>
            <a:ext cx="4422960" cy="52023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4" descr="http://animashky.ru/flist/objiv/5/54.gif"/>
          <p:cNvPicPr/>
          <p:nvPr/>
        </p:nvPicPr>
        <p:blipFill>
          <a:blip r:embed="rId3"/>
          <a:stretch/>
        </p:blipFill>
        <p:spPr>
          <a:xfrm flipH="1">
            <a:off x="928800" y="2071800"/>
            <a:ext cx="2990880" cy="351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06:38:02Z</dcterms:created>
  <dc:creator>Танка</dc:creator>
  <dc:description/>
  <dc:language>en-US</dc:language>
  <cp:lastModifiedBy>Катенок</cp:lastModifiedBy>
  <dcterms:modified xsi:type="dcterms:W3CDTF">2010-08-15T15:31:33Z</dcterms:modified>
  <cp:revision>87</cp:revision>
  <dc:subject/>
  <dc:title>путешествие по морю знаний</dc:title>
</cp:coreProperties>
</file>