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C90E-CDAC-4ECF-A41C-DDB64924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8313-7E35-487B-BEDF-236B0518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3D12-CD73-4791-85F4-DF835E8A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ED5F-0A3A-491A-AD51-4F0D13EE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05CD-2C88-444C-9168-87DE4DD3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7B2E-8C21-4392-A796-59CEE884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7FD0-A493-4304-A5D3-1E151CB9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4B0C-1A8F-46EF-8022-2FC2F3F6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CA9C-7578-4A10-9561-941B31ED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643A-5DAD-477A-9C3D-D1BE91F0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6620-0FAB-4361-B839-29B0FD8F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2274-ABF5-4664-B47E-00D6ED75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63C0-5050-4B31-A830-B93D2FE6F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oi-universitet.ru/" TargetMode="External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2928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АКТИВНЫЕ МЕТОДЫ ОБУЧЕНИЯ, ИСПОЛЬЗУЕМЫЕ  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РИ ОБУЧЕНИИ УЧАЩИХСЯ НАЧАЛЬНЫХ КЛАССОВ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00080" y="642960"/>
            <a:ext cx="71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d8a"/>
                </a:solidFill>
                <a:latin typeface="Arial"/>
              </a:rPr>
              <a:t>Государствен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d8a"/>
                </a:solidFill>
                <a:latin typeface="Arial"/>
              </a:rPr>
              <a:t>дополнительного профессиона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d8a"/>
                </a:solidFill>
                <a:latin typeface="Arial"/>
              </a:rPr>
              <a:t>(повышения квалификации) специалис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d8a"/>
                </a:solidFill>
                <a:latin typeface="Arial"/>
              </a:rPr>
              <a:t>«Мордовский  республиканский институт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214280" y="4071960"/>
            <a:ext cx="7143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2060"/>
                </a:solidFill>
                <a:latin typeface="Arial"/>
              </a:rPr>
              <a:t>подготов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Arial"/>
              </a:rPr>
              <a:t>МОУ«Средняя общеобразовательная школа №8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Arial"/>
              </a:rPr>
              <a:t>Городского округа Саранск Республики Морд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Arial"/>
              </a:rPr>
              <a:t>Малышева Марина 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712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«Инфо-угадайка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C:\Documents and Settings\User01\Рабочий стол\для МРИО\man_question_mark.jpg"/>
          <p:cNvPicPr/>
          <p:nvPr/>
        </p:nvPicPr>
        <p:blipFill>
          <a:blip r:embed="rId2"/>
          <a:stretch/>
        </p:blipFill>
        <p:spPr>
          <a:xfrm>
            <a:off x="928800" y="1500120"/>
            <a:ext cx="1517400" cy="1905120"/>
          </a:xfrm>
          <a:prstGeom prst="rect">
            <a:avLst/>
          </a:prstGeom>
          <a:ln w="0">
            <a:noFill/>
          </a:ln>
        </p:spPr>
      </p:pic>
      <p:sp>
        <p:nvSpPr>
          <p:cNvPr id="65" name="Содержимое 2"/>
          <p:cNvSpPr/>
          <p:nvPr/>
        </p:nvSpPr>
        <p:spPr>
          <a:xfrm>
            <a:off x="500040" y="1617840"/>
            <a:ext cx="8229600" cy="52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             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ряд вопросов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                       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карточки детям по этап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1. сущ, прил, глаг, пред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2. с Ь               без 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3. род  число  паде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ышь            шала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очь               гр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ожь               малы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На доске карточки: сущ, с Ь, без Ь, 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«Мозговой штурм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1424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а доске записана тема уро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Остальное пространство до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азделено на секторы, пронумерованные,  но пока не заполненн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 ходу работы с темой дети выделяют ключевые моменты и вписывают в секторы. Постепенно исчезают «белые пятна»; отчетливое разделение общего потока полученной информации  способствует лучшему восприятию материа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C:\Documents and Settings\User01\Рабочий стол\для МРИО\мозг штурм.jpg"/>
          <p:cNvPicPr/>
          <p:nvPr/>
        </p:nvPicPr>
        <p:blipFill>
          <a:blip r:embed="rId2"/>
          <a:stretch/>
        </p:blipFill>
        <p:spPr>
          <a:xfrm>
            <a:off x="6715080" y="428760"/>
            <a:ext cx="18576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2960" y="34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«Ульи»</a:t>
            </a:r>
            <a:br>
              <a:rPr sz="2400"/>
            </a:br>
            <a:br>
              <a:rPr sz="3200"/>
            </a:br>
            <a:r>
              <a:rPr b="1" lang="en-US" sz="6000" spc="-1" strike="noStrike">
                <a:solidFill>
                  <a:srgbClr val="c00000"/>
                </a:solidFill>
                <a:latin typeface="Arial"/>
              </a:rPr>
              <a:t>*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Для работы    над темой урока используются для групп сменного или постоянного состава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«Светофор»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«На линии огня»</a:t>
            </a:r>
            <a:br>
              <a:rPr sz="2400"/>
            </a:b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Для  проведения дискуссии  и принятия решений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Заголовок 1"/>
          <p:cNvSpPr/>
          <p:nvPr/>
        </p:nvSpPr>
        <p:spPr>
          <a:xfrm>
            <a:off x="0" y="571680"/>
            <a:ext cx="8786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При организации самостоятель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:\Documents and Settings\User01\Рабочий стол\для МРИО\hive.gif"/>
          <p:cNvPicPr/>
          <p:nvPr/>
        </p:nvPicPr>
        <p:blipFill>
          <a:blip r:embed="rId2"/>
          <a:stretch/>
        </p:blipFill>
        <p:spPr>
          <a:xfrm>
            <a:off x="5572080" y="1143000"/>
            <a:ext cx="1500120" cy="1566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C:\Documents and Settings\User01\Рабочий стол\для МРИО\traffic_light_d1.jpg"/>
          <p:cNvPicPr/>
          <p:nvPr/>
        </p:nvPicPr>
        <p:blipFill>
          <a:blip r:embed="rId3"/>
          <a:stretch/>
        </p:blipFill>
        <p:spPr>
          <a:xfrm>
            <a:off x="6000840" y="3714840"/>
            <a:ext cx="11649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91440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Arial"/>
              </a:rPr>
              <a:t>*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Для представления материала самостоятель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«Инфо-карусел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«Автобусная останов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«Творческая мастерска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«Творческая мастерская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Documents and Settings\User01\Рабочий стол\для МРИО\plener.gif"/>
          <p:cNvPicPr/>
          <p:nvPr/>
        </p:nvPicPr>
        <p:blipFill>
          <a:blip r:embed="rId2"/>
          <a:stretch/>
        </p:blipFill>
        <p:spPr>
          <a:xfrm>
            <a:off x="1214280" y="1500120"/>
            <a:ext cx="3753000" cy="37530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4"/>
          <p:cNvSpPr/>
          <p:nvPr/>
        </p:nvSpPr>
        <p:spPr>
          <a:xfrm>
            <a:off x="5286240" y="1285920"/>
            <a:ext cx="3143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Дети готов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рисун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иллюстрации на заданную тем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пишут сочин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стих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рассказ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подбирают пословиц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на уроках труда изготавливают блокно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книги необыч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рганизация релакс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14400" y="178560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«физкультминут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00000"/>
                </a:solidFill>
                <a:latin typeface="Arial"/>
              </a:rPr>
              <a:t>*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Не стоит забывать о восстанавливающ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силе релаксации на у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C:\Documents and Settings\User01\Рабочий стол\для МРИО\Children_Smiling.jpg"/>
          <p:cNvPicPr/>
          <p:nvPr/>
        </p:nvPicPr>
        <p:blipFill>
          <a:blip r:embed="rId2"/>
          <a:stretch/>
        </p:blipFill>
        <p:spPr>
          <a:xfrm>
            <a:off x="2000160" y="4071960"/>
            <a:ext cx="48006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Организация  подведения ито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1440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00000"/>
                </a:solidFill>
                <a:latin typeface="Arial"/>
              </a:rPr>
              <a:t>* </a:t>
            </a: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Помогают эффективно, грамотно и интересно подвести итоги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«Ромашка»    «Мудрый совет»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C:\Documents and Settings\User01\Рабочий стол\для МРИО\be31836703f7.jpg"/>
          <p:cNvPicPr/>
          <p:nvPr/>
        </p:nvPicPr>
        <p:blipFill>
          <a:blip r:embed="rId2"/>
          <a:stretch/>
        </p:blipFill>
        <p:spPr>
          <a:xfrm>
            <a:off x="1428840" y="3571920"/>
            <a:ext cx="2438280" cy="2590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Documents and Settings\User01\Рабочий стол\для МРИО\0109-300x270.png"/>
          <p:cNvPicPr/>
          <p:nvPr/>
        </p:nvPicPr>
        <p:blipFill>
          <a:blip r:embed="rId3"/>
          <a:stretch/>
        </p:blipFill>
        <p:spPr>
          <a:xfrm>
            <a:off x="5000760" y="3571920"/>
            <a:ext cx="28573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«Ромаш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7168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Берет чистый лепес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Пишет вопрос, вывешивает вопрос переверну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С доски другая группа берет лист, читает участник, дополняют друг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C:\Documents and Settings\User01\Рабочий стол\для МРИО\be31836703f7.jpg"/>
          <p:cNvPicPr/>
          <p:nvPr/>
        </p:nvPicPr>
        <p:blipFill>
          <a:blip r:embed="rId2"/>
          <a:stretch/>
        </p:blipFill>
        <p:spPr>
          <a:xfrm>
            <a:off x="571680" y="357120"/>
            <a:ext cx="12855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«Мудрый совет»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en-US" sz="3200" spc="-1" strike="noStrike">
                <a:solidFill>
                  <a:srgbClr val="002060"/>
                </a:solidFill>
                <a:latin typeface="Arial"/>
              </a:rPr>
              <a:t>Группа пишет в конце урока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2060"/>
                </a:solidFill>
                <a:latin typeface="Arial"/>
              </a:rPr>
              <a:t>                   </a:t>
            </a:r>
            <a:r>
              <a:rPr b="0" i="1" lang="en-US" sz="3200" spc="-1" strike="noStrike">
                <a:solidFill>
                  <a:srgbClr val="002060"/>
                </a:solidFill>
                <a:latin typeface="Arial"/>
              </a:rPr>
              <a:t>«совет» детям, которы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2060"/>
                </a:solidFill>
                <a:latin typeface="Arial"/>
              </a:rPr>
              <a:t>еще не совсем поняли тему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2060"/>
                </a:solidFill>
                <a:latin typeface="Arial"/>
              </a:rPr>
              <a:t>не изучали тему (младши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C:\Documents and Settings\User01\Рабочий стол\для МРИО\0109-300x270.png"/>
          <p:cNvPicPr/>
          <p:nvPr/>
        </p:nvPicPr>
        <p:blipFill>
          <a:blip r:embed="rId2"/>
          <a:stretch/>
        </p:blipFill>
        <p:spPr>
          <a:xfrm>
            <a:off x="571680" y="500040"/>
            <a:ext cx="192852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«Итоговый круг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Documents and Settings\User01\Рабочий стол\для МРИО\в круг.jpg"/>
          <p:cNvPicPr/>
          <p:nvPr/>
        </p:nvPicPr>
        <p:blipFill>
          <a:blip r:embed="rId2"/>
          <a:stretch/>
        </p:blipFill>
        <p:spPr>
          <a:xfrm>
            <a:off x="928800" y="1857240"/>
            <a:ext cx="2857320" cy="2786040"/>
          </a:xfrm>
          <a:prstGeom prst="rect">
            <a:avLst/>
          </a:prstGeom>
          <a:ln w="0">
            <a:noFill/>
          </a:ln>
        </p:spPr>
      </p:pic>
      <p:sp>
        <p:nvSpPr>
          <p:cNvPr id="92" name="Содержимое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итель дает мину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Подготовленные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                               </a:t>
            </a: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представит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                               </a:t>
            </a: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группы задают вопро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                               </a:t>
            </a: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детям других групп, 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                               </a:t>
            </a: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в свою очередь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                               </a:t>
            </a: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отвечают (работ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                                </a:t>
            </a: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по круг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2060"/>
                </a:solidFill>
                <a:latin typeface="Arial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Главная задача каждого учителя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d8a"/>
                </a:solidFill>
                <a:latin typeface="Arial"/>
              </a:rPr>
              <a:t>не только дать учащимся определённую сумму знан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d8a"/>
                </a:solidFill>
                <a:latin typeface="Arial"/>
              </a:rPr>
              <a:t>но и развить у них интерес к учению, научить учить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5840" y="571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Активные методы обучения помогаю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1440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развивает мотивацию к обучению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и наилучшие стороны уче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учить учащихся самостоятельно добывать зна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развивают интерес к предмету, позволяют активизировать процесс развития у учащихся коммуникативных навык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учебно-информационных и учебно-организационных ум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Дети начальной школы имеют свои особенности, поэт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Arial"/>
              </a:rPr>
              <a:t>не могут совладать со своими эмоциями, поэтому на уроках создаётся вполне допустимый рабочий шум при обсуждении пробл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70c0"/>
                </a:solidFill>
                <a:latin typeface="Arial"/>
              </a:rPr>
              <a:t>методы лучше вводить постепенно, воспитывая у учащихся  культуру дискуссии и сотруднич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Arial"/>
              </a:rPr>
              <a:t>применять данные методики не обязательно все на каждом и на одном уро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0040" y="9997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митрий Медведев. Текст Послания Президента Российской Федерации (извлечение), 12.11. 2009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2.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«Активные методы обучения». Электронный курс.  Международный Институт Развития «ЭкоПро», Образовательный портал «Мой университет», </a:t>
            </a:r>
            <a:r>
              <a:rPr b="0" i="1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i="1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i="1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moi-universitet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3. Давыдов В.В., “Проблемы развивающего обучения”, Москва, 1986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4.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Ксензова Г.Ю. “Перспективные шк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технологии”, Москва, Педагогическое 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России, 2000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5. Хижнякова О. Н. Современные образовательные технологии в начальной школе. – С. 200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2960" y="2928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АКТИВНЫЕ МЕТОДЫ ОБУЧЕНИЯ, ИСПОЛЬЗУЕМЫЕ  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РИ ОБУЧЕНИИ УЧАЩИХСЯ НАЧАЛЬНЫХ КЛАССОВ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00080" y="642960"/>
            <a:ext cx="71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d8a"/>
                </a:solidFill>
                <a:latin typeface="Arial"/>
              </a:rPr>
              <a:t>Государствен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d8a"/>
                </a:solidFill>
                <a:latin typeface="Arial"/>
              </a:rPr>
              <a:t>дополнительного профессиона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d8a"/>
                </a:solidFill>
                <a:latin typeface="Arial"/>
              </a:rPr>
              <a:t>(повышения квалификации) специалис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d8a"/>
                </a:solidFill>
                <a:latin typeface="Arial"/>
              </a:rPr>
              <a:t>«Мордовский  республиканский институт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928800" y="4143240"/>
            <a:ext cx="7143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подготов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МОУ«Средняя общеобразовательная школа №8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Городского округа Саранск Республики Морд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Малышева Марина 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Эффективные активные методы </a:t>
            </a: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обучения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42960" y="200016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Нетрадиционное начало традиционного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Arial"/>
              </a:rPr>
              <a:t>Постановка и решение проблемных вопросов, создание проблемных ситу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Организация релаксации и подведения итогов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Arial"/>
              </a:rPr>
              <a:t>Презентации учебного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Использование индуктивных и дедуктивных логических сх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Arial"/>
              </a:rPr>
              <a:t>Использование форм так называемого интерактив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Эффективные приемы активизации познавательной деятельности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40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7</a:t>
            </a:r>
            <a:r>
              <a:rPr b="0" i="1" lang="en-US" sz="3200" spc="-1" strike="noStrike">
                <a:solidFill>
                  <a:srgbClr val="002060"/>
                </a:solidFill>
                <a:latin typeface="Arial"/>
              </a:rPr>
              <a:t>.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Элементы — «изюмин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8. </a:t>
            </a:r>
            <a:r>
              <a:rPr b="1" i="1" lang="en-US" sz="2400" spc="-1" strike="noStrike">
                <a:solidFill>
                  <a:srgbClr val="0070c0"/>
                </a:solidFill>
                <a:latin typeface="Arial"/>
              </a:rPr>
              <a:t>Реализация личностно ориентирова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Arial"/>
              </a:rPr>
              <a:t>и индивидуально — дифференцирова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Arial"/>
              </a:rPr>
              <a:t>подхода к учащимся, организация групп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Arial"/>
              </a:rPr>
              <a:t>деятельности школьников самостоятель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Arial"/>
              </a:rPr>
              <a:t>работы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9. Нетрадиционные виды уро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10. </a:t>
            </a:r>
            <a:r>
              <a:rPr b="1" i="1" lang="en-US" sz="2400" spc="-1" strike="noStrike">
                <a:solidFill>
                  <a:srgbClr val="0070c0"/>
                </a:solidFill>
                <a:latin typeface="Arial"/>
              </a:rPr>
              <a:t>Игры, игровые момен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Нетрадиционное начало традиционного уро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1440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«Галерея портрет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«Улыбнемся друг другу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«Поздоровайся локтям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C:\Documents and Settings\User01\Рабочий стол\для МРИО\улыбки.jpg"/>
          <p:cNvPicPr/>
          <p:nvPr/>
        </p:nvPicPr>
        <p:blipFill>
          <a:blip r:embed="rId2"/>
          <a:stretch/>
        </p:blipFill>
        <p:spPr>
          <a:xfrm>
            <a:off x="6357960" y="164304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:\Documents and Settings\User01\Рабочий стол\для МРИО\локотки.jpg"/>
          <p:cNvPicPr/>
          <p:nvPr/>
        </p:nvPicPr>
        <p:blipFill>
          <a:blip r:embed="rId3"/>
          <a:stretch/>
        </p:blipFill>
        <p:spPr>
          <a:xfrm>
            <a:off x="6715080" y="4357800"/>
            <a:ext cx="185760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714240" y="714240"/>
            <a:ext cx="822960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Выяснение целей, ожиданий , опас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«Дерево ожидан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«Поляна снежин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«Разноцветные лист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«Фруктовый сад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«Ковер идей»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00000"/>
                </a:solidFill>
                <a:latin typeface="Arial"/>
              </a:rPr>
              <a:t>*</a:t>
            </a: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позволяют учителю лучше понять клас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и каждого уче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етодики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Дерево ожиданий»       «Поляна снежинок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User01\Рабочий стол\для МРИО\снежинки.jpg"/>
          <p:cNvPicPr/>
          <p:nvPr/>
        </p:nvPicPr>
        <p:blipFill>
          <a:blip r:embed="rId2"/>
          <a:stretch/>
        </p:blipFill>
        <p:spPr>
          <a:xfrm>
            <a:off x="4643280" y="2428920"/>
            <a:ext cx="3714840" cy="3714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Documents and Settings\User01\Рабочий стол\для МРИО\яблоня.jpg"/>
          <p:cNvPicPr/>
          <p:nvPr/>
        </p:nvPicPr>
        <p:blipFill>
          <a:blip r:embed="rId3"/>
          <a:stretch/>
        </p:blipFill>
        <p:spPr>
          <a:xfrm>
            <a:off x="900000" y="2421000"/>
            <a:ext cx="32212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Методика «Ковёр идей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7" descr="IMG_2401"/>
          <p:cNvPicPr/>
          <p:nvPr/>
        </p:nvPicPr>
        <p:blipFill>
          <a:blip r:embed="rId2"/>
          <a:stretch/>
        </p:blipFill>
        <p:spPr>
          <a:xfrm>
            <a:off x="1357200" y="1643040"/>
            <a:ext cx="62150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Методы презентации учебного материала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2960" y="1617840"/>
            <a:ext cx="822960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«Инфо-угадай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«Мозговой штур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«Класте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Arial"/>
              </a:rPr>
              <a:t>*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позволяют сориентировать обучающихся в теме, представить им основные направления движения для дальнейшей самостоятельной работы   с новым материал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C:\Documents and Settings\User01\Рабочий стол\для МРИО\man_question_mark.jpg"/>
          <p:cNvPicPr/>
          <p:nvPr/>
        </p:nvPicPr>
        <p:blipFill>
          <a:blip r:embed="rId2"/>
          <a:stretch/>
        </p:blipFill>
        <p:spPr>
          <a:xfrm>
            <a:off x="4857840" y="1143000"/>
            <a:ext cx="1844640" cy="2316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:\Documents and Settings\User01\Рабочий стол\для МРИО\мозг штурм.jpg"/>
          <p:cNvPicPr/>
          <p:nvPr/>
        </p:nvPicPr>
        <p:blipFill>
          <a:blip r:embed="rId3"/>
          <a:stretch/>
        </p:blipFill>
        <p:spPr>
          <a:xfrm>
            <a:off x="6929280" y="1143000"/>
            <a:ext cx="1791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05:16:24Z</dcterms:created>
  <dc:creator>Admin</dc:creator>
  <dc:description/>
  <dc:language>en-US</dc:language>
  <cp:lastModifiedBy>Катенок</cp:lastModifiedBy>
  <dcterms:modified xsi:type="dcterms:W3CDTF">2010-08-23T15:51:09Z</dcterms:modified>
  <cp:revision>47</cp:revision>
  <dc:subject/>
  <dc:title>Слайд 1</dc:title>
</cp:coreProperties>
</file>