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5.jpeg" ContentType="image/jpeg"/>
  <Override PartName="/ppt/media/image28.png" ContentType="image/png"/>
  <Override PartName="/ppt/media/image3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9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6B29-B06B-44FA-9996-1F4A35967E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9278-1C03-4E94-B1EF-CDE001C9CD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0652-4BFE-43D2-ADE2-173F2EB0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165F-A9FC-4652-9D1C-B2A40B8F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0F0F-95F5-44CE-93A5-D2FDAA33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5E6-A6F6-47EF-8EC0-730A3F4C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812-100A-4CA0-A063-6C39628E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BDE-BBE4-4F00-ACCD-0CC59818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9F62-E8BC-4AA2-BFD8-42981D51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0DD2-E046-4437-ABC1-ECCBAA29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42C-5604-4581-901D-3027056F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752B-074B-441D-8BFE-54FEA6F8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492-AB16-4A6D-BE69-6B01BE40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86E5-D0B0-4A60-AAD1-E6824948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CAD5-A505-45E8-8F2D-54DD9D8E2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2"/>
          <a:stretch/>
        </p:blipFill>
        <p:spPr>
          <a:xfrm>
            <a:off x="457200" y="3279600"/>
            <a:ext cx="8137440" cy="2103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85520" y="5285880"/>
            <a:ext cx="7358040" cy="1357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Автор: Никитина Наталья Борисовна   учитель начальных класс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МОУ лицея №15 г.Ставропол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резентация  к уроку окружающего мира  по теме: «Вода в природ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класс УМК «Планета Знаний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6840" y="1356840"/>
            <a:ext cx="85438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ник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p=14&amp;ed=1&amp;text=%D0%BA%D0%B0%D0%BA%20%D0%BE%D0%B1%D1%80%D0%B0%D0%B7%D1%83%D1%8E%D1%82%D1%81%D1%8F%20%D1%80%D0%BE%D0%B4%D0%BD%D0%B8%D0%BA%D0%B8&amp;spsite=fake-046-3298616.ru&amp;img_url=www.chemistryland.com%2FCHM130W%2FFinal%2FOralExam%2FWaterDropWorld.jpg&amp;rpt=s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mirfotografii.mirtesen.ru/photos?q=%D1%80%D0%BE%D0%B4%D0%BD%D0%B8%D0%BA%D0%B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ка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zapovednik.ucoz.ru/forum/14-32-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зеро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images.yandex.ru/yandsearch?p=3&amp;ed=1&amp;text=%D0%BE%D0%B7%D0%B5%D1%80%D0%BE&amp;spsite=fake-032-10016590.ru&amp;img_url=skuky.net%2Fwp-content%2Fuploads%2F2009%2F08%2Fsinevir.jpg&amp;rpt=s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ре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fotki.yandex.ru/users/sashkakirilenko/view/255131/?page=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.Г. Ивченкова, И.В. Потапов, Окружающий мир 3 класс, УМК «Планета Знаний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сква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одические рекомендации к учебнику  Г .Г. Ивченковой, И.В. Потапова, Окружающий мир 3 класс, УМК «Планета Знаний» Москва 200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Прямоугольник 3" descr=""/>
          <p:cNvPicPr/>
          <p:nvPr/>
        </p:nvPicPr>
        <p:blipFill>
          <a:blip r:embed="rId2"/>
          <a:stretch/>
        </p:blipFill>
        <p:spPr>
          <a:xfrm>
            <a:off x="2322360" y="396720"/>
            <a:ext cx="42800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3" descr=""/>
          <p:cNvPicPr/>
          <p:nvPr/>
        </p:nvPicPr>
        <p:blipFill>
          <a:blip r:embed="rId2"/>
          <a:stretch/>
        </p:blipFill>
        <p:spPr>
          <a:xfrm>
            <a:off x="347760" y="328680"/>
            <a:ext cx="8594640" cy="109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0" y="1928880"/>
            <a:ext cx="6792840" cy="442908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4"/>
          <a:stretch/>
        </p:blipFill>
        <p:spPr>
          <a:xfrm>
            <a:off x="6461280" y="1395360"/>
            <a:ext cx="2597040" cy="11034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6" descr=""/>
          <p:cNvPicPr/>
          <p:nvPr/>
        </p:nvPicPr>
        <p:blipFill>
          <a:blip r:embed="rId5"/>
          <a:stretch/>
        </p:blipFill>
        <p:spPr>
          <a:xfrm>
            <a:off x="6461280" y="2328840"/>
            <a:ext cx="2554200" cy="11034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7" descr=""/>
          <p:cNvPicPr/>
          <p:nvPr/>
        </p:nvPicPr>
        <p:blipFill>
          <a:blip r:embed="rId6"/>
          <a:stretch/>
        </p:blipFill>
        <p:spPr>
          <a:xfrm>
            <a:off x="6529320" y="3255840"/>
            <a:ext cx="227988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8" descr=""/>
          <p:cNvPicPr/>
          <p:nvPr/>
        </p:nvPicPr>
        <p:blipFill>
          <a:blip r:embed="rId7"/>
          <a:stretch/>
        </p:blipFill>
        <p:spPr>
          <a:xfrm>
            <a:off x="6388200" y="4327560"/>
            <a:ext cx="2523960" cy="1103400"/>
          </a:xfrm>
          <a:prstGeom prst="rect">
            <a:avLst/>
          </a:prstGeom>
          <a:ln w="0">
            <a:noFill/>
          </a:ln>
        </p:spPr>
      </p:pic>
      <p:cxnSp>
        <p:nvCxnSpPr>
          <p:cNvPr id="56" name="Прямая со стрелкой 10"/>
          <p:cNvCxnSpPr/>
          <p:nvPr/>
        </p:nvCxnSpPr>
        <p:spPr>
          <a:xfrm flipH="1">
            <a:off x="5500440" y="2214720"/>
            <a:ext cx="1357920" cy="10008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Прямая со стрелкой 11"/>
          <p:cNvCxnSpPr/>
          <p:nvPr/>
        </p:nvCxnSpPr>
        <p:spPr>
          <a:xfrm flipH="1">
            <a:off x="5357520" y="3285000"/>
            <a:ext cx="1643760" cy="500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Прямая со стрелкой 13"/>
          <p:cNvCxnSpPr/>
          <p:nvPr/>
        </p:nvCxnSpPr>
        <p:spPr>
          <a:xfrm flipH="1">
            <a:off x="4714200" y="4214880"/>
            <a:ext cx="2215080" cy="643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Прямая со стрелкой 16"/>
          <p:cNvCxnSpPr/>
          <p:nvPr/>
        </p:nvCxnSpPr>
        <p:spPr>
          <a:xfrm flipH="1">
            <a:off x="3571560" y="5214960"/>
            <a:ext cx="3215520" cy="2865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big.jpe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11.jpeg"/>
          <p:cNvPicPr/>
          <p:nvPr/>
        </p:nvPicPr>
        <p:blipFill>
          <a:blip r:embed="rId3"/>
          <a:stretch/>
        </p:blipFill>
        <p:spPr>
          <a:xfrm>
            <a:off x="714240" y="500040"/>
            <a:ext cx="8148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лючевая вода очень чист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ё используют для пи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тобы родники не засорялись, их обкладывают камнями или дос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Прямоугольник 3" descr=""/>
          <p:cNvPicPr/>
          <p:nvPr/>
        </p:nvPicPr>
        <p:blipFill>
          <a:blip r:embed="rId2"/>
          <a:stretch/>
        </p:blipFill>
        <p:spPr>
          <a:xfrm>
            <a:off x="2955960" y="-30240"/>
            <a:ext cx="3060720" cy="110340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4" descr=""/>
          <p:cNvPicPr/>
          <p:nvPr/>
        </p:nvPicPr>
        <p:blipFill>
          <a:blip r:embed="rId3"/>
          <a:stretch/>
        </p:blipFill>
        <p:spPr>
          <a:xfrm>
            <a:off x="469800" y="609480"/>
            <a:ext cx="2584440" cy="11034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5" descr=""/>
          <p:cNvPicPr/>
          <p:nvPr/>
        </p:nvPicPr>
        <p:blipFill>
          <a:blip r:embed="rId4"/>
          <a:stretch/>
        </p:blipFill>
        <p:spPr>
          <a:xfrm>
            <a:off x="5668920" y="682560"/>
            <a:ext cx="3786120" cy="11034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гейзер.JPG"/>
          <p:cNvPicPr/>
          <p:nvPr/>
        </p:nvPicPr>
        <p:blipFill>
          <a:blip r:embed="rId5"/>
          <a:stretch/>
        </p:blipFill>
        <p:spPr>
          <a:xfrm>
            <a:off x="914400" y="1566720"/>
            <a:ext cx="7418520" cy="476748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7" descr=""/>
          <p:cNvPicPr/>
          <p:nvPr/>
        </p:nvPicPr>
        <p:blipFill>
          <a:blip r:embed="rId6"/>
          <a:stretch/>
        </p:blipFill>
        <p:spPr>
          <a:xfrm>
            <a:off x="1725480" y="5992920"/>
            <a:ext cx="57229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3" descr=""/>
          <p:cNvPicPr/>
          <p:nvPr/>
        </p:nvPicPr>
        <p:blipFill>
          <a:blip r:embed="rId2"/>
          <a:stretch/>
        </p:blipFill>
        <p:spPr>
          <a:xfrm>
            <a:off x="2262240" y="42840"/>
            <a:ext cx="4870440" cy="1451160"/>
          </a:xfrm>
          <a:prstGeom prst="rect">
            <a:avLst/>
          </a:prstGeom>
          <a:ln w="0">
            <a:noFill/>
          </a:ln>
        </p:spPr>
      </p:pic>
      <p:cxnSp>
        <p:nvCxnSpPr>
          <p:cNvPr id="71" name="Прямая со стрелкой 5"/>
          <p:cNvCxnSpPr/>
          <p:nvPr/>
        </p:nvCxnSpPr>
        <p:spPr>
          <a:xfrm flipH="1">
            <a:off x="2642400" y="1284840"/>
            <a:ext cx="786600" cy="5007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Прямая со стрелкой 6"/>
          <p:cNvCxnSpPr/>
          <p:nvPr/>
        </p:nvCxnSpPr>
        <p:spPr>
          <a:xfrm>
            <a:off x="5571720" y="1285920"/>
            <a:ext cx="786600" cy="64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73" name="Прямоугольник 12" descr=""/>
          <p:cNvPicPr/>
          <p:nvPr/>
        </p:nvPicPr>
        <p:blipFill>
          <a:blip r:embed="rId3"/>
          <a:stretch/>
        </p:blipFill>
        <p:spPr>
          <a:xfrm>
            <a:off x="-317520" y="1468440"/>
            <a:ext cx="4896000" cy="11034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15" descr=""/>
          <p:cNvPicPr/>
          <p:nvPr/>
        </p:nvPicPr>
        <p:blipFill>
          <a:blip r:embed="rId4"/>
          <a:stretch/>
        </p:blipFill>
        <p:spPr>
          <a:xfrm>
            <a:off x="4095720" y="1542960"/>
            <a:ext cx="5359320" cy="11034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17" descr=""/>
          <p:cNvPicPr/>
          <p:nvPr/>
        </p:nvPicPr>
        <p:blipFill>
          <a:blip r:embed="rId5"/>
          <a:stretch/>
        </p:blipFill>
        <p:spPr>
          <a:xfrm>
            <a:off x="884160" y="2328840"/>
            <a:ext cx="2237040" cy="11034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19" descr=""/>
          <p:cNvPicPr/>
          <p:nvPr/>
        </p:nvPicPr>
        <p:blipFill>
          <a:blip r:embed="rId6"/>
          <a:stretch/>
        </p:blipFill>
        <p:spPr>
          <a:xfrm>
            <a:off x="743040" y="3181320"/>
            <a:ext cx="2597040" cy="110484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20" descr=""/>
          <p:cNvPicPr/>
          <p:nvPr/>
        </p:nvPicPr>
        <p:blipFill>
          <a:blip r:embed="rId7"/>
          <a:stretch/>
        </p:blipFill>
        <p:spPr>
          <a:xfrm>
            <a:off x="743040" y="4114800"/>
            <a:ext cx="2427120" cy="110340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21" descr=""/>
          <p:cNvPicPr/>
          <p:nvPr/>
        </p:nvPicPr>
        <p:blipFill>
          <a:blip r:embed="rId8"/>
          <a:stretch/>
        </p:blipFill>
        <p:spPr>
          <a:xfrm>
            <a:off x="596880" y="5114880"/>
            <a:ext cx="2610000" cy="110340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22" descr=""/>
          <p:cNvPicPr/>
          <p:nvPr/>
        </p:nvPicPr>
        <p:blipFill>
          <a:blip r:embed="rId9"/>
          <a:stretch/>
        </p:blipFill>
        <p:spPr>
          <a:xfrm>
            <a:off x="5389560" y="2395440"/>
            <a:ext cx="2279520" cy="11034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3" descr=""/>
          <p:cNvPicPr/>
          <p:nvPr/>
        </p:nvPicPr>
        <p:blipFill>
          <a:blip r:embed="rId10"/>
          <a:stretch/>
        </p:blipFill>
        <p:spPr>
          <a:xfrm>
            <a:off x="3754440" y="3468600"/>
            <a:ext cx="57006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572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Calibri"/>
              </a:rPr>
              <a:t>Река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 –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естественный водный поток, текущий в выработанном им углублении – русле ре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5" descr="e4ab3d98134d.jpg"/>
          <p:cNvPicPr/>
          <p:nvPr/>
        </p:nvPicPr>
        <p:blipFill>
          <a:blip r:embed="rId2"/>
          <a:stretch/>
        </p:blipFill>
        <p:spPr>
          <a:xfrm>
            <a:off x="3206880" y="1420920"/>
            <a:ext cx="5943600" cy="52783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6"/>
          <p:cNvSpPr/>
          <p:nvPr/>
        </p:nvSpPr>
        <p:spPr>
          <a:xfrm>
            <a:off x="0" y="1428840"/>
            <a:ext cx="3357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Каждая река имеет свое нач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Ее начало всегда расположено выше, чем оконч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Место, где река берет начал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от которого наблюдается постоянное течение воды в в русле,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называется </a:t>
            </a:r>
            <a:r>
              <a:rPr b="1" lang="en-US" sz="2000" spc="-1" strike="noStrike">
                <a:solidFill>
                  <a:srgbClr val="ff0066"/>
                </a:solidFill>
                <a:latin typeface="Calibri"/>
              </a:rPr>
              <a:t>истоком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Истоки бывают разные: болото, озеро, подземные воды, ледник в горах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img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4" descr=""/>
          <p:cNvPicPr/>
          <p:nvPr/>
        </p:nvPicPr>
        <p:blipFill>
          <a:blip r:embed="rId3"/>
          <a:stretch/>
        </p:blipFill>
        <p:spPr>
          <a:xfrm>
            <a:off x="-249120" y="-195120"/>
            <a:ext cx="2571480" cy="120168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5" descr=""/>
          <p:cNvPicPr/>
          <p:nvPr/>
        </p:nvPicPr>
        <p:blipFill>
          <a:blip r:embed="rId4"/>
          <a:stretch/>
        </p:blipFill>
        <p:spPr>
          <a:xfrm>
            <a:off x="4846680" y="4730760"/>
            <a:ext cx="249228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Содержимое 4" descr="sinevir.jpg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70880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3" descr=""/>
          <p:cNvPicPr/>
          <p:nvPr/>
        </p:nvPicPr>
        <p:blipFill>
          <a:blip r:embed="rId3"/>
          <a:stretch/>
        </p:blipFill>
        <p:spPr>
          <a:xfrm>
            <a:off x="-182520" y="-115920"/>
            <a:ext cx="96076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Содержимое 4" descr="0_3e49b_99bfa86a_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3" descr=""/>
          <p:cNvPicPr/>
          <p:nvPr/>
        </p:nvPicPr>
        <p:blipFill>
          <a:blip r:embed="rId3"/>
          <a:stretch/>
        </p:blipFill>
        <p:spPr>
          <a:xfrm>
            <a:off x="1163520" y="-262080"/>
            <a:ext cx="687096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5:17:37Z</dcterms:created>
  <dc:creator>comp</dc:creator>
  <dc:description/>
  <dc:language>en-US</dc:language>
  <cp:lastModifiedBy>Катенок</cp:lastModifiedBy>
  <dcterms:modified xsi:type="dcterms:W3CDTF">2010-08-06T13:07:26Z</dcterms:modified>
  <cp:revision>35</cp:revision>
  <dc:subject/>
  <dc:title>Слайд 1</dc:title>
</cp:coreProperties>
</file>