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2FEC-905E-4C23-A827-BF15957F7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1833-458E-4508-B3A5-1082FFDB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CF6D-4CB9-44B5-9E6F-0BFDF4D66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73C3-55FE-48FB-9A83-18A91D6AC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BFE1-AFF9-48DF-B98D-45444351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BE00-BE33-46C8-9A72-1C4179F3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4182-1DA5-443C-85EC-610A2C86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B249-C7E9-4870-B4E7-84DF2EB9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9160-A337-4DA7-BB0E-668EB522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63BB-8C95-468B-9B3B-34569625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C814-7FA8-41E5-8AB1-D18E76D8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E097-3709-4B71-AC4B-D08C16D0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7713-4422-4AF4-BE90-A7EF68C7E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57.radikal.ru/i157/0910/f6/c2f123f5bdbc.jpg" TargetMode="Externa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.oboz.obozrevatel.com/files/NewsPhoto/2009/01/28/282574/144141_image_large.jpg" TargetMode="Externa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ravmir.ru/wp-content/uploads/pravmir-images/4-n11n-s34.jpg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gpskarts.ru/Tsentr/" TargetMode="External"/><Relationship Id="rId3" Type="http://schemas.openxmlformats.org/officeDocument/2006/relationships/hyperlink" Target="http://gpskarts.ru/Tsentr/" TargetMode="External"/><Relationship Id="rId4" Type="http://schemas.openxmlformats.org/officeDocument/2006/relationships/hyperlink" Target="http://gpskarts.ru/Tsentr/" TargetMode="External"/><Relationship Id="rId5" Type="http://schemas.openxmlformats.org/officeDocument/2006/relationships/hyperlink" Target="http://gpskarts.ru/Tsentr/" TargetMode="External"/><Relationship Id="rId6" Type="http://schemas.openxmlformats.org/officeDocument/2006/relationships/hyperlink" Target="http://gpskarts.ru/Tsentr/" TargetMode="External"/><Relationship Id="rId7" Type="http://schemas.openxmlformats.org/officeDocument/2006/relationships/hyperlink" Target="http://gpskarts.ru/Tsentr/" TargetMode="External"/><Relationship Id="rId8" Type="http://schemas.openxmlformats.org/officeDocument/2006/relationships/hyperlink" Target="http://www.lechaim.ru/ARHIV/177/zavesa.htm" TargetMode="External"/><Relationship Id="rId9" Type="http://schemas.openxmlformats.org/officeDocument/2006/relationships/hyperlink" Target="http://www.lechaim.ru/ARHIV/177/zavesa.htm" TargetMode="External"/><Relationship Id="rId10" Type="http://schemas.openxmlformats.org/officeDocument/2006/relationships/hyperlink" Target="http://www.lechaim.ru/ARHIV/177/zavesa.htm" TargetMode="External"/><Relationship Id="rId11" Type="http://schemas.openxmlformats.org/officeDocument/2006/relationships/hyperlink" Target="http://www.lechaim.ru/ARHIV/177/zavesa.htm" TargetMode="External"/><Relationship Id="rId12" Type="http://schemas.openxmlformats.org/officeDocument/2006/relationships/hyperlink" Target="http://www.lechaim.ru/ARHIV/177/zavesa.htm" TargetMode="External"/><Relationship Id="rId13" Type="http://schemas.openxmlformats.org/officeDocument/2006/relationships/hyperlink" Target="http://www.emc.komi.com/02/28/011.htm" TargetMode="External"/><Relationship Id="rId14" Type="http://schemas.openxmlformats.org/officeDocument/2006/relationships/hyperlink" Target="http://www.emc.komi.com/02/28/011.htm" TargetMode="External"/><Relationship Id="rId15" Type="http://schemas.openxmlformats.org/officeDocument/2006/relationships/hyperlink" Target="http://www.emc.komi.com/02/28/011.htm" TargetMode="External"/><Relationship Id="rId16" Type="http://schemas.openxmlformats.org/officeDocument/2006/relationships/hyperlink" Target="http://www.emc.komi.com/02/28/011.htm" TargetMode="External"/><Relationship Id="rId17" Type="http://schemas.openxmlformats.org/officeDocument/2006/relationships/hyperlink" Target="http://www.peoplenews.ru/literature/vlasti_moskvy_mogut_kupit_pomeste_turgeneva_pod_parizhem.shtml" TargetMode="External"/><Relationship Id="rId18" Type="http://schemas.openxmlformats.org/officeDocument/2006/relationships/hyperlink" Target="http://www.peoplenews.ru/literature/vlasti_moskvy_mogut_kupit_pomeste_turgeneva_pod_parizhem.shtml" TargetMode="External"/><Relationship Id="rId19" Type="http://schemas.openxmlformats.org/officeDocument/2006/relationships/hyperlink" Target="http://www.peoplenews.ru/literature/vlasti_moskvy_mogut_kupit_pomeste_turgeneva_pod_parizhem.shtml" TargetMode="External"/><Relationship Id="rId20" Type="http://schemas.openxmlformats.org/officeDocument/2006/relationships/hyperlink" Target="http://www.peoplenews.ru/literature/vlasti_moskvy_mogut_kupit_pomeste_turgeneva_pod_parizhem.shtml" TargetMode="External"/><Relationship Id="rId21" Type="http://schemas.openxmlformats.org/officeDocument/2006/relationships/hyperlink" Target="http://www.peoplenews.ru/literature/vlasti_moskvy_mogut_kupit_pomeste_turgeneva_pod_parizhem.shtml" TargetMode="External"/><Relationship Id="rId22" Type="http://schemas.openxmlformats.org/officeDocument/2006/relationships/hyperlink" Target="http://www.peoplenews.ru/literature/vlasti_moskvy_mogut_kupit_pomeste_turgeneva_pod_parizhem.shtml" TargetMode="External"/><Relationship Id="rId23" Type="http://schemas.openxmlformats.org/officeDocument/2006/relationships/hyperlink" Target="http://www.peoplenews.ru/literature/vlasti_moskvy_mogut_kupit_pomeste_turgeneva_pod_parizhem.shtml" TargetMode="External"/><Relationship Id="rId24" Type="http://schemas.openxmlformats.org/officeDocument/2006/relationships/hyperlink" Target="http://www.orthos.org/grodno/publ/ushinsk.htm" TargetMode="External"/><Relationship Id="rId25" Type="http://schemas.openxmlformats.org/officeDocument/2006/relationships/hyperlink" Target="http://www.orthos.org/grodno/publ/ushinsk.htm" TargetMode="External"/><Relationship Id="rId26" Type="http://schemas.openxmlformats.org/officeDocument/2006/relationships/hyperlink" Target="http://www.orthos.org/grodno/publ/ushinsk.htm" TargetMode="External"/><Relationship Id="rId27" Type="http://schemas.openxmlformats.org/officeDocument/2006/relationships/hyperlink" Target="http://www.orthos.org/grodno/publ/ushinsk.htm" TargetMode="External"/><Relationship Id="rId28" Type="http://schemas.openxmlformats.org/officeDocument/2006/relationships/hyperlink" Target="http://www.orthos.org/grodno/publ/ushinsk.htm" TargetMode="External"/><Relationship Id="rId29" Type="http://schemas.openxmlformats.org/officeDocument/2006/relationships/hyperlink" Target="http://www.orthos.org/grodno/publ/ushinsk.htm" TargetMode="External"/><Relationship Id="rId30" Type="http://schemas.openxmlformats.org/officeDocument/2006/relationships/hyperlink" Target="http://www.orthos.org/grodno/publ/ushinsk.htm" TargetMode="External"/><Relationship Id="rId31" Type="http://schemas.openxmlformats.org/officeDocument/2006/relationships/hyperlink" Target="http://www.orthos.org/grodno/publ/ushinsk.htm" TargetMode="External"/><Relationship Id="rId32" Type="http://schemas.openxmlformats.org/officeDocument/2006/relationships/hyperlink" Target="http://www.orthos.org/grodno/publ/ushinsk.htm" TargetMode="External"/><Relationship Id="rId33" Type="http://schemas.openxmlformats.org/officeDocument/2006/relationships/hyperlink" Target="http://www.shop.kodges.ru/pages/biblio_authors/?subject=50491" TargetMode="External"/><Relationship Id="rId34" Type="http://schemas.openxmlformats.org/officeDocument/2006/relationships/hyperlink" Target="http://www.shop.kodges.ru/pages/biblio_authors/?subject=50491" TargetMode="External"/><Relationship Id="rId35" Type="http://schemas.openxmlformats.org/officeDocument/2006/relationships/hyperlink" Target="http://www.shop.kodges.ru/pages/biblio_authors/?subject=50491" TargetMode="External"/><Relationship Id="rId36" Type="http://schemas.openxmlformats.org/officeDocument/2006/relationships/hyperlink" Target="http://www.shop.kodges.ru/pages/biblio_authors/?subject=50491" TargetMode="External"/><Relationship Id="rId37" Type="http://schemas.openxmlformats.org/officeDocument/2006/relationships/hyperlink" Target="http://www.shop.kodges.ru/pages/biblio_authors/?subject=50491" TargetMode="External"/><Relationship Id="rId38" Type="http://schemas.openxmlformats.org/officeDocument/2006/relationships/hyperlink" Target="http://www.shop.kodges.ru/pages/biblio_authors/?subject=50491" TargetMode="External"/><Relationship Id="rId39" Type="http://schemas.openxmlformats.org/officeDocument/2006/relationships/hyperlink" Target="http://www.shop.kodges.ru/pages/biblio_authors/?subject=50491" TargetMode="External"/><Relationship Id="rId40" Type="http://schemas.openxmlformats.org/officeDocument/2006/relationships/hyperlink" Target="http://www.shop.kodges.ru/pages/biblio_authors/?subject=50491" TargetMode="External"/><Relationship Id="rId41" Type="http://schemas.openxmlformats.org/officeDocument/2006/relationships/hyperlink" Target="http://www.yslish.com/fate/vasilij_andreevich_zhukovskij.html" TargetMode="External"/><Relationship Id="rId42" Type="http://schemas.openxmlformats.org/officeDocument/2006/relationships/hyperlink" Target="http://www.yslish.com/fate/vasilij_andreevich_zhukovskij.html" TargetMode="External"/><Relationship Id="rId43" Type="http://schemas.openxmlformats.org/officeDocument/2006/relationships/hyperlink" Target="http://www.yslish.com/fate/vasilij_andreevich_zhukovskij.html" TargetMode="External"/><Relationship Id="rId44" Type="http://schemas.openxmlformats.org/officeDocument/2006/relationships/hyperlink" Target="http://www.yslish.com/fate/vasilij_andreevich_zhukovskij.html" TargetMode="External"/><Relationship Id="rId45" Type="http://schemas.openxmlformats.org/officeDocument/2006/relationships/hyperlink" Target="http://www.yslish.com/fate/vasilij_andreevich_zhukovskij.html" TargetMode="External"/><Relationship Id="rId46" Type="http://schemas.openxmlformats.org/officeDocument/2006/relationships/hyperlink" Target="http://www.yslish.com/fate/vasilij_andreevich_zhukovskij.html" TargetMode="External"/><Relationship Id="rId47" Type="http://schemas.openxmlformats.org/officeDocument/2006/relationships/hyperlink" Target="http://www.yslish.com/fate/vasilij_andreevich_zhukovskij.html" TargetMode="External"/><Relationship Id="rId48" Type="http://schemas.openxmlformats.org/officeDocument/2006/relationships/hyperlink" Target="http://irina480.narod.ru/hudoj/repin/tvor/ris/portret/muj/files/p0000080.jpg.htm" TargetMode="External"/><Relationship Id="rId49" Type="http://schemas.openxmlformats.org/officeDocument/2006/relationships/hyperlink" Target="http://irina480.narod.ru/hudoj/repin/tvor/ris/portret/muj/files/p0000080.jpg.htm" TargetMode="External"/><Relationship Id="rId50" Type="http://schemas.openxmlformats.org/officeDocument/2006/relationships/hyperlink" Target="http://irina480.narod.ru/hudoj/repin/tvor/ris/portret/muj/files/p0000080.jpg.htm" TargetMode="External"/><Relationship Id="rId51" Type="http://schemas.openxmlformats.org/officeDocument/2006/relationships/hyperlink" Target="http://irina480.narod.ru/hudoj/repin/tvor/ris/portret/muj/files/p0000080.jpg.htm" TargetMode="External"/><Relationship Id="rId52" Type="http://schemas.openxmlformats.org/officeDocument/2006/relationships/hyperlink" Target="http://irina480.narod.ru/hudoj/repin/tvor/ris/portret/muj/files/p0000080.jpg.htm" TargetMode="External"/><Relationship Id="rId53" Type="http://schemas.openxmlformats.org/officeDocument/2006/relationships/hyperlink" Target="http://irina480.narod.ru/hudoj/repin/tvor/ris/portret/muj/files/p0000080.jpg.htm" TargetMode="External"/><Relationship Id="rId54" Type="http://schemas.openxmlformats.org/officeDocument/2006/relationships/hyperlink" Target="http://irina480.narod.ru/hudoj/repin/tvor/ris/portret/muj/files/p0000080.jpg.htm" TargetMode="External"/><Relationship Id="rId55" Type="http://schemas.openxmlformats.org/officeDocument/2006/relationships/hyperlink" Target="http://irina480.narod.ru/hudoj/repin/tvor/ris/portret/muj/files/p0000080.jpg.htm" TargetMode="External"/><Relationship Id="rId56" Type="http://schemas.openxmlformats.org/officeDocument/2006/relationships/hyperlink" Target="http://irina480.narod.ru/hudoj/repin/tvor/ris/portret/muj/files/p0000080.jpg.htm" TargetMode="External"/><Relationship Id="rId57" Type="http://schemas.openxmlformats.org/officeDocument/2006/relationships/hyperlink" Target="http://irina480.narod.ru/hudoj/repin/tvor/ris/portret/muj/files/p0000080.jpg.htm" TargetMode="External"/><Relationship Id="rId58" Type="http://schemas.openxmlformats.org/officeDocument/2006/relationships/hyperlink" Target="http://irina480.narod.ru/hudoj/repin/tvor/ris/portret/muj/files/p0000080.jpg.htm" TargetMode="External"/><Relationship Id="rId59" Type="http://schemas.openxmlformats.org/officeDocument/2006/relationships/hyperlink" Target="http://irina480.narod.ru/hudoj/repin/tvor/ris/portret/muj/files/p0000080.jpg.htm" TargetMode="External"/><Relationship Id="rId60" Type="http://schemas.openxmlformats.org/officeDocument/2006/relationships/hyperlink" Target="http://irina480.narod.ru/hudoj/repin/tvor/ris/portret/muj/files/p0000080.jpg.htm" TargetMode="External"/><Relationship Id="rId61" Type="http://schemas.openxmlformats.org/officeDocument/2006/relationships/hyperlink" Target="http://irina480.narod.ru/hudoj/repin/tvor/ris/portret/muj/files/p0000080.jpg.htm" TargetMode="External"/><Relationship Id="rId62" Type="http://schemas.openxmlformats.org/officeDocument/2006/relationships/hyperlink" Target="http://irina480.narod.ru/hudoj/repin/tvor/ris/portret/muj/files/p0000080.jpg.htm" TargetMode="External"/><Relationship Id="rId63" Type="http://schemas.openxmlformats.org/officeDocument/2006/relationships/hyperlink" Target="http://irina480.narod.ru/hudoj/repin/tvor/ris/portret/muj/files/p0000080.jpg.htm" TargetMode="External"/><Relationship Id="rId6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yardkeeper.livejournal.com/155626.html" TargetMode="External"/><Relationship Id="rId3" Type="http://schemas.openxmlformats.org/officeDocument/2006/relationships/hyperlink" Target="http://yardkeeper.livejournal.com/155626.html" TargetMode="External"/><Relationship Id="rId4" Type="http://schemas.openxmlformats.org/officeDocument/2006/relationships/hyperlink" Target="http://yardkeeper.livejournal.com/155626.html" TargetMode="External"/><Relationship Id="rId5" Type="http://schemas.openxmlformats.org/officeDocument/2006/relationships/hyperlink" Target="http://yardkeeper.livejournal.com/155626.html" TargetMode="External"/><Relationship Id="rId6" Type="http://schemas.openxmlformats.org/officeDocument/2006/relationships/hyperlink" Target="http://www.ozon.ru/context/detail/id/311965/" TargetMode="External"/><Relationship Id="rId7" Type="http://schemas.openxmlformats.org/officeDocument/2006/relationships/hyperlink" Target="http://www.ozon.ru/context/detail/id/311965/" TargetMode="External"/><Relationship Id="rId8" Type="http://schemas.openxmlformats.org/officeDocument/2006/relationships/hyperlink" Target="http://www.ozon.ru/context/detail/id/311965/" TargetMode="External"/><Relationship Id="rId9" Type="http://schemas.openxmlformats.org/officeDocument/2006/relationships/hyperlink" Target="http://www.ozon.ru/context/detail/id/311965/" TargetMode="External"/><Relationship Id="rId10" Type="http://schemas.openxmlformats.org/officeDocument/2006/relationships/hyperlink" Target="http://www.ozon.ru/context/detail/id/311965/" TargetMode="External"/><Relationship Id="rId11" Type="http://schemas.openxmlformats.org/officeDocument/2006/relationships/hyperlink" Target="http://www.ozon.ru/context/detail/id/311965/" TargetMode="External"/><Relationship Id="rId12" Type="http://schemas.openxmlformats.org/officeDocument/2006/relationships/hyperlink" Target="http://www.ozon.ru/context/detail/id/311965/" TargetMode="External"/><Relationship Id="rId13" Type="http://schemas.openxmlformats.org/officeDocument/2006/relationships/hyperlink" Target="http://www.ozon.ru/context/detail/id/311965/" TargetMode="External"/><Relationship Id="rId14" Type="http://schemas.openxmlformats.org/officeDocument/2006/relationships/hyperlink" Target="http://www.ozon.ru/context/detail/id/311965/" TargetMode="External"/><Relationship Id="rId15" Type="http://schemas.openxmlformats.org/officeDocument/2006/relationships/hyperlink" Target="http://www.ozon.ru/context/detail/id/311965/" TargetMode="External"/><Relationship Id="rId16" Type="http://schemas.openxmlformats.org/officeDocument/2006/relationships/hyperlink" Target="http://www.bookin.org.ru/book/74022" TargetMode="External"/><Relationship Id="rId17" Type="http://schemas.openxmlformats.org/officeDocument/2006/relationships/hyperlink" Target="http://www.bookin.org.ru/book/74022" TargetMode="External"/><Relationship Id="rId18" Type="http://schemas.openxmlformats.org/officeDocument/2006/relationships/hyperlink" Target="http://www.bookin.org.ru/book/74022" TargetMode="External"/><Relationship Id="rId19" Type="http://schemas.openxmlformats.org/officeDocument/2006/relationships/hyperlink" Target="http://www.bookin.org.ru/book/74022" TargetMode="External"/><Relationship Id="rId20" Type="http://schemas.openxmlformats.org/officeDocument/2006/relationships/hyperlink" Target="http://www.bookin.org.ru/book/74022" TargetMode="External"/><Relationship Id="rId21" Type="http://schemas.openxmlformats.org/officeDocument/2006/relationships/hyperlink" Target="http://www.bookin.org.ru/book/74022" TargetMode="External"/><Relationship Id="rId22" Type="http://schemas.openxmlformats.org/officeDocument/2006/relationships/hyperlink" Target="http://vipsvot.hos.pp.ua/kniga2251.html" TargetMode="External"/><Relationship Id="rId23" Type="http://schemas.openxmlformats.org/officeDocument/2006/relationships/hyperlink" Target="http://vipsvot.hos.pp.ua/kniga2251.html" TargetMode="External"/><Relationship Id="rId24" Type="http://schemas.openxmlformats.org/officeDocument/2006/relationships/hyperlink" Target="http://vipsvot.hos.pp.ua/kniga2251.html" TargetMode="External"/><Relationship Id="rId25" Type="http://schemas.openxmlformats.org/officeDocument/2006/relationships/hyperlink" Target="http://vipsvot.hos.pp.ua/kniga2251.html" TargetMode="External"/><Relationship Id="rId26" Type="http://schemas.openxmlformats.org/officeDocument/2006/relationships/hyperlink" Target="http://www.propokupki.ru/poeziya/off440" TargetMode="External"/><Relationship Id="rId27" Type="http://schemas.openxmlformats.org/officeDocument/2006/relationships/hyperlink" Target="http://www.propokupki.ru/poeziya/off440" TargetMode="External"/><Relationship Id="rId28" Type="http://schemas.openxmlformats.org/officeDocument/2006/relationships/hyperlink" Target="http://www.propokupki.ru/poeziya/off440" TargetMode="External"/><Relationship Id="rId29" Type="http://schemas.openxmlformats.org/officeDocument/2006/relationships/hyperlink" Target="http://www.propokupki.ru/poeziya/off440" TargetMode="External"/><Relationship Id="rId30" Type="http://schemas.openxmlformats.org/officeDocument/2006/relationships/hyperlink" Target="http://www.propokupki.ru/poeziya/off440" TargetMode="External"/><Relationship Id="rId31" Type="http://schemas.openxmlformats.org/officeDocument/2006/relationships/hyperlink" Target="http://www.propokupki.ru/poeziya/off440" TargetMode="External"/><Relationship Id="rId32" Type="http://schemas.openxmlformats.org/officeDocument/2006/relationships/hyperlink" Target="http://www.mdk-arbat.ru/bookcard_all4.aspx?book_id=612283" TargetMode="External"/><Relationship Id="rId33" Type="http://schemas.openxmlformats.org/officeDocument/2006/relationships/hyperlink" Target="http://www.mdk-arbat.ru/bookcard_all4.aspx?book_id=612283" TargetMode="External"/><Relationship Id="rId34" Type="http://schemas.openxmlformats.org/officeDocument/2006/relationships/hyperlink" Target="http://www.mdk-arbat.ru/bookcard_all4.aspx?book_id=612283" TargetMode="External"/><Relationship Id="rId35" Type="http://schemas.openxmlformats.org/officeDocument/2006/relationships/hyperlink" Target="http://www.mdk-arbat.ru/bookcard_all4.aspx?book_id=612283" TargetMode="External"/><Relationship Id="rId36" Type="http://schemas.openxmlformats.org/officeDocument/2006/relationships/hyperlink" Target="http://www.bookin.org.ru/book/649770" TargetMode="External"/><Relationship Id="rId37" Type="http://schemas.openxmlformats.org/officeDocument/2006/relationships/hyperlink" Target="http://www.bookin.org.ru/book/649770" TargetMode="External"/><Relationship Id="rId38" Type="http://schemas.openxmlformats.org/officeDocument/2006/relationships/hyperlink" Target="http://www.bookin.org.ru/book/649770" TargetMode="External"/><Relationship Id="rId39" Type="http://schemas.openxmlformats.org/officeDocument/2006/relationships/hyperlink" Target="http://www.bookin.org.ru/book/649770" TargetMode="External"/><Relationship Id="rId40" Type="http://schemas.openxmlformats.org/officeDocument/2006/relationships/hyperlink" Target="http://www.bookin.org.ru/book/649770" TargetMode="External"/><Relationship Id="rId41" Type="http://schemas.openxmlformats.org/officeDocument/2006/relationships/hyperlink" Target="http://www.bookin.org.ru/book/649770" TargetMode="External"/><Relationship Id="rId42" Type="http://schemas.openxmlformats.org/officeDocument/2006/relationships/hyperlink" Target="http://www.gdekniga.biz/ctl/zone/293-103.html" TargetMode="External"/><Relationship Id="rId43" Type="http://schemas.openxmlformats.org/officeDocument/2006/relationships/hyperlink" Target="http://www.gdekniga.biz/ctl/zone/293-103.html" TargetMode="External"/><Relationship Id="rId44" Type="http://schemas.openxmlformats.org/officeDocument/2006/relationships/hyperlink" Target="http://www.gdekniga.biz/ctl/zone/293-103.html" TargetMode="External"/><Relationship Id="rId45" Type="http://schemas.openxmlformats.org/officeDocument/2006/relationships/hyperlink" Target="http://www.gdekniga.biz/ctl/zone/293-103.html" TargetMode="External"/><Relationship Id="rId46" Type="http://schemas.openxmlformats.org/officeDocument/2006/relationships/hyperlink" Target="http://www.gdekniga.biz/ctl/zone/293-103.html" TargetMode="External"/><Relationship Id="rId47" Type="http://schemas.openxmlformats.org/officeDocument/2006/relationships/hyperlink" Target="http://www.gdekniga.biz/ctl/zone/293-103.html" TargetMode="External"/><Relationship Id="rId48" Type="http://schemas.openxmlformats.org/officeDocument/2006/relationships/hyperlink" Target="http://www.gdekniga.biz/ctl/zone/293-103.html" TargetMode="External"/><Relationship Id="rId49" Type="http://schemas.openxmlformats.org/officeDocument/2006/relationships/hyperlink" Target="http://www.gdekniga.biz/ctl/zone/293-103.html" TargetMode="External"/><Relationship Id="rId50" Type="http://schemas.openxmlformats.org/officeDocument/2006/relationships/hyperlink" Target="http://www.bookean.ru/person/31736/products" TargetMode="External"/><Relationship Id="rId51" Type="http://schemas.openxmlformats.org/officeDocument/2006/relationships/hyperlink" Target="http://www.bookean.ru/person/31736/products" TargetMode="External"/><Relationship Id="rId52" Type="http://schemas.openxmlformats.org/officeDocument/2006/relationships/hyperlink" Target="http://www.bookean.ru/person/31736/products" TargetMode="External"/><Relationship Id="rId53" Type="http://schemas.openxmlformats.org/officeDocument/2006/relationships/hyperlink" Target="http://www.bookean.ru/person/31736/products" TargetMode="External"/><Relationship Id="rId54" Type="http://schemas.openxmlformats.org/officeDocument/2006/relationships/hyperlink" Target="http://www.bookean.ru/person/31736/products" TargetMode="External"/><Relationship Id="rId55" Type="http://schemas.openxmlformats.org/officeDocument/2006/relationships/hyperlink" Target="http://www.bookean.ru/person/31736/products" TargetMode="External"/><Relationship Id="rId56" Type="http://schemas.openxmlformats.org/officeDocument/2006/relationships/hyperlink" Target="http://www.bookean.ru/person/31736/products" TargetMode="External"/><Relationship Id="rId5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jplus.ru/img3/y/a/yardkeeppeer/sand2hi.jpg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s.imhonet.ru/element/large/fb/56/fb561c569b5c7f2982ad9e74bace5901.jpg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www.bookin.org.ru/book/74022.jpg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www.ozon.ru/multimedia/books_covers/1000776305.jpg" TargetMode="External"/><Relationship Id="rId9" Type="http://schemas.openxmlformats.org/officeDocument/2006/relationships/image" Target="../media/image6.jpeg"/><Relationship Id="rId10" Type="http://schemas.openxmlformats.org/officeDocument/2006/relationships/hyperlink" Target="http://www.propokupki.ru/_files/1/0/1000182562_490918.jpg" TargetMode="External"/><Relationship Id="rId11" Type="http://schemas.openxmlformats.org/officeDocument/2006/relationships/image" Target="../media/image7.jpeg"/><Relationship Id="rId12" Type="http://schemas.openxmlformats.org/officeDocument/2006/relationships/hyperlink" Target="http://www.char.ru/books/p935105.jpg" TargetMode="External"/><Relationship Id="rId13" Type="http://schemas.openxmlformats.org/officeDocument/2006/relationships/image" Target="../media/image8.jpeg"/><Relationship Id="rId14" Type="http://schemas.openxmlformats.org/officeDocument/2006/relationships/hyperlink" Target="http://www.bookin.org.ru/book/649770.jpg" TargetMode="External"/><Relationship Id="rId15" Type="http://schemas.openxmlformats.org/officeDocument/2006/relationships/image" Target="../media/image9.jpeg"/><Relationship Id="rId16" Type="http://schemas.openxmlformats.org/officeDocument/2006/relationships/hyperlink" Target="http://www.booksiti.net.ru/books/image/33000017114.jpg" TargetMode="External"/><Relationship Id="rId17" Type="http://schemas.openxmlformats.org/officeDocument/2006/relationships/image" Target="../media/image10.jpeg"/><Relationship Id="rId18" Type="http://schemas.openxmlformats.org/officeDocument/2006/relationships/hyperlink" Target="http://www.char.ru/books/p855620.jpg" TargetMode="External"/><Relationship Id="rId19" Type="http://schemas.openxmlformats.org/officeDocument/2006/relationships/image" Target="../media/image11.jpeg"/><Relationship Id="rId20" Type="http://schemas.openxmlformats.org/officeDocument/2006/relationships/hyperlink" Target="http://www.booksiti.net.ru/books/image/33000004499.jpg" TargetMode="External"/><Relationship Id="rId21" Type="http://schemas.openxmlformats.org/officeDocument/2006/relationships/image" Target="../media/image12.jpeg"/><Relationship Id="rId22" Type="http://schemas.openxmlformats.org/officeDocument/2006/relationships/hyperlink" Target="http://www.knigi42.ru/userfiles/image/catalog/1252336544.jpg" TargetMode="External"/><Relationship Id="rId23" Type="http://schemas.openxmlformats.org/officeDocument/2006/relationships/image" Target="../media/image13.jpeg"/><Relationship Id="rId2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udata.ru/w/images/5/5d/Bolotov.png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mc.komi.com/02/28/img/009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y-time.ru/upload/iblock/5af/3159.jpg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orthos.org/grodno/publ/images/ushinsk.jpg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eneportaal.ee/ajalugu/07/15070901.jpg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eoples.ru/art/literature/poetry/oldage/vasiliy_jukovski/jukovski_1194354801_tonnel.gif.jpg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1.liveinternet.ru/images/attach/b/3/13/618/13618918_1199474696_Fet.jpg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907640" y="4941720"/>
            <a:ext cx="57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полнила у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У СОШ №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.Узловая Туль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азукина А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71640" y="2631960"/>
            <a:ext cx="7124760" cy="187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Кроссворд</a:t>
            </a:r>
            <a:endParaRPr b="1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"Писатели и Тульский край"</a:t>
            </a:r>
            <a:endParaRPr b="1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"/>
          <p:cNvGrpSpPr/>
          <p:nvPr/>
        </p:nvGrpSpPr>
        <p:grpSpPr>
          <a:xfrm>
            <a:off x="2268360" y="5229360"/>
            <a:ext cx="4318200" cy="718920"/>
            <a:chOff x="2268360" y="5229360"/>
            <a:chExt cx="4318200" cy="718920"/>
          </a:xfrm>
        </p:grpSpPr>
        <p:sp>
          <p:nvSpPr>
            <p:cNvPr id="247" name=""/>
            <p:cNvSpPr/>
            <p:nvPr/>
          </p:nvSpPr>
          <p:spPr>
            <a:xfrm>
              <a:off x="2268360" y="5229360"/>
              <a:ext cx="719280" cy="71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987640" y="5229360"/>
              <a:ext cx="719280" cy="71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708360" y="5229360"/>
              <a:ext cx="719280" cy="71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27640" y="5229360"/>
              <a:ext cx="718920" cy="71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148360" y="5229360"/>
              <a:ext cx="718920" cy="71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867280" y="5229360"/>
              <a:ext cx="719280" cy="71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684360" y="5157720"/>
            <a:ext cx="1006200" cy="863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68360" y="2492280"/>
            <a:ext cx="8207280" cy="2305080"/>
          </a:xfrm>
          <a:prstGeom prst="wedgeRoundRectCallout">
            <a:avLst>
              <a:gd name="adj1" fmla="val -34296"/>
              <a:gd name="adj2" fmla="val 6845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прос №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одился в селе Константиново Рязанской области в крестьянской семье. В последние годы жизни часто бывал в Туле, очень любил этот город. В круг детского чтения вошли: «Берёза», «Лебёдушка», «Черёмуха», «Нивы сжаты, рощи голы…»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3760" y="981000"/>
            <a:ext cx="1159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в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341800" y="5300640"/>
            <a:ext cx="4146480" cy="581400"/>
            <a:chOff x="2341800" y="5300640"/>
            <a:chExt cx="4146480" cy="581400"/>
          </a:xfrm>
        </p:grpSpPr>
        <p:sp>
          <p:nvSpPr>
            <p:cNvPr id="257" name=""/>
            <p:cNvSpPr/>
            <p:nvPr/>
          </p:nvSpPr>
          <p:spPr>
            <a:xfrm>
              <a:off x="2341800" y="5300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33440" y="53006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53080" y="5300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73440" y="53006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94160" y="5300640"/>
              <a:ext cx="47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013440" y="53006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3" name="" descr="Картинка 19 из 2521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6000" y="1052640"/>
            <a:ext cx="2962080" cy="380988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4000" y="3789000"/>
            <a:ext cx="52560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ергей Александрович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895 – 192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0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2916360" y="981000"/>
            <a:ext cx="3960720" cy="792360"/>
            <a:chOff x="2916360" y="981000"/>
            <a:chExt cx="3960720" cy="792360"/>
          </a:xfrm>
        </p:grpSpPr>
        <p:sp>
          <p:nvSpPr>
            <p:cNvPr id="266" name=""/>
            <p:cNvSpPr/>
            <p:nvPr/>
          </p:nvSpPr>
          <p:spPr>
            <a:xfrm>
              <a:off x="2916360" y="981000"/>
              <a:ext cx="792000" cy="7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708360" y="981000"/>
              <a:ext cx="792360" cy="7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00720" y="981000"/>
              <a:ext cx="792000" cy="7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2720" y="981000"/>
              <a:ext cx="792000" cy="7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84720" y="981000"/>
              <a:ext cx="792360" cy="7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1403280" y="981000"/>
            <a:ext cx="792360" cy="79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4360" y="2708280"/>
            <a:ext cx="7488000" cy="1800360"/>
          </a:xfrm>
          <a:prstGeom prst="wedgeRoundRectCallout">
            <a:avLst>
              <a:gd name="adj1" fmla="val -31620"/>
              <a:gd name="adj2" fmla="val -10061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прос №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втор рассказов «Каштанка», «Белолобый», «Мальчики», «Ванька», «Лошадиная фамилия». Дружил с Л.Н.Толстым и бывал в Ясной Поляне, жил у брата в Алексине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85760" y="5950080"/>
            <a:ext cx="1159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в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060360" y="1125360"/>
            <a:ext cx="3643560" cy="581400"/>
            <a:chOff x="3060360" y="1125360"/>
            <a:chExt cx="3643560" cy="581400"/>
          </a:xfrm>
        </p:grpSpPr>
        <p:sp>
          <p:nvSpPr>
            <p:cNvPr id="275" name=""/>
            <p:cNvSpPr/>
            <p:nvPr/>
          </p:nvSpPr>
          <p:spPr>
            <a:xfrm>
              <a:off x="3060360" y="1125360"/>
              <a:ext cx="46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853080" y="1125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645080" y="1125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436720" y="112536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29080" y="11253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0" name="" descr="Картинка 258 из 508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2637000"/>
            <a:ext cx="2917800" cy="395424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95640" y="2133720"/>
            <a:ext cx="64800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нтон Павлович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860 – 190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000"/>
                            </p:stCondLst>
                            <p:childTnLst>
                              <p:par>
                                <p:cTn id="3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684360" y="1268280"/>
            <a:ext cx="7921080" cy="720720"/>
            <a:chOff x="684360" y="1268280"/>
            <a:chExt cx="7921080" cy="720720"/>
          </a:xfrm>
        </p:grpSpPr>
        <p:sp>
          <p:nvSpPr>
            <p:cNvPr id="283" name=""/>
            <p:cNvSpPr/>
            <p:nvPr/>
          </p:nvSpPr>
          <p:spPr>
            <a:xfrm>
              <a:off x="684360" y="1268280"/>
              <a:ext cx="72036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403280" y="1268280"/>
              <a:ext cx="72036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24000" y="1268280"/>
              <a:ext cx="72036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843280" y="1268280"/>
              <a:ext cx="72036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564000" y="1268280"/>
              <a:ext cx="72036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284720" y="1268280"/>
              <a:ext cx="72036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003640" y="1268280"/>
              <a:ext cx="72036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24360" y="1268280"/>
              <a:ext cx="72036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43640" y="1268280"/>
              <a:ext cx="72036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164360" y="1268280"/>
              <a:ext cx="72036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885080" y="1268280"/>
              <a:ext cx="72036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468360" y="2133720"/>
            <a:ext cx="863640" cy="863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8360" y="3141720"/>
            <a:ext cx="8136000" cy="2158920"/>
          </a:xfrm>
          <a:prstGeom prst="wedgeRoundRectCallout">
            <a:avLst>
              <a:gd name="adj1" fmla="val -38388"/>
              <a:gd name="adj2" fmla="val -8411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прос №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исатель, прозаик, родился в Москве. Часто и подолгу жил на Тульской земле. Специально для детей написал сказки «Тёплый хлеб», «Растрёпанный воробей», «Стальное колечко»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45040" y="6021360"/>
            <a:ext cx="1159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в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828360" y="1341360"/>
            <a:ext cx="7602840" cy="581400"/>
            <a:chOff x="828360" y="1341360"/>
            <a:chExt cx="7602840" cy="581400"/>
          </a:xfrm>
        </p:grpSpPr>
        <p:sp>
          <p:nvSpPr>
            <p:cNvPr id="298" name=""/>
            <p:cNvSpPr/>
            <p:nvPr/>
          </p:nvSpPr>
          <p:spPr>
            <a:xfrm>
              <a:off x="828360" y="1341360"/>
              <a:ext cx="47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549080" y="13413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269800" y="1341360"/>
              <a:ext cx="43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989080" y="13413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09800" y="134136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28720" y="134136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149800" y="13413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868720" y="13413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589440" y="134136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310160" y="1341360"/>
              <a:ext cx="47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57800" y="1341360"/>
              <a:ext cx="47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9" name="" descr="Картинка 125 из 380"/>
          <p:cNvPicPr/>
          <p:nvPr/>
        </p:nvPicPr>
        <p:blipFill>
          <a:blip r:embed="rId2"/>
          <a:stretch/>
        </p:blipFill>
        <p:spPr>
          <a:xfrm>
            <a:off x="5580000" y="2133720"/>
            <a:ext cx="3157560" cy="440820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133200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нстантин Георгиевич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892 – 196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340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3000"/>
                            </p:stCondLst>
                            <p:childTnLst>
                              <p:par>
                                <p:cTn id="3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2627280" y="5229360"/>
            <a:ext cx="4753080" cy="792000"/>
            <a:chOff x="2627280" y="5229360"/>
            <a:chExt cx="4753080" cy="792000"/>
          </a:xfrm>
        </p:grpSpPr>
        <p:sp>
          <p:nvSpPr>
            <p:cNvPr id="312" name=""/>
            <p:cNvSpPr/>
            <p:nvPr/>
          </p:nvSpPr>
          <p:spPr>
            <a:xfrm>
              <a:off x="2627280" y="5229360"/>
              <a:ext cx="79200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419280" y="5229360"/>
              <a:ext cx="79236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211640" y="5229360"/>
              <a:ext cx="79200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003640" y="5229360"/>
              <a:ext cx="79236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796000" y="5229360"/>
              <a:ext cx="79200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88000" y="5229360"/>
              <a:ext cx="79236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971640" y="5229360"/>
            <a:ext cx="792000" cy="79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332000" y="2924280"/>
            <a:ext cx="7056360" cy="1873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прос №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сатель, родился в селе Горохово Орловской губернии. Одно из лучших его произведений «Сказ о тульском косом Левше и о стальной блох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457040" y="1125360"/>
            <a:ext cx="1159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в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2773800" y="5300640"/>
            <a:ext cx="4362120" cy="581400"/>
            <a:chOff x="2773800" y="5300640"/>
            <a:chExt cx="4362120" cy="581400"/>
          </a:xfrm>
        </p:grpSpPr>
        <p:sp>
          <p:nvSpPr>
            <p:cNvPr id="322" name=""/>
            <p:cNvSpPr/>
            <p:nvPr/>
          </p:nvSpPr>
          <p:spPr>
            <a:xfrm>
              <a:off x="2773800" y="5300640"/>
              <a:ext cx="46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65440" y="5300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429080" y="53006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221080" y="53006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41440" y="530064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661080" y="53006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8" name="" descr="Картинка 22 из 922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1052640"/>
            <a:ext cx="2660760" cy="39020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692360" y="37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иколай Семёнович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831 – 189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000"/>
                            </p:stCondLst>
                            <p:childTnLst>
                              <p:par>
                                <p:cTn id="3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40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848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пользуемые источн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gpskarts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Tsentr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www.flot2017.com/search/author/6/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vimanica.ru/07.ph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lechaim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ARHIV/177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zavesa.ht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emc.komi.com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/02/28/011.ht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peoplenews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literature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vlasti_moskvy_mogut_kupit_pomeste_turgeneva_pod_parizhem.s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www.orthos.org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grodno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publ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ushinsk.ht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www.shop.kodges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page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biblio_author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/?subject=5049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www.yslish.com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fate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vasilij_andreevich_zhukovskij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://irina480.narod.ru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hudoj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1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2"/>
              </a:rPr>
              <a:t>repin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3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4"/>
              </a:rPr>
              <a:t>tvor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5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6"/>
              </a:rPr>
              <a:t>ri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7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8"/>
              </a:rPr>
              <a:t>portret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9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0"/>
              </a:rPr>
              <a:t>muj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1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2"/>
              </a:rPr>
              <a:t>file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3"/>
              </a:rPr>
              <a:t>/p0000080.jpg.ht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kovcheg.ucoz.ru/forum/43-967-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obozrevatel.com/news/2009/1/28/282574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http://www.bcetyt.ru/culture/people/paustovski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http://www.biblioteka.r52.ru/service?p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324000" y="981000"/>
            <a:ext cx="806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yardkeeper.livejournal.com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155626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ozon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context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detail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id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/311965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bookin.org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book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/7402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vipsvot.hos.pp.ua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/kniga2251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www.propokupki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poeziya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/off44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www.mdk-arbat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/bookcard_all4.aspx?book_id=61228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www.bookin.org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book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/64977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http://www.kniga.ru/books/4161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www.gdekniga.biz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ctl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zone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/293-103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1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2"/>
              </a:rPr>
              <a:t>www.bookean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3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4"/>
              </a:rPr>
              <a:t>person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5"/>
              </a:rPr>
              <a:t>/31736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6"/>
              </a:rPr>
              <a:t>product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www.suvonb.webja.ir/book10120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В.Голованова, О.Ю.Шарапова. Справочник учителя начальной школы. Литературное чтение. Москва, Дрофа, 200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рестоматия (составитель В.Пахомов). Тульский край в литературе и искусстве. Тула, издательский дом «Пересвет», 200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Картинка 65 из 116">
            <a:hlinkClick r:id="rId2"/>
          </p:cNvPr>
          <p:cNvPicPr/>
          <p:nvPr/>
        </p:nvPicPr>
        <p:blipFill>
          <a:blip r:embed="rId3"/>
          <a:stretch/>
        </p:blipFill>
        <p:spPr>
          <a:xfrm rot="20056200">
            <a:off x="323640" y="691920"/>
            <a:ext cx="2376360" cy="1592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Картинка 38 из 11622">
            <a:hlinkClick r:id="rId4"/>
          </p:cNvPr>
          <p:cNvPicPr/>
          <p:nvPr/>
        </p:nvPicPr>
        <p:blipFill>
          <a:blip r:embed="rId5"/>
          <a:stretch/>
        </p:blipFill>
        <p:spPr>
          <a:xfrm rot="908400">
            <a:off x="2843280" y="333000"/>
            <a:ext cx="1904760" cy="2552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Картинка 2 из 1236">
            <a:hlinkClick r:id="rId6"/>
          </p:cNvPr>
          <p:cNvPicPr/>
          <p:nvPr/>
        </p:nvPicPr>
        <p:blipFill>
          <a:blip r:embed="rId7"/>
          <a:stretch/>
        </p:blipFill>
        <p:spPr>
          <a:xfrm rot="21108600">
            <a:off x="5219640" y="333360"/>
            <a:ext cx="1779480" cy="2519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Картинка 3 из 352">
            <a:hlinkClick r:id="rId8"/>
          </p:cNvPr>
          <p:cNvPicPr/>
          <p:nvPr/>
        </p:nvPicPr>
        <p:blipFill>
          <a:blip r:embed="rId9"/>
          <a:stretch/>
        </p:blipFill>
        <p:spPr>
          <a:xfrm rot="1055400">
            <a:off x="7164000" y="765000"/>
            <a:ext cx="1508040" cy="2519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Картинка 40 из 898">
            <a:hlinkClick r:id="rId10"/>
          </p:cNvPr>
          <p:cNvPicPr/>
          <p:nvPr/>
        </p:nvPicPr>
        <p:blipFill>
          <a:blip r:embed="rId11"/>
          <a:stretch/>
        </p:blipFill>
        <p:spPr>
          <a:xfrm rot="624000">
            <a:off x="250920" y="2781000"/>
            <a:ext cx="1709640" cy="2232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Картинка 9 из 886">
            <a:hlinkClick r:id="rId12"/>
          </p:cNvPr>
          <p:cNvPicPr/>
          <p:nvPr/>
        </p:nvPicPr>
        <p:blipFill>
          <a:blip r:embed="rId13"/>
          <a:stretch/>
        </p:blipFill>
        <p:spPr>
          <a:xfrm rot="20332800">
            <a:off x="2339640" y="2852640"/>
            <a:ext cx="1544760" cy="2441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Картинка 47 из 928">
            <a:hlinkClick r:id="rId14"/>
          </p:cNvPr>
          <p:cNvPicPr/>
          <p:nvPr/>
        </p:nvPicPr>
        <p:blipFill>
          <a:blip r:embed="rId15"/>
          <a:stretch/>
        </p:blipFill>
        <p:spPr>
          <a:xfrm rot="1656000">
            <a:off x="3634920" y="2708280"/>
            <a:ext cx="1623960" cy="2479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Картинка 175 из 3677">
            <a:hlinkClick r:id="rId16"/>
          </p:cNvPr>
          <p:cNvPicPr/>
          <p:nvPr/>
        </p:nvPicPr>
        <p:blipFill>
          <a:blip r:embed="rId17"/>
          <a:stretch/>
        </p:blipFill>
        <p:spPr>
          <a:xfrm rot="20386800">
            <a:off x="5940360" y="2852280"/>
            <a:ext cx="1451160" cy="2265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Картинка 1 из 10385">
            <a:hlinkClick r:id="rId18"/>
          </p:cNvPr>
          <p:cNvPicPr/>
          <p:nvPr/>
        </p:nvPicPr>
        <p:blipFill>
          <a:blip r:embed="rId19"/>
          <a:stretch/>
        </p:blipFill>
        <p:spPr>
          <a:xfrm rot="1530000">
            <a:off x="7020000" y="3933720"/>
            <a:ext cx="1576440" cy="2492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Картинка 37 из 497">
            <a:hlinkClick r:id="rId20"/>
          </p:cNvPr>
          <p:cNvPicPr/>
          <p:nvPr/>
        </p:nvPicPr>
        <p:blipFill>
          <a:blip r:embed="rId21"/>
          <a:stretch/>
        </p:blipFill>
        <p:spPr>
          <a:xfrm rot="20740800">
            <a:off x="1187280" y="4220640"/>
            <a:ext cx="1519560" cy="2421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Картинка 5 из 1055">
            <a:hlinkClick r:id="rId22"/>
          </p:cNvPr>
          <p:cNvPicPr/>
          <p:nvPr/>
        </p:nvPicPr>
        <p:blipFill>
          <a:blip r:embed="rId23"/>
          <a:stretch/>
        </p:blipFill>
        <p:spPr>
          <a:xfrm rot="766800">
            <a:off x="4571640" y="4005000"/>
            <a:ext cx="1611360" cy="26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1979640" y="2997360"/>
            <a:ext cx="5545080" cy="792000"/>
            <a:chOff x="1979640" y="2997360"/>
            <a:chExt cx="5545080" cy="792000"/>
          </a:xfrm>
        </p:grpSpPr>
        <p:sp>
          <p:nvSpPr>
            <p:cNvPr id="55" name=""/>
            <p:cNvSpPr/>
            <p:nvPr/>
          </p:nvSpPr>
          <p:spPr>
            <a:xfrm>
              <a:off x="1979640" y="2997360"/>
              <a:ext cx="79200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771640" y="2997360"/>
              <a:ext cx="79236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64000" y="2997360"/>
              <a:ext cx="79200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356000" y="2997360"/>
              <a:ext cx="79236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148360" y="2997360"/>
              <a:ext cx="79200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940360" y="2997360"/>
              <a:ext cx="79236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732720" y="2997360"/>
              <a:ext cx="79200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611280" y="2924280"/>
            <a:ext cx="86508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6920" y="4508640"/>
            <a:ext cx="6769440" cy="1873080"/>
          </a:xfrm>
          <a:prstGeom prst="wedgeRoundRectCallout">
            <a:avLst>
              <a:gd name="adj1" fmla="val -41791"/>
              <a:gd name="adj2" fmla="val -9059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прос №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ёный, селекционер, живописец, биолог, экономист, историк, писатель, родился в селе Дворяниново. Автор пейзажного парка в городе Богородиц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72360" y="1125360"/>
            <a:ext cx="2376360" cy="100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тве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979640" y="3063960"/>
            <a:ext cx="5570640" cy="581400"/>
            <a:chOff x="1979640" y="3063960"/>
            <a:chExt cx="5570640" cy="581400"/>
          </a:xfrm>
        </p:grpSpPr>
        <p:sp>
          <p:nvSpPr>
            <p:cNvPr id="66" name=""/>
            <p:cNvSpPr/>
            <p:nvPr/>
          </p:nvSpPr>
          <p:spPr>
            <a:xfrm>
              <a:off x="6192720" y="3170160"/>
              <a:ext cx="54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79640" y="3063960"/>
              <a:ext cx="79200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916360" y="3063960"/>
              <a:ext cx="50328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35280" y="3063960"/>
              <a:ext cx="64944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00720" y="3170160"/>
              <a:ext cx="30780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72000" y="3063960"/>
              <a:ext cx="36036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64000" y="3063960"/>
              <a:ext cx="50328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084720" y="3063960"/>
              <a:ext cx="50328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04000" y="3063960"/>
              <a:ext cx="74628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" descr="Картинка 1 из 11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115920"/>
            <a:ext cx="2092320" cy="25192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6536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ндрей Тимофеевич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738 – 183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1547640" y="5516640"/>
            <a:ext cx="5543640" cy="718920"/>
            <a:chOff x="1547640" y="5516640"/>
            <a:chExt cx="5543640" cy="718920"/>
          </a:xfrm>
        </p:grpSpPr>
        <p:sp>
          <p:nvSpPr>
            <p:cNvPr id="78" name=""/>
            <p:cNvSpPr/>
            <p:nvPr/>
          </p:nvSpPr>
          <p:spPr>
            <a:xfrm>
              <a:off x="1547640" y="5516640"/>
              <a:ext cx="792000" cy="71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39640" y="5516640"/>
              <a:ext cx="792360" cy="71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132000" y="5516640"/>
              <a:ext cx="792000" cy="71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924000" y="5516640"/>
              <a:ext cx="792360" cy="71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716360" y="5516640"/>
              <a:ext cx="792000" cy="71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508360" y="5516640"/>
              <a:ext cx="792360" cy="71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98920" y="5516640"/>
              <a:ext cx="792360" cy="71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95280" y="5516640"/>
            <a:ext cx="792000" cy="79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24000" y="2781360"/>
            <a:ext cx="6769080" cy="2376360"/>
          </a:xfrm>
          <a:prstGeom prst="wedgeRoundRectCallout">
            <a:avLst>
              <a:gd name="adj1" fmla="val -63296"/>
              <a:gd name="adj2" fmla="val 5554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прос №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ликий писатель, драматург, критик. Родился в Ясной Поляне. Основал в ней школу для крестьянских детей. Автор сказок, рассказов, басен для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6680" y="981000"/>
            <a:ext cx="1159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в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68360" y="4149720"/>
            <a:ext cx="719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835280" y="5589720"/>
            <a:ext cx="5084280" cy="520560"/>
            <a:chOff x="1835280" y="5589720"/>
            <a:chExt cx="5084280" cy="520560"/>
          </a:xfrm>
        </p:grpSpPr>
        <p:sp>
          <p:nvSpPr>
            <p:cNvPr id="90" name=""/>
            <p:cNvSpPr/>
            <p:nvPr/>
          </p:nvSpPr>
          <p:spPr>
            <a:xfrm>
              <a:off x="1835280" y="55897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25760" y="5589720"/>
              <a:ext cx="48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295440" y="5589720"/>
              <a:ext cx="48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065480" y="5589720"/>
              <a:ext cx="52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879800" y="5589720"/>
              <a:ext cx="52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672160" y="5589720"/>
              <a:ext cx="52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392880" y="5589720"/>
              <a:ext cx="52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" descr="Картинка 65 из 13030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80000" y="907920"/>
            <a:ext cx="3148200" cy="39610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3860640"/>
            <a:ext cx="49071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ев Николаевич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828 – 19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1763640" y="1125360"/>
            <a:ext cx="6337080" cy="792000"/>
            <a:chOff x="1763640" y="1125360"/>
            <a:chExt cx="6337080" cy="792000"/>
          </a:xfrm>
        </p:grpSpPr>
        <p:sp>
          <p:nvSpPr>
            <p:cNvPr id="100" name=""/>
            <p:cNvSpPr/>
            <p:nvPr/>
          </p:nvSpPr>
          <p:spPr>
            <a:xfrm>
              <a:off x="1763640" y="1125360"/>
              <a:ext cx="79200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55640" y="1125360"/>
              <a:ext cx="79236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348000" y="1125360"/>
              <a:ext cx="79200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40000" y="1125360"/>
              <a:ext cx="79200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32000" y="1125360"/>
              <a:ext cx="79236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24360" y="1125360"/>
              <a:ext cx="79200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16360" y="1125360"/>
              <a:ext cx="79236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08720" y="1125360"/>
              <a:ext cx="79200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539640" y="1484280"/>
            <a:ext cx="790560" cy="790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3068640"/>
            <a:ext cx="7488000" cy="1942920"/>
          </a:xfrm>
          <a:prstGeom prst="wedgeRoundRectCallout">
            <a:avLst>
              <a:gd name="adj1" fmla="val -45824"/>
              <a:gd name="adj2" fmla="val -9224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прос №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заик, поэт, драматург, критик, переводчик. Детство прошло в имении Спасское – Лутовиново. Автор рассказов «Записки охотника», «Бежин луг»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65600" y="5896080"/>
            <a:ext cx="1073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979640" y="1197000"/>
            <a:ext cx="6048360" cy="581400"/>
            <a:chOff x="1979640" y="1197000"/>
            <a:chExt cx="6048360" cy="581400"/>
          </a:xfrm>
        </p:grpSpPr>
        <p:sp>
          <p:nvSpPr>
            <p:cNvPr id="112" name=""/>
            <p:cNvSpPr/>
            <p:nvPr/>
          </p:nvSpPr>
          <p:spPr>
            <a:xfrm>
              <a:off x="1979640" y="119700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43280" y="119700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35280" y="119700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27640" y="119700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19640" y="119700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40360" y="119700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32720" y="119700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596360" y="119700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0" name="" descr="Картинка 16 из 1548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3429000"/>
            <a:ext cx="4249800" cy="31100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ван Сергеевич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1818 – 188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1835280" y="5084640"/>
            <a:ext cx="6336720" cy="792000"/>
            <a:chOff x="1835280" y="5084640"/>
            <a:chExt cx="6336720" cy="792000"/>
          </a:xfrm>
        </p:grpSpPr>
        <p:sp>
          <p:nvSpPr>
            <p:cNvPr id="123" name=""/>
            <p:cNvSpPr/>
            <p:nvPr/>
          </p:nvSpPr>
          <p:spPr>
            <a:xfrm>
              <a:off x="1835280" y="5084640"/>
              <a:ext cx="79164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626920" y="5084640"/>
              <a:ext cx="79200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19280" y="5084640"/>
              <a:ext cx="79164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11280" y="5084640"/>
              <a:ext cx="79200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03640" y="5084640"/>
              <a:ext cx="79164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95640" y="5084640"/>
              <a:ext cx="79200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88000" y="5084640"/>
              <a:ext cx="79164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80000" y="5084640"/>
              <a:ext cx="79200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11280" y="5157720"/>
            <a:ext cx="72072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2421000"/>
            <a:ext cx="7343640" cy="2087640"/>
          </a:xfrm>
          <a:prstGeom prst="wedgeRoundRectCallout">
            <a:avLst>
              <a:gd name="adj1" fmla="val -45199"/>
              <a:gd name="adj2" fmla="val 7654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прос №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исатель, педагог, родился в Туле. Основоположник народной школы в России. Написал «Наше Отечество», «Два плуга», «Как рубашка в поле выросла», «Учёный медведь»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3760" y="981000"/>
            <a:ext cx="1159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в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835280" y="5084640"/>
            <a:ext cx="6336720" cy="792000"/>
            <a:chOff x="1835280" y="5084640"/>
            <a:chExt cx="6336720" cy="792000"/>
          </a:xfrm>
        </p:grpSpPr>
        <p:sp>
          <p:nvSpPr>
            <p:cNvPr id="135" name=""/>
            <p:cNvSpPr/>
            <p:nvPr/>
          </p:nvSpPr>
          <p:spPr>
            <a:xfrm>
              <a:off x="1835280" y="5084640"/>
              <a:ext cx="79164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26920" y="5084640"/>
              <a:ext cx="79200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19280" y="5084640"/>
              <a:ext cx="79164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11280" y="5084640"/>
              <a:ext cx="79200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03640" y="5084640"/>
              <a:ext cx="79164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95640" y="5084640"/>
              <a:ext cx="79200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88000" y="5084640"/>
              <a:ext cx="79164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80000" y="5084640"/>
              <a:ext cx="79200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835280" y="5084640"/>
            <a:ext cx="6336720" cy="792000"/>
            <a:chOff x="1835280" y="5084640"/>
            <a:chExt cx="6336720" cy="792000"/>
          </a:xfrm>
        </p:grpSpPr>
        <p:sp>
          <p:nvSpPr>
            <p:cNvPr id="144" name=""/>
            <p:cNvSpPr/>
            <p:nvPr/>
          </p:nvSpPr>
          <p:spPr>
            <a:xfrm>
              <a:off x="1835280" y="5084640"/>
              <a:ext cx="79164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26920" y="5084640"/>
              <a:ext cx="79200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19280" y="5084640"/>
              <a:ext cx="79164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11280" y="5084640"/>
              <a:ext cx="79200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03640" y="5084640"/>
              <a:ext cx="79164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95640" y="5084640"/>
              <a:ext cx="79200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88000" y="5084640"/>
              <a:ext cx="79164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80000" y="5084640"/>
              <a:ext cx="79200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835280" y="5084640"/>
            <a:ext cx="6336720" cy="792000"/>
            <a:chOff x="1835280" y="5084640"/>
            <a:chExt cx="6336720" cy="792000"/>
          </a:xfrm>
        </p:grpSpPr>
        <p:sp>
          <p:nvSpPr>
            <p:cNvPr id="153" name=""/>
            <p:cNvSpPr/>
            <p:nvPr/>
          </p:nvSpPr>
          <p:spPr>
            <a:xfrm>
              <a:off x="1835280" y="5084640"/>
              <a:ext cx="79164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626920" y="5084640"/>
              <a:ext cx="79200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419280" y="5084640"/>
              <a:ext cx="79164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11280" y="5084640"/>
              <a:ext cx="79200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03640" y="5084640"/>
              <a:ext cx="79164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95640" y="5084640"/>
              <a:ext cx="79200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88000" y="5084640"/>
              <a:ext cx="79164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80000" y="5084640"/>
              <a:ext cx="79200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835280" y="5084640"/>
            <a:ext cx="6336720" cy="792000"/>
            <a:chOff x="1835280" y="5084640"/>
            <a:chExt cx="6336720" cy="792000"/>
          </a:xfrm>
        </p:grpSpPr>
        <p:sp>
          <p:nvSpPr>
            <p:cNvPr id="162" name=""/>
            <p:cNvSpPr/>
            <p:nvPr/>
          </p:nvSpPr>
          <p:spPr>
            <a:xfrm>
              <a:off x="1835280" y="5084640"/>
              <a:ext cx="79164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626920" y="5084640"/>
              <a:ext cx="79200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19280" y="5084640"/>
              <a:ext cx="79164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11280" y="5084640"/>
              <a:ext cx="79200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03640" y="5084640"/>
              <a:ext cx="79164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95640" y="5084640"/>
              <a:ext cx="79200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588000" y="5084640"/>
              <a:ext cx="79164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80000" y="5084640"/>
              <a:ext cx="792000" cy="7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835280" y="5084640"/>
            <a:ext cx="6336720" cy="792000"/>
            <a:chOff x="1835280" y="5084640"/>
            <a:chExt cx="6336720" cy="792000"/>
          </a:xfrm>
        </p:grpSpPr>
        <p:sp>
          <p:nvSpPr>
            <p:cNvPr id="171" name=""/>
            <p:cNvSpPr/>
            <p:nvPr/>
          </p:nvSpPr>
          <p:spPr>
            <a:xfrm>
              <a:off x="1835280" y="5084640"/>
              <a:ext cx="79164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626920" y="5084640"/>
              <a:ext cx="79200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19280" y="5084640"/>
              <a:ext cx="79164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11280" y="5084640"/>
              <a:ext cx="79200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03640" y="5084640"/>
              <a:ext cx="79164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95640" y="5084640"/>
              <a:ext cx="79200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588000" y="5084640"/>
              <a:ext cx="79164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380000" y="5084640"/>
              <a:ext cx="79200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981080" y="5229360"/>
            <a:ext cx="6018480" cy="581400"/>
            <a:chOff x="1981080" y="5229360"/>
            <a:chExt cx="6018480" cy="581400"/>
          </a:xfrm>
        </p:grpSpPr>
        <p:sp>
          <p:nvSpPr>
            <p:cNvPr id="180" name=""/>
            <p:cNvSpPr/>
            <p:nvPr/>
          </p:nvSpPr>
          <p:spPr>
            <a:xfrm>
              <a:off x="1981080" y="5229360"/>
              <a:ext cx="43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01800" y="522936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Ш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36720" y="5229360"/>
              <a:ext cx="47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57440" y="52293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21080" y="52293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41800" y="522936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05440" y="5229360"/>
              <a:ext cx="47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26160" y="5229360"/>
              <a:ext cx="47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8" name="" descr="Картинка 9 из 555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0360" y="765000"/>
            <a:ext cx="2857680" cy="31626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3640" y="4076280"/>
            <a:ext cx="7993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нстантин Дмитриевич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824 – 187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2987640" y="907920"/>
            <a:ext cx="3960720" cy="792360"/>
            <a:chOff x="2987640" y="907920"/>
            <a:chExt cx="3960720" cy="792360"/>
          </a:xfrm>
        </p:grpSpPr>
        <p:sp>
          <p:nvSpPr>
            <p:cNvPr id="191" name=""/>
            <p:cNvSpPr/>
            <p:nvPr/>
          </p:nvSpPr>
          <p:spPr>
            <a:xfrm>
              <a:off x="2987640" y="907920"/>
              <a:ext cx="792360" cy="7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80000" y="907920"/>
              <a:ext cx="792000" cy="7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572000" y="907920"/>
              <a:ext cx="792360" cy="7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64360" y="907920"/>
              <a:ext cx="792000" cy="7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56360" y="907920"/>
              <a:ext cx="792000" cy="7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03280" y="907920"/>
            <a:ext cx="865080" cy="865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71640" y="2205000"/>
            <a:ext cx="7704000" cy="2303640"/>
          </a:xfrm>
          <a:prstGeom prst="wedgeRoundRectCallout">
            <a:avLst>
              <a:gd name="adj1" fmla="val -32796"/>
              <a:gd name="adj2" fmla="val -7184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прос №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вый русский писатель, ставший лауреатом Нобелевской премии в области литературы в 1933 г. В г. Ефремове, в доме, где жил писатель, действует литературный музей. Детям известны его произведения: «Листопад», «Родина», «Детство»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14120" y="5950080"/>
            <a:ext cx="1159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в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133440" y="981000"/>
            <a:ext cx="3643560" cy="581400"/>
            <a:chOff x="3133440" y="981000"/>
            <a:chExt cx="3643560" cy="581400"/>
          </a:xfrm>
        </p:grpSpPr>
        <p:sp>
          <p:nvSpPr>
            <p:cNvPr id="200" name=""/>
            <p:cNvSpPr/>
            <p:nvPr/>
          </p:nvSpPr>
          <p:spPr>
            <a:xfrm>
              <a:off x="3133440" y="981000"/>
              <a:ext cx="47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997080" y="981000"/>
              <a:ext cx="43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17800" y="9810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510160" y="981000"/>
              <a:ext cx="47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02160" y="9810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" descr="Картинка 66 из 1251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3068640"/>
            <a:ext cx="2857320" cy="31813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16000" y="1844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ван Алексеевич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870 – 195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1547640" y="5084640"/>
            <a:ext cx="7129800" cy="792360"/>
            <a:chOff x="1547640" y="5084640"/>
            <a:chExt cx="7129800" cy="792360"/>
          </a:xfrm>
        </p:grpSpPr>
        <p:sp>
          <p:nvSpPr>
            <p:cNvPr id="208" name=""/>
            <p:cNvSpPr/>
            <p:nvPr/>
          </p:nvSpPr>
          <p:spPr>
            <a:xfrm>
              <a:off x="1547640" y="5084640"/>
              <a:ext cx="792360" cy="7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340000" y="5084640"/>
              <a:ext cx="792000" cy="7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32000" y="5084640"/>
              <a:ext cx="792360" cy="7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24360" y="5084640"/>
              <a:ext cx="792000" cy="7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716360" y="5084640"/>
              <a:ext cx="792360" cy="7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508720" y="5084640"/>
              <a:ext cx="792000" cy="7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300720" y="5084640"/>
              <a:ext cx="792360" cy="7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93080" y="5084640"/>
              <a:ext cx="792000" cy="7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885080" y="5084640"/>
              <a:ext cx="792360" cy="7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468360" y="5157720"/>
            <a:ext cx="790560" cy="790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9640" y="2349360"/>
            <a:ext cx="8209080" cy="2232000"/>
          </a:xfrm>
          <a:prstGeom prst="wedgeRoundRectCallout">
            <a:avLst>
              <a:gd name="adj1" fmla="val -47351"/>
              <a:gd name="adj2" fmla="val 7062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прос №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женец белёвских мест (с. Мишенское). Получил признание как поэт и переводчик. В детский круг чтения вошли: «Сказка о царе Берендее», «Спящая царевна», «Родного неба милый свет…», «Птичка», «Котик и козлик»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57040" y="1197000"/>
            <a:ext cx="1159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в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693800" y="5229360"/>
            <a:ext cx="6809040" cy="581400"/>
            <a:chOff x="1693800" y="5229360"/>
            <a:chExt cx="6809040" cy="581400"/>
          </a:xfrm>
        </p:grpSpPr>
        <p:sp>
          <p:nvSpPr>
            <p:cNvPr id="222" name=""/>
            <p:cNvSpPr/>
            <p:nvPr/>
          </p:nvSpPr>
          <p:spPr>
            <a:xfrm>
              <a:off x="1693800" y="5229360"/>
              <a:ext cx="5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485800" y="5229360"/>
              <a:ext cx="43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77800" y="522936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68360" y="522936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60720" y="52293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653080" y="52293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73440" y="522936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37080" y="5229360"/>
              <a:ext cx="47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029440" y="5229360"/>
              <a:ext cx="47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1" name="" descr="Картинка 3 из 398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981000"/>
            <a:ext cx="2857680" cy="38102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484000" y="3715920"/>
            <a:ext cx="665964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асилий Андреевич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738 – 185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4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2195640" y="981000"/>
            <a:ext cx="2808000" cy="935280"/>
            <a:chOff x="2195640" y="981000"/>
            <a:chExt cx="2808000" cy="935280"/>
          </a:xfrm>
        </p:grpSpPr>
        <p:sp>
          <p:nvSpPr>
            <p:cNvPr id="234" name=""/>
            <p:cNvSpPr/>
            <p:nvPr/>
          </p:nvSpPr>
          <p:spPr>
            <a:xfrm>
              <a:off x="2195640" y="981000"/>
              <a:ext cx="93636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2000" y="981000"/>
              <a:ext cx="93672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67280" y="981000"/>
              <a:ext cx="93636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84360" y="1052640"/>
            <a:ext cx="792000" cy="79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4000" y="2637000"/>
            <a:ext cx="8424720" cy="2304720"/>
          </a:xfrm>
          <a:prstGeom prst="wedgeRoundRectCallout">
            <a:avLst>
              <a:gd name="adj1" fmla="val -38055"/>
              <a:gd name="adj2" fmla="val -8333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прос №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эт, прозаик, переводчик, публицист. Близко общался с Л.Н.Толстым, был частым гостем Ясной Поляны. Многие его произведения положены на музыку Чайковского. Для детей написаны: «Мама! Глянь - ка из окошка», «Я пришёл к тебе с приветом…»,  «Ласточки пропали…»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1040" y="5877000"/>
            <a:ext cx="1159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в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413080" y="1197000"/>
            <a:ext cx="2228760" cy="581400"/>
            <a:chOff x="2413080" y="1197000"/>
            <a:chExt cx="2228760" cy="581400"/>
          </a:xfrm>
        </p:grpSpPr>
        <p:sp>
          <p:nvSpPr>
            <p:cNvPr id="241" name=""/>
            <p:cNvSpPr/>
            <p:nvPr/>
          </p:nvSpPr>
          <p:spPr>
            <a:xfrm>
              <a:off x="2413080" y="1197000"/>
              <a:ext cx="52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349800" y="1197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12720" y="119700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4" name="" descr="Картинка 2 из 4750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24360" y="2708280"/>
            <a:ext cx="2819520" cy="38098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280" y="3212640"/>
            <a:ext cx="460836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фанасий Афанасьевич (Шеншин) 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1820 – 189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31T07:28:28Z</dcterms:created>
  <dc:creator>Admin</dc:creator>
  <dc:description/>
  <dc:language>en-US</dc:language>
  <cp:lastModifiedBy>Катенок</cp:lastModifiedBy>
  <dcterms:modified xsi:type="dcterms:W3CDTF">2010-08-06T14:06:38Z</dcterms:modified>
  <cp:revision>10</cp:revision>
  <dc:subject/>
  <dc:title>Писатели и Тульский край</dc:title>
</cp:coreProperties>
</file>