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D621-00C2-4874-8513-DBE692576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7869-60AD-4EAD-A5DF-69339037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80E5-30D2-4E01-85BE-D19B9487A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04FE-9646-494E-8064-D291D1C3C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1D06-5143-4006-88EC-E60868F5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4EB4-3DF2-4CDD-8E72-954035CC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56F1-8CB7-4E5D-B1D6-7729D73B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7E8C-990E-4A93-AA3E-C048D0AE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EDC0-A384-468C-B14F-E34257A3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3935-6940-423C-9E56-232FEDA5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16F6-0441-490F-95D0-DF151A69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364B-7FCE-4977-B2D0-B2CDD259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9B79-88ED-4DD7-9422-AB2DC90EA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nivagold.ru/raznoe/rasnoe.html" TargetMode="External"/><Relationship Id="rId2" Type="http://schemas.openxmlformats.org/officeDocument/2006/relationships/hyperlink" Target="http://bestgif.narod.ru/mult.htm" TargetMode="External"/><Relationship Id="rId3" Type="http://schemas.openxmlformats.org/officeDocument/2006/relationships/hyperlink" Target="http://www.allforchildren.ru/pictures/school.php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2000" y="1341360"/>
            <a:ext cx="6985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Двенадцатое сентября.      Классная работа.           Слог, ударени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rcRect l="1465" t="2435" r="2542" b="1642"/>
          <a:stretch/>
        </p:blipFill>
        <p:spPr>
          <a:xfrm>
            <a:off x="-74520" y="0"/>
            <a:ext cx="9218520" cy="7029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3419640" y="189000"/>
            <a:ext cx="208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дание</a:t>
            </a:r>
            <a:endParaRPr b="1" i="1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093080" y="3068640"/>
            <a:ext cx="1793880" cy="3284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788000" y="2133720"/>
            <a:ext cx="3024000" cy="1726920"/>
          </a:xfrm>
          <a:prstGeom prst="wedgeEllipseCallout">
            <a:avLst>
              <a:gd name="adj1" fmla="val 49685"/>
              <a:gd name="adj2" fmla="val 585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76720" y="2276640"/>
            <a:ext cx="251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читайте слова.                               Проверьте себя:                                       правильно ли вы их                              произносили раньш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981000"/>
            <a:ext cx="8064720" cy="5543640"/>
          </a:xfrm>
          <a:prstGeom prst="rect">
            <a:avLst/>
          </a:prstGeom>
          <a:gradFill rotWithShape="0">
            <a:gsLst>
              <a:gs pos="0">
                <a:srgbClr val="003e3d"/>
              </a:gs>
              <a:gs pos="50000">
                <a:srgbClr val="00b000"/>
              </a:gs>
              <a:gs pos="100000">
                <a:srgbClr val="003e3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4360" y="1413000"/>
            <a:ext cx="775800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аловать, добыча, начать, документ,</a:t>
            </a:r>
            <a:endParaRPr b="1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ждала, занят, занята, каталог, </a:t>
            </a:r>
            <a:endParaRPr b="1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вартал, километр, красивее, </a:t>
            </a:r>
            <a:endParaRPr b="1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ухонный, намерение, ненависть, </a:t>
            </a:r>
            <a:endParaRPr b="1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емировать, ремень, сантиметр, </a:t>
            </a:r>
            <a:endParaRPr b="1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атуя, украинский, щавель </a:t>
            </a:r>
            <a:endParaRPr b="1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1979640" y="1268280"/>
            <a:ext cx="21600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779640" y="1268280"/>
            <a:ext cx="21564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435640" y="1268280"/>
            <a:ext cx="21600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484360" y="2060640"/>
            <a:ext cx="21600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7667640" y="1268280"/>
            <a:ext cx="21600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058920" y="2060640"/>
            <a:ext cx="21564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580000" y="2060640"/>
            <a:ext cx="21600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308720" y="2060640"/>
            <a:ext cx="21600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771640" y="2852640"/>
            <a:ext cx="21600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716360" y="2924280"/>
            <a:ext cx="216000" cy="21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403280" y="3716280"/>
            <a:ext cx="21600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659640" y="2852640"/>
            <a:ext cx="21600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066920" y="3645000"/>
            <a:ext cx="215640" cy="21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940360" y="3645000"/>
            <a:ext cx="216000" cy="21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987640" y="4437000"/>
            <a:ext cx="21600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787640" y="4437000"/>
            <a:ext cx="21564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7235640" y="4508640"/>
            <a:ext cx="215640" cy="21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195280" y="5300640"/>
            <a:ext cx="21564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284720" y="5300640"/>
            <a:ext cx="21600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6732360" y="5229360"/>
            <a:ext cx="215640" cy="21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7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75800" y="1989360"/>
            <a:ext cx="630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ffff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43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43"/>
                </a:solidFill>
                <a:latin typeface="Arial"/>
              </a:rPr>
              <a:t>§ 22, правил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43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43"/>
                </a:solidFill>
                <a:latin typeface="Arial"/>
              </a:rPr>
              <a:t>Упр. 166, 17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43"/>
                </a:solidFill>
                <a:latin typeface="Arial"/>
              </a:rPr>
              <a:t>(устно, выучить слова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43"/>
                </a:solidFill>
                <a:latin typeface="Arial"/>
              </a:rPr>
              <a:t>3.  Упр. 174 уст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124000" y="404640"/>
            <a:ext cx="44658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омашнее задание</a:t>
            </a:r>
            <a:endParaRPr b="1" i="1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732720" y="2565360"/>
            <a:ext cx="20844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ffb7"/>
            </a:gs>
            <a:gs pos="50000">
              <a:srgbClr val="d1ffff"/>
            </a:gs>
            <a:gs pos="100000">
              <a:srgbClr val="b7ff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сурсы Интерн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nivagold.ru/raznoe/rasnoe.html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- анимация астерик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bestgif.narod.ru/mult.htm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- анимация слайд №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allforchildren.ru/pictures/school.ph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 фон школьная до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3300"/>
                </a:solidFill>
                <a:latin typeface="Arial"/>
              </a:rPr>
              <a:t>Работа выполнена учителем русского языка и литер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993300"/>
                </a:solidFill>
                <a:latin typeface="Arial"/>
              </a:rPr>
              <a:t>МОУ СОШ №1 г. Гуков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993300"/>
                </a:solidFill>
                <a:uFillTx/>
                <a:latin typeface="Arial"/>
              </a:rPr>
              <a:t>Ермиловой Мариной  Владимиров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3300"/>
                </a:solidFill>
                <a:latin typeface="Arial"/>
              </a:rPr>
              <a:t>июль, 201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11280" y="1484280"/>
            <a:ext cx="7362720" cy="2160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. Закрепить понятие "ударный" и "безударный" слог, </a:t>
            </a:r>
            <a:endParaRPr b="0" i="1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ударный" и "безударный" гласный.</a:t>
            </a:r>
            <a:endParaRPr b="0" i="1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. Дать понятие и подвижности и разноместности ударения, </a:t>
            </a:r>
            <a:endParaRPr b="0" i="1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 значимости гласных в русском языке.</a:t>
            </a:r>
            <a:endParaRPr b="0" i="1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39640" y="3860640"/>
            <a:ext cx="8104320" cy="180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. Развивать умения и навыки в определении места ударения в слове, </a:t>
            </a:r>
            <a:endParaRPr b="0" i="1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правописании безударных гласных в корне слова.</a:t>
            </a:r>
            <a:endParaRPr b="0" i="1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. Прививать интерес к работе со словарями.</a:t>
            </a:r>
            <a:endParaRPr b="0" i="1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71640" y="620640"/>
            <a:ext cx="3047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99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ЛИ УРОКА:</a:t>
            </a:r>
            <a:endParaRPr b="1" i="1" lang="en-US" sz="1800" spc="1" strike="noStrike">
              <a:ln w="9360">
                <a:solidFill>
                  <a:srgbClr val="3399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55640" y="2060640"/>
            <a:ext cx="7704000" cy="345600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bbe0e3"/>
              </a:gs>
              <a:gs pos="100000">
                <a:srgbClr val="009999"/>
              </a:gs>
            </a:gsLst>
            <a:lin ang="5400000"/>
          </a:gra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908000" y="189000"/>
            <a:ext cx="50752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ловарная работа</a:t>
            </a:r>
            <a:endParaRPr b="1" i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116000" y="1413000"/>
            <a:ext cx="688644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ставьте пропущенные буквы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00000" y="2421000"/>
            <a:ext cx="740088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...гнит...фон, ра...ш...фровать, т...л...видение, </a:t>
            </a:r>
            <a:endParaRPr b="1" i="1" lang="en-US" sz="3200" spc="1" strike="noStrike">
              <a:ln w="9360">
                <a:solidFill>
                  <a:srgbClr val="ff66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нф...рмация, жу  ... ать, ...ртист,</a:t>
            </a:r>
            <a:endParaRPr b="1" i="1" lang="en-US" sz="3200" spc="1" strike="noStrike">
              <a:ln w="9360">
                <a:solidFill>
                  <a:srgbClr val="ff66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32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(л, лл)юстрация, пр...под...ватель, </a:t>
            </a:r>
            <a:endParaRPr b="1" i="1" lang="en-US" sz="3200" spc="1" strike="noStrike">
              <a:ln w="9360">
                <a:solidFill>
                  <a:srgbClr val="ff66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...нокль, инж...нер</a:t>
            </a:r>
            <a:endParaRPr b="1" i="1" lang="en-US" sz="3200" spc="1" strike="noStrike">
              <a:ln w="9360">
                <a:solidFill>
                  <a:srgbClr val="ff66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020000" y="3213000"/>
            <a:ext cx="1898640" cy="3476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116000" y="2492280"/>
            <a:ext cx="23796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e22b00"/>
                  </a:solidFill>
                  <a:miter/>
                </a:ln>
                <a:solidFill>
                  <a:srgbClr val="e22b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</a:t>
            </a:r>
            <a:endParaRPr b="1" i="1" lang="en-US" sz="2800" spc="1" strike="noStrike">
              <a:ln w="9360">
                <a:solidFill>
                  <a:srgbClr val="e22b00"/>
                </a:solidFill>
                <a:miter/>
              </a:ln>
              <a:solidFill>
                <a:srgbClr val="e22b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195640" y="2492280"/>
            <a:ext cx="23796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e22b00"/>
                  </a:solidFill>
                  <a:miter/>
                </a:ln>
                <a:solidFill>
                  <a:srgbClr val="e22b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</a:t>
            </a:r>
            <a:endParaRPr b="1" i="1" lang="en-US" sz="2800" spc="1" strike="noStrike">
              <a:ln w="9360">
                <a:solidFill>
                  <a:srgbClr val="e22b00"/>
                </a:solidFill>
                <a:miter/>
              </a:ln>
              <a:solidFill>
                <a:srgbClr val="e22b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564000" y="2492280"/>
            <a:ext cx="23796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e22b00"/>
                  </a:solidFill>
                  <a:miter/>
                </a:ln>
                <a:solidFill>
                  <a:srgbClr val="e22b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</a:t>
            </a:r>
            <a:endParaRPr b="1" i="1" lang="en-US" sz="2800" spc="1" strike="noStrike">
              <a:ln w="9360">
                <a:solidFill>
                  <a:srgbClr val="e22b00"/>
                </a:solidFill>
                <a:miter/>
              </a:ln>
              <a:solidFill>
                <a:srgbClr val="e22b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140360" y="2492280"/>
            <a:ext cx="23796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e22b00"/>
                  </a:solidFill>
                  <a:miter/>
                </a:ln>
                <a:solidFill>
                  <a:srgbClr val="e22b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</a:t>
            </a:r>
            <a:endParaRPr b="1" i="1" lang="en-US" sz="2800" spc="1" strike="noStrike">
              <a:ln w="9360">
                <a:solidFill>
                  <a:srgbClr val="e22b00"/>
                </a:solidFill>
                <a:miter/>
              </a:ln>
              <a:solidFill>
                <a:srgbClr val="e22b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227640" y="2492280"/>
            <a:ext cx="23832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e22b00"/>
                  </a:solidFill>
                  <a:miter/>
                </a:ln>
                <a:solidFill>
                  <a:srgbClr val="e22b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е</a:t>
            </a:r>
            <a:endParaRPr b="1" i="1" lang="en-US" sz="2800" spc="1" strike="noStrike">
              <a:ln w="9360">
                <a:solidFill>
                  <a:srgbClr val="e22b00"/>
                </a:solidFill>
                <a:miter/>
              </a:ln>
              <a:solidFill>
                <a:srgbClr val="e22b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659640" y="2492280"/>
            <a:ext cx="23796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e22b00"/>
                  </a:solidFill>
                  <a:miter/>
                </a:ln>
                <a:solidFill>
                  <a:srgbClr val="e22b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Е</a:t>
            </a:r>
            <a:endParaRPr b="1" i="1" lang="en-US" sz="2800" spc="1" strike="noStrike">
              <a:ln w="9360">
                <a:solidFill>
                  <a:srgbClr val="e22b00"/>
                </a:solidFill>
                <a:miter/>
              </a:ln>
              <a:solidFill>
                <a:srgbClr val="e22b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627280" y="3213000"/>
            <a:ext cx="23832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e22b00"/>
                  </a:solidFill>
                  <a:miter/>
                </a:ln>
                <a:solidFill>
                  <a:srgbClr val="e22b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</a:t>
            </a:r>
            <a:endParaRPr b="1" i="1" lang="en-US" sz="2800" spc="1" strike="noStrike">
              <a:ln w="9360">
                <a:solidFill>
                  <a:srgbClr val="e22b00"/>
                </a:solidFill>
                <a:miter/>
              </a:ln>
              <a:solidFill>
                <a:srgbClr val="e22b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0" y="3213000"/>
            <a:ext cx="50472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e22b00"/>
                  </a:solidFill>
                  <a:miter/>
                </a:ln>
                <a:solidFill>
                  <a:srgbClr val="e22b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ЖЖ</a:t>
            </a:r>
            <a:endParaRPr b="1" i="1" lang="en-US" sz="2800" spc="1" strike="noStrike">
              <a:ln w="9360">
                <a:solidFill>
                  <a:srgbClr val="e22b00"/>
                </a:solidFill>
                <a:miter/>
              </a:ln>
              <a:solidFill>
                <a:srgbClr val="e22b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796000" y="3213000"/>
            <a:ext cx="23796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e22b00"/>
                  </a:solidFill>
                  <a:miter/>
                </a:ln>
                <a:solidFill>
                  <a:srgbClr val="e22b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</a:t>
            </a:r>
            <a:endParaRPr b="1" i="1" lang="en-US" sz="2800" spc="1" strike="noStrike">
              <a:ln w="9360">
                <a:solidFill>
                  <a:srgbClr val="e22b00"/>
                </a:solidFill>
                <a:miter/>
              </a:ln>
              <a:solidFill>
                <a:srgbClr val="e22b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076720" y="3860640"/>
            <a:ext cx="23832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e22b00"/>
                  </a:solidFill>
                  <a:miter/>
                </a:ln>
                <a:solidFill>
                  <a:srgbClr val="e22b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Е</a:t>
            </a:r>
            <a:endParaRPr b="1" i="1" lang="en-US" sz="2800" spc="1" strike="noStrike">
              <a:ln w="9360">
                <a:solidFill>
                  <a:srgbClr val="e22b00"/>
                </a:solidFill>
                <a:miter/>
              </a:ln>
              <a:solidFill>
                <a:srgbClr val="e22b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348000" y="4581360"/>
            <a:ext cx="23832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e22b00"/>
                  </a:solidFill>
                  <a:miter/>
                </a:ln>
                <a:solidFill>
                  <a:srgbClr val="e22b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</a:t>
            </a:r>
            <a:endParaRPr b="1" i="1" lang="en-US" sz="2800" spc="1" strike="noStrike">
              <a:ln w="9360">
                <a:solidFill>
                  <a:srgbClr val="e22b00"/>
                </a:solidFill>
                <a:miter/>
              </a:ln>
              <a:solidFill>
                <a:srgbClr val="e22b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219640" y="4581360"/>
            <a:ext cx="23832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e22b00"/>
                  </a:solidFill>
                  <a:miter/>
                </a:ln>
                <a:solidFill>
                  <a:srgbClr val="e22b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Е</a:t>
            </a:r>
            <a:endParaRPr b="1" i="1" lang="en-US" sz="2800" spc="1" strike="noStrike">
              <a:ln w="9360">
                <a:solidFill>
                  <a:srgbClr val="e22b00"/>
                </a:solidFill>
                <a:miter/>
              </a:ln>
              <a:solidFill>
                <a:srgbClr val="e22b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867280" y="3860640"/>
            <a:ext cx="23832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e22b00"/>
                  </a:solidFill>
                  <a:miter/>
                </a:ln>
                <a:solidFill>
                  <a:srgbClr val="e22b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</a:t>
            </a:r>
            <a:endParaRPr b="1" i="1" lang="en-US" sz="2800" spc="1" strike="noStrike">
              <a:ln w="9360">
                <a:solidFill>
                  <a:srgbClr val="e22b00"/>
                </a:solidFill>
                <a:miter/>
              </a:ln>
              <a:solidFill>
                <a:srgbClr val="e22b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68360" y="3860640"/>
            <a:ext cx="43200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e22b00"/>
                  </a:solidFill>
                  <a:miter/>
                </a:ln>
                <a:solidFill>
                  <a:srgbClr val="e22b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Л</a:t>
            </a:r>
            <a:endParaRPr b="1" i="1" lang="en-US" sz="2800" spc="1" strike="noStrike">
              <a:ln w="9360">
                <a:solidFill>
                  <a:srgbClr val="e22b00"/>
                </a:solidFill>
                <a:miter/>
              </a:ln>
              <a:solidFill>
                <a:srgbClr val="e22b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413440" y="1123560"/>
            <a:ext cx="485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пишите слово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овременны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роизведите деление на слог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оставьте удар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419640" y="404640"/>
            <a:ext cx="2089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дание</a:t>
            </a:r>
            <a:endParaRPr b="1" i="1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979640" y="2421000"/>
            <a:ext cx="4968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-вре-м  н-ны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787640" y="2349360"/>
            <a:ext cx="21564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716360" y="2637000"/>
            <a:ext cx="36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е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236000" y="3284640"/>
            <a:ext cx="1793880" cy="3284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427640" y="3789360"/>
            <a:ext cx="2952720" cy="1368360"/>
          </a:xfrm>
          <a:prstGeom prst="wedgeEllipseCallout">
            <a:avLst>
              <a:gd name="adj1" fmla="val 54300"/>
              <a:gd name="adj2" fmla="val 522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11640" y="4076640"/>
            <a:ext cx="33847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Какие виды слогов      встретились в данном            слов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3645000"/>
            <a:ext cx="172872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да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43280" y="3645000"/>
            <a:ext cx="172872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езуда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4360" y="4653000"/>
            <a:ext cx="1304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мен-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132000" y="4724280"/>
            <a:ext cx="124776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со-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вре-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ный-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4"/>
            </a:gs>
            <a:gs pos="50000">
              <a:srgbClr val="00a8a4"/>
            </a:gs>
            <a:gs pos="100000">
              <a:srgbClr val="0066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560" y="1051200"/>
            <a:ext cx="7922880" cy="7646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делите на слоги и поставьте ударение в следующих слова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лес, школа, барабан, дисципл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419640" y="189000"/>
            <a:ext cx="208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дание</a:t>
            </a:r>
            <a:endParaRPr b="1" i="1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39640" y="2565360"/>
            <a:ext cx="1000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ес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8360" y="3573360"/>
            <a:ext cx="1942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шко - л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27640" y="2708280"/>
            <a:ext cx="3168720" cy="1873080"/>
          </a:xfrm>
          <a:prstGeom prst="cloudCallout">
            <a:avLst>
              <a:gd name="adj1" fmla="val 46944"/>
              <a:gd name="adj2" fmla="val 63981"/>
            </a:avLst>
          </a:prstGeom>
          <a:gradFill rotWithShape="0">
            <a:gsLst>
              <a:gs pos="0">
                <a:srgbClr val="bbe0e3"/>
              </a:gs>
              <a:gs pos="50000">
                <a:srgbClr val="ccec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350120" y="3429000"/>
            <a:ext cx="1793880" cy="3284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395280" y="4724280"/>
            <a:ext cx="2448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А-РА-БАН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95280" y="5877000"/>
            <a:ext cx="439272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ис-цип-ли-н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971640" y="2205000"/>
            <a:ext cx="28728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050560" y="3213000"/>
            <a:ext cx="28764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268000" y="4292640"/>
            <a:ext cx="28764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492000" y="5661000"/>
            <a:ext cx="28764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8000" y="3141720"/>
            <a:ext cx="25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какие слог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адает удар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данных слова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59280" y="2924280"/>
            <a:ext cx="22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усское ударение </a:t>
            </a:r>
            <a:r>
              <a:rPr b="1" lang="en-US" sz="1800" spc="-1" strike="noStrike">
                <a:solidFill>
                  <a:srgbClr val="ff0909"/>
                </a:solidFill>
                <a:latin typeface="Arial"/>
              </a:rPr>
              <a:t>свободное, разноместное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может падать на любой с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500"/>
                            </p:stCondLst>
                            <p:childTnLst>
                              <p:par>
                                <p:cTn id="26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403280" y="404640"/>
            <a:ext cx="6551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e22b00"/>
                    </a:gs>
                    <a:gs pos="50000">
                      <a:srgbClr val="ff5a33"/>
                    </a:gs>
                    <a:gs pos="100000">
                      <a:srgbClr val="e22b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моги Буратино исправить ошибки</a:t>
            </a:r>
            <a:endParaRPr b="1" i="1" lang="en-US" sz="1800" spc="1" strike="noStrike">
              <a:ln w="936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e22b00"/>
                  </a:gs>
                  <a:gs pos="50000">
                    <a:srgbClr val="ff5a33"/>
                  </a:gs>
                  <a:gs pos="100000">
                    <a:srgbClr val="e22b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e22b00"/>
                    </a:gs>
                    <a:gs pos="50000">
                      <a:srgbClr val="ff5a33"/>
                    </a:gs>
                    <a:gs pos="100000">
                      <a:srgbClr val="e22b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переносе слов</a:t>
            </a:r>
            <a:endParaRPr b="1" i="1" lang="en-US" sz="1800" spc="1" strike="noStrike">
              <a:ln w="936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e22b00"/>
                  </a:gs>
                  <a:gs pos="50000">
                    <a:srgbClr val="ff5a33"/>
                  </a:gs>
                  <a:gs pos="100000">
                    <a:srgbClr val="e22b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700360" y="2349360"/>
            <a:ext cx="6084720" cy="4176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е –рная, перек-ручена, разъе-хаться, 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с-тупила, ча –йка, на-двязывать, 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оп –лаить, перес-мотреть, прос-ледить,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езг-рамотный, безв-кусный, отк-усил, 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сс-ир 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-684360" y="2095560"/>
            <a:ext cx="3810240" cy="4762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763640" y="1700280"/>
            <a:ext cx="56199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кие правила переноса  здесь нарушены?</a:t>
            </a:r>
            <a:endParaRPr b="1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33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419640" y="0"/>
            <a:ext cx="208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дание</a:t>
            </a:r>
            <a:endParaRPr b="1" i="1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836640"/>
            <a:ext cx="7489800" cy="947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ишите слова 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имний, зима, зимовка, озимь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разберите их по составу, расставьте удар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604360" y="6524640"/>
            <a:ext cx="539640" cy="333360"/>
          </a:xfrm>
          <a:custGeom>
            <a:avLst/>
            <a:gdLst>
              <a:gd name="textAreaLeft" fmla="*/ 21600 w 539640"/>
              <a:gd name="textAreaRight" fmla="*/ 518040 w 539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4951" h="21600">
                <a:moveTo>
                  <a:pt x="0" y="0"/>
                </a:moveTo>
                <a:lnTo>
                  <a:pt x="34951" y="0"/>
                </a:lnTo>
                <a:lnTo>
                  <a:pt x="34951" y="21600"/>
                </a:lnTo>
                <a:lnTo>
                  <a:pt x="0" y="21600"/>
                </a:lnTo>
                <a:close/>
              </a:path>
              <a:path fill="lightenLess" w="34951" h="21600">
                <a:moveTo>
                  <a:pt x="0" y="0"/>
                </a:moveTo>
                <a:lnTo>
                  <a:pt x="34951" y="0"/>
                </a:lnTo>
                <a:lnTo>
                  <a:pt x="33551" y="1400"/>
                </a:lnTo>
                <a:lnTo>
                  <a:pt x="1400" y="1400"/>
                </a:lnTo>
                <a:close/>
              </a:path>
              <a:path fill="darken" w="34951" h="21600">
                <a:moveTo>
                  <a:pt x="34951" y="0"/>
                </a:moveTo>
                <a:lnTo>
                  <a:pt x="34951" y="21600"/>
                </a:lnTo>
                <a:lnTo>
                  <a:pt x="33551" y="20200"/>
                </a:lnTo>
                <a:lnTo>
                  <a:pt x="33551" y="1400"/>
                </a:lnTo>
                <a:close/>
              </a:path>
              <a:path fill="darkenLess" w="34951" h="21600">
                <a:moveTo>
                  <a:pt x="349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51" y="20200"/>
                </a:lnTo>
                <a:close/>
              </a:path>
              <a:path fill="lighten" w="349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51" h="21600">
                <a:moveTo>
                  <a:pt x="10469" y="3794"/>
                </a:moveTo>
                <a:lnTo>
                  <a:pt x="24482" y="10800"/>
                </a:lnTo>
                <a:lnTo>
                  <a:pt x="1046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6337440" cy="43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132000" y="4292640"/>
            <a:ext cx="360360" cy="431640"/>
          </a:xfrm>
          <a:prstGeom prst="rect">
            <a:avLst/>
          </a:prstGeom>
          <a:solidFill>
            <a:srgbClr val="0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40000" y="3068640"/>
            <a:ext cx="287280" cy="433440"/>
          </a:xfrm>
          <a:prstGeom prst="rect">
            <a:avLst/>
          </a:prstGeom>
          <a:solidFill>
            <a:srgbClr val="0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71640" y="1844640"/>
            <a:ext cx="648000" cy="504720"/>
          </a:xfrm>
          <a:prstGeom prst="rect">
            <a:avLst/>
          </a:prstGeom>
          <a:solidFill>
            <a:srgbClr val="0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093080" y="3068640"/>
            <a:ext cx="1793880" cy="3284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284720" y="2565360"/>
            <a:ext cx="3456000" cy="1440000"/>
          </a:xfrm>
          <a:prstGeom prst="cloudCallout">
            <a:avLst>
              <a:gd name="adj1" fmla="val 39157"/>
              <a:gd name="adj2" fmla="val 894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88000" y="278136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 называются слова с одинаковым корне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00720" y="278100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какие морф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дает удар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однокоренных словах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76360" y="1844640"/>
            <a:ext cx="1886040" cy="4000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имн ий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има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имовка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зимь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 rot="17772600">
            <a:off x="1094040" y="1981080"/>
            <a:ext cx="1383480" cy="817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263" y="2148"/>
                </a:moveTo>
                <a:arcTo wR="10800" hR="10800" stAng="-3194398" swAng="4716557"/>
                <a:lnTo>
                  <a:pt x="10800" y="10800"/>
                </a:lnTo>
                <a:close/>
              </a:path>
              <a:path fill="none" w="21600" h="21600">
                <a:moveTo>
                  <a:pt x="17263" y="2148"/>
                </a:moveTo>
                <a:arcTo wR="10800" hR="10800" stAng="-3194398" swAng="4716557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7772600">
            <a:off x="950760" y="3133440"/>
            <a:ext cx="1384200" cy="817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263" y="2148"/>
                </a:moveTo>
                <a:arcTo wR="10800" hR="10800" stAng="-3194398" swAng="4716557"/>
                <a:lnTo>
                  <a:pt x="10800" y="10800"/>
                </a:lnTo>
                <a:close/>
              </a:path>
              <a:path fill="none" w="21600" h="21600">
                <a:moveTo>
                  <a:pt x="17263" y="2148"/>
                </a:moveTo>
                <a:arcTo wR="10800" hR="10800" stAng="-3194398" swAng="4716557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7772600">
            <a:off x="1022400" y="4286160"/>
            <a:ext cx="1383480" cy="817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263" y="2148"/>
                </a:moveTo>
                <a:arcTo wR="10800" hR="10800" stAng="-3194398" swAng="4716557"/>
                <a:lnTo>
                  <a:pt x="10800" y="10800"/>
                </a:lnTo>
                <a:close/>
              </a:path>
              <a:path fill="none" w="21600" h="21600">
                <a:moveTo>
                  <a:pt x="17263" y="2148"/>
                </a:moveTo>
                <a:arcTo wR="10800" hR="10800" stAng="-3194398" swAng="4716557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7454600">
            <a:off x="1470960" y="5491440"/>
            <a:ext cx="1526760" cy="1172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263" y="2148"/>
                </a:moveTo>
                <a:arcTo wR="10800" hR="10800" stAng="-3194398" swAng="4716557"/>
                <a:lnTo>
                  <a:pt x="10800" y="10800"/>
                </a:lnTo>
                <a:close/>
              </a:path>
              <a:path fill="none" w="21600" h="21600">
                <a:moveTo>
                  <a:pt x="17263" y="2148"/>
                </a:moveTo>
                <a:arcTo wR="10800" hR="10800" stAng="-3194398" swAng="4716557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411280" y="1700280"/>
            <a:ext cx="14472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56000" y="1700280"/>
            <a:ext cx="14436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340000" y="4076640"/>
            <a:ext cx="21600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555640" y="4076640"/>
            <a:ext cx="21564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843280" y="4076640"/>
            <a:ext cx="14292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2987280" y="4076640"/>
            <a:ext cx="14436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32000" y="544500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544500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907640" y="1628640"/>
            <a:ext cx="28908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484000" y="2781360"/>
            <a:ext cx="28908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484000" y="4076640"/>
            <a:ext cx="28908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476000" y="5300640"/>
            <a:ext cx="28908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916360" y="404640"/>
            <a:ext cx="3311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4fa7"/>
                  </a:solidFill>
                  <a:miter/>
                </a:ln>
                <a:solidFill>
                  <a:srgbClr val="e2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верь себя!</a:t>
            </a:r>
            <a:endParaRPr b="1" i="1" lang="en-US" sz="1800" spc="1" strike="noStrike">
              <a:ln w="9360">
                <a:solidFill>
                  <a:srgbClr val="ff4fa7"/>
                </a:solidFill>
                <a:miter/>
              </a:ln>
              <a:solidFill>
                <a:srgbClr val="e2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604360" y="6597720"/>
            <a:ext cx="539640" cy="260280"/>
          </a:xfrm>
          <a:custGeom>
            <a:avLst/>
            <a:gdLst>
              <a:gd name="textAreaLeft" fmla="*/ 16560 w 539640"/>
              <a:gd name="textAreaRight" fmla="*/ 523080 w 53964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44751" h="21600">
                <a:moveTo>
                  <a:pt x="0" y="0"/>
                </a:moveTo>
                <a:lnTo>
                  <a:pt x="44751" y="0"/>
                </a:lnTo>
                <a:lnTo>
                  <a:pt x="44751" y="21600"/>
                </a:lnTo>
                <a:lnTo>
                  <a:pt x="0" y="21600"/>
                </a:lnTo>
                <a:close/>
              </a:path>
              <a:path fill="lightenLess" w="44751" h="21600">
                <a:moveTo>
                  <a:pt x="0" y="0"/>
                </a:moveTo>
                <a:lnTo>
                  <a:pt x="44751" y="0"/>
                </a:lnTo>
                <a:lnTo>
                  <a:pt x="43351" y="1400"/>
                </a:lnTo>
                <a:lnTo>
                  <a:pt x="1400" y="1400"/>
                </a:lnTo>
                <a:close/>
              </a:path>
              <a:path fill="darken" w="44751" h="21600">
                <a:moveTo>
                  <a:pt x="44751" y="0"/>
                </a:moveTo>
                <a:lnTo>
                  <a:pt x="44751" y="21600"/>
                </a:lnTo>
                <a:lnTo>
                  <a:pt x="43351" y="20200"/>
                </a:lnTo>
                <a:lnTo>
                  <a:pt x="43351" y="1400"/>
                </a:lnTo>
                <a:close/>
              </a:path>
              <a:path fill="darkenLess" w="44751" h="21600">
                <a:moveTo>
                  <a:pt x="447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351" y="20200"/>
                </a:lnTo>
                <a:close/>
              </a:path>
              <a:path fill="lighten" w="447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751" h="21600">
                <a:moveTo>
                  <a:pt x="15369" y="3794"/>
                </a:moveTo>
                <a:lnTo>
                  <a:pt x="29382" y="10800"/>
                </a:lnTo>
                <a:lnTo>
                  <a:pt x="1536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03640" y="2781360"/>
            <a:ext cx="20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20000"/>
                </a:solidFill>
                <a:latin typeface="Arial"/>
              </a:rPr>
              <a:t>Русское ударение подвиж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7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7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4"/>
            </a:gs>
            <a:gs pos="50000">
              <a:srgbClr val="00b4b0"/>
            </a:gs>
            <a:gs pos="100000">
              <a:srgbClr val="0066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11280" y="907920"/>
            <a:ext cx="7920000" cy="18734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                   </a:t>
            </a: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от глагола зимовать.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. Проводить где-л. зиму, 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ставаться где-л. на зиму. 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. перен. Выдерживать, переносить 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имние холода (о растениях)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26920" y="549360"/>
            <a:ext cx="1800360" cy="61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имовка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55640" y="3573360"/>
            <a:ext cx="17272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зимь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26920" y="3573360"/>
            <a:ext cx="7740720" cy="2951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                         </a:t>
            </a: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название группы сельскохоз. растений.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Если семена высеваются осенью, и цикл развития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ысеянных растений заканчивается в следующее лето-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стение относится к озимым.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388360" y="6597720"/>
            <a:ext cx="755640" cy="260280"/>
          </a:xfrm>
          <a:custGeom>
            <a:avLst/>
            <a:gdLst>
              <a:gd name="textAreaLeft" fmla="*/ 16560 w 755640"/>
              <a:gd name="textAreaRight" fmla="*/ 739080 w 75564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62652" h="21600">
                <a:moveTo>
                  <a:pt x="0" y="0"/>
                </a:moveTo>
                <a:lnTo>
                  <a:pt x="62652" y="0"/>
                </a:lnTo>
                <a:lnTo>
                  <a:pt x="62652" y="21600"/>
                </a:lnTo>
                <a:lnTo>
                  <a:pt x="0" y="21600"/>
                </a:lnTo>
                <a:close/>
              </a:path>
              <a:path fill="lightenLess" w="62652" h="21600">
                <a:moveTo>
                  <a:pt x="0" y="0"/>
                </a:moveTo>
                <a:lnTo>
                  <a:pt x="62652" y="0"/>
                </a:lnTo>
                <a:lnTo>
                  <a:pt x="61252" y="1400"/>
                </a:lnTo>
                <a:lnTo>
                  <a:pt x="1400" y="1400"/>
                </a:lnTo>
                <a:close/>
              </a:path>
              <a:path fill="darken" w="62652" h="21600">
                <a:moveTo>
                  <a:pt x="62652" y="0"/>
                </a:moveTo>
                <a:lnTo>
                  <a:pt x="62652" y="21600"/>
                </a:lnTo>
                <a:lnTo>
                  <a:pt x="61252" y="20200"/>
                </a:lnTo>
                <a:lnTo>
                  <a:pt x="61252" y="1400"/>
                </a:lnTo>
                <a:close/>
              </a:path>
              <a:path fill="darkenLess" w="62652" h="21600">
                <a:moveTo>
                  <a:pt x="626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52" y="20200"/>
                </a:lnTo>
                <a:close/>
              </a:path>
              <a:path fill="lighten" w="626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652" h="21600">
                <a:moveTo>
                  <a:pt x="24319" y="10800"/>
                </a:moveTo>
                <a:lnTo>
                  <a:pt x="38332" y="3794"/>
                </a:lnTo>
                <a:lnTo>
                  <a:pt x="3833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8T07:34:42Z</dcterms:created>
  <dc:creator>Сергей</dc:creator>
  <dc:description/>
  <dc:language>en-US</dc:language>
  <cp:lastModifiedBy>Катенок</cp:lastModifiedBy>
  <dcterms:modified xsi:type="dcterms:W3CDTF">2010-08-09T12:39:46Z</dcterms:modified>
  <cp:revision>14</cp:revision>
  <dc:subject/>
  <dc:title>Слайд 1</dc:title>
</cp:coreProperties>
</file>