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A9C-B233-48AC-8A1D-70C5BF7E7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5BB-6D8B-40C6-81AF-69E654A1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BC4577-F646-468C-9387-7C0FF8EB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1FB25-10C6-49A2-BF32-CDE1FB2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C603C-470B-4C2C-9598-CEE741B1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D486A-5E38-47B7-BF23-23EB5451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FCCC7-3B57-4AC0-8AC0-16C8B543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FCF54-D028-4309-AA8A-479D6E62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5D28A-DED1-49E0-A59D-5353C163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4D4043-5419-43D3-90A2-45FD8A30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8C051-BAA8-4A4C-B981-529EC2A1D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340-23DE-471B-89D5-56906265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B29-2862-41E3-BC6F-5B428352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3CDC-9840-4750-B910-20C8DD23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E1E6-AA23-4EC7-90A1-F4FCEC09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843A-AE27-4556-8351-567568E0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0332-C44D-40D8-A7C8-855133DE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B898-197D-4637-BFC0-9B34FB12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2467-FE09-4DB6-8332-BC95A52E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CE85-B63A-40D2-86B3-159782F0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96E-B64C-4C8B-9AE1-A3987029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2AC6-7DDF-404D-B297-15CC192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410D-728A-46F2-B4A5-4FC1E6F5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880F-79F3-4870-957F-D2432913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1C1B-C1D1-470F-B53A-A85BF671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95ED-217A-48D7-B9E1-591AAB28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7B6B7-DABF-4764-A07D-1B2489DC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C2D8C-F5DF-44BE-B71E-90B11A66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B3C21-B246-4254-905D-1895AF05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AA71-FACE-4A79-A98B-75007888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C177D-DDE9-4D77-8EE6-DA24C6A6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117C-C84C-432A-8A72-EB503D7E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C68C-FCFE-48FB-AD9E-7138E37E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41F3-EB11-4EB4-B8D9-073F39D49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A118B-24DC-46C5-AC3F-67FD4CF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44C7C-6B1D-44ED-A330-9BB105E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CC272-F1EB-41D1-A7AF-91267B34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89D5-9DED-4F03-A6AD-6DF698D9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F707-DF34-4E93-8B24-E7CB05BD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BBC97-7C5C-4773-9C00-F4C03AC9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8722C-C108-41DE-A96F-C234764A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31D23-6E1F-496E-8FC1-B91870A7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BC1-B8BD-4E35-B27B-7020B87C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8E32C-BB9E-45C5-83F1-092F44D9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A116D-4727-4682-B7F3-BF784881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08B0D-362E-4063-B65F-FC484330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48A0-02ED-4E33-955B-135DC046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F335F-6DA4-4254-901C-936A3F59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2CD15-F87C-4872-B080-E4AAE258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61B29-7D5C-4CF7-91BF-BC68F515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90D7B-070B-4882-BF4C-DEF8B1CD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66C8-8540-441B-9DB6-08BF2F0D7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D50CC-0550-4385-BCC5-C2BB1CBA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A1F-50A8-4347-BCFF-D42AEB0F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B5905-A8A7-4076-862D-AE100F6C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86360-B74E-461F-9C86-50032160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83275-D5EF-4802-BD80-D6A7AF6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5731-C661-4484-BBD1-739E3B15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EABFB-E0F0-4AAB-8066-8BB89BEA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8D1D7-12D3-4D0A-B350-F9D6D79F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8482D-8B09-4043-9518-500CBD2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5D24C-AE4C-4574-A716-EA59739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C68B6-BEF3-4C6F-B8EA-B72A2838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B42FC-9CDC-4F5D-AFFC-D58F7900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92BD-C5A7-4DB9-9A55-2B2F7959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16D47-E78F-4B2F-9505-AB4E81333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D48BE-32E6-42E2-853F-E72C3FFDB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005FA-7B39-463E-9AAA-6F46A997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BB155-188C-4344-93F3-78A2BABD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1BE7E-81B3-4F16-9234-B6A81C16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9F9C5-7916-4C11-B665-A8C5882A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9476-DE60-4168-9332-52380C61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348FF-15F9-4E85-951C-29AA36ED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797B-C7BE-41C4-A964-95C1E09B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FD130-DC3B-4B42-9B2F-91E83E39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81B-C5A1-4869-B5FE-AEFA0C1F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1177D-0171-4BBB-BCF0-C1668CA6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FD357-51C9-4213-AFC6-937BE01F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F03BC-1D23-442F-8631-873F778F4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6D0F0-2B50-4718-8034-DE01F70D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428DB-1D64-4ACE-8021-7F08B11E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7218-85D5-4A3F-9F1E-9F4985B0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B716D-A6B9-40C7-B8BB-DF28F20B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5FC60-BA6C-4357-B83B-51973B9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CA92B-97C6-4CC1-AC63-E91AC0FA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FEA5E-2019-428D-BE40-014A353B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F178-BC90-4B57-8DA4-FD81B59D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137D3-7AB9-4977-9AB0-1B074E19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F88A7-9E30-40E0-A4BD-F4F53411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50044-C8ED-4956-B29E-7130F0DA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E98F-D527-4F66-9E2E-33348CE6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DCC1E-BF92-4BEC-81BC-6056AB91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07444-7BA0-45F1-A581-F4D44953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B9127-71C3-40F8-9A09-D8B21843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6B20-2487-4B13-A092-5B661B9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B88DB-4BC4-4CB5-9832-ED7C2EE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C8E65-B37A-451E-9981-0E465F93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BEF-6C4B-44E9-A940-D43FE574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7174D-A280-4B6B-A04E-CF1800AE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7660E-18C9-402A-A5EF-1A93389A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06FAC-FC88-40E2-BBCE-F8258CF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9EA08-C5A7-4667-9CC1-90E1D5D1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2659F-163D-4E71-8591-F2DFBEDB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7C9F8-AC86-44EF-AEC9-66C08037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1478-3A4E-4257-8414-06746B3C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A16FD-D164-4CBD-956B-3A89F55B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7E63C-AA4C-4D9C-BA82-3A958ECF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3D8F9-701F-4282-83FD-843EC8FF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2F0A-3678-4BD7-B48A-C60F08D306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40ED-7145-4AA1-A2AC-85DB10B8C11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F42B-1DC8-4464-B958-BF9B0641938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2A1-8C0E-4D21-8DDA-281A0318ABB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9CAC-4686-4938-9750-C17350317CD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C0F8-8F69-4711-821F-E4AA1E0D288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C2EB-9038-4235-9DCE-EB9C0F9A8D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63EC-7658-49AB-BC25-C354B9C651E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2403-EE12-448A-A611-CED07D54F54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80520" y="64260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443329"/>
                </a:solidFill>
                <a:uFillTx/>
                <a:latin typeface="Franklin Gothic Book"/>
              </a:rPr>
              <a:t>Урок  русского языка в 5 классе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b050"/>
                </a:solidFill>
                <a:latin typeface="Franklin Gothic Book"/>
              </a:rPr>
              <a:t>Тема: «Степени сравнения имен прилагательных»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0" name="TextBox 3"/>
          <p:cNvSpPr/>
          <p:nvPr/>
        </p:nvSpPr>
        <p:spPr>
          <a:xfrm>
            <a:off x="3143160" y="4572000"/>
            <a:ext cx="568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Киселева Ирина Владимировна,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МОУ СОШ №7 города Петровска Саратовской области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506520" y="304920"/>
            <a:ext cx="8229600" cy="64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04920" y="213840"/>
            <a:ext cx="86868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c00000"/>
                </a:solidFill>
                <a:uFillTx/>
                <a:latin typeface="Franklin Gothic Book"/>
              </a:rPr>
              <a:t>СЛОВАРНАЯ РАБОТ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Я зат_ился и стал разглядывать (не)знакомку. Она была уд_вительно кр_сива. Оливково-оранжевая  грудка, тёмные в светлых  п_стринках  крылья и  яркая, небесного цвета спинка, настолько яркая, что во время п_лёта она блестела  совершенно так же, как  перел_вается  на изгибах освещённый солнцем изумрудно-голубой атлас. Не  уд_вительно, что я принял птичку за д_ковинную бабочку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Но пышный наряд не шёл к её лицу. В её облике было что-то скорбное, печальное. Вот удочка перестала к_чаться. Птичка замерла на ней неп_движным комочком. Она зябко вт_нула в плечи голову и опустила на зоб длинный клюв. Короткий, едва выступавший из-под крыльев хвост тоже прид_вал ей  какой-то сир_тливый облик.                                                                            </a:t>
            </a:r>
            <a:r>
              <a:rPr b="1" i="1" lang="ru-RU" sz="2700" spc="-1" strike="noStrike">
                <a:solidFill>
                  <a:srgbClr val="4e3b30"/>
                </a:solidFill>
                <a:latin typeface="Franklin Gothic Book"/>
              </a:rPr>
              <a:t>(Е.Носов «Зимородок»)</a:t>
            </a:r>
            <a:r>
              <a:rPr b="1" lang="ru-RU" sz="27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04920" y="214200"/>
            <a:ext cx="8686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Franklin Gothic Book"/>
              </a:rPr>
              <a:t>Степени сравнения имен прилагательных.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Franklin Gothic Book"/>
              </a:rPr>
              <a:t>СРАВНИТЕЛЬНАЯ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Franklin Gothic Book"/>
              </a:rPr>
              <a:t>СТЕПЕНЬ                  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Franklin Gothic Book"/>
              </a:rPr>
              <a:t>ПРЕВОСХОДНАЯ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0000"/>
                </a:solidFill>
                <a:latin typeface="Franklin Gothic Book"/>
              </a:rPr>
              <a:t>СТЕПЕНЬ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404" name="Прямая со стрелкой 5"/>
          <p:cNvCxnSpPr/>
          <p:nvPr/>
        </p:nvCxnSpPr>
        <p:spPr>
          <a:xfrm flipH="1">
            <a:off x="1713960" y="1643040"/>
            <a:ext cx="2786760" cy="7149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cxnSp>
        <p:nvCxnSpPr>
          <p:cNvPr id="405" name="Прямая со стрелкой 8"/>
          <p:cNvCxnSpPr/>
          <p:nvPr/>
        </p:nvCxnSpPr>
        <p:spPr>
          <a:xfrm>
            <a:off x="5642640" y="1571760"/>
            <a:ext cx="1786680" cy="271512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5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3"/>
          <a:stretch/>
        </p:blipFill>
        <p:spPr>
          <a:xfrm>
            <a:off x="1332000" y="1557360"/>
            <a:ext cx="671508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6"/>
          <p:cNvSpPr/>
          <p:nvPr/>
        </p:nvSpPr>
        <p:spPr>
          <a:xfrm>
            <a:off x="2500200" y="5786280"/>
            <a:ext cx="369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Высокий - низкий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060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428760" y="1428840"/>
            <a:ext cx="2643120" cy="2643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4"/>
          <a:stretch/>
        </p:blipFill>
        <p:spPr>
          <a:xfrm>
            <a:off x="2714760" y="2500200"/>
            <a:ext cx="2714400" cy="24289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5"/>
          <a:stretch/>
        </p:blipFill>
        <p:spPr>
          <a:xfrm>
            <a:off x="5072040" y="421488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413" name="TextBox 7"/>
          <p:cNvSpPr/>
          <p:nvPr/>
        </p:nvSpPr>
        <p:spPr>
          <a:xfrm>
            <a:off x="6072120" y="59292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ысокий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Прямоугольник 8"/>
          <p:cNvSpPr/>
          <p:nvPr/>
        </p:nvSpPr>
        <p:spPr>
          <a:xfrm flipV="1" rot="10800000">
            <a:off x="2928600" y="45248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ыш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Прямоугольник 9"/>
          <p:cNvSpPr/>
          <p:nvPr/>
        </p:nvSpPr>
        <p:spPr>
          <a:xfrm>
            <a:off x="428760" y="3983040"/>
            <a:ext cx="192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Высочайший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Franklin Gothic Medium"/>
              </a:rPr>
              <a:t>ОБРАЗОВАНИЕ СТЕПЕНЕЙ СРАВНЕНИЯ ИМЕН ПРИЛАГАТЕЛЬНЫХ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Овал 3"/>
          <p:cNvSpPr/>
          <p:nvPr/>
        </p:nvSpPr>
        <p:spPr>
          <a:xfrm>
            <a:off x="428760" y="1571760"/>
            <a:ext cx="335736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Сравнительная степень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512680" y="1778760"/>
            <a:ext cx="2475720" cy="65736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Превосходная степен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Выгнутая влево стрелка 5"/>
          <p:cNvSpPr/>
          <p:nvPr/>
        </p:nvSpPr>
        <p:spPr>
          <a:xfrm>
            <a:off x="214200" y="2428920"/>
            <a:ext cx="1785960" cy="1285920"/>
          </a:xfrm>
          <a:custGeom>
            <a:avLst/>
            <a:gdLst>
              <a:gd name="textAreaLeft" fmla="*/ 239040 w 1785960"/>
              <a:gd name="textAreaRight" fmla="*/ 1546920 w 1785960"/>
              <a:gd name="textAreaTop" fmla="*/ 200880 h 1285920"/>
              <a:gd name="textAreaBottom" fmla="*/ 92448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78897"/>
                <a:lnTo>
                  <a:pt x="17712" y="21490"/>
                </a:lnTo>
                <a:lnTo>
                  <a:pt x="21600" y="16200"/>
                </a:lnTo>
                <a:lnTo>
                  <a:pt x="17712" y="10690"/>
                </a:lnTo>
                <a:lnTo>
                  <a:pt x="17712" y="13390"/>
                </a:lnTo>
                <a:arcTo wR="21600" hR="6750" stAng="7221103" swAng="3112911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Простая форм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Выгнутая вправо стрелка 6"/>
          <p:cNvSpPr/>
          <p:nvPr/>
        </p:nvSpPr>
        <p:spPr>
          <a:xfrm>
            <a:off x="2214720" y="2428920"/>
            <a:ext cx="1785960" cy="1216080"/>
          </a:xfrm>
          <a:custGeom>
            <a:avLst/>
            <a:gdLst>
              <a:gd name="textAreaLeft" fmla="*/ 239040 w 1785960"/>
              <a:gd name="textAreaRight" fmla="*/ 1546920 w 1785960"/>
              <a:gd name="textAreaTop" fmla="*/ 189720 h 1216080"/>
              <a:gd name="textAreaBottom" fmla="*/ 87408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63946"/>
                <a:lnTo>
                  <a:pt x="3677" y="21501"/>
                </a:lnTo>
                <a:lnTo>
                  <a:pt x="0" y="16200"/>
                </a:lnTo>
                <a:lnTo>
                  <a:pt x="3677" y="10701"/>
                </a:lnTo>
                <a:lnTo>
                  <a:pt x="3677" y="13401"/>
                </a:lnTo>
                <a:arcTo wR="21600" hR="6750" stAng="3663946" swAng="-319796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2428920" y="278604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Составная фор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2" name="Выгнутая влево стрелка 8"/>
          <p:cNvSpPr/>
          <p:nvPr/>
        </p:nvSpPr>
        <p:spPr>
          <a:xfrm>
            <a:off x="5143680" y="2581200"/>
            <a:ext cx="1643040" cy="1133640"/>
          </a:xfrm>
          <a:custGeom>
            <a:avLst/>
            <a:gdLst>
              <a:gd name="textAreaLeft" fmla="*/ 219960 w 1643040"/>
              <a:gd name="textAreaRight" fmla="*/ 1423080 w 1643040"/>
              <a:gd name="textAreaTop" fmla="*/ 177120 h 1133640"/>
              <a:gd name="textAreaBottom" fmla="*/ 815040 h 113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44428"/>
                <a:lnTo>
                  <a:pt x="17875" y="21499"/>
                </a:lnTo>
                <a:lnTo>
                  <a:pt x="21600" y="16200"/>
                </a:lnTo>
                <a:lnTo>
                  <a:pt x="17875" y="10699"/>
                </a:lnTo>
                <a:lnTo>
                  <a:pt x="17875" y="13399"/>
                </a:lnTo>
                <a:arcTo wR="21600" hR="6750" stAng="7155572" swAng="317844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Простая форм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Выгнутая вправо стрелка 10"/>
          <p:cNvSpPr/>
          <p:nvPr/>
        </p:nvSpPr>
        <p:spPr>
          <a:xfrm>
            <a:off x="6929280" y="2581200"/>
            <a:ext cx="1714680" cy="120492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88280 h 1204920"/>
              <a:gd name="textAreaBottom" fmla="*/ 86616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16143"/>
                <a:lnTo>
                  <a:pt x="3795" y="21495"/>
                </a:lnTo>
                <a:lnTo>
                  <a:pt x="0" y="16200"/>
                </a:lnTo>
                <a:lnTo>
                  <a:pt x="3795" y="10695"/>
                </a:lnTo>
                <a:lnTo>
                  <a:pt x="3795" y="13395"/>
                </a:lnTo>
                <a:arcTo wR="21600" hR="6750" stAng="3616143" swAng="-3150157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Составная фор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Стрелка вниз 12"/>
          <p:cNvSpPr/>
          <p:nvPr/>
        </p:nvSpPr>
        <p:spPr>
          <a:xfrm>
            <a:off x="0" y="3643200"/>
            <a:ext cx="1928880" cy="29289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ЕЕ-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ЕЙ-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Е-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-ШЕ-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Стрелка вниз 13"/>
          <p:cNvSpPr/>
          <p:nvPr/>
        </p:nvSpPr>
        <p:spPr>
          <a:xfrm>
            <a:off x="1357200" y="3643200"/>
            <a:ext cx="2357640" cy="321480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Боле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Мене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Стрелка вниз 14"/>
          <p:cNvSpPr/>
          <p:nvPr/>
        </p:nvSpPr>
        <p:spPr>
          <a:xfrm>
            <a:off x="5786280" y="3714840"/>
            <a:ext cx="3357720" cy="314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иболе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Наименее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самый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Стрелка вниз 15"/>
          <p:cNvSpPr/>
          <p:nvPr/>
        </p:nvSpPr>
        <p:spPr>
          <a:xfrm>
            <a:off x="4214880" y="3714840"/>
            <a:ext cx="2714400" cy="29289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АЙШ-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ИЙ-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ЕЙШ-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-ИЙ-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14:45:11Z</dcterms:created>
  <dc:creator>User</dc:creator>
  <dc:description/>
  <dc:language>en-US</dc:language>
  <cp:lastModifiedBy>Катенок</cp:lastModifiedBy>
  <dcterms:modified xsi:type="dcterms:W3CDTF">2010-07-10T19:15:42Z</dcterms:modified>
  <cp:revision>20</cp:revision>
  <dc:subject/>
  <dc:title>Однажды на светлой, солнечной лужайке собралось несколько существительных:  Небо, Дорога, Сказка, Песня.  Стали они высказывать свои обиды  на  школьников, что те дали им в друзья постоянные прилагатель­ные, от которых никто не может отделаться. - Я во всех сочинениях голубое и безоблачное, - вздыхало Небо. - А ко мне привязалось слово ровная, - чуть  не плакала Дорога. - Эх, подруга! Тебе еще ничего. Тебя хоть иногда и  извилистой величают, а я всегда интересная, - безна­дёжно говорила Сказка. - А я только звонкая, - сказала Песня. - Что тут будешь делать? - вздохнули все вместе.                                                                          (Л. Подгаецкая) </dc:title>
</cp:coreProperties>
</file>