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8D7-9F5D-406B-AF0B-2065C049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4B5-206B-4350-B754-7CCC142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05E-7885-450B-BE16-224E6E82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AC8-6C7D-4C4B-9B04-BB491577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326-78C7-4ED0-852A-17B9BB3C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645-3CDF-4800-9E91-FB845ED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B93-85A3-4BB2-A534-A5284556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016-A41C-4ABB-929B-95461926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4CE-8B1D-4856-810D-8905210A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E7D-92C8-464A-A43A-B7563F0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6DC-68FE-4405-806E-D7ECB6AA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366-78F8-4836-9BD2-952A5B4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D0C5-38B7-42C2-B99F-665BD803D2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slide" Target="slide24.xml"/><Relationship Id="rId6" Type="http://schemas.openxmlformats.org/officeDocument/2006/relationships/slide" Target="slide23.xml"/><Relationship Id="rId7" Type="http://schemas.openxmlformats.org/officeDocument/2006/relationships/slide" Target="slide22.xml"/><Relationship Id="rId8" Type="http://schemas.openxmlformats.org/officeDocument/2006/relationships/slide" Target="slide21.xml"/><Relationship Id="rId9" Type="http://schemas.openxmlformats.org/officeDocument/2006/relationships/slide" Target="slide20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7.xml"/><Relationship Id="rId13" Type="http://schemas.openxmlformats.org/officeDocument/2006/relationships/slide" Target="slide16.xml"/><Relationship Id="rId14" Type="http://schemas.openxmlformats.org/officeDocument/2006/relationships/slide" Target="slide15.xml"/><Relationship Id="rId15" Type="http://schemas.openxmlformats.org/officeDocument/2006/relationships/slide" Target="slide14.xml"/><Relationship Id="rId16" Type="http://schemas.openxmlformats.org/officeDocument/2006/relationships/slide" Target="slide13.xml"/><Relationship Id="rId17" Type="http://schemas.openxmlformats.org/officeDocument/2006/relationships/slide" Target="slide12.xml"/><Relationship Id="rId18" Type="http://schemas.openxmlformats.org/officeDocument/2006/relationships/slide" Target="slide11.xml"/><Relationship Id="rId19" Type="http://schemas.openxmlformats.org/officeDocument/2006/relationships/slide" Target="slide10.xml"/><Relationship Id="rId20" Type="http://schemas.openxmlformats.org/officeDocument/2006/relationships/slide" Target="slide9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4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nes.puzkarapuz.ru/images/begunki/1261049105.png" TargetMode="External"/><Relationship Id="rId3" Type="http://schemas.openxmlformats.org/officeDocument/2006/relationships/hyperlink" Target="http://lines.puzkarapuz.ru/images/begunki/1260439459.png" TargetMode="External"/><Relationship Id="rId4" Type="http://schemas.openxmlformats.org/officeDocument/2006/relationships/hyperlink" Target="http://lines.puzkarapuz.ru/images/begunki/1259853724.png" TargetMode="External"/><Relationship Id="rId5" Type="http://schemas.openxmlformats.org/officeDocument/2006/relationships/hyperlink" Target="http://lines.puzkarapuz.ru/images/begunki/1259835456.png" TargetMode="External"/><Relationship Id="rId6" Type="http://schemas.openxmlformats.org/officeDocument/2006/relationships/hyperlink" Target="http://lines.puzkarapuz.ru/images/begunki/1258443458.png" TargetMode="External"/><Relationship Id="rId7" Type="http://schemas.openxmlformats.org/officeDocument/2006/relationships/hyperlink" Target="http://lines.puzkarapuz.ru/images/begunki/1260448456.png" TargetMode="External"/><Relationship Id="rId8" Type="http://schemas.openxmlformats.org/officeDocument/2006/relationships/hyperlink" Target="http://lines.puzkarapuz.ru/images/begunki/1260448354.png" TargetMode="External"/><Relationship Id="rId9" Type="http://schemas.openxmlformats.org/officeDocument/2006/relationships/hyperlink" Target="http://worldofcoins.ru/subjects/sprosser.jpg" TargetMode="External"/><Relationship Id="rId10" Type="http://schemas.openxmlformats.org/officeDocument/2006/relationships/hyperlink" Target="http://worldofcoins.ru/subjects/sprosser.jpg" TargetMode="External"/><Relationship Id="rId11" Type="http://schemas.openxmlformats.org/officeDocument/2006/relationships/hyperlink" Target="http://www.floranimal.ru/pages/animal/b/395.jpg" TargetMode="External"/><Relationship Id="rId12" Type="http://schemas.openxmlformats.org/officeDocument/2006/relationships/hyperlink" Target="http://www.photoforum.ru/f/photo/000/080/80177_38.jpg" TargetMode="External"/><Relationship Id="rId13" Type="http://schemas.openxmlformats.org/officeDocument/2006/relationships/hyperlink" Target="http://kakadu.509.com1.ru:8018/WWW/zooclub/wild/32.jpg" TargetMode="External"/><Relationship Id="rId14" Type="http://schemas.openxmlformats.org/officeDocument/2006/relationships/hyperlink" Target="http://www.balatsky.de/Cuc_Russii/Cuckoo_ind.files/image005.jpg" TargetMode="External"/><Relationship Id="rId15" Type="http://schemas.openxmlformats.org/officeDocument/2006/relationships/hyperlink" Target="http://www.skazochki.narod.ru/skazki/image/duym.gif" TargetMode="External"/><Relationship Id="rId16" Type="http://schemas.openxmlformats.org/officeDocument/2006/relationships/hyperlink" Target="http://www.skazochki.narod.ru/skazki/image/duym.gif" TargetMode="External"/><Relationship Id="rId17" Type="http://schemas.openxmlformats.org/officeDocument/2006/relationships/hyperlink" Target="http://www.wwww4.com/w3724/59320.jpg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28800" y="1285560"/>
            <a:ext cx="72151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ahoma"/>
              </a:rPr>
              <a:t>Интеллектуальная игра для учащихся 1-х клас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ahoma"/>
              </a:rPr>
              <a:t>«Хочу всё знат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f61"/>
                </a:solidFill>
                <a:latin typeface="Tahoma"/>
              </a:rPr>
              <a:t>Составила Сёмина С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f61"/>
                </a:solidFill>
                <a:latin typeface="Tahoma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f61"/>
                </a:solidFill>
                <a:latin typeface="Tahoma"/>
              </a:rPr>
              <a:t>МОУ СОШ№8 Кировского рай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f61"/>
                </a:solidFill>
                <a:latin typeface="Tahoma"/>
              </a:rPr>
              <a:t>г.Каз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Monotype Corsiva"/>
              </a:rPr>
              <a:t>Русский язы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95280" y="177336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Verdana"/>
              </a:rPr>
              <a:t>Сколько гласных зву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Verdana"/>
              </a:rPr>
              <a:t>в русском язы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712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85ff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143080" y="33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9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9" descr="1261049105.png"/>
          <p:cNvPicPr/>
          <p:nvPr/>
        </p:nvPicPr>
        <p:blipFill>
          <a:blip r:embed="rId3"/>
          <a:stretch/>
        </p:blipFill>
        <p:spPr>
          <a:xfrm>
            <a:off x="6715080" y="857160"/>
            <a:ext cx="18954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Monotype Corsiva"/>
              </a:rPr>
              <a:t>Русский язы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1128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Verdana"/>
              </a:rPr>
              <a:t>Сколько пар парных согласных по глухости-звонкости в русском язы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57120" y="31431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85ff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000160" y="30718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>
            <a:hlinkClick r:id="rId2" action="ppaction://hlinksldjump"/>
          </p:cNvPr>
          <p:cNvSpPr/>
          <p:nvPr/>
        </p:nvSpPr>
        <p:spPr>
          <a:xfrm>
            <a:off x="285840" y="585792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Рисунок 9" descr="1261049105.png"/>
          <p:cNvPicPr/>
          <p:nvPr/>
        </p:nvPicPr>
        <p:blipFill>
          <a:blip r:embed="rId3"/>
          <a:stretch/>
        </p:blipFill>
        <p:spPr>
          <a:xfrm>
            <a:off x="6215040" y="2643120"/>
            <a:ext cx="2395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Monotype Corsiva"/>
              </a:rPr>
              <a:t>Русский язы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5280" y="1773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Verdana"/>
              </a:rPr>
              <a:t>Что значит выражение «зарубить себе на носу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14200" y="30002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85ff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071800" y="29289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Запомни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9" descr="1261049105.png"/>
          <p:cNvPicPr/>
          <p:nvPr/>
        </p:nvPicPr>
        <p:blipFill>
          <a:blip r:embed="rId3"/>
          <a:stretch/>
        </p:blipFill>
        <p:spPr>
          <a:xfrm>
            <a:off x="6858000" y="1000080"/>
            <a:ext cx="18954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539640" y="54936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Monotype Corsiva"/>
              </a:rPr>
              <a:t>Родная при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95280" y="17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Какую форму имеет планета Земл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85840" y="39290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428840" y="38577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Круглую или форму ша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3" descr="is?ORw8G0lIi7MEOulA1AlJjRdJMZ7VygItHz3vACOVmTk"/>
          <p:cNvPicPr/>
          <p:nvPr/>
        </p:nvPicPr>
        <p:blipFill>
          <a:blip r:embed="rId3"/>
          <a:stretch/>
        </p:blipFill>
        <p:spPr>
          <a:xfrm>
            <a:off x="6357960" y="3929040"/>
            <a:ext cx="24829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539640" y="54936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Monotype Corsiva"/>
              </a:rPr>
              <a:t>Родная при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5280" y="1773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Verdana"/>
              </a:rPr>
              <a:t>Что кукушка делает с яйц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42920" y="34290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357200" y="3357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дкидывает в другие гнёз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Рисунок 9" descr="image005.jpg"/>
          <p:cNvPicPr/>
          <p:nvPr/>
        </p:nvPicPr>
        <p:blipFill>
          <a:blip r:embed="rId3"/>
          <a:stretch/>
        </p:blipFill>
        <p:spPr>
          <a:xfrm>
            <a:off x="6424560" y="2992320"/>
            <a:ext cx="243828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539640" y="54936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Родная при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68360" y="177336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Verdana"/>
              </a:rPr>
              <a:t>Что происходит весной с почк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57120" y="3357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643040" y="32860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Распускаю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9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Рисунок 9" descr="1270646768_420320_400687.jpeg"/>
          <p:cNvPicPr/>
          <p:nvPr/>
        </p:nvPicPr>
        <p:blipFill>
          <a:blip r:embed="rId3"/>
          <a:stretch/>
        </p:blipFill>
        <p:spPr>
          <a:xfrm>
            <a:off x="4065480" y="3565440"/>
            <a:ext cx="49197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539640" y="54936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Родная при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9528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Verdana"/>
              </a:rPr>
              <a:t>На каких животных пересекают пустын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1420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928880" y="3357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На верблюд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1" descr="is?LLS41gLM18kZuqDjOea10nCTAcswjsrBelW33KGFQy4"/>
          <p:cNvPicPr/>
          <p:nvPr/>
        </p:nvPicPr>
        <p:blipFill>
          <a:blip r:embed="rId3"/>
          <a:stretch/>
        </p:blipFill>
        <p:spPr>
          <a:xfrm>
            <a:off x="5715000" y="857160"/>
            <a:ext cx="30243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539640" y="54936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Родная при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95280" y="1773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Verdana"/>
              </a:rPr>
              <a:t>Кого зовут лучшим певцом русского лес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85840" y="3500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714680" y="34290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Солов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Рисунок 9" descr="sprosser.jpg"/>
          <p:cNvPicPr/>
          <p:nvPr/>
        </p:nvPicPr>
        <p:blipFill>
          <a:blip r:embed="rId3"/>
          <a:stretch/>
        </p:blipFill>
        <p:spPr>
          <a:xfrm>
            <a:off x="4925880" y="2494080"/>
            <a:ext cx="3773520" cy="2833560"/>
          </a:xfrm>
          <a:prstGeom prst="rect">
            <a:avLst/>
          </a:prstGeom>
          <a:ln w="0">
            <a:noFill/>
          </a:ln>
        </p:spPr>
      </p:pic>
      <p:pic>
        <p:nvPicPr>
          <p:cNvPr id="178" name="трель соловья.mp3" descr=""/>
          <p:cNvPicPr/>
          <p:nvPr/>
        </p:nvPicPr>
        <p:blipFill>
          <a:blip r:embed="rId4"/>
          <a:stretch/>
        </p:blipFill>
        <p:spPr>
          <a:xfrm>
            <a:off x="8072280" y="5929200"/>
            <a:ext cx="581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6515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6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Раз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395280" y="1700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Какой знак нарисован на машине «Скорой помощи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43"/>
          <p:cNvSpPr/>
          <p:nvPr/>
        </p:nvSpPr>
        <p:spPr>
          <a:xfrm>
            <a:off x="285840" y="3357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44"/>
          <p:cNvSpPr/>
          <p:nvPr/>
        </p:nvSpPr>
        <p:spPr>
          <a:xfrm>
            <a:off x="1857240" y="32860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Красный кре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45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5508720" y="134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1" descr="is?gy-xp0GJezJfbUlHax_2mWoEaULPaRZy_d7x87ayfVI"/>
          <p:cNvPicPr/>
          <p:nvPr/>
        </p:nvPicPr>
        <p:blipFill>
          <a:blip r:embed="rId3"/>
          <a:stretch/>
        </p:blipFill>
        <p:spPr>
          <a:xfrm>
            <a:off x="6066000" y="371520"/>
            <a:ext cx="2523960" cy="18954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0_7e14_aac81596_L.jpeg"/>
          <p:cNvPicPr/>
          <p:nvPr/>
        </p:nvPicPr>
        <p:blipFill>
          <a:blip r:embed="rId4"/>
          <a:stretch/>
        </p:blipFill>
        <p:spPr>
          <a:xfrm>
            <a:off x="5929200" y="2500200"/>
            <a:ext cx="28908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Раз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285840" y="17859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Он бывает и апельсиновый, и яблочный, и желудоч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285840" y="3500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1857240" y="342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С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22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9" descr="0_7e14_aac81596_L.jpeg"/>
          <p:cNvPicPr/>
          <p:nvPr/>
        </p:nvPicPr>
        <p:blipFill>
          <a:blip r:embed="rId3"/>
          <a:stretch/>
        </p:blipFill>
        <p:spPr>
          <a:xfrm>
            <a:off x="6072120" y="2786040"/>
            <a:ext cx="26053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0"/>
          <p:cNvSpPr/>
          <p:nvPr/>
        </p:nvSpPr>
        <p:spPr>
          <a:xfrm>
            <a:off x="7956720" y="4076640"/>
            <a:ext cx="792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9"/>
          <p:cNvSpPr/>
          <p:nvPr/>
        </p:nvSpPr>
        <p:spPr>
          <a:xfrm>
            <a:off x="7020000" y="4076640"/>
            <a:ext cx="93672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38"/>
          <p:cNvSpPr/>
          <p:nvPr/>
        </p:nvSpPr>
        <p:spPr>
          <a:xfrm>
            <a:off x="6084720" y="4076640"/>
            <a:ext cx="9352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37"/>
          <p:cNvSpPr/>
          <p:nvPr/>
        </p:nvSpPr>
        <p:spPr>
          <a:xfrm>
            <a:off x="5076720" y="4076640"/>
            <a:ext cx="1008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36"/>
          <p:cNvSpPr/>
          <p:nvPr/>
        </p:nvSpPr>
        <p:spPr>
          <a:xfrm>
            <a:off x="4211640" y="4076640"/>
            <a:ext cx="8650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35"/>
          <p:cNvSpPr/>
          <p:nvPr/>
        </p:nvSpPr>
        <p:spPr>
          <a:xfrm>
            <a:off x="611280" y="4076640"/>
            <a:ext cx="3600360" cy="67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Загад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28"/>
          <p:cNvSpPr/>
          <p:nvPr/>
        </p:nvSpPr>
        <p:spPr>
          <a:xfrm>
            <a:off x="7956720" y="3429000"/>
            <a:ext cx="792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7020000" y="3429000"/>
            <a:ext cx="93672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26"/>
          <p:cNvSpPr/>
          <p:nvPr/>
        </p:nvSpPr>
        <p:spPr>
          <a:xfrm>
            <a:off x="6084720" y="3429000"/>
            <a:ext cx="9352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5076720" y="3429000"/>
            <a:ext cx="1008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0" action="ppaction://hlinksldjump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4211640" y="3429000"/>
            <a:ext cx="8650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1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611280" y="3429000"/>
            <a:ext cx="3600360" cy="67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Раз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7956720" y="2751120"/>
            <a:ext cx="792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2" action="ppaction://hlinksldjump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7020000" y="2751120"/>
            <a:ext cx="93672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3" action="ppaction://hlinksldjump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6084720" y="2751120"/>
            <a:ext cx="9352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4" action="ppaction://hlinksldjump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076720" y="2751120"/>
            <a:ext cx="1008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5" action="ppaction://hlinksldjump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211640" y="2751120"/>
            <a:ext cx="8650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6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611280" y="2751120"/>
            <a:ext cx="3600360" cy="67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Родная прир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7956720" y="2075040"/>
            <a:ext cx="79200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7020000" y="2075040"/>
            <a:ext cx="93672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6084720" y="2075040"/>
            <a:ext cx="93528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9" action="ppaction://hlinksldjump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5076720" y="2075040"/>
            <a:ext cx="100800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0" action="ppaction://hlinksldjump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211640" y="2075040"/>
            <a:ext cx="86508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1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611280" y="2075040"/>
            <a:ext cx="3600360" cy="6760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Русский язы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7956720" y="1397160"/>
            <a:ext cx="792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2" action="ppaction://hlinksldjump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7020000" y="1397160"/>
            <a:ext cx="93672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3" action="ppaction://hlinksldjump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084720" y="1397160"/>
            <a:ext cx="9352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4" action="ppaction://hlinksldjump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076720" y="1397160"/>
            <a:ext cx="1008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5" action="ppaction://hlinksldjump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211640" y="1397160"/>
            <a:ext cx="8650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6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11280" y="1397160"/>
            <a:ext cx="3600360" cy="67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Литерату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Line 41"/>
          <p:cNvSpPr/>
          <p:nvPr/>
        </p:nvSpPr>
        <p:spPr>
          <a:xfrm>
            <a:off x="611280" y="1397160"/>
            <a:ext cx="8137440" cy="0"/>
          </a:xfrm>
          <a:prstGeom prst="line">
            <a:avLst/>
          </a:prstGeom>
          <a:ln cap="sq"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42"/>
          <p:cNvSpPr/>
          <p:nvPr/>
        </p:nvSpPr>
        <p:spPr>
          <a:xfrm>
            <a:off x="611280" y="207504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Line 43"/>
          <p:cNvSpPr/>
          <p:nvPr/>
        </p:nvSpPr>
        <p:spPr>
          <a:xfrm>
            <a:off x="611280" y="275112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Line 44"/>
          <p:cNvSpPr/>
          <p:nvPr/>
        </p:nvSpPr>
        <p:spPr>
          <a:xfrm>
            <a:off x="611280" y="342900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45"/>
          <p:cNvSpPr/>
          <p:nvPr/>
        </p:nvSpPr>
        <p:spPr>
          <a:xfrm>
            <a:off x="611280" y="410688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Line 46"/>
          <p:cNvSpPr/>
          <p:nvPr/>
        </p:nvSpPr>
        <p:spPr>
          <a:xfrm>
            <a:off x="611280" y="478296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48"/>
          <p:cNvSpPr/>
          <p:nvPr/>
        </p:nvSpPr>
        <p:spPr>
          <a:xfrm>
            <a:off x="611280" y="1397160"/>
            <a:ext cx="0" cy="3255840"/>
          </a:xfrm>
          <a:prstGeom prst="line">
            <a:avLst/>
          </a:prstGeom>
          <a:ln cap="sq"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49"/>
          <p:cNvSpPr/>
          <p:nvPr/>
        </p:nvSpPr>
        <p:spPr>
          <a:xfrm>
            <a:off x="4211640" y="1397160"/>
            <a:ext cx="0" cy="3400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076720" y="1397160"/>
            <a:ext cx="0" cy="3400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51"/>
          <p:cNvSpPr/>
          <p:nvPr/>
        </p:nvSpPr>
        <p:spPr>
          <a:xfrm>
            <a:off x="6084720" y="1397160"/>
            <a:ext cx="0" cy="3400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Line 52"/>
          <p:cNvSpPr/>
          <p:nvPr/>
        </p:nvSpPr>
        <p:spPr>
          <a:xfrm>
            <a:off x="7020000" y="1397160"/>
            <a:ext cx="0" cy="3400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53"/>
          <p:cNvSpPr/>
          <p:nvPr/>
        </p:nvSpPr>
        <p:spPr>
          <a:xfrm>
            <a:off x="7956720" y="1397160"/>
            <a:ext cx="0" cy="3400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54"/>
          <p:cNvSpPr/>
          <p:nvPr/>
        </p:nvSpPr>
        <p:spPr>
          <a:xfrm flipH="1">
            <a:off x="8675280" y="1397160"/>
            <a:ext cx="73080" cy="3400200"/>
          </a:xfrm>
          <a:prstGeom prst="line">
            <a:avLst/>
          </a:prstGeom>
          <a:ln cap="sq"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73"/>
          <p:cNvSpPr/>
          <p:nvPr/>
        </p:nvSpPr>
        <p:spPr>
          <a:xfrm>
            <a:off x="2627280" y="260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Хочу всё зн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74"/>
          <p:cNvSpPr/>
          <p:nvPr/>
        </p:nvSpPr>
        <p:spPr>
          <a:xfrm>
            <a:off x="1979640" y="76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cffff"/>
                </a:solidFill>
                <a:latin typeface="Tahoma"/>
              </a:rPr>
              <a:t>КАТЕГОРИИ ВОПРО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77"/>
          <p:cNvSpPr/>
          <p:nvPr/>
        </p:nvSpPr>
        <p:spPr>
          <a:xfrm>
            <a:off x="611280" y="508464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Необходимый вопрос вызывается нажатием левой кнопки мыши в соответствующей категор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Ответ – щелчок мыши или «ПРОБЕЛ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Возврат в главное меню -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79"/>
          <p:cNvSpPr/>
          <p:nvPr/>
        </p:nvSpPr>
        <p:spPr>
          <a:xfrm>
            <a:off x="435600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Разное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214200" y="19288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Кто управляет нашей страно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357120" y="32860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2143080" y="32148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резиден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22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Рисунок 9" descr="0_7e14_aac81596_L.jpeg"/>
          <p:cNvPicPr/>
          <p:nvPr/>
        </p:nvPicPr>
        <p:blipFill>
          <a:blip r:embed="rId3"/>
          <a:stretch/>
        </p:blipFill>
        <p:spPr>
          <a:xfrm>
            <a:off x="6072120" y="2643120"/>
            <a:ext cx="2819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Раз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468360" y="2997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Что наклеивают на конверт перед его отправко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285840" y="41432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714680" y="407196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Марк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22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110" descr="is?FxvxzfABhwwOPvAC1iTjSqKFW00zKDM2oO8TH51XZ2I"/>
          <p:cNvPicPr/>
          <p:nvPr/>
        </p:nvPicPr>
        <p:blipFill>
          <a:blip r:embed="rId3"/>
          <a:stretch/>
        </p:blipFill>
        <p:spPr>
          <a:xfrm>
            <a:off x="5715000" y="428760"/>
            <a:ext cx="2227320" cy="15318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0" descr="0_7e14_aac81596_L.jpeg"/>
          <p:cNvPicPr/>
          <p:nvPr/>
        </p:nvPicPr>
        <p:blipFill>
          <a:blip r:embed="rId4"/>
          <a:stretch/>
        </p:blipFill>
        <p:spPr>
          <a:xfrm>
            <a:off x="6143760" y="2714760"/>
            <a:ext cx="274788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4360" y="404640"/>
            <a:ext cx="43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85840" y="16430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Как называется и блюдо из овощей, и само растение, листья которого едят в сыром ви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85840" y="38577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857240" y="37148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Сала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Раз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Рисунок 11" descr="0_7e14_aac81596_L.jpeg"/>
          <p:cNvPicPr/>
          <p:nvPr/>
        </p:nvPicPr>
        <p:blipFill>
          <a:blip r:embed="rId3"/>
          <a:stretch/>
        </p:blipFill>
        <p:spPr>
          <a:xfrm>
            <a:off x="5572080" y="2286000"/>
            <a:ext cx="3352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Monotype Corsiva"/>
              </a:rPr>
              <a:t>Загад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95280" y="1773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Что брал с собой на охоту пёс Шарик из Простоквашин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14200" y="37148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85960" y="35719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ahoma"/>
              </a:rPr>
              <a:t>Фоторужьё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Рисунок 9" descr="02_.gif"/>
          <p:cNvPicPr/>
          <p:nvPr/>
        </p:nvPicPr>
        <p:blipFill>
          <a:blip r:embed="rId3"/>
          <a:stretch/>
        </p:blipFill>
        <p:spPr>
          <a:xfrm>
            <a:off x="5072040" y="1214280"/>
            <a:ext cx="3610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Monotype Corsiva"/>
              </a:rPr>
              <a:t>Зага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95280" y="1773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Если позавчера была среда, то какой день недели будет послезавтр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85840" y="36432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643040" y="35719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ahoma"/>
              </a:rPr>
              <a:t>Воскресень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Рисунок 8" descr="1260448456.png"/>
          <p:cNvPicPr/>
          <p:nvPr/>
        </p:nvPicPr>
        <p:blipFill>
          <a:blip r:embed="rId3"/>
          <a:stretch/>
        </p:blipFill>
        <p:spPr>
          <a:xfrm>
            <a:off x="6357960" y="3429000"/>
            <a:ext cx="211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Monotype Corsiva"/>
              </a:rPr>
              <a:t>Зага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95280" y="1773360"/>
            <a:ext cx="54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Толстокожий, толстогуб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А во рту четыре зуб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Если он раскроет па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Можно в обморок упас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85840" y="43578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14680" y="428616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ahoma"/>
              </a:rPr>
              <a:t>Бегем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18" descr="is?MxHwPkLZy8TG9ji96pfo9K-mIU6AThyrFFxq1s-xrpQ"/>
          <p:cNvPicPr/>
          <p:nvPr/>
        </p:nvPicPr>
        <p:blipFill>
          <a:blip r:embed="rId3"/>
          <a:stretch/>
        </p:blipFill>
        <p:spPr>
          <a:xfrm>
            <a:off x="5950080" y="993600"/>
            <a:ext cx="2717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Monotype Corsiva"/>
              </a:rPr>
              <a:t>Зага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95280" y="1773360"/>
            <a:ext cx="54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Заплелись густые трав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Закудрявились луг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Да и сам я весь кудряв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Даже завитком ро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14200" y="44290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86000" y="4357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ahoma"/>
              </a:rPr>
              <a:t>Бара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10" descr="is?jUZznYO6EWqjZocT-FgNi2TjZiXu1KHsBO0rWP6UFUQ"/>
          <p:cNvPicPr/>
          <p:nvPr/>
        </p:nvPicPr>
        <p:blipFill>
          <a:blip r:embed="rId3"/>
          <a:stretch/>
        </p:blipFill>
        <p:spPr>
          <a:xfrm>
            <a:off x="6138720" y="781200"/>
            <a:ext cx="2529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Monotype Corsiva"/>
              </a:rPr>
              <a:t>Зага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95280" y="1773360"/>
            <a:ext cx="540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Подрастала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Хвост расти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Платье тёмное нос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Подросла – зелёной ста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Хвост на вёсла поменя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14200" y="48578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857240" y="47149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Лягушка</a:t>
            </a:r>
            <a:r>
              <a:rPr b="1" lang="ru-RU" sz="24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10" descr="is?LfI5_bt86H_SymOHrnJxDx5MPkn-NaluhuXGiw7s2LQ"/>
          <p:cNvPicPr/>
          <p:nvPr/>
        </p:nvPicPr>
        <p:blipFill>
          <a:blip r:embed="rId3"/>
          <a:stretch/>
        </p:blipFill>
        <p:spPr>
          <a:xfrm>
            <a:off x="5651640" y="549360"/>
            <a:ext cx="23097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2a40"/>
                </a:solidFill>
                <a:latin typeface="Tahoma"/>
              </a:rPr>
              <a:t>Дополнительный раун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5712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Скорей бы приблизился вече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И час долгожданный наста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Чтоб мне в золоченной каре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оехать на сказочный ба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кто во дворце не узна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ткуда и, как я зовус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о только лишь полночь настан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К себе на чердак я верну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Рисунок 5" descr="1260439459.png"/>
          <p:cNvPicPr/>
          <p:nvPr/>
        </p:nvPicPr>
        <p:blipFill>
          <a:blip r:embed="rId2"/>
          <a:stretch/>
        </p:blipFill>
        <p:spPr>
          <a:xfrm>
            <a:off x="6858000" y="2928960"/>
            <a:ext cx="18464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1384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уратино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lines.puzkarapuz.ru/images/begunki/1261049105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ый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lines.puzkarapuz.ru/images/begunki/1260439459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вочка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lines.puzkarapuz.ru/images/begunki/1259853724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льчик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http://lines.puzkarapuz.ru/images/begunki/1259835456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знайка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http://lines.puzkarapuz.ru/images/begunki/1258443458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унтик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http://lines.puzkarapuz.ru/images/begunki/1260448456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лк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http://lines.puzkarapuz.ru/images/begunki/1260448354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ловей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http:/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worldofcoins.ru/subjects/sprosser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аран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http://www.floranimal.ru/pages/animal/b/395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ягушка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http://www.photoforum.ru/f/photo/000/080/80177_38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егемот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http://kakadu.509.com1.ru:8018/WWW/zooclub/wild/32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укушка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http://www.balatsky.de/Cuc_Russii/Cuckoo_ind.files/image005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юймовочка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http:/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www.skazochki.narod.ru/skazki/image/duym.gi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уха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http://www.wwww4.com/w3724/59320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укоморье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bookle.ru/cover/233616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ипполино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1.bp.blogspot.com/_Anf3qqqSWLw/SzhypwDH8PI/AAAAAAAAAlk/ytU_yFrS2SE/s320/Chipollino_web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Шарик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koldunov.ru/wp-content/uploads/2008/09/02_.gi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йдодыр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i048.radikal.ru/0905/2c/a5ba06fd6831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чки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natural-medicine.ru/uploads/posts/2010-04/1270646768_420320_400687.jpe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1844640"/>
            <a:ext cx="770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30"/>
                </a:solidFill>
                <a:latin typeface="Verdana"/>
              </a:rPr>
              <a:t>Появилась девочка в чашечке цве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30"/>
                </a:solidFill>
                <a:latin typeface="Verdana"/>
              </a:rPr>
              <a:t>А была та девочка чуть больше ного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30"/>
                </a:solidFill>
                <a:latin typeface="Verdana"/>
              </a:rPr>
              <a:t>В ореховой скорлупке девочка спа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30"/>
                </a:solidFill>
                <a:latin typeface="Verdana"/>
              </a:rPr>
              <a:t>Вот какая девочка, как мила 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39640" y="52149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 Black"/>
              </a:rPr>
              <a:t>ОТВ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000160" y="51436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Дюймовоч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9">
            <a:hlinkClick r:id="rId2" action="ppaction://hlinksldjump"/>
          </p:cNvPr>
          <p:cNvSpPr/>
          <p:nvPr/>
        </p:nvSpPr>
        <p:spPr>
          <a:xfrm>
            <a:off x="0" y="6021360"/>
            <a:ext cx="684360" cy="836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36640"/>
              <a:gd name="textAreaBottom" fmla="*/ 792360 h 836640"/>
            </a:gdLst>
            <a:ahLst/>
            <a:rect l="textAreaLeft" t="textAreaTop" r="textAreaRight" b="textAreaBottom"/>
            <a:pathLst>
              <a:path w="21600" h="26404">
                <a:moveTo>
                  <a:pt x="0" y="0"/>
                </a:moveTo>
                <a:lnTo>
                  <a:pt x="21600" y="0"/>
                </a:lnTo>
                <a:lnTo>
                  <a:pt x="21600" y="26404"/>
                </a:lnTo>
                <a:lnTo>
                  <a:pt x="0" y="26404"/>
                </a:lnTo>
                <a:close/>
              </a:path>
              <a:path fill="lightenLess" w="21600" h="264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4">
                <a:moveTo>
                  <a:pt x="21600" y="0"/>
                </a:moveTo>
                <a:lnTo>
                  <a:pt x="21600" y="26404"/>
                </a:lnTo>
                <a:lnTo>
                  <a:pt x="20200" y="25004"/>
                </a:lnTo>
                <a:lnTo>
                  <a:pt x="20200" y="1400"/>
                </a:lnTo>
                <a:close/>
              </a:path>
              <a:path fill="darkenLess" w="21600" h="26404">
                <a:moveTo>
                  <a:pt x="21600" y="26404"/>
                </a:moveTo>
                <a:lnTo>
                  <a:pt x="0" y="26404"/>
                </a:lnTo>
                <a:lnTo>
                  <a:pt x="1400" y="25004"/>
                </a:lnTo>
                <a:lnTo>
                  <a:pt x="20200" y="25004"/>
                </a:lnTo>
                <a:close/>
              </a:path>
              <a:path fill="lighten" w="21600" h="26404">
                <a:moveTo>
                  <a:pt x="0" y="264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4"/>
                </a:lnTo>
                <a:close/>
              </a:path>
              <a:path fill="darken" w="21600" h="26404">
                <a:moveTo>
                  <a:pt x="10800" y="6239"/>
                </a:moveTo>
                <a:lnTo>
                  <a:pt x="13376" y="8850"/>
                </a:lnTo>
                <a:lnTo>
                  <a:pt x="13376" y="7109"/>
                </a:lnTo>
                <a:lnTo>
                  <a:pt x="15152" y="7109"/>
                </a:lnTo>
                <a:lnTo>
                  <a:pt x="15152" y="10626"/>
                </a:lnTo>
                <a:lnTo>
                  <a:pt x="17763" y="13202"/>
                </a:lnTo>
                <a:lnTo>
                  <a:pt x="16109" y="13202"/>
                </a:lnTo>
                <a:lnTo>
                  <a:pt x="16109" y="20391"/>
                </a:lnTo>
                <a:lnTo>
                  <a:pt x="5491" y="20391"/>
                </a:lnTo>
                <a:lnTo>
                  <a:pt x="5491" y="13202"/>
                </a:lnTo>
                <a:lnTo>
                  <a:pt x="3837" y="13202"/>
                </a:lnTo>
                <a:close/>
              </a:path>
              <a:path fill="darkenLess" w="21600" h="26404">
                <a:moveTo>
                  <a:pt x="13376" y="8850"/>
                </a:moveTo>
                <a:lnTo>
                  <a:pt x="13376" y="7109"/>
                </a:lnTo>
                <a:lnTo>
                  <a:pt x="15152" y="7109"/>
                </a:lnTo>
                <a:lnTo>
                  <a:pt x="15152" y="10626"/>
                </a:lnTo>
                <a:close/>
              </a:path>
              <a:path fill="darkenLess" w="21600" h="26404">
                <a:moveTo>
                  <a:pt x="9877" y="16701"/>
                </a:moveTo>
                <a:lnTo>
                  <a:pt x="11723" y="16701"/>
                </a:lnTo>
                <a:lnTo>
                  <a:pt x="11723" y="20391"/>
                </a:lnTo>
                <a:lnTo>
                  <a:pt x="16109" y="20391"/>
                </a:lnTo>
                <a:lnTo>
                  <a:pt x="16109" y="13202"/>
                </a:lnTo>
                <a:lnTo>
                  <a:pt x="5491" y="13202"/>
                </a:lnTo>
                <a:lnTo>
                  <a:pt x="5491" y="20391"/>
                </a:lnTo>
                <a:lnTo>
                  <a:pt x="9877" y="2039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95280" y="620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         </a:t>
            </a: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Литератур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Рисунок 9" descr="duym.gif"/>
          <p:cNvPicPr/>
          <p:nvPr/>
        </p:nvPicPr>
        <p:blipFill>
          <a:blip r:embed="rId3"/>
          <a:stretch/>
        </p:blipFill>
        <p:spPr>
          <a:xfrm>
            <a:off x="6648480" y="3286080"/>
            <a:ext cx="22334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611280" y="2421000"/>
            <a:ext cx="55450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ffff"/>
                </a:solidFill>
                <a:latin typeface="Arial"/>
              </a:rPr>
              <a:t>Напиши, из какого произведения К.И.Чуковского эти стро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А теперь, душа-дев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На тебе хочу женитьс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4643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785960" y="4572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«Муха-Цокотух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95280" y="62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        </a:t>
            </a: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Литератур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9" descr="59320.jpg"/>
          <p:cNvPicPr/>
          <p:nvPr/>
        </p:nvPicPr>
        <p:blipFill>
          <a:blip r:embed="rId3"/>
          <a:stretch/>
        </p:blipFill>
        <p:spPr>
          <a:xfrm>
            <a:off x="6143760" y="714240"/>
            <a:ext cx="24368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755640" y="1628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Verdana"/>
              </a:rPr>
              <a:t>Что висит на дубе у лукоморь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4200" y="350028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071800" y="3429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Златая цеп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9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95280" y="620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           </a:t>
            </a: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Литератур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Рисунок 9" descr="233616.jpg"/>
          <p:cNvPicPr/>
          <p:nvPr/>
        </p:nvPicPr>
        <p:blipFill>
          <a:blip r:embed="rId3"/>
          <a:stretch/>
        </p:blipFill>
        <p:spPr>
          <a:xfrm>
            <a:off x="5072040" y="928800"/>
            <a:ext cx="36910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971640" y="170028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Verdana"/>
              </a:rPr>
              <a:t>Фруктово-огородная стра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Verdana"/>
              </a:rPr>
              <a:t>В одной из книжек-сказок есть о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Verdana"/>
              </a:rPr>
              <a:t>А в ней герой – мальчишка овощн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Verdana"/>
              </a:rPr>
              <a:t>Он храбрый, справедливый, озор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00120" y="37148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9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95280" y="620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          </a:t>
            </a: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Литератур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Рисунок 9" descr="Chipollino_web.jpg"/>
          <p:cNvPicPr/>
          <p:nvPr/>
        </p:nvPicPr>
        <p:blipFill>
          <a:blip r:embed="rId3"/>
          <a:stretch/>
        </p:blipFill>
        <p:spPr>
          <a:xfrm>
            <a:off x="3571920" y="3571920"/>
            <a:ext cx="30481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68360" y="1484280"/>
            <a:ext cx="648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ff"/>
                </a:solidFill>
                <a:latin typeface="Verdana"/>
              </a:rPr>
              <a:t>Как называется произведение, строки которого здесь представлены? Кто автор этих строк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Verdana"/>
              </a:rPr>
              <a:t>Надо, надо умывать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Verdana"/>
              </a:rPr>
              <a:t>По утрам и вечера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Verdana"/>
              </a:rPr>
              <a:t>А нечистым трубочистам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Verdana"/>
              </a:rPr>
              <a:t>Стыд и срам! Стыд и срам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57120" y="52149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857240" y="514368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«Мойдодыр» К.И.Чуковс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8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85840" y="5716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         </a:t>
            </a: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Литератур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9" descr="a5ba06fd6831.jpg"/>
          <p:cNvPicPr/>
          <p:nvPr/>
        </p:nvPicPr>
        <p:blipFill>
          <a:blip r:embed="rId3"/>
          <a:stretch/>
        </p:blipFill>
        <p:spPr>
          <a:xfrm>
            <a:off x="4572000" y="2143080"/>
            <a:ext cx="42861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Monotype Corsiva"/>
              </a:rPr>
              <a:t>Русский язы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11280" y="21337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Verdana"/>
              </a:rPr>
              <a:t>Сколько букв в русском алфавит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28760" y="35719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85ff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571840" y="3571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0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Рисунок 9" descr="1261049105.png"/>
          <p:cNvPicPr/>
          <p:nvPr/>
        </p:nvPicPr>
        <p:blipFill>
          <a:blip r:embed="rId3"/>
          <a:stretch/>
        </p:blipFill>
        <p:spPr>
          <a:xfrm>
            <a:off x="6786720" y="2428920"/>
            <a:ext cx="1920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539640" y="5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Monotype Corsiva"/>
              </a:rPr>
              <a:t>Русский язы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95280" y="1773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Verdana"/>
              </a:rPr>
              <a:t>Как называется часть слова, которая стоит перед корне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57120" y="35719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85ff"/>
                </a:solidFill>
                <a:latin typeface="Arial Black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357280" y="35719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ист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>
            <a:hlinkClick r:id="rId2" action="ppaction://hlinksldjump"/>
          </p:cNvPr>
          <p:cNvSpPr/>
          <p:nvPr/>
        </p:nvSpPr>
        <p:spPr>
          <a:xfrm>
            <a:off x="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Рисунок 10" descr="1261049105.png"/>
          <p:cNvPicPr/>
          <p:nvPr/>
        </p:nvPicPr>
        <p:blipFill>
          <a:blip r:embed="rId3"/>
          <a:stretch/>
        </p:blipFill>
        <p:spPr>
          <a:xfrm>
            <a:off x="6215040" y="785880"/>
            <a:ext cx="18954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08:29Z</dcterms:created>
  <dc:creator>Пк</dc:creator>
  <dc:description/>
  <dc:language>en-US</dc:language>
  <cp:lastModifiedBy>Катенок</cp:lastModifiedBy>
  <dcterms:modified xsi:type="dcterms:W3CDTF">2010-07-16T09:59:09Z</dcterms:modified>
  <cp:revision>12</cp:revision>
  <dc:subject/>
  <dc:title>Слайд 1</dc:title>
</cp:coreProperties>
</file>